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ED0363-81A8-42A6-8E82-2D67DA24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7B3F6A-6AE9-44AC-A953-2698361576B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7C8641-0BBD-416E-908E-BBF39F2859B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ГАРИН Юрий Алексеевич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934-1968) космонавт СССР, полковник, Герой Советского Союза, лётчик-космонавт ССС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 человек, совершивший полёт в косм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F86F88-9157-4142-9080-2E7622EF7CB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Родился в семье колхозника в г. Гжатс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Гжатского района Смолен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9 марта 193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FA76FE-993E-4D03-8F5B-3FF21E87E0D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A0F6CB-47D8-4063-8288-AB716ABA454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 КК «Восток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1 ч 48 мин облетел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мной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1A6696-7CC3-4AC7-8FFE-567FF30CEDC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A10FB5-C9F5-4FE1-982E-FEF9DD5DEE7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2C950A-18B8-4F23-B042-FE90DCA6F94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36384A-D7DA-4721-BD2F-0A90819E05A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ойдя к трибуне, Юрий Гагарин отрапортовал Никите Хрущёв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531234-1338-4976-A781-041BFFBFC8B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499-2634-411B-A72F-E01E6D45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A81-2DA1-4C1A-A13C-82DC1BC0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270-A2A6-436E-813C-8917CC7E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F49-A411-4C15-9849-4C381A09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00DD-453F-4537-8C43-B9237BF2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B001-2143-41D1-BD38-CC1B3F59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F5C6-2D7E-40B9-8A8C-8FFF17F4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A824-2397-41C0-891A-C15FC5C5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CF1B-ED3B-4778-8542-8BDCAC60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0EAE-4533-4150-AD88-EC511C0D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D237-6A57-4903-BF6E-A71384CE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02F-37CC-4D53-B89E-EBED4D70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4922-FDE0-49AC-9366-FA9DCEA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8F9-1111-4BFE-AACA-5F9FB9DA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8308-62BF-4121-9844-77786CA2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0A45-6440-49AD-AECC-2DCB985E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CCDC-495C-4950-B317-9C1000D4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3A071-9A18-4A8D-BAD6-0F65B7B3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5C8E-75AC-4E22-8A77-D57CD27D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88E9-466D-4153-AEB9-CB31EA2F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EA31-27DF-419F-AC68-55740029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B2A2-F59F-4271-9C07-ABAEBF2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C06-9652-4FCD-AD43-F15AAA1A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358F-6B96-405F-B43C-91E9076D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FA68-4CA9-48D8-9494-28360A93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DC8B-E95B-4625-A3EE-39E76B24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A7BC0-D6A1-44CF-9609-2452429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480F-7B45-44DB-8EEC-1A373C15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03372-C206-4B1F-8FD6-59E3C37E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DB72-9ED0-4108-866C-63037C93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5966-3AA4-47AE-8C54-4B6D4FE4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FE1B-0E57-493D-8D91-19B8AEB8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4604-7A2D-4909-9589-301BFACC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D32-5BAB-4390-A54C-8503E40F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D6E5-47F6-453A-BC08-04DF9D42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73A0-7655-4C47-A058-5405286F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A3FC0-FF6D-410B-A6F3-8C1706F7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09BF9-C920-49E6-AEA7-8C4A4208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E8679-27E0-4325-A7FA-47A7401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A94B-34CC-4845-AE20-DEF9C9E5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8764A-60EC-4BD2-BEE8-07E59CA7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BACE6-5F99-4582-871E-D696675B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DA09A-8CC3-4567-9E96-54BF76FC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CE586-BF9D-428A-A452-766B3A0C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FFF-65C1-4060-9B01-EC24AD2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137EA-0EC2-4B98-9959-F283EB43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F778B-08EA-45BF-AA13-58ED49F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C7494-954D-4B0D-991C-C7FDDC8F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1878B-9021-480C-811A-D6683737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1A754-782E-42D6-A4C7-554C0C7E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CF23-0115-4684-9FE0-8DD4FC01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665F7-4B7D-41F1-8CD0-0997097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4C311-B7ED-461E-8115-BE2C2477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C0B30-C911-499B-A22C-80D74843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3DE54-38F6-434B-84CE-CBD9ACEF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8C0-62F5-4B4C-9647-B2EAEE0B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CC040-61E1-4D3D-A21A-CF7E1A5B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2B4BE-CB51-4007-ACD2-C67A7B2F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B383C-2DCB-4772-B3D9-619C241E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32EF2-45BB-4F85-B89D-B75F4D08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48389-F372-4428-AB78-A3164C98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4AA08-8BFB-4A43-BEDD-0122C730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A6E7-C55E-44FB-BF4E-4640E966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867DE-D98D-4187-8F8B-57F5A009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BCF30-0C83-4DC8-AA1A-86A8FEB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56E5-3CAC-4BB6-A0A2-61F0649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E82-6C9E-4F06-AD2D-E3039BC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87479-B8A5-472D-82C1-F38ABAE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81F68-EA35-482A-8B74-7D33E2FF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07014-1AE8-4634-8ACC-C2C49B3C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A4C-4C06-4D61-BA7E-51BAD5D9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791-4DAA-45F3-8C14-BCF727D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EEE5FF-5FEC-42AD-B098-9B56C0E2DF22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5578D6F-4E91-4635-AD4E-D5E8DDD4785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b9bbb1"/>
                </a:solidFill>
                <a:latin typeface="Rockwel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890032-7593-4439-A6F3-5EF4F76852A7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A983B73-518E-475E-B873-366D7696E61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A83E95-FF4D-49A1-8423-7688184CDE88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3C8450-2C0A-4F85-948A-FDBB43ACCE84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5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6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7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004000" y="30960"/>
            <a:ext cx="291528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7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357120" y="21420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1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Юрий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929200" y="571320"/>
            <a:ext cx="2883960" cy="36406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4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2098800" y="3000240"/>
            <a:ext cx="1772640" cy="32382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5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 в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1528800">
            <a:off x="3105720" y="3566880"/>
            <a:ext cx="2577240" cy="287604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7" name="TextBox 1"/>
          <p:cNvSpPr/>
          <p:nvPr/>
        </p:nvSpPr>
        <p:spPr>
          <a:xfrm>
            <a:off x="4357800" y="500040"/>
            <a:ext cx="44287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6786720" y="3929040"/>
            <a:ext cx="1164960" cy="2195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9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357120" y="357192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82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6010200" y="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84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0" y="5565240"/>
            <a:ext cx="914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214200" y="1714320"/>
            <a:ext cx="1970640" cy="307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4786200" y="2643120"/>
            <a:ext cx="3809520" cy="28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>
            <a:off x="6660360" y="4227840"/>
            <a:ext cx="1896480" cy="262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9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732360" y="571320"/>
            <a:ext cx="2228040" cy="452412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over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0" y="0"/>
            <a:ext cx="6857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143680" y="2428920"/>
            <a:ext cx="3809520" cy="20379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95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500040" y="2857320"/>
            <a:ext cx="4095360" cy="32475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  <Words>986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3T08:2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