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AF0B56-BA04-4B38-AC4A-8BD89A60E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0A6D26-DFE0-4261-8DCB-47CFCE95B01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BEEE02-F8E2-4D32-9542-EB75B05B1D6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ГАРИН Юрий Алексеевич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934-1968) космонавт СССР, полковник, Герой Советского Союза, лётчик-космонавт СССР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 человек, совершивший полёт в косм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40905A-5BE3-4CCA-8C2F-68B506A062B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Родился в семье колхозника в г. Гжатс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Гжатского района Смоленской об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9 марта 193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F742E9-B214-4C1E-8EAF-23D5248452B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ABFFDF-DE61-46E7-A195-880DB60DD4B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на КК «Восток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1 ч 48 мин облетел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емной ш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08B851-90F3-4219-B3DE-0A6C44BB541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09A6A2-7E4F-4875-A294-9B6A4CC8D5B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1B801F-F613-45FC-A195-CD3D17C1753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C38694-589B-44DD-8C42-007FE06513A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ойдя к трибуне, Юрий Гагарин отрапортовал Никите Хрущёв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B7C566-97AB-47B7-B0E5-721F1212CF8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2AE-797F-43D9-87DF-83A180F5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EA8-962A-4B31-9037-28AE646F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4A06-69AC-481D-955B-1F3096AA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4F3-92EE-4E90-A7E0-F92AAA45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4260-DD81-433D-9BC4-53502DAA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C82F-4BD8-40A3-A715-B3411B60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6A06-6A46-4F59-A684-B9794189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2A89-A3E4-4A49-B39F-341FE573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7F4F-106D-4248-AB61-BEC0B52C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7FC8-AE23-41B7-B2BE-7A1ACB2F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988E-C8FB-40C2-8452-E4B590FA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809-AA1B-4C88-8A13-74698626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477C-409D-493B-9EAB-319360F5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CFE0-A217-419B-B479-FC67FDFB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4286-3A36-421B-BBFB-235B9BFC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4BBD-C621-4C2C-954E-E3485117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3427-D6D0-4C4C-BC01-9F51974F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DFA4-2821-4AD8-9F19-F602D3EC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DCFC-D2EA-48BD-A1DA-83D003B1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9B19-3AB9-4B64-AEB7-1668E6E1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26D9-D9FF-43D3-9CB3-A47D0EBD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A0B9-9F19-4F7A-A171-2F4987A2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2DB-00B8-407C-9BA8-F48B414E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4236-CF72-44A9-8625-77B9B0D9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F727-14DE-4D92-9026-3DE4CE61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A1F1-CF4E-46B5-95C1-EDB65E9A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518F-17A7-4085-A9F3-80BF8516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1DBE-A514-4548-AE44-BD91E631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BB55-7CB1-4889-88A3-A09758A7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8227-1435-4A9B-9799-812B358E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235CD-CD93-4415-A49D-DF5299A9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453A-4A93-481A-84FB-3F3A0090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C754B-BB98-4856-8ED4-D86EE672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1C7-9215-488D-85B1-A9CB5139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E92A-B0EB-4D5F-93B9-F17A7698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F49F0-3917-405A-B308-D76B5611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6A85-4E33-4713-B1ED-6D94860E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EFC8-6CA9-48A6-BDE4-2A2EDBD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AD49-AF36-42D5-9EC1-C59DA11B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97BCC-350B-4159-8AB8-259A6B7D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70246-793C-4605-B2E5-E92BBC1B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BA4A-D884-4788-B43D-4A2F8ACF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0EC3-B4A1-48F7-A8EF-19D64D0F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CD63A-D69A-496E-B571-3DE0651D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01A-97AF-4F8E-8B26-3DCE67B1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19537-9D16-40FE-BEA2-3C05C5F0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A78D9-B1D9-4579-986F-681DFE42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E1286-00CF-4606-A732-8972C292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BF996-535F-4DE9-80D2-3D8141C8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DE24E-B3C3-4B67-AFD5-80169F66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E0B5-CDFE-4595-AD82-0A0BB361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86F55-4F4F-43CF-89DB-2059E03A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AAED8-8FAA-4E95-BF1E-AA7A8399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32BB2-1ECB-4025-8485-22A367AA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18EF-F570-4870-9C18-A4B5EB05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EBD-29A9-4DEE-B5F0-723F87F0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F39F6-0F2D-4F9A-917B-31087525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FC77D-94BB-45E8-B6F3-AD35CD36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516EF-ED25-4425-A2F9-873FB393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E180C-89CC-47A8-9544-1456B741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C711B-E614-438D-B0C3-5303482A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7D6DB-A769-4CAB-9E8D-BD11929F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EEA15-6043-4BD9-849C-5B8B67E6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D18A4-18AC-4073-9AA2-605351F4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DB09D-AA7F-42C8-A7D5-6737352B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AE3AD-14E6-46DB-B636-75FABFAD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1BC-82F5-432B-80B0-57C79DD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4BB6E-0153-421F-BF39-D7EBF4C2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4DA5B-582B-429A-BA4D-1BE7E6C9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46A3A-4859-4FB7-BDF2-C559F857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445-3243-4CC5-80EB-760D75E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8EF-7932-4CFD-8D97-E3D4F6E8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C9AE0E-7A33-4A2C-9124-4C31AC6ECF1A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2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3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4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5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6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7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8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9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A2E124C-F732-4630-98D7-FE27F6CEBD9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  <a:softEdge rad="12600"/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b9bbb1"/>
                </a:solidFill>
                <a:latin typeface="Rockwel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E7F495-48DD-4D28-A5CA-B1F33525B809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400E26F-37C0-42FB-9EFE-0A28DB33134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583AF2-AAB5-49F5-B4CA-0290BBFF9547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5CB932-3F25-4A78-A667-90F26C372C5A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C:\Documents and Settings\BRUNTSEV\Мои документы\Мои рисунки\Юрий\Документы\Презентации\Материал\gagarin_skaf.jpg"/>
          <p:cNvPicPr/>
          <p:nvPr/>
        </p:nvPicPr>
        <p:blipFill>
          <a:blip r:embed="rId1"/>
          <a:stretch/>
        </p:blipFill>
        <p:spPr>
          <a:xfrm>
            <a:off x="5643720" y="4071960"/>
            <a:ext cx="3192120" cy="258552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5" name="Picture 6" descr="C:\Documents and Settings\BRUNTSEV\Мои документы\Мои рисунки\Юрий\Документы\Презентации\Материал\Gagarin_UA.jpg"/>
          <p:cNvPicPr/>
          <p:nvPr/>
        </p:nvPicPr>
        <p:blipFill>
          <a:blip r:embed="rId2"/>
          <a:stretch/>
        </p:blipFill>
        <p:spPr>
          <a:xfrm>
            <a:off x="6858000" y="214200"/>
            <a:ext cx="2071440" cy="275040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6" name="Picture 7" descr="C:\Documents and Settings\BRUNTSEV\Мои документы\Мои рисунки\Юрий\Документы\Презентации\Материал\hm2.jpg"/>
          <p:cNvPicPr/>
          <p:nvPr/>
        </p:nvPicPr>
        <p:blipFill>
          <a:blip r:embed="rId3"/>
          <a:stretch/>
        </p:blipFill>
        <p:spPr>
          <a:xfrm>
            <a:off x="142920" y="1785960"/>
            <a:ext cx="3571560" cy="490608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sp>
        <p:nvSpPr>
          <p:cNvPr id="267" name="Прямоугольник 7"/>
          <p:cNvSpPr/>
          <p:nvPr/>
        </p:nvSpPr>
        <p:spPr>
          <a:xfrm>
            <a:off x="1071360" y="214200"/>
            <a:ext cx="5000400" cy="131004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>
                <a:rot lat="0" lon="300000" rev="0"/>
              </a:camera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ГАГАР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3955320" y="1785960"/>
            <a:ext cx="2817360" cy="109656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Юр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3848040" y="3000240"/>
            <a:ext cx="54021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Алексее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C:\Documents and Settings\Учебный1\Мои документы\Мои рисунки\Презентации\Гагарин\Материал\9760.jpg"/>
          <p:cNvPicPr/>
          <p:nvPr/>
        </p:nvPicPr>
        <p:blipFill>
          <a:blip r:embed="rId1"/>
          <a:stretch/>
        </p:blipFill>
        <p:spPr>
          <a:xfrm>
            <a:off x="5004000" y="30960"/>
            <a:ext cx="2915280" cy="25333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97" name="Прямоугольник 1"/>
          <p:cNvSpPr/>
          <p:nvPr/>
        </p:nvSpPr>
        <p:spPr>
          <a:xfrm>
            <a:off x="107640" y="2925000"/>
            <a:ext cx="889200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C:\Documents and Settings\Учебный1\Мои документы\Мои рисунки\Презентации\Гагарин\Материал\g_5.jpg"/>
          <p:cNvPicPr/>
          <p:nvPr/>
        </p:nvPicPr>
        <p:blipFill>
          <a:blip r:embed="rId2"/>
          <a:stretch/>
        </p:blipFill>
        <p:spPr>
          <a:xfrm>
            <a:off x="357120" y="214200"/>
            <a:ext cx="3047760" cy="21664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BRUNTSEV\Мои документы\Мои рисунки\Юрий\Документы\Презентации\Материал\220px-Gagarin_space_suite.jpg"/>
          <p:cNvPicPr/>
          <p:nvPr/>
        </p:nvPicPr>
        <p:blipFill>
          <a:blip r:embed="rId1"/>
          <a:stretch/>
        </p:blipFill>
        <p:spPr>
          <a:xfrm>
            <a:off x="714240" y="3000240"/>
            <a:ext cx="2716200" cy="36428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1" name="Прямоугольник 1"/>
          <p:cNvSpPr/>
          <p:nvPr/>
        </p:nvSpPr>
        <p:spPr>
          <a:xfrm>
            <a:off x="428760" y="571320"/>
            <a:ext cx="507168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ГАГАРИН Юрий Алексеевич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(1934-1968) космонавт СССР, полковник, Герой Советского Союза, лётчик-космонавт СССР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Первый человек, совершивший полёт в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C:\Documents and Settings\BRUNTSEV\Мои документы\Мои рисунки\Юрий\Документы\Презентации\Материал\08-89.jpg"/>
          <p:cNvPicPr/>
          <p:nvPr/>
        </p:nvPicPr>
        <p:blipFill>
          <a:blip r:embed="rId2"/>
          <a:stretch/>
        </p:blipFill>
        <p:spPr>
          <a:xfrm>
            <a:off x="5929200" y="571320"/>
            <a:ext cx="2883960" cy="36406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BRUNTSEV\Мои документы\Мои рисунки\Юрий\Документы\Презентации\Материал\9769.jpg"/>
          <p:cNvPicPr/>
          <p:nvPr/>
        </p:nvPicPr>
        <p:blipFill>
          <a:blip r:embed="rId1"/>
          <a:stretch/>
        </p:blipFill>
        <p:spPr>
          <a:xfrm>
            <a:off x="285840" y="1870920"/>
            <a:ext cx="5285880" cy="47311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4" name="Picture 3" descr="C:\Documents and Settings\BRUNTSEV\Мои документы\Мои рисунки\Юрий\Документы\Презентации\Материал\9787.jpg"/>
          <p:cNvPicPr/>
          <p:nvPr/>
        </p:nvPicPr>
        <p:blipFill>
          <a:blip r:embed="rId2"/>
          <a:stretch/>
        </p:blipFill>
        <p:spPr>
          <a:xfrm>
            <a:off x="2098800" y="3000240"/>
            <a:ext cx="1772640" cy="323820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5" name="TextBox 10"/>
          <p:cNvSpPr/>
          <p:nvPr/>
        </p:nvSpPr>
        <p:spPr>
          <a:xfrm>
            <a:off x="571320" y="142920"/>
            <a:ext cx="65005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Родился в семье колхозника в г. Гжатс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Гжатского района Смоленской об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                  </a:t>
            </a: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9 марта 193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0.47414 -0.22638 E">
                                      <p:cBhvr>
                                        <p:cTn id="8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:\Documents and Settings\BRUNTSEV\Мои документы\Мои рисунки\Юрий\Документы\Презентации\Материал\Gagarin_23.jpg"/>
          <p:cNvPicPr/>
          <p:nvPr/>
        </p:nvPicPr>
        <p:blipFill>
          <a:blip r:embed="rId1"/>
          <a:stretch/>
        </p:blipFill>
        <p:spPr>
          <a:xfrm rot="1528800">
            <a:off x="3105720" y="3566880"/>
            <a:ext cx="2577240" cy="287604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sp>
        <p:nvSpPr>
          <p:cNvPr id="277" name="TextBox 1"/>
          <p:cNvSpPr/>
          <p:nvPr/>
        </p:nvSpPr>
        <p:spPr>
          <a:xfrm>
            <a:off x="4357800" y="500040"/>
            <a:ext cx="44287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Documents and Settings\BRUNTSEV\Мои документы\Мои рисунки\Юрий\Документы\Презентации\Материал\vostok_korabl.jpg"/>
          <p:cNvPicPr/>
          <p:nvPr/>
        </p:nvPicPr>
        <p:blipFill>
          <a:blip r:embed="rId2"/>
          <a:stretch/>
        </p:blipFill>
        <p:spPr>
          <a:xfrm>
            <a:off x="6786720" y="3929040"/>
            <a:ext cx="1164960" cy="21952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9" name="Picture 3" descr="C:\Documents and Settings\BRUNTSEV\Мои документы\Мои рисунки\Юрий\Документы\Презентации\Материал\vostok_rocket.jpg"/>
          <p:cNvPicPr/>
          <p:nvPr/>
        </p:nvPicPr>
        <p:blipFill>
          <a:blip r:embed="rId3"/>
          <a:stretch/>
        </p:blipFill>
        <p:spPr>
          <a:xfrm>
            <a:off x="428760" y="285840"/>
            <a:ext cx="1802880" cy="61210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57120" y="500040"/>
            <a:ext cx="4285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на КК «Восток»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C:\Documents and Settings\BRUNTSEV\Мои документы\Мои рисунки\СМОТРИ\ПЛАНЕТА ЗЕМЛЯ.jpg"/>
          <p:cNvPicPr/>
          <p:nvPr/>
        </p:nvPicPr>
        <p:blipFill>
          <a:blip r:embed="rId1"/>
          <a:stretch/>
        </p:blipFill>
        <p:spPr>
          <a:xfrm>
            <a:off x="357120" y="3571920"/>
            <a:ext cx="4214520" cy="3160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82" name="TextBox 8"/>
          <p:cNvSpPr/>
          <p:nvPr/>
        </p:nvSpPr>
        <p:spPr>
          <a:xfrm>
            <a:off x="5000760" y="4429080"/>
            <a:ext cx="37144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 1 ч 48 мин облетел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емной ша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C:\Documents and Settings\BRUNTSEV\Мои документы\Мои рисунки\Юрий\Документы\Презентации\Материал\9906.jpg"/>
          <p:cNvPicPr/>
          <p:nvPr/>
        </p:nvPicPr>
        <p:blipFill>
          <a:blip r:embed="rId2"/>
          <a:stretch/>
        </p:blipFill>
        <p:spPr>
          <a:xfrm>
            <a:off x="6010200" y="0"/>
            <a:ext cx="3133440" cy="3809520"/>
          </a:xfrm>
          <a:prstGeom prst="rect">
            <a:avLst/>
          </a:prstGeom>
          <a:ln w="0">
            <a:solidFill>
              <a:srgbClr val="3b3b3b">
                <a:lumMod val="60000"/>
                <a:lumOff val="40000"/>
              </a:srgbClr>
            </a:solidFill>
          </a:ln>
        </p:spPr>
      </p:pic>
      <p:pic>
        <p:nvPicPr>
          <p:cNvPr id="284" name="Picture 9" descr="C:\Documents and Settings\BRUNTSEV\Мои документы\Мои рисунки\Юрий\Документы\WORD\Техника\J0215086.WMF"/>
          <p:cNvPicPr/>
          <p:nvPr/>
        </p:nvPicPr>
        <p:blipFill>
          <a:blip r:embed="rId3"/>
          <a:stretch/>
        </p:blipFill>
        <p:spPr>
          <a:xfrm>
            <a:off x="7912440" y="4929120"/>
            <a:ext cx="1231200" cy="1928520"/>
          </a:xfrm>
          <a:prstGeom prst="rect">
            <a:avLst/>
          </a:prstGeom>
          <a:ln w="0">
            <a:noFill/>
          </a:ln>
          <a:effectLst>
            <a:softEdge rad="63360"/>
          </a:effectLst>
          <a:scene3d>
            <a:camera prst="perspectiveHeroicExtremeLeftFacing"/>
            <a:lightRig dir="t" rig="threePt"/>
          </a:scene3d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538 -0.0118 -0.00104 -0.00069 -0.00347 -0.02708 C -0.00399 -0.0324 -0.00538 -0.03171 -0.00712 -0.03657 C -0.01007 -0.0456 -0.01128 -0.05509 -0.01545 -0.06342 C -0.02743 -0.08773 -0.04236 -0.11041 -0.0559 -0.13333 C -0.06823 -0.15416 -0.08021 -0.17708 -0.09514 -0.19514 C -0.09687 -0.19722 -0.0993 -0.19814 -0.10121 -0.2 C -0.12014 -0.21944 -0.13906 -0.23842 -0.15833 -0.25717 C -0.16337 -0.26203 -0.16909 -0.2662 -0.17378 -0.27152 C -0.18402 -0.28333 -0.19531 -0.29189 -0.2059 -0.30324 C -0.2125 -0.31018 -0.21944 -0.31921 -0.22621 -0.32546 C -0.24479 -0.34282 -0.27534 -0.35833 -0.29757 -0.36504 C -0.29896 -0.3662 -0.30451 -0.37152 -0.30712 -0.37152 C -0.3125 -0.37152 -0.31597 -0.36342 -0.32135 -0.3618 C -0.33142 -0.35902 -0.35191 -0.35902 -0.35712 -0.35879 C -0.3651 -0.3625 -0.37257 -0.36875 -0.3809 -0.37152 C -0.3967 -0.38449 -0.43316 -0.38634 -0.45 -0.38727 C -0.48385 -0.39375 -0.51979 -0.39421 -0.55347 -0.38402 C -0.56458 -0.38078 -0.57552 -0.37824 -0.5868 -0.37615 C -0.59236 -0.375 -0.60347 -0.37291 -0.60347 -0.37291 C -0.62691 -0.35949 -0.64948 -0.3456 -0.67135 -0.32847 C -0.68489 -0.31782 -0.69913 -0.31365 -0.71059 -0.29838 C -0.72691 -0.27662 -0.72986 -0.24814 -0.7368 -0.2206 C -0.73854 -0.20509 -0.74097 -0.18981 -0.74288 -0.17453 C -0.74253 -0.15648 -0.74323 -0.13842 -0.74166 -0.1206 C -0.74027 -0.10602 -0.72725 -0.08981 -0.72135 -0.07939 C -0.7085 -0.05625 -0.69462 -0.03657 -0.675 -0.02384 C -0.66632 -0.00972 -0.67465 -0.02106 -0.66059 -0.00949 C -0.65468 -0.00463 -0.65139 0.00394 -0.64514 0.00787 C -0.63455 0.01482 -0.62118 0.02292 -0.60955 0.02709 C -0.59566 0.03195 -0.5809 0.03056 -0.56666 0.03172 C -0.55972 0.03357 -0.55277 0.03449 -0.54635 0.0382 C -0.53784 0.04329 -0.53038 0.04908 -0.52135 0.05232 C -0.51337 0.0551 -0.50451 0.05579 -0.49635 0.05718 C -0.48576 0.06135 -0.475 0.0625 -0.46423 0.06505 C -0.37465 0.06412 -0.3092 0.06065 -0.225 0.0588 C -0.21354 0.05625 -0.20364 0.05209 -0.19166 0.0507 C -0.18021 0.04746 -0.1717 0.04468 -0.16059 0.03959 C -0.15555 0.03727 -0.15434 0.03357 -0.15 0.0301 C -0.13975 0.02176 -0.12847 0.01574 -0.11788 0.00787 C -0.11232 0.00371 -0.10937 -0.00254 -0.10347 -0.00625 C -0.09496 -0.01782 -0.08889 -0.03634 -0.07968 -0.04444 C -0.0717 -0.06041 -0.06493 -0.07847 -0.05468 -0.09213 C -0.05139 -0.10509 -0.04739 -0.11759 -0.04288 -0.13009 C -0.03975 -0.15115 -0.04392 -0.12824 -0.03923 -0.14282 C -0.03698 -0.14977 -0.0368 -0.15764 -0.03559 -0.16504 C -0.03402 -0.17546 -0.03125 -0.18611 -0.02968 -0.19676 C -0.0309 -0.22569 -0.02968 -0.28194 -0.03559 -0.30324 C -0.03698 -0.31412 -0.03802 -0.32708 -0.04288 -0.33657 C -0.04982 -0.35046 -0.06076 -0.36018 -0.07014 -0.37152 C -0.07847 -0.38148 -0.0908 -0.39699 -0.10121 -0.40162 C -0.10243 -0.40277 -0.1033 -0.40416 -0.10468 -0.40486 C -0.10729 -0.40625 -0.11302 -0.40787 -0.11302 -0.40787 C -0.11771 -0.41296 -0.12743 -0.42453 -0.13333 -0.42708 C -0.14218 -0.43634 -0.15451 -0.44236 -0.16545 -0.44606 C -0.17448 -0.45509 -0.18455 -0.45717 -0.19514 -0.46041 C -0.21319 -0.46597 -0.23159 -0.46967 -0.25 -0.47291 C -0.2743 -0.47731 -0.29826 -0.48379 -0.32257 -0.48889 C -0.3408 -0.49259 -0.3592 -0.49421 -0.37725 -0.49838 C -0.39062 -0.50139 -0.40295 -0.50486 -0.41666 -0.50625 C -0.46475 -0.50532 -0.49913 -0.50324 -0.54514 -0.50162 C -0.55989 -0.49375 -0.57708 -0.49398 -0.59288 -0.49051 C -0.60625 -0.49097 -0.66267 -0.49236 -0.68212 -0.49375 C -0.69375 -0.49467 -0.70468 -0.50463 -0.71545 -0.50949 C -0.72517 -0.51875 -0.72083 -0.51527 -0.72847 -0.5206 C -0.73298 -0.52939 -0.74149 -0.53379 -0.74757 -0.5412 C -0.75434 -0.54953 -0.74948 -0.54652 -0.7559 -0.5493 C -0.7618 -0.55694 -0.7684 -0.56342 -0.775 -0.5699 C -0.78368 -0.57847 -0.78472 -0.58958 -0.79166 -0.59838 C -0.79409 -0.60509 -0.7967 -0.60694 -0.8 -0.61273 C -0.80538 -0.62222 -0.81146 -0.63588 -0.81788 -0.64444 C -0.82187 -0.65555 -0.81909 -0.64838 -0.82621 -0.66342 C -0.82691 -0.66504 -0.82847 -0.66828 -0.82847 -0.66828 C -0.8335 -0.69421 -0.84652 -0.71689 -0.85225 -0.74282 C -0.85399 -0.77245 -0.85642 -0.79213 -0.85347 -0.8206 C -0.85243 -0.86504 -0.84757 -0.91227 -0.85833 -0.95555 C -0.85868 -0.97777 -0.85885 -1 -0.85955 -1.02222 C -0.86007 -1.03634 -0.86892 -1.05486 -0.86892 -1.06828 E">
                                      <p:cBhvr>
                                        <p:cTn id="14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285840" y="357120"/>
            <a:ext cx="750060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0" y="5565240"/>
            <a:ext cx="9143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C:\Documents and Settings\Учебный1\Мои документы\Мои рисунки\Презентации\Гагарин\Материал\9713.jpg"/>
          <p:cNvPicPr/>
          <p:nvPr/>
        </p:nvPicPr>
        <p:blipFill>
          <a:blip r:embed="rId1"/>
          <a:stretch/>
        </p:blipFill>
        <p:spPr>
          <a:xfrm>
            <a:off x="214200" y="1714320"/>
            <a:ext cx="1970640" cy="3071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Учебный1\Мои документы\Мои рисунки\Презентации\Гагарин\Материал\9838.jpg"/>
          <p:cNvPicPr/>
          <p:nvPr/>
        </p:nvPicPr>
        <p:blipFill>
          <a:blip r:embed="rId2"/>
          <a:stretch/>
        </p:blipFill>
        <p:spPr>
          <a:xfrm>
            <a:off x="4786200" y="2643120"/>
            <a:ext cx="3809520" cy="28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85840" y="285840"/>
            <a:ext cx="85006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Book Antiqua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Documents and Settings\Учебный1\Мои документы\Мои рисунки\Презентации\Гагарин\Материал\9751.jpg"/>
          <p:cNvPicPr/>
          <p:nvPr/>
        </p:nvPicPr>
        <p:blipFill>
          <a:blip r:embed="rId1"/>
          <a:stretch/>
        </p:blipFill>
        <p:spPr>
          <a:xfrm>
            <a:off x="6660360" y="4227840"/>
            <a:ext cx="1896480" cy="262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78" dur="1" fill="hold"/>
                                        <p:tgtEl>
                                          <p:spTgt spid="29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122400" y="554040"/>
            <a:ext cx="63910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C:\Documents and Settings\Учебный1\Мои документы\Мои рисунки\Презентации\Гагарин\Материал\9745.jpg"/>
          <p:cNvPicPr/>
          <p:nvPr/>
        </p:nvPicPr>
        <p:blipFill>
          <a:blip r:embed="rId1"/>
          <a:stretch/>
        </p:blipFill>
        <p:spPr>
          <a:xfrm>
            <a:off x="6732360" y="571320"/>
            <a:ext cx="2228040" cy="452412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over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2"/>
          <p:cNvSpPr/>
          <p:nvPr/>
        </p:nvSpPr>
        <p:spPr>
          <a:xfrm>
            <a:off x="0" y="0"/>
            <a:ext cx="6857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дойдя к трибуне, Юрий Гагарин отрапортовал Никите Хрущё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Учебный1\Мои документы\Мои рисунки\Презентации\Гагарин\Материал\9826.jpg"/>
          <p:cNvPicPr/>
          <p:nvPr/>
        </p:nvPicPr>
        <p:blipFill>
          <a:blip r:embed="rId1"/>
          <a:stretch/>
        </p:blipFill>
        <p:spPr>
          <a:xfrm>
            <a:off x="5143680" y="2428920"/>
            <a:ext cx="3809520" cy="20379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95" name="Picture 3" descr="C:\Documents and Settings\Учебный1\Мои документы\Мои рисунки\Презентации\Гагарин\Материал\123563498241a3.jpg"/>
          <p:cNvPicPr/>
          <p:nvPr/>
        </p:nvPicPr>
        <p:blipFill>
          <a:blip r:embed="rId2"/>
          <a:stretch/>
        </p:blipFill>
        <p:spPr>
          <a:xfrm>
            <a:off x="500040" y="2857320"/>
            <a:ext cx="4095360" cy="32475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пекс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  <Words>986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3T08:25:06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