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2D4A-1373-4096-8609-88151CC39F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6D78-F8E1-4841-92C6-68CCEBAA45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B663-F0ED-4D37-9DD8-B9547F898C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4C6C-74F8-4919-B5C2-8BA0AEC92F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A031-C465-402B-AF62-6B21433C39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0105-AAED-45C2-942B-FEFEDD355A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6F7-3844-4050-8B11-1BD1A90024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64E3-FDFE-4024-AC23-B41BA1EFD1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B686-633E-47BE-9963-38FEF22EA3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9CE2-FC6B-4DDE-BA2D-5E34EBB847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F9DE-91C1-4A34-9E1F-E5729BFE8D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2583-DF62-4D5E-9327-2F5717BE82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4973-66ED-48CF-8B07-E2D945108A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3FFF-63DC-41FD-8ED3-287689DC96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C208-07B1-4877-8E3F-BEA03768FC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10C5-1D23-4C4E-A44A-DD8FBC8156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2417-B438-4BD3-B7A2-4AC5C71573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395B-8BCA-4216-AA13-7E4228FCDB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C7F5-37B3-4DB1-BBE2-99C0A3530A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2829-4B97-4FE4-AFE2-1501C81AED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C524-7E4E-4F1E-8158-B6349341A3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65E3-9FA9-478C-B1A5-FE04064DA3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9BCA-A4D2-4C15-B327-1E32C14D01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94D6-E925-4D11-AA19-565A8F326E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A6B3-6A63-4E73-A7FA-947024DB7D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9A30-4715-451F-AB49-E15EFB20D5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0BF7-A8D5-4C4E-A8E8-D916E37A1F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AA3C-6669-4961-8C6F-EE2C3F0F35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EE09-40D5-481A-878C-EBDEFD6F92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C488-C87C-433F-8283-033084ECF9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A9E-96B2-46E1-A10B-F7AE8ED8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8BF-B8EC-4E70-8C60-03938680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D28-3757-40E3-83DA-12791918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A8E-693A-44EB-BC9D-770D2B59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A7D-E823-41A8-8248-905922A3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F95-DB64-4612-9531-AFD4FA4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114-446D-4ADC-A702-EA747566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431-5EB2-4CBF-B099-A062610D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1FA-F9F6-4C8A-8E5F-83B2B74C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50C-9089-4BEF-91D3-C5677758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F17-7FA3-4DAE-BFDB-D186D5F9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0A2-738F-48A4-9089-9A8C44B1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84CF-7DC8-48D4-B05C-442122CA8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1-13T08:30:29Z</dcterms:modified>
  <cp:revision>12</cp:revision>
  <dc:subject/>
  <dc:title>ФИЗИКА И ПОЗНАНИЕ МИРА</dc:title>
</cp:coreProperties>
</file>