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37.png" ContentType="image/png"/>
  <Override PartName="/ppt/media/image14.jpeg" ContentType="image/jpeg"/>
  <Override PartName="/ppt/media/image33.png" ContentType="image/png"/>
  <Override PartName="/ppt/media/image8.png" ContentType="image/png"/>
  <Override PartName="/ppt/media/image38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25.jpeg" ContentType="image/jpeg"/>
  <Override PartName="/ppt/media/image13.jpeg" ContentType="image/jpeg"/>
  <Override PartName="/ppt/media/image39.png" ContentType="image/png"/>
  <Override PartName="/ppt/media/image34.png" ContentType="image/pn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3.jpeg" ContentType="image/jpeg"/>
  <Override PartName="/ppt/media/image15.jpeg" ContentType="image/jpe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923D-BB06-450D-AD0F-084A3B0D96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0 класс                                      ФИЗИКА 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ЗНАНИЕ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B011-5421-48C4-BF83-91F5CEFC84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аучная гипо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научная гипотез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является предположением о том, что существует связь между известным и вновь объясняемым явлением. Но те гипотезы, которые не нашли подтверждения в экспериментах, считаются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ложными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и отверг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75E8-FE71-47F0-9330-B4B4469B8A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Тео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али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вободное падение т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ьюто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Закон Всемирного тяго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0458-AB7C-48AF-9CF7-7E1D29B70F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УНДАМЕНТАЛЬНЫЕ ФИЗИЧЕСКИЕ ТЕОРИ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обенность фундаментальных физических теор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х преемствен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общая теория включает частные, уже известные зако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границы                           использования предыдущей теор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A623-14F6-4B98-98B5-00A986C27B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ИЗИЧЕСКИЕ ЗАКОНЫ И ТЕОРИИ, ГРАНИЦЫ ИХ ПРИМЕНИМОСТ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бобщения экспериментальных фактов, а также результатов деятельности людей устанавливаются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зако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устойчивые повторяющиеся объективные закономерности, существующие в природе. Наиболее важные законы устанавливают связь между физическими величинами, для чего необходимо эти величины измер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аучный мет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пираясь на опыт, отыскив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личествен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математически формулируемые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ы приро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открытые законы проверяются практи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A6CF-F26D-4F1B-B9AA-EA1D998CD1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DB6C-9D48-4228-9D0D-D1DBA3FEC7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МЫ ДЛЯ ПРОВЕДЕНИЯ ОПЫТА ДОЛЖНЫ БЫТЬ ОДИНАКОВЫМИ, Т.Е. УГОЛ ПРИ ВЕРШИНЕ РАВ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ЕТСВЕННО УГЛЫ ПАДЕНИЯ БУДУТ РАЗЛЧИНЫ В СЛУЧАЕ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НИТЕ, КАК ПОСТРОИТЬ УГОЛ ПА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F03A-1B03-465B-B057-CFED8957AE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ЕГЭ 2009,А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ФОТОГРАФИИ ПОКАЗАНА УСТАНОВКА ДЛЯ ИССЛЕДОВАНИЯ РАВНОУС-КОРЕННОГО СКОЛЬЖЕНИЯ КАРЕТКИ (1) МАССОЙ 0,1 КГ ПО НАКЛОННОЙ ПЛОСКОСТИ, УСТАНОВЛЕННОЙ ПОД УГЛОМ 3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ГОРИЗОН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омент начала движения верхний датчик (А) включает секундомер (2), а при  прохождении каретки мимо нижнего датчика (В) секундомер выключается. Числа на линейке обозначают длину в см. Какое выражение описывает зависимость скорости каретки от време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213A-FC7D-415D-996C-84603D1B1C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ЙТЕ ФОРМУЛУ РАВНОУСКОРЕННОГО ДВИЖЕНИЯ БЕЗ НАЧАЛЬНОЙ СКОР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S=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ɑt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ХОДИТЕ УСКОРЕНИЕ 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1,25 м/с</a:t>
            </a:r>
            <a:r>
              <a:rPr b="1" lang="ru-RU" sz="1200" spc="-1" strike="noStrike" u="sng" baseline="30000">
                <a:solidFill>
                  <a:srgbClr val="ff0000"/>
                </a:solidFill>
                <a:uFillTx/>
                <a:latin typeface="Calibri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ЗАПИСЫВАЕТЕ УРАВНЕНИЕ СКОРОСТИ ОТ ВРЕМЕНИ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Ʋ</a:t>
            </a:r>
            <a:r>
              <a:rPr b="0" lang="el-GR" sz="12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Ʋ</a:t>
            </a:r>
            <a:r>
              <a:rPr b="0" lang="ru-RU" sz="1200" spc="-1" strike="noStrike" baseline="-25000">
                <a:solidFill>
                  <a:srgbClr val="ff0000"/>
                </a:solidFill>
                <a:latin typeface="Calibri"/>
                <a:ea typeface="Arial"/>
              </a:rPr>
              <a:t>0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 +</a:t>
            </a:r>
            <a:r>
              <a:rPr b="0" lang="el-GR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ɑ</a:t>
            </a:r>
            <a:r>
              <a:rPr b="0" i="1" lang="en-US" sz="12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Ʋ</a:t>
            </a:r>
            <a:r>
              <a:rPr b="1" lang="el-GR" sz="1200" spc="-1" strike="noStrike" u="sng">
                <a:solidFill>
                  <a:srgbClr val="ff0000"/>
                </a:solidFill>
                <a:uFillTx/>
                <a:latin typeface="Calibri"/>
              </a:rPr>
              <a:t> = 1,25</a:t>
            </a:r>
            <a:r>
              <a:rPr b="1" i="1" lang="en-US" sz="1200" spc="-1" strike="noStrike" u="sng">
                <a:solidFill>
                  <a:srgbClr val="ff0000"/>
                </a:solidFill>
                <a:uFillTx/>
                <a:latin typeface="Calibri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9CAF-A487-4566-A5E6-BBBDFF191E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DD83-21D6-4B3C-8086-81B9AB2797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УНДАМЕНТАЛЬНЫЕ ВЗАИМОДЕЙСТВ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Все бесконечное разнообразие физических процессов, происходящих в нашем мире, можно объяснить существованием в природе очень малого количества фундаментальных взаимодейств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3DFF-005A-461C-8F98-300033C33A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ЧТО ИЗУЧАЕТ ФИЗ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Black"/>
              </a:rPr>
              <a:t>Физика изучает мир, в котором мы живем, явления, в нем происходящие, открывает законы, которым подчиняются все эти явления, устанавливает их взаимо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6B19-A4D4-46FE-9485-16E72B09D6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ГРАВИТАЦИО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2C96-B206-4D64-9AAC-FF53D2428E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ЛЕКТРОМАГНИТ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A7E5-DA7E-44D0-BA81-F1DF5EFE7A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ИЛЬНОЕ (ЯДЕРНО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F5F0-122F-4FC6-B490-88CA3B724D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ЛАБОЕ (ЯДЕРНО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0F1C-A00F-4E67-B654-7CB55571B3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Д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Длина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–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мера для измерения расстояния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Метр 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–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единица длины, равная расстоянию, которое проходит свет в вакууме за время ½ 99 792 458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54B8-3FDE-434B-8DE8-AB5037FBC7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Время – мера измерение разных промежутков времени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Секунда – эта единица времени, равная 9 192 631 770 периодам излучения изотопа атома цезия – 133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A5F3-68D8-456D-A6F0-2400BD8F64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F059-5DCE-4ECE-8836-2A4CF0F591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ть действие, выполняемое с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мощью средств измерен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хождения значения физической величин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нятых единиц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ямое измерение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рение, при котором искомое значение величины находят непосредственно из опытных данных. Например: измерение напряжения при помощи вольтмет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B12F-A21B-42F6-B414-42893E7311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освенное измерение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рение, при котором искомое значение величины находят на основании известной зависимости между этой величиной и величинами, подвергаемыми прямым измере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90A0-FB89-43D4-9336-CB4D050122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ения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 —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оценка отклонения величины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измеренного значения величины от её истинного значения. Погрешность измерения является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характеристикой (меро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точности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зме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ительного прибор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разность между показанием прибора и истинным значением измеряемой вел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ения равна половине цены деления приб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Абсолютная погрешность измерения (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)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разность между действительным и истинным значениями измеряемой величи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.=Хд. - Хи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тносительная погрешность измерения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(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) - отношение абсолютной погрешности измерения к истинному значению измеряемой величины, выраженное в %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ACA0-C611-4E4D-8A7A-22729CA5B9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озникновение физи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3AAF-D288-4A5F-A4F0-67AA769FA2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Материя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се то, что существует во Вселенной, независимо от нашего сознания. Материя в нашем мире существует в виде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еществ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и по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E8AB-18D3-4EB7-B0C3-A54666FA89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Что и как изучает физ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8AF0-15C9-48FA-8A03-FC55DDAE2D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волюция взгляда на физическую картину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72AC-8BA2-430C-BC7E-934A58EA8D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ЕХНИЧЕСКИЕ УСТРОЙСТВА ДЛЯ ИЗУЧЕНИЯ ВСЕЛЕННО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DEC3-A8AC-443D-9E7F-569DC39D43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ЕХНИЧЕСКИЕ УСТРОЙСТВА ДЛЯ ИЗУЧЕНИЯ ВСЕЛЕН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D8F5-5278-4C73-BD0B-177B2F1437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ТАПЫ НАУЧНОГО ПОЗНА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F5D1-2225-4265-925E-99B96C443E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9EC7-E8FB-42E3-B2DE-8C957E1B2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1E52-089F-4834-B42B-D0611D3E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39C6-E863-49EB-ADE0-613AA690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C99C-FB5F-42F7-91B8-EF334CAD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F5DD-A489-4D13-AC36-FB242D1A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94A6-E8BA-40C8-B715-0C67A6CE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D88E-7F64-497A-A768-C66CCD96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496A-DFA7-4052-92B8-DE6004FF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E093-FBDC-41C1-A960-065F9349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345B-6770-4404-BC5B-E77FA700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82D8-A192-4FF3-8AF1-1EA3C424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5BA1-3C50-4A0B-A189-6D3E72EC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E03E-0651-4E3E-B0C9-1800FB13BA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hyperlink" Target="file:///D:/&#1052;&#1040;&#1056;&#1048;&#1053;&#1040;%20&#1044;&#1054;&#1052;/&#1060;&#1048;&#1047;&#1048;&#1050;&#1040;%202010-2011/10%20&#1087;&#1088;&#1086;&#1092;&#1080;&#1083;&#1100;/http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hyperlink" Target="file:///D:/&#1052;&#1040;&#1056;&#1048;&#1053;&#1040;%20&#1044;&#1054;&#1052;/&#1060;&#1048;&#1047;&#1048;&#1050;&#1040;%202010-2011/10%20&#1087;&#1088;&#1086;&#1092;&#1080;&#1083;&#1100;/http.doc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280360" cy="19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0 класс                                      ФИЗИКА 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ЗНАНИЕ МИ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042920" y="5300640"/>
            <a:ext cx="7705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физики Чижова Марина Валентин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 Тверь, МОУ СОШ №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аучная гипот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890360"/>
            <a:ext cx="4680000" cy="42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аучная гипотез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является предположением о том, что существует связь между известным и вновь объясняемым явлением. Но те гипотезы, которые не нашли подтверждения в экспериментах, считаются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ложным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и отверг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Ньютон"/>
          <p:cNvPicPr/>
          <p:nvPr/>
        </p:nvPicPr>
        <p:blipFill>
          <a:blip r:embed="rId1"/>
          <a:stretch/>
        </p:blipFill>
        <p:spPr>
          <a:xfrm>
            <a:off x="6227640" y="1916280"/>
            <a:ext cx="2081160" cy="25192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6372360" y="5013360"/>
            <a:ext cx="23032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И. Нью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Теор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али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вободное падение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ьюто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кон Всемирного тяго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>
            <a:off x="4500720" y="2781360"/>
            <a:ext cx="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4500720" y="4508640"/>
            <a:ext cx="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24000" y="5157720"/>
            <a:ext cx="849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теории проверяются постоянно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эксперимен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ый является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ритерием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сти те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ФУНДАМЕНТАЛЬНЫЕ ФИЗИЧЕСКИЕ ТЕО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собенность фундаментальных физических теорий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их преемственност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лее общая теория включает частные, уже известные зако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яет границы                           использования предыдущей теори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-195120" y="-6480"/>
            <a:ext cx="9339120" cy="1543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результате обобщения экспериментальных фактов, а также результатов деятельности людей устанавливаются </a:t>
            </a: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физические законы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— устойчивые повторяющиеся объективные закономерности, существующие в природе. Наиболее важные законы устанавливают связь между физическими величинами, для чего необходимо эти величины измерять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Научный метод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, опираясь на опыт, отыскивают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количественные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(математически формулируемые)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законы природы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; открытые законы проверяются практикой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://markx.narod.ru/pic/poznanie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http://markx.narod.ru/pic/poznanie.gif"/>
          <p:cNvPicPr/>
          <p:nvPr/>
        </p:nvPicPr>
        <p:blipFill>
          <a:blip r:embed="rId3"/>
          <a:stretch/>
        </p:blipFill>
        <p:spPr>
          <a:xfrm>
            <a:off x="0" y="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Заголовок 1" descr=""/>
          <p:cNvPicPr/>
          <p:nvPr/>
        </p:nvPicPr>
        <p:blipFill>
          <a:blip r:embed="rId1"/>
          <a:srcRect l="0" t="13707" r="0" b="10041"/>
          <a:stretch/>
        </p:blipFill>
        <p:spPr>
          <a:xfrm>
            <a:off x="539640" y="1341360"/>
            <a:ext cx="8290080" cy="2808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79280" y="4437000"/>
            <a:ext cx="7324920" cy="15429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12"/>
          <p:cNvSpPr/>
          <p:nvPr/>
        </p:nvSpPr>
        <p:spPr>
          <a:xfrm>
            <a:off x="7524720" y="4437000"/>
            <a:ext cx="13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Б и 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Б 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А и 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В и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ЗМЫ ДЛЯ ПРОВЕДЕНИЯ ОПЫТА ДОЛЖНЫ БЫТЬ ОДИНАКОВЫМИ, Т.Е. УГОЛ ПРИ ВЕРШИНЕ РАВ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ТЕТСВЕННО УГЛЫ ПАДЕНИЯ БУДУТ РАЗЛЧИНЫ В СЛУЧАЕ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НИТЕ, КАК ПОСТРОИТЬ УГОЛ ПА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08000" y="1341360"/>
            <a:ext cx="395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ГЭ 2009,А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ФОТОГРАФИИ ПОКАЗАНА УСТАНОВКА ДЛЯ ИССЛЕДОВАНИЯ РАВНОУС-КОРЕННОГО СКОЛЬЖЕНИЯ КАРЕТКИ (1) МАССОЙ 0,1 КГ ПО НАКЛОННОЙ ПЛОСКОСТИ, УСТАНОВЛЕННОЙ ПОД УГЛОМ 3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ГОРИЗОН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211640" y="1197000"/>
            <a:ext cx="4932360" cy="3816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0" y="3860640"/>
            <a:ext cx="460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омент начала движения верхний датчик (А) включает секундомер (2), а при  прохождении каретки мимо нижнего датчика (В) секундомер выключается. Числа на линейке обозначают длину в см. Какое выражение описывает зависимость скорости каретки от врем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1"/>
          <p:cNvSpPr/>
          <p:nvPr/>
        </p:nvSpPr>
        <p:spPr>
          <a:xfrm>
            <a:off x="4932360" y="4941720"/>
            <a:ext cx="21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1,2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0,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2,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1,9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ЙТЕ ФОРМУЛУ РАВНОУСКОРЕННОГО ДВИЖЕНИЯ БЕЗ НАЧАЛЬНОЙ СКОР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=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ɑt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ХОДИТЕ УСКОРЕНИЕ 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1,25 м/с</a:t>
            </a:r>
            <a:r>
              <a:rPr b="1" lang="ru-RU" sz="3200" spc="-1" strike="noStrike" u="sng" baseline="30000">
                <a:solidFill>
                  <a:srgbClr val="ff0000"/>
                </a:solidFill>
                <a:uFillTx/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ПИСЫВАЕТЕ УРАВНЕНИЕ СКОРОСТИ ОТ ВРЕМЕН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Ʋ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Ʋ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+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ɑ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Ʋ</a:t>
            </a:r>
            <a:r>
              <a:rPr b="1" lang="el-GR" sz="3200" spc="-1" strike="noStrike" u="sng">
                <a:solidFill>
                  <a:srgbClr val="ff0000"/>
                </a:solidFill>
                <a:uFillTx/>
                <a:latin typeface="Arial"/>
              </a:rPr>
              <a:t> = 1,25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17040" cy="2638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0" y="4292640"/>
            <a:ext cx="9067680" cy="11905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4500720" y="414972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3"/>
          <a:srcRect l="50020" t="0" r="23777" b="0"/>
          <a:stretch/>
        </p:blipFill>
        <p:spPr>
          <a:xfrm>
            <a:off x="4500720" y="4292640"/>
            <a:ext cx="2376360" cy="119052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1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УНДАМЕНТАЛЬНЫЕ ВЗАИМОДЕЙСТВ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0" y="134136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се бесконечное разнообразие физических процессов, происходящих в нашем мире, можно объяснить существованием в природе очень малого количества фундаментальных взаимодейств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Organization Chart 4"/>
          <p:cNvGrpSpPr/>
          <p:nvPr/>
        </p:nvGrpSpPr>
        <p:grpSpPr>
          <a:xfrm>
            <a:off x="179280" y="3068640"/>
            <a:ext cx="8856360" cy="3353400"/>
            <a:chOff x="179280" y="3068640"/>
            <a:chExt cx="8856360" cy="3353400"/>
          </a:xfrm>
        </p:grpSpPr>
        <p:cxnSp>
          <p:nvCxnSpPr>
            <p:cNvPr id="137" name="_s1028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5937120" y="2782080"/>
              <a:ext cx="763200" cy="346572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1029"/>
            <p:cNvCxnSpPr>
              <a:stCxn id="141" idx="0"/>
              <a:endCxn id="139" idx="2"/>
            </p:cNvCxnSpPr>
            <p:nvPr/>
          </p:nvCxnSpPr>
          <p:spPr>
            <a:xfrm flipV="1" rot="16200000">
              <a:off x="4789080" y="3930120"/>
              <a:ext cx="763200" cy="116964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1030"/>
            <p:cNvCxnSpPr>
              <a:stCxn id="143" idx="0"/>
              <a:endCxn id="139" idx="2"/>
            </p:cNvCxnSpPr>
            <p:nvPr/>
          </p:nvCxnSpPr>
          <p:spPr>
            <a:xfrm flipH="1" flipV="1" rot="5400000">
              <a:off x="3641040" y="3951360"/>
              <a:ext cx="763200" cy="112752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1031"/>
            <p:cNvCxnSpPr>
              <a:stCxn id="145" idx="0"/>
              <a:endCxn id="139" idx="2"/>
            </p:cNvCxnSpPr>
            <p:nvPr/>
          </p:nvCxnSpPr>
          <p:spPr>
            <a:xfrm flipH="1" flipV="1" rot="5400000">
              <a:off x="2493000" y="2802960"/>
              <a:ext cx="763200" cy="342396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9" name="_s1032"/>
            <p:cNvSpPr/>
            <p:nvPr/>
          </p:nvSpPr>
          <p:spPr>
            <a:xfrm>
              <a:off x="2914920" y="3068640"/>
              <a:ext cx="3339000" cy="10652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Взаимодейств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33"/>
            <p:cNvSpPr/>
            <p:nvPr/>
          </p:nvSpPr>
          <p:spPr>
            <a:xfrm>
              <a:off x="17928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Гравита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цион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34"/>
            <p:cNvSpPr/>
            <p:nvPr/>
          </p:nvSpPr>
          <p:spPr>
            <a:xfrm>
              <a:off x="247536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Электро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магнит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5"/>
            <p:cNvSpPr/>
            <p:nvPr/>
          </p:nvSpPr>
          <p:spPr>
            <a:xfrm>
              <a:off x="477144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Силь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6"/>
            <p:cNvSpPr/>
            <p:nvPr/>
          </p:nvSpPr>
          <p:spPr>
            <a:xfrm>
              <a:off x="706752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Слаб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ТО ИЗУЧАЕТ ФИЗИ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1"/>
          <p:cNvPicPr/>
          <p:nvPr/>
        </p:nvPicPr>
        <p:blipFill>
          <a:blip r:embed="rId1"/>
          <a:stretch/>
        </p:blipFill>
        <p:spPr>
          <a:xfrm>
            <a:off x="250920" y="1268280"/>
            <a:ext cx="5184720" cy="4840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5724360" y="1773360"/>
            <a:ext cx="3024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Физика изучает мир, в котором мы живем, явления, в нем происходящие, открывает законы, которым подчиняются все эти явления, устанавливает их взаимосвя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РАВИТАЦИОН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52" descr="_11"/>
          <p:cNvPicPr/>
          <p:nvPr/>
        </p:nvPicPr>
        <p:blipFill>
          <a:blip r:embed="rId1"/>
          <a:stretch/>
        </p:blipFill>
        <p:spPr>
          <a:xfrm>
            <a:off x="324000" y="1557360"/>
            <a:ext cx="4897440" cy="3699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5292720" y="148428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Бесконечно больш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5435640" y="2781360"/>
            <a:ext cx="33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телами, имеющими мас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5435640" y="4653000"/>
            <a:ext cx="3382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вит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ДАЛЬН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ЭЛЕКТРОМАГНИТ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292720" y="148428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Бесконечно больш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435640" y="3068640"/>
            <a:ext cx="33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телами, имеющими заря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435640" y="465300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от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ДАЛЬН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Magnet0873"/>
          <p:cNvPicPr/>
          <p:nvPr/>
        </p:nvPicPr>
        <p:blipFill>
          <a:blip r:embed="rId1"/>
          <a:stretch/>
        </p:blipFill>
        <p:spPr>
          <a:xfrm>
            <a:off x="0" y="1268280"/>
            <a:ext cx="3313080" cy="2224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Картинка 8 из 1768"/>
          <p:cNvPicPr/>
          <p:nvPr/>
        </p:nvPicPr>
        <p:blipFill>
          <a:blip r:embed="rId2"/>
          <a:stretch/>
        </p:blipFill>
        <p:spPr>
          <a:xfrm>
            <a:off x="539640" y="220500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Картинка 96 из 1768"/>
          <p:cNvPicPr/>
          <p:nvPr/>
        </p:nvPicPr>
        <p:blipFill>
          <a:blip r:embed="rId3"/>
          <a:stretch/>
        </p:blipFill>
        <p:spPr>
          <a:xfrm>
            <a:off x="1547640" y="2924280"/>
            <a:ext cx="3816360" cy="28083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ИЛЬНОЕ (ЯДЕРНО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5292720" y="1484280"/>
            <a:ext cx="33829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фм (фемтометр, 1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-15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435640" y="249228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нуклон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л. частиц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435640" y="371628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лю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эл. частиц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ОРТК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Формула Эйншейна"/>
          <p:cNvPicPr/>
          <p:nvPr/>
        </p:nvPicPr>
        <p:blipFill>
          <a:blip r:embed="rId1"/>
          <a:stretch/>
        </p:blipFill>
        <p:spPr>
          <a:xfrm>
            <a:off x="2124000" y="6093000"/>
            <a:ext cx="1511280" cy="420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152712400053405a9d365b9ca4d042baf0cc5080fe"/>
          <p:cNvPicPr/>
          <p:nvPr/>
        </p:nvPicPr>
        <p:blipFill>
          <a:blip r:embed="rId2"/>
          <a:stretch/>
        </p:blipFill>
        <p:spPr>
          <a:xfrm>
            <a:off x="179280" y="1341360"/>
            <a:ext cx="3168720" cy="2938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Удивительный мир внутри атомного ядра. Лекция для школьников атом,протон, кварки, масса"/>
          <p:cNvPicPr/>
          <p:nvPr/>
        </p:nvPicPr>
        <p:blipFill>
          <a:blip r:embed="rId3"/>
          <a:stretch/>
        </p:blipFill>
        <p:spPr>
          <a:xfrm>
            <a:off x="684360" y="2205000"/>
            <a:ext cx="4679640" cy="3510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5364000" y="530064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СТАБИЛЬНОСТЬ ЯДРА А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1" descr="142"/>
          <p:cNvPicPr/>
          <p:nvPr/>
        </p:nvPicPr>
        <p:blipFill>
          <a:blip r:embed="rId4"/>
          <a:stretch/>
        </p:blipFill>
        <p:spPr>
          <a:xfrm>
            <a:off x="900000" y="1341360"/>
            <a:ext cx="7201080" cy="512460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ЛАБОЕ (ЯДЕРНО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5292720" y="1484280"/>
            <a:ext cx="33829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ам (аттометр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, 1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-17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5435640" y="306864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Между квар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435640" y="378936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оз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250920" y="595008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ОРТК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5364000" y="5013360"/>
            <a:ext cx="352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Радиоактивный распад ура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реакции термоядерного синтеза на Солнц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1"/>
          <p:cNvPicPr/>
          <p:nvPr/>
        </p:nvPicPr>
        <p:blipFill>
          <a:blip r:embed="rId1"/>
          <a:stretch/>
        </p:blipFill>
        <p:spPr>
          <a:xfrm>
            <a:off x="468360" y="1268280"/>
            <a:ext cx="4240080" cy="452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Удивительный мир внутри атомного ядра. Лекция для школьников атом,протон, кварки, масса"/>
          <p:cNvPicPr/>
          <p:nvPr/>
        </p:nvPicPr>
        <p:blipFill>
          <a:blip r:embed="rId2"/>
          <a:stretch/>
        </p:blipFill>
        <p:spPr>
          <a:xfrm>
            <a:off x="395280" y="1773360"/>
            <a:ext cx="5113440" cy="383544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13" descr="длина"/>
          <p:cNvPicPr/>
          <p:nvPr/>
        </p:nvPicPr>
        <p:blipFill>
          <a:blip r:embed="rId1"/>
          <a:stretch/>
        </p:blipFill>
        <p:spPr>
          <a:xfrm>
            <a:off x="971640" y="1413000"/>
            <a:ext cx="7343640" cy="2273040"/>
          </a:xfrm>
          <a:prstGeom prst="rect">
            <a:avLst/>
          </a:prstGeom>
          <a:ln w="25560">
            <a:solidFill>
              <a:srgbClr val="ff00ff"/>
            </a:solidFill>
            <a:miter/>
          </a:ln>
        </p:spPr>
      </p:pic>
      <p:sp>
        <p:nvSpPr>
          <p:cNvPr id="185" name="Text Box 4"/>
          <p:cNvSpPr/>
          <p:nvPr/>
        </p:nvSpPr>
        <p:spPr>
          <a:xfrm>
            <a:off x="0" y="3860640"/>
            <a:ext cx="8964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Длина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мера для измерения расстояния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Метр 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единица длины, равная расстоянию, которое проходит свет в вакууме за время ½ 99 792 458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684360" y="6381720"/>
            <a:ext cx="15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.\..\http.d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2016000" cy="20001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3095640" y="213372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Время – мера измерение разных промежутков времени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4643280" y="1413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30" descr="10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16000" y="3357720"/>
            <a:ext cx="8604000" cy="22510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7"/>
          <p:cNvSpPr/>
          <p:nvPr/>
        </p:nvSpPr>
        <p:spPr>
          <a:xfrm>
            <a:off x="179280" y="5661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екунда – эта единица времени, равная 9 192 631 770 периодам излучения изотопа атома цезия – 13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-1065240" y="5897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468360" y="6491160"/>
            <a:ext cx="15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.\..\http.d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843280" y="1197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А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32" descr="7"/>
          <p:cNvPicPr/>
          <p:nvPr/>
        </p:nvPicPr>
        <p:blipFill>
          <a:blip r:embed="rId1"/>
          <a:stretch/>
        </p:blipFill>
        <p:spPr>
          <a:xfrm>
            <a:off x="162000" y="1628640"/>
            <a:ext cx="8982000" cy="227016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5"/>
          <p:cNvGrpSpPr/>
          <p:nvPr/>
        </p:nvGrpSpPr>
        <p:grpSpPr>
          <a:xfrm>
            <a:off x="-541440" y="3933720"/>
            <a:ext cx="10080720" cy="1824120"/>
            <a:chOff x="-541440" y="3933720"/>
            <a:chExt cx="10080720" cy="1824120"/>
          </a:xfrm>
        </p:grpSpPr>
        <p:sp>
          <p:nvSpPr>
            <p:cNvPr id="201" name="AutoShape 6"/>
            <p:cNvSpPr/>
            <p:nvPr/>
          </p:nvSpPr>
          <p:spPr>
            <a:xfrm>
              <a:off x="-541440" y="3933720"/>
              <a:ext cx="10080720" cy="18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>
              <a:off x="249120" y="4611600"/>
              <a:ext cx="118440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Мас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8"/>
            <p:cNvSpPr/>
            <p:nvPr/>
          </p:nvSpPr>
          <p:spPr>
            <a:xfrm>
              <a:off x="2225160" y="3933720"/>
              <a:ext cx="4942080" cy="40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количества вещества и энерг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9"/>
            <p:cNvSpPr/>
            <p:nvPr/>
          </p:nvSpPr>
          <p:spPr>
            <a:xfrm>
              <a:off x="2225160" y="4611600"/>
              <a:ext cx="494208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инерт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2225160" y="5289840"/>
              <a:ext cx="5891400" cy="33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гравитационных свойств матер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V="1">
              <a:off x="1435320" y="4068720"/>
              <a:ext cx="78984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>
              <a:off x="1435320" y="4882320"/>
              <a:ext cx="7898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>
              <a:off x="1435320" y="5018400"/>
              <a:ext cx="789840" cy="54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14"/>
          <p:cNvSpPr/>
          <p:nvPr/>
        </p:nvSpPr>
        <p:spPr>
          <a:xfrm>
            <a:off x="216000" y="5661000"/>
            <a:ext cx="892800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2aac"/>
                </a:solidFill>
                <a:latin typeface="Arial"/>
              </a:rPr>
              <a:t>Килограмм – единица массы, равная массе международного эталона килограмма</a:t>
            </a: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близительно равен массе 1 л чистой воды при 15 </a:t>
            </a:r>
            <a:r>
              <a:rPr b="1" lang="ru-RU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одержимое 2"/>
          <p:cNvSpPr/>
          <p:nvPr/>
        </p:nvSpPr>
        <p:spPr>
          <a:xfrm>
            <a:off x="108000" y="1413000"/>
            <a:ext cx="8928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ть действие, выполняемое 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мощью средств измерени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хождения значения физической величин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инятых единиц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ямое измерени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измерение, при котором искомое значение величины находят непосредственно из опытных данных. Например: измерение напряжения при помощи вольтмет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5364000" y="3068640"/>
            <a:ext cx="3168720" cy="3390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"/>
          <p:cNvPicPr/>
          <p:nvPr/>
        </p:nvPicPr>
        <p:blipFill>
          <a:blip r:embed="rId2"/>
          <a:stretch/>
        </p:blipFill>
        <p:spPr>
          <a:xfrm>
            <a:off x="900000" y="2997360"/>
            <a:ext cx="4103640" cy="343692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08000" y="1412640"/>
            <a:ext cx="8712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свенное измерени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измерение, при котором искомое значение величины находят на основании известной зависимости между этой величиной и величинами, подвергаемыми прямым измерения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погрешности"/>
          <p:cNvPicPr/>
          <p:nvPr/>
        </p:nvPicPr>
        <p:blipFill>
          <a:blip r:embed="rId1"/>
          <a:stretch/>
        </p:blipFill>
        <p:spPr>
          <a:xfrm>
            <a:off x="1547640" y="3284640"/>
            <a:ext cx="1365480" cy="14698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5"/>
          <p:cNvSpPr/>
          <p:nvPr/>
        </p:nvSpPr>
        <p:spPr>
          <a:xfrm>
            <a:off x="5364000" y="3789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/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4643280" y="5013360"/>
            <a:ext cx="3457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пользовать весы с разновесом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мерный цилиндр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539640" y="5084640"/>
            <a:ext cx="34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пользовать амперметр и вольтметр для измерения силы тока и нап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1835280" y="256536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ы – измерение сопротивления проводника и плотности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108000" y="1484280"/>
            <a:ext cx="8856720" cy="42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грешность измер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а отклонения величи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меренного значения величины от её истинного значения. Погрешность измерения явля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арактеристикой (меро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чнос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грешность измерительного прибора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ность между показанием прибора и истинным значением измеряемой велич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грешность измерения равна половине цены деления приб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бсолютная погрешность измерения (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.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ность между действительным и истинным значениями измеряемой величин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.=Хд. - Х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bbe0e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носительная погрешность измер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) - отношение абсолютной погрешности измерения к истинному значению измеряемой величины, выраженное в %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" descr="http://www.prist.ru/infos/articles/general_measurement/equation_12.gif"/>
          <p:cNvPicPr/>
          <p:nvPr/>
        </p:nvPicPr>
        <p:blipFill>
          <a:blip r:embed="rId1"/>
          <a:stretch/>
        </p:blipFill>
        <p:spPr>
          <a:xfrm>
            <a:off x="3497400" y="5365800"/>
            <a:ext cx="2298600" cy="87300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озникновение физик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5"/>
          <p:cNvPicPr/>
          <p:nvPr/>
        </p:nvPicPr>
        <p:blipFill>
          <a:blip r:embed="rId1"/>
          <a:stretch/>
        </p:blipFill>
        <p:spPr>
          <a:xfrm>
            <a:off x="324000" y="2349360"/>
            <a:ext cx="1981080" cy="25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WordArt 5"/>
          <p:cNvSpPr txBox="1"/>
          <p:nvPr/>
        </p:nvSpPr>
        <p:spPr>
          <a:xfrm>
            <a:off x="250920" y="4869000"/>
            <a:ext cx="2628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ТОЛЕМ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116000" y="1197000"/>
            <a:ext cx="727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Каждый школьник знаком теперь с истина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за которые Архимед отдал бы жиз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340000" y="3213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Научный дух зародился в Древней Гре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6"/>
          <p:cNvPicPr/>
          <p:nvPr/>
        </p:nvPicPr>
        <p:blipFill>
          <a:blip r:embed="rId2"/>
          <a:stretch/>
        </p:blipFill>
        <p:spPr>
          <a:xfrm>
            <a:off x="6300720" y="2276640"/>
            <a:ext cx="2103480" cy="262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" name="WordArt 9"/>
          <p:cNvSpPr txBox="1"/>
          <p:nvPr/>
        </p:nvSpPr>
        <p:spPr>
          <a:xfrm>
            <a:off x="6012000" y="4941720"/>
            <a:ext cx="2628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АЛИЛ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788000" y="57340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Ученый, положивший начало физике, как нау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атерия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се то, что существует во Вселенной, независимо от нашего сознания. Материя в нашем мире существует в виде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ещества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и по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6120000" cy="26654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то и как изучает ф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1680" y="1258920"/>
            <a:ext cx="8788320" cy="45370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Эволюция взгляда на физическую картину 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250920" y="1284120"/>
            <a:ext cx="8785080" cy="52452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ХНИЧЕСКИЕ УСТРОЙСТВА ДЛЯ ИЗУЧЕНИЯ ВСЕЛЕННО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star_refraktor"/>
          <p:cNvPicPr/>
          <p:nvPr/>
        </p:nvPicPr>
        <p:blipFill>
          <a:blip r:embed="rId1"/>
          <a:stretch/>
        </p:blipFill>
        <p:spPr>
          <a:xfrm>
            <a:off x="250920" y="1341360"/>
            <a:ext cx="2560680" cy="3132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0" y="4508640"/>
            <a:ext cx="309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ринный рефр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нзов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3708рефлектор Ньютона"/>
          <p:cNvPicPr/>
          <p:nvPr/>
        </p:nvPicPr>
        <p:blipFill>
          <a:blip r:embed="rId2"/>
          <a:stretch/>
        </p:blipFill>
        <p:spPr>
          <a:xfrm>
            <a:off x="3276720" y="2924280"/>
            <a:ext cx="2101680" cy="25858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2771640" y="5445000"/>
            <a:ext cx="295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флектор Ньют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еркаль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15"/>
          <p:cNvPicPr/>
          <p:nvPr/>
        </p:nvPicPr>
        <p:blipFill>
          <a:blip r:embed="rId3"/>
          <a:stretch/>
        </p:blipFill>
        <p:spPr>
          <a:xfrm>
            <a:off x="5580000" y="2708280"/>
            <a:ext cx="3206880" cy="27241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9"/>
          <p:cNvSpPr/>
          <p:nvPr/>
        </p:nvSpPr>
        <p:spPr>
          <a:xfrm>
            <a:off x="5435640" y="162864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шина потухшего вулкана Мауна-Кеа высотой 4200 м (остров Гавай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16"/>
          <p:cNvPicPr/>
          <p:nvPr/>
        </p:nvPicPr>
        <p:blipFill>
          <a:blip r:embed="rId1"/>
          <a:stretch/>
        </p:blipFill>
        <p:spPr>
          <a:xfrm>
            <a:off x="395280" y="1341360"/>
            <a:ext cx="4105440" cy="3753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395280" y="522936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диотелескоп в Аресибо Пуэрто-Ри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7"/>
          <p:cNvPicPr/>
          <p:nvPr/>
        </p:nvPicPr>
        <p:blipFill>
          <a:blip r:embed="rId2"/>
          <a:stretch/>
        </p:blipFill>
        <p:spPr>
          <a:xfrm>
            <a:off x="5219640" y="1773360"/>
            <a:ext cx="3384720" cy="2730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4859280" y="508464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ременная спутниковая обсерватория, работающая в инфракрасном диапазо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ХНИЧЕСКИЕ УСТРОЙСТВА ДЛЯ ИЗУЧЕНИЯ ВСЕЛЕННО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ЭТАПЫ НАУЧНОГО ПОЗН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4"/>
          <p:cNvPicPr/>
          <p:nvPr/>
        </p:nvPicPr>
        <p:blipFill>
          <a:blip r:embed="rId1"/>
          <a:stretch/>
        </p:blipFill>
        <p:spPr>
          <a:xfrm>
            <a:off x="1763640" y="1341360"/>
            <a:ext cx="5781600" cy="3753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755640" y="5229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бопытство. С него все и начало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. Джеймс, Дж. Мартин  «Все возможные мир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7:00:59Z</dcterms:created>
  <dc:creator>Марина</dc:creator>
  <dc:description/>
  <dc:language>en-US</dc:language>
  <cp:lastModifiedBy>LEGION</cp:lastModifiedBy>
  <dcterms:modified xsi:type="dcterms:W3CDTF">2015-01-13T08:30:29Z</dcterms:modified>
  <cp:revision>12</cp:revision>
  <dc:subject/>
  <dc:title>ФИЗИКА И ПОЗНАНИЕ МИРА</dc:title>
</cp:coreProperties>
</file>