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5F22-8037-4A98-AD9F-229968A800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D787-E8DB-4FC0-8377-F79AD349F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ED2F-DC37-4F1B-8955-68D1DE0DC5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AFD3-8603-4924-BECB-385689375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8DC4-13E0-46BD-B07E-7AD9B17294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1BF-F7D2-4F5B-859D-47BC1E78A9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A897-E665-4E21-8745-622361A87E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AFE3-8800-4271-9453-8F684B7ED4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69E2-9A31-4001-9FD5-5D6F999B09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D6F3-7AD6-43E9-BC67-4F71A73BD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BB0-7286-4AA7-ABE2-1761237F16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6474-24B9-4A34-9234-FB6651DC2C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BF58-A41A-419B-8947-5222B40532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F055-6ED4-434B-B73F-8C9D64A2D4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386-371B-4AB7-86B5-AA249EE689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C873-D0C8-4D5C-8113-5DBA44357F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B192-8389-4F4C-A8F2-34289B7F1D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0F64-5358-4306-8376-3AB6A9DE7F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0024-E97C-4575-8C19-FF29409906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96FB-AC88-4569-9E03-F5610E08B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AA66-09B6-48E9-B37E-3D8A8B7793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6754-A5D6-4CD1-A2DF-3083720805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CBC7-7765-4E8E-A332-04EC6FDDED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D1AD-065B-449E-A3BC-69EFA7BD9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32A7-9299-40BF-94DA-AA6CC6C16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C2F7-368A-4018-9339-F5E9C0B0C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91CD-857D-4C31-A772-86A41C46FC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DB48-9F76-49B7-A645-8569B0CDB3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B471-D06C-4A70-9134-E7B232BC0A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8A49-4A38-44CA-BA6C-FE36DEAB63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74F-6977-42CF-AC70-B7425EFD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070-93BB-447B-A850-C710FBCA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D2B-0005-49BA-A1A8-6725F3E2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568-EBC9-4A7A-9347-FD6BA20E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7D9-45AC-4A59-8001-4DEEE0CA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35E-5CEC-4C17-BE06-99725EFE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035-8EF6-483E-AA5F-298CE813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897-1517-41B7-A278-1AFBB971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926-2D1A-416C-8888-69492469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740-381C-4E28-A30D-033A7D09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8EF-033B-4219-A010-528D87CD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B33-F135-4F1E-A51E-9ECA67B9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9E58-C5D9-4B19-9553-968453A97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1-13T08:30:29Z</dcterms:modified>
  <cp:revision>12</cp:revision>
  <dc:subject/>
  <dc:title>ФИЗИКА И ПОЗНАНИЕ МИРА</dc:title>
</cp:coreProperties>
</file>