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8.png" ContentType="image/png"/>
  <Override PartName="/ppt/media/image14.jpeg" ContentType="image/jpeg"/>
  <Override PartName="/ppt/media/image10.png" ContentType="image/png"/>
  <Override PartName="/ppt/media/image5.png" ContentType="image/png"/>
  <Override PartName="/ppt/media/image2.gif" ContentType="image/gif"/>
  <Override PartName="/ppt/media/image13.jpeg" ContentType="image/jpeg"/>
  <Override PartName="/ppt/media/image4.png" ContentType="image/png"/>
  <Override PartName="/ppt/media/image24.gif" ContentType="image/gif"/>
  <Override PartName="/ppt/media/image27.png" ContentType="image/png"/>
  <Override PartName="/ppt/media/image12.png" ContentType="image/png"/>
  <Override PartName="/ppt/media/image7.png" ContentType="image/png"/>
  <Override PartName="/ppt/media/image3.gif" ContentType="image/gif"/>
  <Override PartName="/ppt/media/image6.png" ContentType="image/png"/>
  <Override PartName="/ppt/media/image26.png" ContentType="image/png"/>
  <Override PartName="/ppt/media/image25.png" ContentType="image/png"/>
  <Override PartName="/ppt/media/image23.jpeg" ContentType="image/jpeg"/>
  <Override PartName="/ppt/media/image22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C3583-DBA6-4316-BF4F-332E63CBD698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hyperlink" Target="http://www.sunhome.ru/prose/15330" TargetMode="External"/><Relationship Id="rId2" Type="http://schemas.openxmlformats.org/officeDocument/2006/relationships/hyperlink" Target="http://www.donbass.ua/news/technology/space/2009/08/06/zvezda-pljuetsja-v-nebo-foto.html" TargetMode="External"/><Relationship Id="rId3" Type="http://schemas.openxmlformats.org/officeDocument/2006/relationships/slide" Target="../slides/slide18.xml"/><Relationship Id="rId4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Воева Наталья Михайловн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учитель начальных класс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МАОУНОШ д. Дубовицы Старорусского райо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Новгородской обла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C6581-BE20-45C6-B02F-3D6E4014D9A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Чтобы глаз вооружи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И со звездами дружить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Млечный путь увидеть чтоб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Нужен мощный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80922-8A94-43E2-A933-548AC7A0597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Телескопом сотни л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Изучают жизнь план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Нам расскажет обо вс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Умный дядя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BE598-AC91-44D1-82A9-23DB22DBD56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Первым пересчитать звёзды и ввести числовую оценку их яркости или блеска  попробова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во </a:t>
            </a:r>
            <a:r>
              <a:rPr b="0" lang="en-US" sz="1200" spc="-1" strike="noStrike">
                <a:solidFill>
                  <a:srgbClr val="ffff00"/>
                </a:solidFill>
                <a:latin typeface="Calibri"/>
              </a:rPr>
              <a:t>II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 веке до н.э. древнегреческий астроном   Гиппар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25AE5-528B-4E91-845B-E2D6BD938AC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В 1606 году голландские учёные – оптики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Иоанн Липперсгей и Захарий Янсен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сумели сделать  зрительную труб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A41F6-0CD1-48B0-AD5C-0EF20B752EA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Первым с помощью телескопа заглянул в глубины Вселенной великий учёный</a:t>
            </a:r>
            <a:br>
              <a:rPr sz="1200"/>
            </a:b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 Галилео Галил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A08D4-EFB8-4586-9ED1-5604114C057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Рефракторы – линзовые телескоп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23173-E66A-4A0B-83E5-2D81E83DCD3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Созвездия на зимнем небосклон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8A474-F241-457B-BC2A-6737BC3F2F7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Автоматические межпланетные стан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ED25F-07EC-40B9-A6AC-735474C6C53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чн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sunhome.ru/prose/1533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www.donbass.ua/news/technology/space/2009/08/06/zvezda-pljuetsja-v-nebo-foto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sunhome.ru/tags/publications/звезды+гиган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sis.3dn.ru/load/31-3-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www.astrogalaxy.ru/736.htm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www.karaoke.ru/user/Nektokt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www.goodfon.ru/wallpaper/43024.htm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sovestilizator.bestpersons.ru/feed/post8413951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planeta.rambler.ru/community/astrologica/47938398.html?parent_id=479410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33ccff"/>
                </a:solidFill>
                <a:uFillTx/>
                <a:latin typeface="Calibri"/>
              </a:rPr>
              <a:t>http://ru.wikipedia.or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images.yandex.r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791B4-CFE5-4D97-B869-20DDB73A6EE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 </a:t>
            </a:r>
            <a:br>
              <a:rPr sz="1200"/>
            </a:b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          </a:t>
            </a: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«Небесный свод горящий славой звёздной,</a:t>
            </a:r>
            <a:br>
              <a:rPr sz="1200"/>
            </a:b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               Таинственно глядит из глубины,-</a:t>
            </a:r>
            <a:br>
              <a:rPr sz="1200"/>
            </a:b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                </a:t>
            </a: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И мы плывём, пылающею бездной,</a:t>
            </a:r>
            <a:br>
              <a:rPr sz="1200"/>
            </a:b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                </a:t>
            </a: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Со всех сторон окружены»               Фёдор Тютче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170ED-674E-4025-881A-26EC413F35F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030a0"/>
                </a:solidFill>
                <a:latin typeface="Calibri"/>
              </a:rPr>
              <a:t>Из чего состоят звёзды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70c0"/>
                </a:solidFill>
                <a:latin typeface="Calibri"/>
              </a:rPr>
              <a:t>Что такое наше Солнц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Полетит ли человек к другим галактикам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030a0"/>
                </a:solidFill>
                <a:latin typeface="Calibri"/>
              </a:rPr>
              <a:t>Одиноки 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030a0"/>
                </a:solidFill>
                <a:latin typeface="Calibri"/>
              </a:rPr>
              <a:t>        </a:t>
            </a:r>
            <a:r>
              <a:rPr b="0" lang="ru-RU" sz="1200" spc="-1" strike="noStrike">
                <a:solidFill>
                  <a:srgbClr val="7030a0"/>
                </a:solidFill>
                <a:latin typeface="Calibri"/>
              </a:rPr>
              <a:t>мы 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030a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7030a0"/>
                </a:solidFill>
                <a:latin typeface="Calibri"/>
              </a:rPr>
              <a:t>Вселенной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92DAE-9F88-4362-BF98-FF0D774D290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Астрономия (греч. astronomía, от астро и nómos — закон), наука о строении и развитии космических тел, их систем и Вселенной в цел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                       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(Большая Советская Энциклопеди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D81F5-9C9F-4CB0-852F-16D4F36994E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Урания– муза астроном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DFF1D-E86F-41F3-885C-CA1D2755026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Самые горячие звёзды  голубого  цвета, другие, менее горячие – красног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5062F-0325-45EC-AFDA-7557E4096B5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Есть звёзды – гиганты, а е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звёзды – карли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C901D-4F3F-4B0F-9DC4-1E8E19463BE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3DC23-5F5F-4E5B-842F-03B217F3E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DDCF1-9AA7-4F5B-B355-564F2174C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F7A32-54DD-4A92-B20C-CBBF2D08D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02F26-8A9C-45AE-8FA8-56718986C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FDE94-B4EE-4E3E-822C-59B74986F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650BD-9BE6-4786-9371-7FFF14D26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A87AE-C00F-427C-818D-16B751E38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EF4C9-EB9A-430E-A59C-8A78A46B5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2CE5A-FE7F-4C63-AFD2-E541D6A8A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BA3F4-3E28-4D49-92E3-BB99BA84C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08525-11D2-4545-A29F-E6389D4D3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B6351-A991-4A13-AED3-7EB8335BA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A08D9-0295-413F-815E-B2935E67C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1FB83-5A1E-4F87-A5FB-508D6027F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E6682-82D4-4085-9C95-36AD5050E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6DBE5-B572-4A68-B345-F9A488AD4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C746A-4BC8-442F-BFD2-6ABA88085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7CE93-CD18-42D6-A1DA-B483F0442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0673C-BDBE-4612-9B5B-4CB67A987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7F6C4-C2B2-4B32-8E81-AE5FD3226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EFC3F-45FA-4E02-8577-008CA4E43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4C98C-C9B1-467D-8EE5-ED06CF5CB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43CA6-696D-494E-9D80-1ABFB62A7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C3954-62BB-4279-9723-5767D6ECA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4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CA268-9398-4A58-8407-FA36DAF1ACC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gradFill rotWithShape="0">
            <a:gsLst>
              <a:gs pos="0">
                <a:srgbClr val="00478e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ubPieSlice"/>
          <p:cNvSpPr/>
          <p:nvPr/>
        </p:nvSpPr>
        <p:spPr>
          <a:xfrm>
            <a:off x="6972480" y="5553000"/>
            <a:ext cx="4343400" cy="2610000"/>
          </a:xfrm>
          <a:custGeom>
            <a:avLst/>
            <a:gdLst>
              <a:gd name="textAreaLeft" fmla="*/ 635760 w 4343400"/>
              <a:gd name="textAreaRight" fmla="*/ 3707640 w 4343400"/>
              <a:gd name="textAreaTop" fmla="*/ 381960 h 2610000"/>
              <a:gd name="textAreaBottom" fmla="*/ 2228040 h 2610000"/>
            </a:gdLst>
            <a:ahLst/>
            <a:rect l="textAreaLeft" t="textAreaTop" r="textAreaRight" b="textAreaBottom"/>
            <a:pathLst>
              <a:path w="21600" h="21600">
                <a:moveTo>
                  <a:pt x="10698" y="0"/>
                </a:moveTo>
                <a:cubicBezTo>
                  <a:pt x="4773" y="56"/>
                  <a:pt x="0" y="4875"/>
                  <a:pt x="0" y="10799"/>
                </a:cubicBezTo>
                <a:lnTo>
                  <a:pt x="10800" y="10800"/>
                </a:lnTo>
                <a:lnTo>
                  <a:pt x="10698" y="0"/>
                </a:lnTo>
                <a:close/>
              </a:path>
            </a:pathLst>
          </a:custGeom>
          <a:solidFill>
            <a:srgbClr val="ffff61">
              <a:alpha val="62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055"/>
          <p:cNvPicPr/>
          <p:nvPr/>
        </p:nvPicPr>
        <p:blipFill>
          <a:blip r:embed="rId2"/>
          <a:stretch/>
        </p:blipFill>
        <p:spPr>
          <a:xfrm>
            <a:off x="8077320" y="5257800"/>
            <a:ext cx="610920" cy="12952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8" name="AutoShape 10"/>
          <p:cNvSpPr/>
          <p:nvPr/>
        </p:nvSpPr>
        <p:spPr>
          <a:xfrm>
            <a:off x="1219320" y="3808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AutoShape 11"/>
          <p:cNvSpPr/>
          <p:nvPr/>
        </p:nvSpPr>
        <p:spPr>
          <a:xfrm>
            <a:off x="304920" y="22860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AutoShape 12"/>
          <p:cNvSpPr/>
          <p:nvPr/>
        </p:nvSpPr>
        <p:spPr>
          <a:xfrm>
            <a:off x="1066680" y="1522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AutoShape 13"/>
          <p:cNvSpPr/>
          <p:nvPr/>
        </p:nvSpPr>
        <p:spPr>
          <a:xfrm>
            <a:off x="838080" y="45720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0" y="2133720"/>
            <a:ext cx="9144000" cy="2286000"/>
          </a:xfrm>
          <a:prstGeom prst="rect">
            <a:avLst/>
          </a:prstGeom>
          <a:gradFill rotWithShape="0">
            <a:gsLst>
              <a:gs pos="0">
                <a:srgbClr val="00478e"/>
              </a:gs>
              <a:gs pos="100000">
                <a:srgbClr val="2d96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gradFill rotWithShape="0">
            <a:gsLst>
              <a:gs pos="0">
                <a:srgbClr val="2d96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gradFill rotWithShape="0">
            <a:gsLst>
              <a:gs pos="0">
                <a:srgbClr val="002346"/>
              </a:gs>
              <a:gs pos="100000">
                <a:srgbClr val="00478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5"/>
          <p:cNvSpPr/>
          <p:nvPr/>
        </p:nvSpPr>
        <p:spPr>
          <a:xfrm>
            <a:off x="7924680" y="22096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6"/>
          <p:cNvSpPr/>
          <p:nvPr/>
        </p:nvSpPr>
        <p:spPr>
          <a:xfrm>
            <a:off x="5410080" y="8380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7"/>
          <p:cNvSpPr/>
          <p:nvPr/>
        </p:nvSpPr>
        <p:spPr>
          <a:xfrm>
            <a:off x="8458200" y="121932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8"/>
          <p:cNvSpPr/>
          <p:nvPr/>
        </p:nvSpPr>
        <p:spPr>
          <a:xfrm>
            <a:off x="7543800" y="10666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9"/>
          <p:cNvSpPr/>
          <p:nvPr/>
        </p:nvSpPr>
        <p:spPr>
          <a:xfrm>
            <a:off x="6095880" y="99072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10"/>
          <p:cNvSpPr/>
          <p:nvPr/>
        </p:nvSpPr>
        <p:spPr>
          <a:xfrm>
            <a:off x="8839080" y="12952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11"/>
          <p:cNvSpPr/>
          <p:nvPr/>
        </p:nvSpPr>
        <p:spPr>
          <a:xfrm>
            <a:off x="8763120" y="91440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12"/>
          <p:cNvSpPr/>
          <p:nvPr/>
        </p:nvSpPr>
        <p:spPr>
          <a:xfrm>
            <a:off x="8305920" y="99072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13"/>
          <p:cNvSpPr/>
          <p:nvPr/>
        </p:nvSpPr>
        <p:spPr>
          <a:xfrm>
            <a:off x="7086600" y="10666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14"/>
          <p:cNvSpPr/>
          <p:nvPr/>
        </p:nvSpPr>
        <p:spPr>
          <a:xfrm>
            <a:off x="3200400" y="251460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15"/>
          <p:cNvSpPr/>
          <p:nvPr/>
        </p:nvSpPr>
        <p:spPr>
          <a:xfrm>
            <a:off x="1600200" y="30492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16"/>
          <p:cNvSpPr/>
          <p:nvPr/>
        </p:nvSpPr>
        <p:spPr>
          <a:xfrm>
            <a:off x="6934320" y="22860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17"/>
          <p:cNvSpPr/>
          <p:nvPr/>
        </p:nvSpPr>
        <p:spPr>
          <a:xfrm>
            <a:off x="3048120" y="99072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18"/>
          <p:cNvSpPr/>
          <p:nvPr/>
        </p:nvSpPr>
        <p:spPr>
          <a:xfrm>
            <a:off x="228600" y="17524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19"/>
          <p:cNvSpPr/>
          <p:nvPr/>
        </p:nvSpPr>
        <p:spPr>
          <a:xfrm>
            <a:off x="4343400" y="121932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20"/>
          <p:cNvSpPr/>
          <p:nvPr/>
        </p:nvSpPr>
        <p:spPr>
          <a:xfrm>
            <a:off x="4572000" y="53352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21"/>
          <p:cNvSpPr/>
          <p:nvPr/>
        </p:nvSpPr>
        <p:spPr>
          <a:xfrm>
            <a:off x="3809880" y="91440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22"/>
          <p:cNvSpPr/>
          <p:nvPr/>
        </p:nvSpPr>
        <p:spPr>
          <a:xfrm>
            <a:off x="1752480" y="24382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3" descr="29r1"/>
          <p:cNvPicPr/>
          <p:nvPr/>
        </p:nvPicPr>
        <p:blipFill>
          <a:blip r:embed="rId2"/>
          <a:stretch/>
        </p:blipFill>
        <p:spPr>
          <a:xfrm>
            <a:off x="609480" y="685800"/>
            <a:ext cx="838440" cy="3492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4" descr="fire14"/>
          <p:cNvPicPr/>
          <p:nvPr/>
        </p:nvPicPr>
        <p:blipFill>
          <a:blip r:embed="rId3"/>
          <a:stretch/>
        </p:blipFill>
        <p:spPr>
          <a:xfrm>
            <a:off x="7924680" y="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5" descr="fire14"/>
          <p:cNvPicPr/>
          <p:nvPr/>
        </p:nvPicPr>
        <p:blipFill>
          <a:blip r:embed="rId4"/>
          <a:stretch/>
        </p:blipFill>
        <p:spPr>
          <a:xfrm>
            <a:off x="1905120" y="114300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6" descr="fire14"/>
          <p:cNvPicPr/>
          <p:nvPr/>
        </p:nvPicPr>
        <p:blipFill>
          <a:blip r:embed="rId5"/>
          <a:stretch/>
        </p:blipFill>
        <p:spPr>
          <a:xfrm>
            <a:off x="5257800" y="2209680"/>
            <a:ext cx="380880" cy="381240"/>
          </a:xfrm>
          <a:prstGeom prst="rect">
            <a:avLst/>
          </a:prstGeom>
          <a:ln w="0">
            <a:noFill/>
          </a:ln>
        </p:spPr>
      </p:pic>
      <p:sp>
        <p:nvSpPr>
          <p:cNvPr id="73" name="PubPieSlice"/>
          <p:cNvSpPr/>
          <p:nvPr/>
        </p:nvSpPr>
        <p:spPr>
          <a:xfrm>
            <a:off x="6629400" y="5391000"/>
            <a:ext cx="5029200" cy="2934000"/>
          </a:xfrm>
          <a:custGeom>
            <a:avLst/>
            <a:gdLst>
              <a:gd name="textAreaLeft" fmla="*/ 736200 w 5029200"/>
              <a:gd name="textAreaRight" fmla="*/ 4293000 w 5029200"/>
              <a:gd name="textAreaTop" fmla="*/ 429480 h 2934000"/>
              <a:gd name="textAreaBottom" fmla="*/ 2504520 h 2934000"/>
            </a:gdLst>
            <a:ahLst/>
            <a:rect l="textAreaLeft" t="textAreaTop" r="textAreaRight" b="textAreaBottom"/>
            <a:pathLst>
              <a:path w="21600" h="21600">
                <a:moveTo>
                  <a:pt x="10698" y="0"/>
                </a:moveTo>
                <a:cubicBezTo>
                  <a:pt x="4773" y="56"/>
                  <a:pt x="0" y="4875"/>
                  <a:pt x="0" y="10799"/>
                </a:cubicBezTo>
                <a:lnTo>
                  <a:pt x="10800" y="10800"/>
                </a:lnTo>
                <a:lnTo>
                  <a:pt x="10698" y="0"/>
                </a:lnTo>
                <a:close/>
              </a:path>
            </a:pathLst>
          </a:custGeom>
          <a:solidFill>
            <a:srgbClr val="ffff6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33" descr="055"/>
          <p:cNvPicPr/>
          <p:nvPr/>
        </p:nvPicPr>
        <p:blipFill>
          <a:blip r:embed="rId6"/>
          <a:stretch/>
        </p:blipFill>
        <p:spPr>
          <a:xfrm>
            <a:off x="7543800" y="5105520"/>
            <a:ext cx="611280" cy="12952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48E35-072B-422A-B78E-BE3D15E522A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image" Target="../media/image23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" Target="slide2.xml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sunhome.ru/prose/15330" TargetMode="External"/><Relationship Id="rId2" Type="http://schemas.openxmlformats.org/officeDocument/2006/relationships/hyperlink" Target="http://www.donbass.ua/news/technology/space/2009/08/06/zvezda-pljuetsja-v-nebo-foto.html" TargetMode="External"/><Relationship Id="rId3" Type="http://schemas.openxmlformats.org/officeDocument/2006/relationships/hyperlink" Target="http://www.sunhome.ru/tags/publications/&#1079;&#1074;&#1077;&#1079;&#1076;&#1099;+&#1075;&#1080;&#1075;&#1072;&#1085;&#1090;&#1099;" TargetMode="External"/><Relationship Id="rId4" Type="http://schemas.openxmlformats.org/officeDocument/2006/relationships/hyperlink" Target="http://sis.3dn.ru/load/31-3-2" TargetMode="External"/><Relationship Id="rId5" Type="http://schemas.openxmlformats.org/officeDocument/2006/relationships/hyperlink" Target="http://www.astrogalaxy.ru/736.html" TargetMode="External"/><Relationship Id="rId6" Type="http://schemas.openxmlformats.org/officeDocument/2006/relationships/hyperlink" Target="http://www.karaoke.ru/user/Nektokto" TargetMode="External"/><Relationship Id="rId7" Type="http://schemas.openxmlformats.org/officeDocument/2006/relationships/hyperlink" Target="http://www.goodfon.ru/wallpaper/43024.html" TargetMode="External"/><Relationship Id="rId8" Type="http://schemas.openxmlformats.org/officeDocument/2006/relationships/hyperlink" Target="http://sovestilizator.bestpersons.ru/feed/post8413951/" TargetMode="External"/><Relationship Id="rId9" Type="http://schemas.openxmlformats.org/officeDocument/2006/relationships/hyperlink" Target="http://planeta.rambler.ru/community/astrologica/47938398.html?parent_id=47941000" TargetMode="External"/><Relationship Id="rId10" Type="http://schemas.openxmlformats.org/officeDocument/2006/relationships/hyperlink" Target="http://ru.wikipedia.org/" TargetMode="External"/><Relationship Id="rId11" Type="http://schemas.openxmlformats.org/officeDocument/2006/relationships/hyperlink" Target="http://images.yandex.ru/" TargetMode="External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16.xml"/><Relationship Id="rId4" Type="http://schemas.openxmlformats.org/officeDocument/2006/relationships/slide" Target="slide10.xml"/><Relationship Id="rId5" Type="http://schemas.openxmlformats.org/officeDocument/2006/relationships/slide" Target="slide3.xml"/><Relationship Id="rId6" Type="http://schemas.openxmlformats.org/officeDocument/2006/relationships/slide" Target="slide17.xml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179280" y="4149360"/>
            <a:ext cx="6400800" cy="23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Воева Наталья Михайловн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учитель начальных класс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МАОУНОШ д. Дубовицы Старорусского райо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Новгородской обла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755640" y="2565360"/>
            <a:ext cx="799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Наблюдательная астроном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2050920" y="259920"/>
            <a:ext cx="5554800" cy="24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Чтобы глаз вооруж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И со звездами друж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Млечный путь увидеть что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Нужен мощный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4"/>
          <p:cNvSpPr/>
          <p:nvPr/>
        </p:nvSpPr>
        <p:spPr>
          <a:xfrm>
            <a:off x="4427640" y="3429000"/>
            <a:ext cx="1944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5"/>
          <p:cNvSpPr/>
          <p:nvPr/>
        </p:nvSpPr>
        <p:spPr>
          <a:xfrm>
            <a:off x="5653440" y="1989000"/>
            <a:ext cx="209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Arial"/>
              </a:rPr>
              <a:t>телеско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6" descr="Drawn_wallpapers_Vector_Wallpapers_Telescope_015787_"/>
          <p:cNvPicPr/>
          <p:nvPr/>
        </p:nvPicPr>
        <p:blipFill>
          <a:blip r:embed="rId1"/>
          <a:stretch/>
        </p:blipFill>
        <p:spPr>
          <a:xfrm>
            <a:off x="1706400" y="2724120"/>
            <a:ext cx="5164200" cy="3902040"/>
          </a:xfrm>
          <a:prstGeom prst="rect">
            <a:avLst/>
          </a:prstGeom>
          <a:ln w="0">
            <a:noFill/>
          </a:ln>
        </p:spPr>
      </p:pic>
      <p:sp>
        <p:nvSpPr>
          <p:cNvPr id="175" name="Управляющая кнопка: далее 5">
            <a:hlinkClick r:id="" action="ppaction://hlinkshowjump?jump=nextslide"/>
          </p:cNvPr>
          <p:cNvSpPr/>
          <p:nvPr/>
        </p:nvSpPr>
        <p:spPr>
          <a:xfrm>
            <a:off x="8459640" y="6381720"/>
            <a:ext cx="505080" cy="287280"/>
          </a:xfrm>
          <a:custGeom>
            <a:avLst/>
            <a:gdLst>
              <a:gd name="textAreaLeft" fmla="*/ 18360 w 505080"/>
              <a:gd name="textAreaRight" fmla="*/ 486720 w 5050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7955" h="21600">
                <a:moveTo>
                  <a:pt x="0" y="0"/>
                </a:moveTo>
                <a:lnTo>
                  <a:pt x="37955" y="0"/>
                </a:lnTo>
                <a:lnTo>
                  <a:pt x="37955" y="21600"/>
                </a:lnTo>
                <a:lnTo>
                  <a:pt x="0" y="21600"/>
                </a:lnTo>
                <a:close/>
              </a:path>
              <a:path fill="lightenLess" w="37955" h="21600">
                <a:moveTo>
                  <a:pt x="0" y="0"/>
                </a:moveTo>
                <a:lnTo>
                  <a:pt x="37955" y="0"/>
                </a:lnTo>
                <a:lnTo>
                  <a:pt x="36555" y="1400"/>
                </a:lnTo>
                <a:lnTo>
                  <a:pt x="1400" y="1400"/>
                </a:lnTo>
                <a:close/>
              </a:path>
              <a:path fill="darken" w="37955" h="21600">
                <a:moveTo>
                  <a:pt x="37955" y="0"/>
                </a:moveTo>
                <a:lnTo>
                  <a:pt x="37955" y="21600"/>
                </a:lnTo>
                <a:lnTo>
                  <a:pt x="36555" y="20200"/>
                </a:lnTo>
                <a:lnTo>
                  <a:pt x="36555" y="1400"/>
                </a:lnTo>
                <a:close/>
              </a:path>
              <a:path fill="darkenLess" w="37955" h="21600">
                <a:moveTo>
                  <a:pt x="37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555" y="20200"/>
                </a:lnTo>
                <a:close/>
              </a:path>
              <a:path fill="lighten" w="37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955" h="21600">
                <a:moveTo>
                  <a:pt x="11971" y="3794"/>
                </a:moveTo>
                <a:lnTo>
                  <a:pt x="25984" y="10800"/>
                </a:lnTo>
                <a:lnTo>
                  <a:pt x="11971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3708000" y="836640"/>
            <a:ext cx="5194440" cy="23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Телескопом сотни л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Изучают жизнь план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Нам расскажет обо вс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Умный дядя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4"/>
          <p:cNvSpPr/>
          <p:nvPr/>
        </p:nvSpPr>
        <p:spPr>
          <a:xfrm>
            <a:off x="6588720" y="2492280"/>
            <a:ext cx="220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Arial"/>
              </a:rPr>
              <a:t>астрон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5" descr="аст"/>
          <p:cNvPicPr/>
          <p:nvPr/>
        </p:nvPicPr>
        <p:blipFill>
          <a:blip r:embed="rId1"/>
          <a:stretch/>
        </p:blipFill>
        <p:spPr>
          <a:xfrm>
            <a:off x="353880" y="3316320"/>
            <a:ext cx="3468960" cy="3402000"/>
          </a:xfrm>
          <a:prstGeom prst="rect">
            <a:avLst/>
          </a:prstGeom>
          <a:ln w="0">
            <a:noFill/>
          </a:ln>
        </p:spPr>
      </p:pic>
      <p:sp>
        <p:nvSpPr>
          <p:cNvPr id="180" name="Управляющая кнопка: далее 4">
            <a:hlinkClick r:id="" action="ppaction://hlinkshowjump?jump=nextslide"/>
          </p:cNvPr>
          <p:cNvSpPr/>
          <p:nvPr/>
        </p:nvSpPr>
        <p:spPr>
          <a:xfrm>
            <a:off x="8459640" y="6381720"/>
            <a:ext cx="505080" cy="287280"/>
          </a:xfrm>
          <a:custGeom>
            <a:avLst/>
            <a:gdLst>
              <a:gd name="textAreaLeft" fmla="*/ 18360 w 505080"/>
              <a:gd name="textAreaRight" fmla="*/ 486720 w 5050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7955" h="21600">
                <a:moveTo>
                  <a:pt x="0" y="0"/>
                </a:moveTo>
                <a:lnTo>
                  <a:pt x="37955" y="0"/>
                </a:lnTo>
                <a:lnTo>
                  <a:pt x="37955" y="21600"/>
                </a:lnTo>
                <a:lnTo>
                  <a:pt x="0" y="21600"/>
                </a:lnTo>
                <a:close/>
              </a:path>
              <a:path fill="lightenLess" w="37955" h="21600">
                <a:moveTo>
                  <a:pt x="0" y="0"/>
                </a:moveTo>
                <a:lnTo>
                  <a:pt x="37955" y="0"/>
                </a:lnTo>
                <a:lnTo>
                  <a:pt x="36555" y="1400"/>
                </a:lnTo>
                <a:lnTo>
                  <a:pt x="1400" y="1400"/>
                </a:lnTo>
                <a:close/>
              </a:path>
              <a:path fill="darken" w="37955" h="21600">
                <a:moveTo>
                  <a:pt x="37955" y="0"/>
                </a:moveTo>
                <a:lnTo>
                  <a:pt x="37955" y="21600"/>
                </a:lnTo>
                <a:lnTo>
                  <a:pt x="36555" y="20200"/>
                </a:lnTo>
                <a:lnTo>
                  <a:pt x="36555" y="1400"/>
                </a:lnTo>
                <a:close/>
              </a:path>
              <a:path fill="darkenLess" w="37955" h="21600">
                <a:moveTo>
                  <a:pt x="37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555" y="20200"/>
                </a:lnTo>
                <a:close/>
              </a:path>
              <a:path fill="lighten" w="37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955" h="21600">
                <a:moveTo>
                  <a:pt x="11971" y="3794"/>
                </a:moveTo>
                <a:lnTo>
                  <a:pt x="25984" y="10800"/>
                </a:lnTo>
                <a:lnTo>
                  <a:pt x="11971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 Box 7"/>
          <p:cNvSpPr/>
          <p:nvPr/>
        </p:nvSpPr>
        <p:spPr>
          <a:xfrm>
            <a:off x="4427640" y="260280"/>
            <a:ext cx="4500360" cy="3993480"/>
          </a:xfrm>
          <a:prstGeom prst="rect">
            <a:avLst/>
          </a:prstGeom>
          <a:gradFill rotWithShape="0">
            <a:gsLst>
              <a:gs pos="0">
                <a:srgbClr val="107b9e"/>
              </a:gs>
              <a:gs pos="100000">
                <a:srgbClr val="24d4ff"/>
              </a:gs>
            </a:gsLst>
            <a:lin ang="16200000"/>
          </a:gra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Первым пересчитать звёзды и ввести числовую оценку их яркости или блеска  попробова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во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II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веке до н.э. древнегреческий астроном   Гиппар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5" descr="http://im2-tub-ru.yandex.net/i?id=11134387-17-72"/>
          <p:cNvPicPr/>
          <p:nvPr/>
        </p:nvPicPr>
        <p:blipFill>
          <a:blip r:embed="rId1"/>
          <a:stretch/>
        </p:blipFill>
        <p:spPr>
          <a:xfrm>
            <a:off x="158760" y="1895400"/>
            <a:ext cx="3895560" cy="4743360"/>
          </a:xfrm>
          <a:prstGeom prst="rect">
            <a:avLst/>
          </a:prstGeom>
          <a:ln w="0">
            <a:noFill/>
          </a:ln>
        </p:spPr>
      </p:pic>
      <p:sp>
        <p:nvSpPr>
          <p:cNvPr id="184" name="Управляющая кнопка: далее 4">
            <a:hlinkClick r:id="" action="ppaction://hlinkshowjump?jump=nextslide"/>
          </p:cNvPr>
          <p:cNvSpPr/>
          <p:nvPr/>
        </p:nvSpPr>
        <p:spPr>
          <a:xfrm>
            <a:off x="8459640" y="6381720"/>
            <a:ext cx="505080" cy="287280"/>
          </a:xfrm>
          <a:custGeom>
            <a:avLst/>
            <a:gdLst>
              <a:gd name="textAreaLeft" fmla="*/ 18360 w 505080"/>
              <a:gd name="textAreaRight" fmla="*/ 486720 w 5050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7955" h="21600">
                <a:moveTo>
                  <a:pt x="0" y="0"/>
                </a:moveTo>
                <a:lnTo>
                  <a:pt x="37955" y="0"/>
                </a:lnTo>
                <a:lnTo>
                  <a:pt x="37955" y="21600"/>
                </a:lnTo>
                <a:lnTo>
                  <a:pt x="0" y="21600"/>
                </a:lnTo>
                <a:close/>
              </a:path>
              <a:path fill="lightenLess" w="37955" h="21600">
                <a:moveTo>
                  <a:pt x="0" y="0"/>
                </a:moveTo>
                <a:lnTo>
                  <a:pt x="37955" y="0"/>
                </a:lnTo>
                <a:lnTo>
                  <a:pt x="36555" y="1400"/>
                </a:lnTo>
                <a:lnTo>
                  <a:pt x="1400" y="1400"/>
                </a:lnTo>
                <a:close/>
              </a:path>
              <a:path fill="darken" w="37955" h="21600">
                <a:moveTo>
                  <a:pt x="37955" y="0"/>
                </a:moveTo>
                <a:lnTo>
                  <a:pt x="37955" y="21600"/>
                </a:lnTo>
                <a:lnTo>
                  <a:pt x="36555" y="20200"/>
                </a:lnTo>
                <a:lnTo>
                  <a:pt x="36555" y="1400"/>
                </a:lnTo>
                <a:close/>
              </a:path>
              <a:path fill="darkenLess" w="37955" h="21600">
                <a:moveTo>
                  <a:pt x="37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555" y="20200"/>
                </a:lnTo>
                <a:close/>
              </a:path>
              <a:path fill="lighten" w="37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955" h="21600">
                <a:moveTo>
                  <a:pt x="11971" y="3794"/>
                </a:moveTo>
                <a:lnTo>
                  <a:pt x="25984" y="10800"/>
                </a:lnTo>
                <a:lnTo>
                  <a:pt x="11971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0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2" descr="C:\Users\Светлана\Desktop\картинки\липперсгей 1655.jpg"/>
          <p:cNvPicPr/>
          <p:nvPr/>
        </p:nvPicPr>
        <p:blipFill>
          <a:blip r:embed="rId1"/>
          <a:stretch/>
        </p:blipFill>
        <p:spPr>
          <a:xfrm>
            <a:off x="665280" y="2835360"/>
            <a:ext cx="2962080" cy="353520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3" descr="C:\Users\Светлана\Desktop\картинки\янин.jpg"/>
          <p:cNvPicPr/>
          <p:nvPr/>
        </p:nvPicPr>
        <p:blipFill>
          <a:blip r:embed="rId2"/>
          <a:stretch/>
        </p:blipFill>
        <p:spPr>
          <a:xfrm>
            <a:off x="3906720" y="2908440"/>
            <a:ext cx="2927520" cy="3492360"/>
          </a:xfrm>
          <a:prstGeom prst="rect">
            <a:avLst/>
          </a:prstGeom>
          <a:ln w="0">
            <a:noFill/>
          </a:ln>
        </p:spPr>
      </p:pic>
      <p:sp>
        <p:nvSpPr>
          <p:cNvPr id="188" name="TextBox 5"/>
          <p:cNvSpPr/>
          <p:nvPr/>
        </p:nvSpPr>
        <p:spPr>
          <a:xfrm>
            <a:off x="0" y="69228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Arial"/>
              </a:rPr>
              <a:t>В 1606 году голландские учёные – оптики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Arial"/>
              </a:rPr>
              <a:t>    </a:t>
            </a:r>
            <a:r>
              <a:rPr b="0" lang="ru-RU" sz="3600" spc="-1" strike="noStrike">
                <a:solidFill>
                  <a:srgbClr val="002060"/>
                </a:solidFill>
                <a:latin typeface="Arial"/>
              </a:rPr>
              <a:t>Иоанн Липперсгей и Захарий Янсен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Arial"/>
              </a:rPr>
              <a:t>сумели сделать  зрительную трубу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Управляющая кнопка: далее 4">
            <a:hlinkClick r:id="" action="ppaction://hlinkshowjump?jump=nextslide"/>
          </p:cNvPr>
          <p:cNvSpPr/>
          <p:nvPr/>
        </p:nvSpPr>
        <p:spPr>
          <a:xfrm>
            <a:off x="8459640" y="6381720"/>
            <a:ext cx="505080" cy="287280"/>
          </a:xfrm>
          <a:custGeom>
            <a:avLst/>
            <a:gdLst>
              <a:gd name="textAreaLeft" fmla="*/ 18360 w 505080"/>
              <a:gd name="textAreaRight" fmla="*/ 486720 w 5050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7955" h="21600">
                <a:moveTo>
                  <a:pt x="0" y="0"/>
                </a:moveTo>
                <a:lnTo>
                  <a:pt x="37955" y="0"/>
                </a:lnTo>
                <a:lnTo>
                  <a:pt x="37955" y="21600"/>
                </a:lnTo>
                <a:lnTo>
                  <a:pt x="0" y="21600"/>
                </a:lnTo>
                <a:close/>
              </a:path>
              <a:path fill="lightenLess" w="37955" h="21600">
                <a:moveTo>
                  <a:pt x="0" y="0"/>
                </a:moveTo>
                <a:lnTo>
                  <a:pt x="37955" y="0"/>
                </a:lnTo>
                <a:lnTo>
                  <a:pt x="36555" y="1400"/>
                </a:lnTo>
                <a:lnTo>
                  <a:pt x="1400" y="1400"/>
                </a:lnTo>
                <a:close/>
              </a:path>
              <a:path fill="darken" w="37955" h="21600">
                <a:moveTo>
                  <a:pt x="37955" y="0"/>
                </a:moveTo>
                <a:lnTo>
                  <a:pt x="37955" y="21600"/>
                </a:lnTo>
                <a:lnTo>
                  <a:pt x="36555" y="20200"/>
                </a:lnTo>
                <a:lnTo>
                  <a:pt x="36555" y="1400"/>
                </a:lnTo>
                <a:close/>
              </a:path>
              <a:path fill="darkenLess" w="37955" h="21600">
                <a:moveTo>
                  <a:pt x="37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555" y="20200"/>
                </a:lnTo>
                <a:close/>
              </a:path>
              <a:path fill="lighten" w="37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955" h="21600">
                <a:moveTo>
                  <a:pt x="11971" y="3794"/>
                </a:moveTo>
                <a:lnTo>
                  <a:pt x="25984" y="10800"/>
                </a:lnTo>
                <a:lnTo>
                  <a:pt x="11971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0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8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11280" y="0"/>
            <a:ext cx="8229600" cy="142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Первым с помощью телескопа заглянул в глубины Вселенной великий учёный</a:t>
            </a:r>
            <a:br>
              <a:rPr sz="2800"/>
            </a:b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 Галилео Галил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5" descr="Файл:Galileo Galilei 2.jpg"/>
          <p:cNvPicPr/>
          <p:nvPr/>
        </p:nvPicPr>
        <p:blipFill>
          <a:blip r:embed="rId1"/>
          <a:stretch/>
        </p:blipFill>
        <p:spPr>
          <a:xfrm>
            <a:off x="2462040" y="1609560"/>
            <a:ext cx="3999240" cy="5053320"/>
          </a:xfrm>
          <a:prstGeom prst="rect">
            <a:avLst/>
          </a:prstGeom>
          <a:ln w="0">
            <a:noFill/>
          </a:ln>
        </p:spPr>
      </p:pic>
      <p:sp>
        <p:nvSpPr>
          <p:cNvPr id="193" name="Управляющая кнопка: далее 3">
            <a:hlinkClick r:id="" action="ppaction://hlinkshowjump?jump=nextslide"/>
          </p:cNvPr>
          <p:cNvSpPr/>
          <p:nvPr/>
        </p:nvSpPr>
        <p:spPr>
          <a:xfrm>
            <a:off x="8459640" y="6381720"/>
            <a:ext cx="505080" cy="287280"/>
          </a:xfrm>
          <a:custGeom>
            <a:avLst/>
            <a:gdLst>
              <a:gd name="textAreaLeft" fmla="*/ 18360 w 505080"/>
              <a:gd name="textAreaRight" fmla="*/ 486720 w 5050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7955" h="21600">
                <a:moveTo>
                  <a:pt x="0" y="0"/>
                </a:moveTo>
                <a:lnTo>
                  <a:pt x="37955" y="0"/>
                </a:lnTo>
                <a:lnTo>
                  <a:pt x="37955" y="21600"/>
                </a:lnTo>
                <a:lnTo>
                  <a:pt x="0" y="21600"/>
                </a:lnTo>
                <a:close/>
              </a:path>
              <a:path fill="lightenLess" w="37955" h="21600">
                <a:moveTo>
                  <a:pt x="0" y="0"/>
                </a:moveTo>
                <a:lnTo>
                  <a:pt x="37955" y="0"/>
                </a:lnTo>
                <a:lnTo>
                  <a:pt x="36555" y="1400"/>
                </a:lnTo>
                <a:lnTo>
                  <a:pt x="1400" y="1400"/>
                </a:lnTo>
                <a:close/>
              </a:path>
              <a:path fill="darken" w="37955" h="21600">
                <a:moveTo>
                  <a:pt x="37955" y="0"/>
                </a:moveTo>
                <a:lnTo>
                  <a:pt x="37955" y="21600"/>
                </a:lnTo>
                <a:lnTo>
                  <a:pt x="36555" y="20200"/>
                </a:lnTo>
                <a:lnTo>
                  <a:pt x="36555" y="1400"/>
                </a:lnTo>
                <a:close/>
              </a:path>
              <a:path fill="darkenLess" w="37955" h="21600">
                <a:moveTo>
                  <a:pt x="37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555" y="20200"/>
                </a:lnTo>
                <a:close/>
              </a:path>
              <a:path fill="lighten" w="37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955" h="21600">
                <a:moveTo>
                  <a:pt x="11971" y="3794"/>
                </a:moveTo>
                <a:lnTo>
                  <a:pt x="25984" y="10800"/>
                </a:lnTo>
                <a:lnTo>
                  <a:pt x="11971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0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Рефракторы – линзовые телескоп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2" descr="C:\Users\Светлана\Desktop\картинки\рефрактор 3.jpg"/>
          <p:cNvPicPr/>
          <p:nvPr/>
        </p:nvPicPr>
        <p:blipFill>
          <a:blip r:embed="rId1"/>
          <a:stretch/>
        </p:blipFill>
        <p:spPr>
          <a:xfrm>
            <a:off x="6059520" y="3773520"/>
            <a:ext cx="3084480" cy="308448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3" descr="C:\Users\Светлана\Desktop\картинки\рефрактор1.jpg"/>
          <p:cNvPicPr/>
          <p:nvPr/>
        </p:nvPicPr>
        <p:blipFill>
          <a:blip r:embed="rId2"/>
          <a:stretch/>
        </p:blipFill>
        <p:spPr>
          <a:xfrm>
            <a:off x="3187800" y="1322280"/>
            <a:ext cx="2981160" cy="22924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4" descr="C:\Users\Светлана\Desktop\картинки\рефрактор2.jpg"/>
          <p:cNvPicPr/>
          <p:nvPr/>
        </p:nvPicPr>
        <p:blipFill>
          <a:blip r:embed="rId3"/>
          <a:stretch/>
        </p:blipFill>
        <p:spPr>
          <a:xfrm>
            <a:off x="250920" y="3357720"/>
            <a:ext cx="2870280" cy="2868480"/>
          </a:xfrm>
          <a:prstGeom prst="rect">
            <a:avLst/>
          </a:prstGeom>
          <a:ln w="0">
            <a:noFill/>
          </a:ln>
        </p:spPr>
      </p:pic>
      <p:sp>
        <p:nvSpPr>
          <p:cNvPr id="199" name="Управляющая кнопка: назад 5">
            <a:hlinkClick r:id="rId4" action="ppaction://hlinksldjump"/>
          </p:cNvPr>
          <p:cNvSpPr/>
          <p:nvPr/>
        </p:nvSpPr>
        <p:spPr>
          <a:xfrm>
            <a:off x="8532720" y="6237360"/>
            <a:ext cx="432000" cy="404640"/>
          </a:xfrm>
          <a:custGeom>
            <a:avLst/>
            <a:gdLst>
              <a:gd name="textAreaLeft" fmla="*/ 25920 w 432000"/>
              <a:gd name="textAreaRight" fmla="*/ 406080 w 43200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3059" h="21600">
                <a:moveTo>
                  <a:pt x="0" y="0"/>
                </a:moveTo>
                <a:lnTo>
                  <a:pt x="23059" y="0"/>
                </a:lnTo>
                <a:lnTo>
                  <a:pt x="23059" y="21600"/>
                </a:lnTo>
                <a:lnTo>
                  <a:pt x="0" y="21600"/>
                </a:lnTo>
                <a:close/>
              </a:path>
              <a:path fill="lightenLess" w="23059" h="21600">
                <a:moveTo>
                  <a:pt x="0" y="0"/>
                </a:moveTo>
                <a:lnTo>
                  <a:pt x="23059" y="0"/>
                </a:lnTo>
                <a:lnTo>
                  <a:pt x="21659" y="1400"/>
                </a:lnTo>
                <a:lnTo>
                  <a:pt x="1400" y="1400"/>
                </a:lnTo>
                <a:close/>
              </a:path>
              <a:path fill="darken" w="23059" h="21600">
                <a:moveTo>
                  <a:pt x="23059" y="0"/>
                </a:moveTo>
                <a:lnTo>
                  <a:pt x="23059" y="21600"/>
                </a:lnTo>
                <a:lnTo>
                  <a:pt x="21659" y="20200"/>
                </a:lnTo>
                <a:lnTo>
                  <a:pt x="21659" y="1400"/>
                </a:lnTo>
                <a:close/>
              </a:path>
              <a:path fill="darkenLess" w="23059" h="21600">
                <a:moveTo>
                  <a:pt x="230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59" y="20200"/>
                </a:lnTo>
                <a:close/>
              </a:path>
              <a:path fill="lighten" w="230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59" h="21600">
                <a:moveTo>
                  <a:pt x="4523" y="10800"/>
                </a:moveTo>
                <a:lnTo>
                  <a:pt x="18536" y="3794"/>
                </a:lnTo>
                <a:lnTo>
                  <a:pt x="18536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0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Созвездия на зимнем небосклон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4" descr="6"/>
          <p:cNvPicPr/>
          <p:nvPr/>
        </p:nvPicPr>
        <p:blipFill>
          <a:blip r:embed="rId1"/>
          <a:stretch/>
        </p:blipFill>
        <p:spPr>
          <a:xfrm>
            <a:off x="684360" y="1125360"/>
            <a:ext cx="7273800" cy="5456520"/>
          </a:xfrm>
          <a:prstGeom prst="rect">
            <a:avLst/>
          </a:prstGeom>
          <a:ln w="0">
            <a:noFill/>
          </a:ln>
        </p:spPr>
      </p:pic>
      <p:sp>
        <p:nvSpPr>
          <p:cNvPr id="204" name="Управляющая кнопка: назад 5">
            <a:hlinkClick r:id="rId2" action="ppaction://hlinksldjump"/>
          </p:cNvPr>
          <p:cNvSpPr/>
          <p:nvPr/>
        </p:nvSpPr>
        <p:spPr>
          <a:xfrm>
            <a:off x="8532720" y="6237360"/>
            <a:ext cx="432000" cy="404640"/>
          </a:xfrm>
          <a:custGeom>
            <a:avLst/>
            <a:gdLst>
              <a:gd name="textAreaLeft" fmla="*/ 25920 w 432000"/>
              <a:gd name="textAreaRight" fmla="*/ 406080 w 43200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3059" h="21600">
                <a:moveTo>
                  <a:pt x="0" y="0"/>
                </a:moveTo>
                <a:lnTo>
                  <a:pt x="23059" y="0"/>
                </a:lnTo>
                <a:lnTo>
                  <a:pt x="23059" y="21600"/>
                </a:lnTo>
                <a:lnTo>
                  <a:pt x="0" y="21600"/>
                </a:lnTo>
                <a:close/>
              </a:path>
              <a:path fill="lightenLess" w="23059" h="21600">
                <a:moveTo>
                  <a:pt x="0" y="0"/>
                </a:moveTo>
                <a:lnTo>
                  <a:pt x="23059" y="0"/>
                </a:lnTo>
                <a:lnTo>
                  <a:pt x="21659" y="1400"/>
                </a:lnTo>
                <a:lnTo>
                  <a:pt x="1400" y="1400"/>
                </a:lnTo>
                <a:close/>
              </a:path>
              <a:path fill="darken" w="23059" h="21600">
                <a:moveTo>
                  <a:pt x="23059" y="0"/>
                </a:moveTo>
                <a:lnTo>
                  <a:pt x="23059" y="21600"/>
                </a:lnTo>
                <a:lnTo>
                  <a:pt x="21659" y="20200"/>
                </a:lnTo>
                <a:lnTo>
                  <a:pt x="21659" y="1400"/>
                </a:lnTo>
                <a:close/>
              </a:path>
              <a:path fill="darkenLess" w="23059" h="21600">
                <a:moveTo>
                  <a:pt x="230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59" y="20200"/>
                </a:lnTo>
                <a:close/>
              </a:path>
              <a:path fill="lighten" w="230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59" h="21600">
                <a:moveTo>
                  <a:pt x="4523" y="10800"/>
                </a:moveTo>
                <a:lnTo>
                  <a:pt x="18536" y="3794"/>
                </a:lnTo>
                <a:lnTo>
                  <a:pt x="18536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nodeType="clickEffect" fill="hold">
                      <p:stCondLst>
                        <p:cond delay="0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Box 7"/>
          <p:cNvSpPr/>
          <p:nvPr/>
        </p:nvSpPr>
        <p:spPr>
          <a:xfrm>
            <a:off x="250920" y="6165720"/>
            <a:ext cx="763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Автоматические межпланетные стан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7" descr="Express"/>
          <p:cNvPicPr/>
          <p:nvPr/>
        </p:nvPicPr>
        <p:blipFill>
          <a:blip r:embed="rId1"/>
          <a:stretch/>
        </p:blipFill>
        <p:spPr>
          <a:xfrm>
            <a:off x="6278400" y="1036800"/>
            <a:ext cx="2706840" cy="363852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3" descr="Картинка 1 из 127466"/>
          <p:cNvPicPr/>
          <p:nvPr/>
        </p:nvPicPr>
        <p:blipFill>
          <a:blip r:embed="rId2"/>
          <a:stretch/>
        </p:blipFill>
        <p:spPr>
          <a:xfrm>
            <a:off x="304920" y="2687760"/>
            <a:ext cx="3267000" cy="32256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15" descr="Картинка 3 из 127466"/>
          <p:cNvPicPr/>
          <p:nvPr/>
        </p:nvPicPr>
        <p:blipFill>
          <a:blip r:embed="rId3"/>
          <a:stretch/>
        </p:blipFill>
        <p:spPr>
          <a:xfrm>
            <a:off x="2828880" y="171360"/>
            <a:ext cx="3059280" cy="2363760"/>
          </a:xfrm>
          <a:prstGeom prst="rect">
            <a:avLst/>
          </a:prstGeom>
          <a:ln w="0">
            <a:noFill/>
          </a:ln>
        </p:spPr>
      </p:pic>
      <p:sp>
        <p:nvSpPr>
          <p:cNvPr id="210" name="Управляющая кнопка: назад 5">
            <a:hlinkClick r:id="rId4" action="ppaction://hlinksldjump"/>
          </p:cNvPr>
          <p:cNvSpPr/>
          <p:nvPr/>
        </p:nvSpPr>
        <p:spPr>
          <a:xfrm>
            <a:off x="8532720" y="6237360"/>
            <a:ext cx="432000" cy="404640"/>
          </a:xfrm>
          <a:custGeom>
            <a:avLst/>
            <a:gdLst>
              <a:gd name="textAreaLeft" fmla="*/ 25920 w 432000"/>
              <a:gd name="textAreaRight" fmla="*/ 406080 w 43200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3059" h="21600">
                <a:moveTo>
                  <a:pt x="0" y="0"/>
                </a:moveTo>
                <a:lnTo>
                  <a:pt x="23059" y="0"/>
                </a:lnTo>
                <a:lnTo>
                  <a:pt x="23059" y="21600"/>
                </a:lnTo>
                <a:lnTo>
                  <a:pt x="0" y="21600"/>
                </a:lnTo>
                <a:close/>
              </a:path>
              <a:path fill="lightenLess" w="23059" h="21600">
                <a:moveTo>
                  <a:pt x="0" y="0"/>
                </a:moveTo>
                <a:lnTo>
                  <a:pt x="23059" y="0"/>
                </a:lnTo>
                <a:lnTo>
                  <a:pt x="21659" y="1400"/>
                </a:lnTo>
                <a:lnTo>
                  <a:pt x="1400" y="1400"/>
                </a:lnTo>
                <a:close/>
              </a:path>
              <a:path fill="darken" w="23059" h="21600">
                <a:moveTo>
                  <a:pt x="23059" y="0"/>
                </a:moveTo>
                <a:lnTo>
                  <a:pt x="23059" y="21600"/>
                </a:lnTo>
                <a:lnTo>
                  <a:pt x="21659" y="20200"/>
                </a:lnTo>
                <a:lnTo>
                  <a:pt x="21659" y="1400"/>
                </a:lnTo>
                <a:close/>
              </a:path>
              <a:path fill="darkenLess" w="23059" h="21600">
                <a:moveTo>
                  <a:pt x="230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59" y="20200"/>
                </a:lnTo>
                <a:close/>
              </a:path>
              <a:path fill="lighten" w="230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59" h="21600">
                <a:moveTo>
                  <a:pt x="4523" y="10800"/>
                </a:moveTo>
                <a:lnTo>
                  <a:pt x="18536" y="3794"/>
                </a:lnTo>
                <a:lnTo>
                  <a:pt x="18536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0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4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сточни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unhome.ru/prose/153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donbass.ua/news/technology/space/2009/08/06/zvezda-pljuetsja-v-nebo-foto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sunhome.ru/tags/publications/звезды+гиган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sis.3dn.ru/load/31-3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www.astrogalaxy.ru/736.html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http://www.karaoke.ru/user/Nektok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http://www.goodfon.ru/wallpaper/43024.html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http://sovestilizator.bestpersons.ru/feed/post8413951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http://planeta.rambler.ru/community/astrologica/47938398.html?parent_id=47941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http://ru.wikipedia.org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http://images.yandex.ru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Пятно 1 7">
            <a:hlinkClick r:id="rId1" action="ppaction://hlinksldjump"/>
          </p:cNvPr>
          <p:cNvSpPr/>
          <p:nvPr/>
        </p:nvSpPr>
        <p:spPr>
          <a:xfrm>
            <a:off x="3348000" y="189000"/>
            <a:ext cx="2987640" cy="2087640"/>
          </a:xfrm>
          <a:prstGeom prst="irregularSeal1">
            <a:avLst/>
          </a:prstGeom>
          <a:solidFill>
            <a:srgbClr val="ffff00">
              <a:alpha val="93000"/>
            </a:srgbClr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наука астроном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Пятно 1 10"/>
          <p:cNvSpPr/>
          <p:nvPr/>
        </p:nvSpPr>
        <p:spPr>
          <a:xfrm>
            <a:off x="5364000" y="2492280"/>
            <a:ext cx="2988000" cy="2089080"/>
          </a:xfrm>
          <a:prstGeom prst="irregularSeal1">
            <a:avLst/>
          </a:prstGeom>
          <a:solidFill>
            <a:srgbClr val="ffff00">
              <a:alpha val="93000"/>
            </a:srgbClr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зимние созвезд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Пятно 1 11"/>
          <p:cNvSpPr/>
          <p:nvPr/>
        </p:nvSpPr>
        <p:spPr>
          <a:xfrm>
            <a:off x="179280" y="2276640"/>
            <a:ext cx="2987640" cy="2089080"/>
          </a:xfrm>
          <a:prstGeom prst="irregularSeal1">
            <a:avLst/>
          </a:prstGeom>
          <a:solidFill>
            <a:srgbClr val="ffff00">
              <a:alpha val="93000"/>
            </a:srgbClr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астрономы и телескоп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Пятно 1 12">
            <a:hlinkClick r:id="rId5" action="ppaction://hlinksldjump"/>
          </p:cNvPr>
          <p:cNvSpPr/>
          <p:nvPr/>
        </p:nvSpPr>
        <p:spPr>
          <a:xfrm>
            <a:off x="1908000" y="4365720"/>
            <a:ext cx="3311640" cy="2232000"/>
          </a:xfrm>
          <a:prstGeom prst="irregularSeal1">
            <a:avLst/>
          </a:prstGeom>
          <a:solidFill>
            <a:srgbClr val="ffff00">
              <a:alpha val="93000"/>
            </a:srgbClr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автоматические стан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Управляющая кнопка: домой 5">
            <a:hlinkClick r:id="" action="ppaction://hlinkshowjump?jump=lastslide"/>
          </p:cNvPr>
          <p:cNvSpPr/>
          <p:nvPr/>
        </p:nvSpPr>
        <p:spPr>
          <a:xfrm>
            <a:off x="8172360" y="5805360"/>
            <a:ext cx="754200" cy="825480"/>
          </a:xfrm>
          <a:custGeom>
            <a:avLst/>
            <a:gdLst>
              <a:gd name="textAreaLeft" fmla="*/ 48600 w 754200"/>
              <a:gd name="textAreaRight" fmla="*/ 705600 w 754200"/>
              <a:gd name="textAreaTop" fmla="*/ 48600 h 825480"/>
              <a:gd name="textAreaBottom" fmla="*/ 776880 h 825480"/>
            </a:gdLst>
            <a:ahLst/>
            <a:rect l="textAreaLeft" t="textAreaTop" r="textAreaRight" b="textAreaBottom"/>
            <a:pathLst>
              <a:path w="21600" h="23640">
                <a:moveTo>
                  <a:pt x="0" y="0"/>
                </a:moveTo>
                <a:lnTo>
                  <a:pt x="21600" y="0"/>
                </a:lnTo>
                <a:lnTo>
                  <a:pt x="21600" y="23640"/>
                </a:lnTo>
                <a:lnTo>
                  <a:pt x="0" y="23640"/>
                </a:lnTo>
                <a:close/>
              </a:path>
              <a:path fill="lightenLess" w="21600" h="2364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640">
                <a:moveTo>
                  <a:pt x="21600" y="0"/>
                </a:moveTo>
                <a:lnTo>
                  <a:pt x="21600" y="23640"/>
                </a:lnTo>
                <a:lnTo>
                  <a:pt x="20200" y="22240"/>
                </a:lnTo>
                <a:lnTo>
                  <a:pt x="20200" y="1400"/>
                </a:lnTo>
                <a:close/>
              </a:path>
              <a:path fill="darkenLess" w="21600" h="23640">
                <a:moveTo>
                  <a:pt x="21600" y="23640"/>
                </a:moveTo>
                <a:lnTo>
                  <a:pt x="0" y="23640"/>
                </a:lnTo>
                <a:lnTo>
                  <a:pt x="1400" y="22240"/>
                </a:lnTo>
                <a:lnTo>
                  <a:pt x="20200" y="22240"/>
                </a:lnTo>
                <a:close/>
              </a:path>
              <a:path fill="lighten" w="21600" h="23640">
                <a:moveTo>
                  <a:pt x="0" y="23640"/>
                </a:moveTo>
                <a:lnTo>
                  <a:pt x="0" y="0"/>
                </a:lnTo>
                <a:lnTo>
                  <a:pt x="1400" y="1400"/>
                </a:lnTo>
                <a:lnTo>
                  <a:pt x="1400" y="22240"/>
                </a:lnTo>
                <a:close/>
              </a:path>
              <a:path fill="darken" w="21600" h="23640">
                <a:moveTo>
                  <a:pt x="10800" y="4857"/>
                </a:moveTo>
                <a:lnTo>
                  <a:pt x="13376" y="7468"/>
                </a:lnTo>
                <a:lnTo>
                  <a:pt x="13376" y="5728"/>
                </a:lnTo>
                <a:lnTo>
                  <a:pt x="15152" y="5728"/>
                </a:lnTo>
                <a:lnTo>
                  <a:pt x="15152" y="9244"/>
                </a:lnTo>
                <a:lnTo>
                  <a:pt x="17763" y="11820"/>
                </a:lnTo>
                <a:lnTo>
                  <a:pt x="16109" y="11820"/>
                </a:lnTo>
                <a:lnTo>
                  <a:pt x="16109" y="19009"/>
                </a:lnTo>
                <a:lnTo>
                  <a:pt x="5491" y="19009"/>
                </a:lnTo>
                <a:lnTo>
                  <a:pt x="5491" y="11820"/>
                </a:lnTo>
                <a:lnTo>
                  <a:pt x="3837" y="11820"/>
                </a:lnTo>
                <a:close/>
              </a:path>
              <a:path fill="darkenLess" w="21600" h="23640">
                <a:moveTo>
                  <a:pt x="13376" y="7468"/>
                </a:moveTo>
                <a:lnTo>
                  <a:pt x="13376" y="5728"/>
                </a:lnTo>
                <a:lnTo>
                  <a:pt x="15152" y="5728"/>
                </a:lnTo>
                <a:lnTo>
                  <a:pt x="15152" y="9244"/>
                </a:lnTo>
                <a:close/>
              </a:path>
              <a:path fill="darkenLess" w="21600" h="23640">
                <a:moveTo>
                  <a:pt x="9877" y="15319"/>
                </a:moveTo>
                <a:lnTo>
                  <a:pt x="11723" y="15319"/>
                </a:lnTo>
                <a:lnTo>
                  <a:pt x="11723" y="19009"/>
                </a:lnTo>
                <a:lnTo>
                  <a:pt x="16109" y="19009"/>
                </a:lnTo>
                <a:lnTo>
                  <a:pt x="16109" y="11820"/>
                </a:lnTo>
                <a:lnTo>
                  <a:pt x="5491" y="11820"/>
                </a:lnTo>
                <a:lnTo>
                  <a:pt x="5491" y="19009"/>
                </a:lnTo>
                <a:lnTo>
                  <a:pt x="9877" y="19009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686800" cy="170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         </a:t>
            </a:r>
            <a:br>
              <a:rPr sz="2400"/>
            </a:b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         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«Небесный свод горящий славой звёздной,</a:t>
            </a:r>
            <a:br>
              <a:rPr sz="2400"/>
            </a:b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              Таинственно глядит из глубины,-</a:t>
            </a:r>
            <a:br>
              <a:rPr sz="2400"/>
            </a:b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               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И мы плывём, пылающею бездной,</a:t>
            </a:r>
            <a:br>
              <a:rPr sz="2400"/>
            </a:b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               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Со всех сторон окружены»               Фёдор Тютче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5" descr="Картинка 15 из 68560"/>
          <p:cNvPicPr/>
          <p:nvPr/>
        </p:nvPicPr>
        <p:blipFill>
          <a:blip r:embed="rId1"/>
          <a:stretch/>
        </p:blipFill>
        <p:spPr>
          <a:xfrm>
            <a:off x="1011240" y="1957320"/>
            <a:ext cx="6237360" cy="4692600"/>
          </a:xfrm>
          <a:prstGeom prst="rect">
            <a:avLst/>
          </a:prstGeom>
          <a:ln w="0">
            <a:noFill/>
          </a:ln>
        </p:spPr>
      </p:pic>
      <p:sp>
        <p:nvSpPr>
          <p:cNvPr id="134" name="Управляющая кнопка: далее 4">
            <a:hlinkClick r:id="" action="ppaction://hlinkshowjump?jump=nextslide"/>
          </p:cNvPr>
          <p:cNvSpPr/>
          <p:nvPr/>
        </p:nvSpPr>
        <p:spPr>
          <a:xfrm>
            <a:off x="8459640" y="6381720"/>
            <a:ext cx="505080" cy="287280"/>
          </a:xfrm>
          <a:custGeom>
            <a:avLst/>
            <a:gdLst>
              <a:gd name="textAreaLeft" fmla="*/ 18360 w 505080"/>
              <a:gd name="textAreaRight" fmla="*/ 486720 w 5050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7955" h="21600">
                <a:moveTo>
                  <a:pt x="0" y="0"/>
                </a:moveTo>
                <a:lnTo>
                  <a:pt x="37955" y="0"/>
                </a:lnTo>
                <a:lnTo>
                  <a:pt x="37955" y="21600"/>
                </a:lnTo>
                <a:lnTo>
                  <a:pt x="0" y="21600"/>
                </a:lnTo>
                <a:close/>
              </a:path>
              <a:path fill="lightenLess" w="37955" h="21600">
                <a:moveTo>
                  <a:pt x="0" y="0"/>
                </a:moveTo>
                <a:lnTo>
                  <a:pt x="37955" y="0"/>
                </a:lnTo>
                <a:lnTo>
                  <a:pt x="36555" y="1400"/>
                </a:lnTo>
                <a:lnTo>
                  <a:pt x="1400" y="1400"/>
                </a:lnTo>
                <a:close/>
              </a:path>
              <a:path fill="darken" w="37955" h="21600">
                <a:moveTo>
                  <a:pt x="37955" y="0"/>
                </a:moveTo>
                <a:lnTo>
                  <a:pt x="37955" y="21600"/>
                </a:lnTo>
                <a:lnTo>
                  <a:pt x="36555" y="20200"/>
                </a:lnTo>
                <a:lnTo>
                  <a:pt x="36555" y="1400"/>
                </a:lnTo>
                <a:close/>
              </a:path>
              <a:path fill="darkenLess" w="37955" h="21600">
                <a:moveTo>
                  <a:pt x="37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555" y="20200"/>
                </a:lnTo>
                <a:close/>
              </a:path>
              <a:path fill="lighten" w="37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955" h="21600">
                <a:moveTo>
                  <a:pt x="11971" y="3794"/>
                </a:moveTo>
                <a:lnTo>
                  <a:pt x="25984" y="10800"/>
                </a:lnTo>
                <a:lnTo>
                  <a:pt x="11971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0" y="549000"/>
            <a:ext cx="9144000" cy="61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030a0"/>
                </a:solidFill>
                <a:latin typeface="Arial"/>
              </a:rPr>
              <a:t>Из чего состоят звёзды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70c0"/>
                </a:solidFill>
                <a:latin typeface="Arial"/>
              </a:rPr>
              <a:t>Что такое наше Солнце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Arial"/>
              </a:rPr>
              <a:t>Полетит ли человек к другим галактикам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030a0"/>
                </a:solidFill>
                <a:latin typeface="Arial"/>
              </a:rPr>
              <a:t>Одиноки л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030a0"/>
                </a:solidFill>
                <a:latin typeface="Arial"/>
              </a:rPr>
              <a:t>        </a:t>
            </a:r>
            <a:r>
              <a:rPr b="0" lang="ru-RU" sz="4000" spc="-1" strike="noStrike">
                <a:solidFill>
                  <a:srgbClr val="7030a0"/>
                </a:solidFill>
                <a:latin typeface="Arial"/>
              </a:rPr>
              <a:t>мы в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030a0"/>
                </a:solidFill>
                <a:latin typeface="Arial"/>
              </a:rPr>
              <a:t>  </a:t>
            </a:r>
            <a:r>
              <a:rPr b="0" lang="ru-RU" sz="4000" spc="-1" strike="noStrike">
                <a:solidFill>
                  <a:srgbClr val="7030a0"/>
                </a:solidFill>
                <a:latin typeface="Arial"/>
              </a:rPr>
              <a:t>Вселенной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7" descr="6"/>
          <p:cNvPicPr/>
          <p:nvPr/>
        </p:nvPicPr>
        <p:blipFill>
          <a:blip r:embed="rId1"/>
          <a:stretch/>
        </p:blipFill>
        <p:spPr>
          <a:xfrm>
            <a:off x="3524400" y="2882880"/>
            <a:ext cx="5454360" cy="3683160"/>
          </a:xfrm>
          <a:prstGeom prst="rect">
            <a:avLst/>
          </a:prstGeom>
          <a:ln w="0">
            <a:noFill/>
          </a:ln>
        </p:spPr>
      </p:pic>
      <p:sp>
        <p:nvSpPr>
          <p:cNvPr id="138" name="Управляющая кнопка: далее 4">
            <a:hlinkClick r:id="" action="ppaction://hlinkshowjump?jump=nextslide"/>
          </p:cNvPr>
          <p:cNvSpPr/>
          <p:nvPr/>
        </p:nvSpPr>
        <p:spPr>
          <a:xfrm>
            <a:off x="179280" y="6381720"/>
            <a:ext cx="505080" cy="287280"/>
          </a:xfrm>
          <a:custGeom>
            <a:avLst/>
            <a:gdLst>
              <a:gd name="textAreaLeft" fmla="*/ 18360 w 505080"/>
              <a:gd name="textAreaRight" fmla="*/ 486720 w 5050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7955" h="21600">
                <a:moveTo>
                  <a:pt x="0" y="0"/>
                </a:moveTo>
                <a:lnTo>
                  <a:pt x="37955" y="0"/>
                </a:lnTo>
                <a:lnTo>
                  <a:pt x="37955" y="21600"/>
                </a:lnTo>
                <a:lnTo>
                  <a:pt x="0" y="21600"/>
                </a:lnTo>
                <a:close/>
              </a:path>
              <a:path fill="lightenLess" w="37955" h="21600">
                <a:moveTo>
                  <a:pt x="0" y="0"/>
                </a:moveTo>
                <a:lnTo>
                  <a:pt x="37955" y="0"/>
                </a:lnTo>
                <a:lnTo>
                  <a:pt x="36555" y="1400"/>
                </a:lnTo>
                <a:lnTo>
                  <a:pt x="1400" y="1400"/>
                </a:lnTo>
                <a:close/>
              </a:path>
              <a:path fill="darken" w="37955" h="21600">
                <a:moveTo>
                  <a:pt x="37955" y="0"/>
                </a:moveTo>
                <a:lnTo>
                  <a:pt x="37955" y="21600"/>
                </a:lnTo>
                <a:lnTo>
                  <a:pt x="36555" y="20200"/>
                </a:lnTo>
                <a:lnTo>
                  <a:pt x="36555" y="1400"/>
                </a:lnTo>
                <a:close/>
              </a:path>
              <a:path fill="darkenLess" w="37955" h="21600">
                <a:moveTo>
                  <a:pt x="37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555" y="20200"/>
                </a:lnTo>
                <a:close/>
              </a:path>
              <a:path fill="lighten" w="37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955" h="21600">
                <a:moveTo>
                  <a:pt x="11971" y="3794"/>
                </a:moveTo>
                <a:lnTo>
                  <a:pt x="25984" y="10800"/>
                </a:lnTo>
                <a:lnTo>
                  <a:pt x="11971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1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10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10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10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100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1000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179280" y="836640"/>
            <a:ext cx="8785440" cy="2016000"/>
          </a:xfrm>
          <a:prstGeom prst="rect">
            <a:avLst/>
          </a:prstGeom>
          <a:solidFill>
            <a:srgbClr val="6699ff"/>
          </a:solidFill>
          <a:ln w="38160">
            <a:solidFill>
              <a:srgbClr val="333399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Астрономия (греч. astronomía, от астро и nómos — закон), наука о строении и развитии космических тел, их систем и Вселенной в цел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                       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(Большая Советская Энциклопедия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3"/>
          <p:cNvSpPr/>
          <p:nvPr/>
        </p:nvSpPr>
        <p:spPr>
          <a:xfrm>
            <a:off x="611280" y="3141720"/>
            <a:ext cx="7921440" cy="2087640"/>
          </a:xfrm>
          <a:prstGeom prst="rect">
            <a:avLst/>
          </a:prstGeom>
          <a:solidFill>
            <a:srgbClr val="6699ff"/>
          </a:soli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Астрономия – одна из древнейших и интереснейших наук на земле. Даже в наше время учёные слишком мало знают о том, что представляет собой вся Вселенна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Управляющая кнопка: далее 4">
            <a:hlinkClick r:id="" action="ppaction://hlinkshowjump?jump=nextslide"/>
          </p:cNvPr>
          <p:cNvSpPr/>
          <p:nvPr/>
        </p:nvSpPr>
        <p:spPr>
          <a:xfrm>
            <a:off x="8459640" y="6381720"/>
            <a:ext cx="505080" cy="287280"/>
          </a:xfrm>
          <a:custGeom>
            <a:avLst/>
            <a:gdLst>
              <a:gd name="textAreaLeft" fmla="*/ 18360 w 505080"/>
              <a:gd name="textAreaRight" fmla="*/ 486720 w 5050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7955" h="21600">
                <a:moveTo>
                  <a:pt x="0" y="0"/>
                </a:moveTo>
                <a:lnTo>
                  <a:pt x="37955" y="0"/>
                </a:lnTo>
                <a:lnTo>
                  <a:pt x="37955" y="21600"/>
                </a:lnTo>
                <a:lnTo>
                  <a:pt x="0" y="21600"/>
                </a:lnTo>
                <a:close/>
              </a:path>
              <a:path fill="lightenLess" w="37955" h="21600">
                <a:moveTo>
                  <a:pt x="0" y="0"/>
                </a:moveTo>
                <a:lnTo>
                  <a:pt x="37955" y="0"/>
                </a:lnTo>
                <a:lnTo>
                  <a:pt x="36555" y="1400"/>
                </a:lnTo>
                <a:lnTo>
                  <a:pt x="1400" y="1400"/>
                </a:lnTo>
                <a:close/>
              </a:path>
              <a:path fill="darken" w="37955" h="21600">
                <a:moveTo>
                  <a:pt x="37955" y="0"/>
                </a:moveTo>
                <a:lnTo>
                  <a:pt x="37955" y="21600"/>
                </a:lnTo>
                <a:lnTo>
                  <a:pt x="36555" y="20200"/>
                </a:lnTo>
                <a:lnTo>
                  <a:pt x="36555" y="1400"/>
                </a:lnTo>
                <a:close/>
              </a:path>
              <a:path fill="darkenLess" w="37955" h="21600">
                <a:moveTo>
                  <a:pt x="37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555" y="20200"/>
                </a:lnTo>
                <a:close/>
              </a:path>
              <a:path fill="lighten" w="37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955" h="21600">
                <a:moveTo>
                  <a:pt x="11971" y="3794"/>
                </a:moveTo>
                <a:lnTo>
                  <a:pt x="25984" y="10800"/>
                </a:lnTo>
                <a:lnTo>
                  <a:pt x="11971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7" dur="2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1" dur="20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5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9" dur="1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Урания– муза астроном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4" descr="Урания"/>
          <p:cNvPicPr/>
          <p:nvPr/>
        </p:nvPicPr>
        <p:blipFill>
          <a:blip r:embed="rId1"/>
          <a:stretch/>
        </p:blipFill>
        <p:spPr>
          <a:xfrm>
            <a:off x="2176560" y="963720"/>
            <a:ext cx="4327560" cy="5754600"/>
          </a:xfrm>
          <a:prstGeom prst="rect">
            <a:avLst/>
          </a:prstGeom>
          <a:ln w="0">
            <a:noFill/>
          </a:ln>
        </p:spPr>
      </p:pic>
      <p:sp>
        <p:nvSpPr>
          <p:cNvPr id="146" name="Управляющая кнопка: далее 3">
            <a:hlinkClick r:id="" action="ppaction://hlinkshowjump?jump=nextslide"/>
          </p:cNvPr>
          <p:cNvSpPr/>
          <p:nvPr/>
        </p:nvSpPr>
        <p:spPr>
          <a:xfrm>
            <a:off x="8459640" y="6381720"/>
            <a:ext cx="505080" cy="287280"/>
          </a:xfrm>
          <a:custGeom>
            <a:avLst/>
            <a:gdLst>
              <a:gd name="textAreaLeft" fmla="*/ 18360 w 505080"/>
              <a:gd name="textAreaRight" fmla="*/ 486720 w 5050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7955" h="21600">
                <a:moveTo>
                  <a:pt x="0" y="0"/>
                </a:moveTo>
                <a:lnTo>
                  <a:pt x="37955" y="0"/>
                </a:lnTo>
                <a:lnTo>
                  <a:pt x="37955" y="21600"/>
                </a:lnTo>
                <a:lnTo>
                  <a:pt x="0" y="21600"/>
                </a:lnTo>
                <a:close/>
              </a:path>
              <a:path fill="lightenLess" w="37955" h="21600">
                <a:moveTo>
                  <a:pt x="0" y="0"/>
                </a:moveTo>
                <a:lnTo>
                  <a:pt x="37955" y="0"/>
                </a:lnTo>
                <a:lnTo>
                  <a:pt x="36555" y="1400"/>
                </a:lnTo>
                <a:lnTo>
                  <a:pt x="1400" y="1400"/>
                </a:lnTo>
                <a:close/>
              </a:path>
              <a:path fill="darken" w="37955" h="21600">
                <a:moveTo>
                  <a:pt x="37955" y="0"/>
                </a:moveTo>
                <a:lnTo>
                  <a:pt x="37955" y="21600"/>
                </a:lnTo>
                <a:lnTo>
                  <a:pt x="36555" y="20200"/>
                </a:lnTo>
                <a:lnTo>
                  <a:pt x="36555" y="1400"/>
                </a:lnTo>
                <a:close/>
              </a:path>
              <a:path fill="darkenLess" w="37955" h="21600">
                <a:moveTo>
                  <a:pt x="37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555" y="20200"/>
                </a:lnTo>
                <a:close/>
              </a:path>
              <a:path fill="lighten" w="37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955" h="21600">
                <a:moveTo>
                  <a:pt x="11971" y="3794"/>
                </a:moveTo>
                <a:lnTo>
                  <a:pt x="25984" y="10800"/>
                </a:lnTo>
                <a:lnTo>
                  <a:pt x="11971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0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4" descr="1"/>
          <p:cNvPicPr/>
          <p:nvPr/>
        </p:nvPicPr>
        <p:blipFill>
          <a:blip r:embed="rId1"/>
          <a:stretch/>
        </p:blipFill>
        <p:spPr>
          <a:xfrm>
            <a:off x="-42840" y="-42840"/>
            <a:ext cx="3408480" cy="25779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5" descr="C:\Users\Светлана\Desktop\картинки\чёрная дыра 1.jpg"/>
          <p:cNvPicPr/>
          <p:nvPr/>
        </p:nvPicPr>
        <p:blipFill>
          <a:blip r:embed="rId2"/>
          <a:stretch/>
        </p:blipFill>
        <p:spPr>
          <a:xfrm>
            <a:off x="6510240" y="3425760"/>
            <a:ext cx="2640240" cy="28465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6" descr="C:\Users\Светлана\Desktop\картинки\чёрная дыра 2.jpg"/>
          <p:cNvPicPr/>
          <p:nvPr/>
        </p:nvPicPr>
        <p:blipFill>
          <a:blip r:embed="rId3"/>
          <a:stretch/>
        </p:blipFill>
        <p:spPr>
          <a:xfrm>
            <a:off x="3114720" y="2328840"/>
            <a:ext cx="3267000" cy="262728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7"/>
          <p:cNvSpPr/>
          <p:nvPr/>
        </p:nvSpPr>
        <p:spPr>
          <a:xfrm>
            <a:off x="3635280" y="476280"/>
            <a:ext cx="5275440" cy="459720"/>
          </a:xfrm>
          <a:prstGeom prst="rect">
            <a:avLst/>
          </a:prstGeom>
          <a:solidFill>
            <a:srgbClr val="33ccff"/>
          </a:soli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Существовала ли планета Фаэтон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7"/>
          <p:cNvSpPr/>
          <p:nvPr/>
        </p:nvSpPr>
        <p:spPr>
          <a:xfrm>
            <a:off x="0" y="3068640"/>
            <a:ext cx="2556000" cy="1191240"/>
          </a:xfrm>
          <a:prstGeom prst="rect">
            <a:avLst/>
          </a:prstGeom>
          <a:solidFill>
            <a:srgbClr val="33ccff"/>
          </a:soli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Космические монстры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«чёрные дыры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7"/>
          <p:cNvSpPr/>
          <p:nvPr/>
        </p:nvSpPr>
        <p:spPr>
          <a:xfrm>
            <a:off x="324000" y="5661000"/>
            <a:ext cx="4248000" cy="825480"/>
          </a:xfrm>
          <a:prstGeom prst="rect">
            <a:avLst/>
          </a:prstGeom>
          <a:solidFill>
            <a:srgbClr val="33ccff"/>
          </a:soli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Загадочные невидимки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«коричневые карлик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5"/>
          <p:cNvSpPr/>
          <p:nvPr/>
        </p:nvSpPr>
        <p:spPr>
          <a:xfrm flipV="1">
            <a:off x="4716360" y="4941360"/>
            <a:ext cx="1798920" cy="107964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5"/>
          <p:cNvSpPr/>
          <p:nvPr/>
        </p:nvSpPr>
        <p:spPr>
          <a:xfrm flipV="1">
            <a:off x="2124000" y="3644640"/>
            <a:ext cx="1727280" cy="14436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Управляющая кнопка: далее 9">
            <a:hlinkClick r:id="" action="ppaction://hlinkshowjump?jump=nextslide"/>
          </p:cNvPr>
          <p:cNvSpPr/>
          <p:nvPr/>
        </p:nvSpPr>
        <p:spPr>
          <a:xfrm>
            <a:off x="8459640" y="6381720"/>
            <a:ext cx="505080" cy="287280"/>
          </a:xfrm>
          <a:custGeom>
            <a:avLst/>
            <a:gdLst>
              <a:gd name="textAreaLeft" fmla="*/ 18360 w 505080"/>
              <a:gd name="textAreaRight" fmla="*/ 486720 w 5050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7955" h="21600">
                <a:moveTo>
                  <a:pt x="0" y="0"/>
                </a:moveTo>
                <a:lnTo>
                  <a:pt x="37955" y="0"/>
                </a:lnTo>
                <a:lnTo>
                  <a:pt x="37955" y="21600"/>
                </a:lnTo>
                <a:lnTo>
                  <a:pt x="0" y="21600"/>
                </a:lnTo>
                <a:close/>
              </a:path>
              <a:path fill="lightenLess" w="37955" h="21600">
                <a:moveTo>
                  <a:pt x="0" y="0"/>
                </a:moveTo>
                <a:lnTo>
                  <a:pt x="37955" y="0"/>
                </a:lnTo>
                <a:lnTo>
                  <a:pt x="36555" y="1400"/>
                </a:lnTo>
                <a:lnTo>
                  <a:pt x="1400" y="1400"/>
                </a:lnTo>
                <a:close/>
              </a:path>
              <a:path fill="darken" w="37955" h="21600">
                <a:moveTo>
                  <a:pt x="37955" y="0"/>
                </a:moveTo>
                <a:lnTo>
                  <a:pt x="37955" y="21600"/>
                </a:lnTo>
                <a:lnTo>
                  <a:pt x="36555" y="20200"/>
                </a:lnTo>
                <a:lnTo>
                  <a:pt x="36555" y="1400"/>
                </a:lnTo>
                <a:close/>
              </a:path>
              <a:path fill="darkenLess" w="37955" h="21600">
                <a:moveTo>
                  <a:pt x="37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555" y="20200"/>
                </a:lnTo>
                <a:close/>
              </a:path>
              <a:path fill="lighten" w="37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955" h="21600">
                <a:moveTo>
                  <a:pt x="11971" y="3794"/>
                </a:moveTo>
                <a:lnTo>
                  <a:pt x="25984" y="10800"/>
                </a:lnTo>
                <a:lnTo>
                  <a:pt x="11971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0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8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4" descr="2005-0322cluster-full"/>
          <p:cNvPicPr/>
          <p:nvPr/>
        </p:nvPicPr>
        <p:blipFill>
          <a:blip r:embed="rId1"/>
          <a:stretch/>
        </p:blipFill>
        <p:spPr>
          <a:xfrm>
            <a:off x="1925640" y="1500120"/>
            <a:ext cx="5103720" cy="5052960"/>
          </a:xfrm>
          <a:prstGeom prst="rect">
            <a:avLst/>
          </a:prstGeom>
          <a:ln w="0">
            <a:noFill/>
          </a:ln>
        </p:spPr>
      </p:pic>
      <p:grpSp>
        <p:nvGrpSpPr>
          <p:cNvPr id="159" name="Text Box 7"/>
          <p:cNvGrpSpPr/>
          <p:nvPr/>
        </p:nvGrpSpPr>
        <p:grpSpPr>
          <a:xfrm>
            <a:off x="225360" y="165240"/>
            <a:ext cx="8723520" cy="1127160"/>
            <a:chOff x="225360" y="165240"/>
            <a:chExt cx="8723520" cy="1127160"/>
          </a:xfrm>
        </p:grpSpPr>
        <p:pic>
          <p:nvPicPr>
            <p:cNvPr id="160" name="Text Box 7" descr=""/>
            <p:cNvPicPr/>
            <p:nvPr/>
          </p:nvPicPr>
          <p:blipFill>
            <a:blip r:embed="rId2"/>
            <a:stretch/>
          </p:blipFill>
          <p:spPr>
            <a:xfrm>
              <a:off x="225360" y="165240"/>
              <a:ext cx="8723520" cy="112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Text Box 4"/>
            <p:cNvSpPr/>
            <p:nvPr/>
          </p:nvSpPr>
          <p:spPr>
            <a:xfrm>
              <a:off x="250920" y="189000"/>
              <a:ext cx="86724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ffff00"/>
                  </a:solidFill>
                  <a:latin typeface="Arial"/>
                </a:rPr>
                <a:t>Самые горячие звёзды  голубого  цвета, другие, менее горячие – красного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" name="Управляющая кнопка: далее 3">
            <a:hlinkClick r:id="" action="ppaction://hlinkshowjump?jump=nextslide"/>
          </p:cNvPr>
          <p:cNvSpPr/>
          <p:nvPr/>
        </p:nvSpPr>
        <p:spPr>
          <a:xfrm>
            <a:off x="8459640" y="6381720"/>
            <a:ext cx="505080" cy="287280"/>
          </a:xfrm>
          <a:custGeom>
            <a:avLst/>
            <a:gdLst>
              <a:gd name="textAreaLeft" fmla="*/ 18360 w 505080"/>
              <a:gd name="textAreaRight" fmla="*/ 486720 w 5050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7955" h="21600">
                <a:moveTo>
                  <a:pt x="0" y="0"/>
                </a:moveTo>
                <a:lnTo>
                  <a:pt x="37955" y="0"/>
                </a:lnTo>
                <a:lnTo>
                  <a:pt x="37955" y="21600"/>
                </a:lnTo>
                <a:lnTo>
                  <a:pt x="0" y="21600"/>
                </a:lnTo>
                <a:close/>
              </a:path>
              <a:path fill="lightenLess" w="37955" h="21600">
                <a:moveTo>
                  <a:pt x="0" y="0"/>
                </a:moveTo>
                <a:lnTo>
                  <a:pt x="37955" y="0"/>
                </a:lnTo>
                <a:lnTo>
                  <a:pt x="36555" y="1400"/>
                </a:lnTo>
                <a:lnTo>
                  <a:pt x="1400" y="1400"/>
                </a:lnTo>
                <a:close/>
              </a:path>
              <a:path fill="darken" w="37955" h="21600">
                <a:moveTo>
                  <a:pt x="37955" y="0"/>
                </a:moveTo>
                <a:lnTo>
                  <a:pt x="37955" y="21600"/>
                </a:lnTo>
                <a:lnTo>
                  <a:pt x="36555" y="20200"/>
                </a:lnTo>
                <a:lnTo>
                  <a:pt x="36555" y="1400"/>
                </a:lnTo>
                <a:close/>
              </a:path>
              <a:path fill="darkenLess" w="37955" h="21600">
                <a:moveTo>
                  <a:pt x="37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555" y="20200"/>
                </a:lnTo>
                <a:close/>
              </a:path>
              <a:path fill="lighten" w="37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955" h="21600">
                <a:moveTo>
                  <a:pt x="11971" y="3794"/>
                </a:moveTo>
                <a:lnTo>
                  <a:pt x="25984" y="10800"/>
                </a:lnTo>
                <a:lnTo>
                  <a:pt x="11971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0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468360" y="242064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002060"/>
                </a:solidFill>
                <a:latin typeface="Arial"/>
              </a:rPr>
              <a:t>Есть звёзды – гиганты, а ес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2060"/>
                </a:solidFill>
                <a:latin typeface="Arial"/>
              </a:rPr>
              <a:t>звёзды – карлик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4" descr="2"/>
          <p:cNvPicPr/>
          <p:nvPr/>
        </p:nvPicPr>
        <p:blipFill>
          <a:blip r:embed="rId1"/>
          <a:stretch/>
        </p:blipFill>
        <p:spPr>
          <a:xfrm>
            <a:off x="5508720" y="333360"/>
            <a:ext cx="2879640" cy="223056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6" descr="5"/>
          <p:cNvPicPr/>
          <p:nvPr/>
        </p:nvPicPr>
        <p:blipFill>
          <a:blip r:embed="rId2"/>
          <a:stretch/>
        </p:blipFill>
        <p:spPr>
          <a:xfrm>
            <a:off x="395280" y="4005360"/>
            <a:ext cx="2521080" cy="252072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7"/>
          <p:cNvSpPr/>
          <p:nvPr/>
        </p:nvSpPr>
        <p:spPr>
          <a:xfrm>
            <a:off x="754200" y="1125360"/>
            <a:ext cx="3141720" cy="642600"/>
          </a:xfrm>
          <a:prstGeom prst="rect">
            <a:avLst/>
          </a:prstGeom>
          <a:gradFill rotWithShape="0">
            <a:gsLst>
              <a:gs pos="0">
                <a:srgbClr val="107b9e"/>
              </a:gs>
              <a:gs pos="100000">
                <a:srgbClr val="24d4ff"/>
              </a:gs>
            </a:gsLst>
            <a:lin ang="16200000"/>
          </a:gra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Звезда-гиган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9"/>
          <p:cNvSpPr/>
          <p:nvPr/>
        </p:nvSpPr>
        <p:spPr>
          <a:xfrm>
            <a:off x="3493080" y="5013360"/>
            <a:ext cx="3268440" cy="642600"/>
          </a:xfrm>
          <a:prstGeom prst="rect">
            <a:avLst/>
          </a:prstGeom>
          <a:gradFill rotWithShape="0">
            <a:gsLst>
              <a:gs pos="0">
                <a:srgbClr val="107b9e"/>
              </a:gs>
              <a:gs pos="100000">
                <a:srgbClr val="24d4ff"/>
              </a:gs>
            </a:gsLst>
            <a:lin ang="16200000"/>
          </a:gra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Звезда-карли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Управляющая кнопка: назад 9">
            <a:hlinkClick r:id="rId3" action="ppaction://hlinksldjump"/>
          </p:cNvPr>
          <p:cNvSpPr/>
          <p:nvPr/>
        </p:nvSpPr>
        <p:spPr>
          <a:xfrm>
            <a:off x="8532720" y="6237360"/>
            <a:ext cx="432000" cy="404640"/>
          </a:xfrm>
          <a:custGeom>
            <a:avLst/>
            <a:gdLst>
              <a:gd name="textAreaLeft" fmla="*/ 25920 w 432000"/>
              <a:gd name="textAreaRight" fmla="*/ 406080 w 43200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3059" h="21600">
                <a:moveTo>
                  <a:pt x="0" y="0"/>
                </a:moveTo>
                <a:lnTo>
                  <a:pt x="23059" y="0"/>
                </a:lnTo>
                <a:lnTo>
                  <a:pt x="23059" y="21600"/>
                </a:lnTo>
                <a:lnTo>
                  <a:pt x="0" y="21600"/>
                </a:lnTo>
                <a:close/>
              </a:path>
              <a:path fill="lightenLess" w="23059" h="21600">
                <a:moveTo>
                  <a:pt x="0" y="0"/>
                </a:moveTo>
                <a:lnTo>
                  <a:pt x="23059" y="0"/>
                </a:lnTo>
                <a:lnTo>
                  <a:pt x="21659" y="1400"/>
                </a:lnTo>
                <a:lnTo>
                  <a:pt x="1400" y="1400"/>
                </a:lnTo>
                <a:close/>
              </a:path>
              <a:path fill="darken" w="23059" h="21600">
                <a:moveTo>
                  <a:pt x="23059" y="0"/>
                </a:moveTo>
                <a:lnTo>
                  <a:pt x="23059" y="21600"/>
                </a:lnTo>
                <a:lnTo>
                  <a:pt x="21659" y="20200"/>
                </a:lnTo>
                <a:lnTo>
                  <a:pt x="21659" y="1400"/>
                </a:lnTo>
                <a:close/>
              </a:path>
              <a:path fill="darkenLess" w="23059" h="21600">
                <a:moveTo>
                  <a:pt x="230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59" y="20200"/>
                </a:lnTo>
                <a:close/>
              </a:path>
              <a:path fill="lighten" w="230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59" h="21600">
                <a:moveTo>
                  <a:pt x="4523" y="10800"/>
                </a:moveTo>
                <a:lnTo>
                  <a:pt x="18536" y="3794"/>
                </a:lnTo>
                <a:lnTo>
                  <a:pt x="18536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0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7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0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6T13:44:07Z</dcterms:created>
  <dc:creator>мама</dc:creator>
  <dc:description/>
  <dc:language>en-US</dc:language>
  <cp:lastModifiedBy>LEGION</cp:lastModifiedBy>
  <dcterms:modified xsi:type="dcterms:W3CDTF">2015-01-12T14:16:28Z</dcterms:modified>
  <cp:revision>33</cp:revision>
  <dc:subject/>
  <dc:title>Слайд 1</dc:title>
</cp:coreProperties>
</file>