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0.png" ContentType="image/png"/>
  <Override PartName="/ppt/media/image5.png" ContentType="image/png"/>
  <Override PartName="/ppt/media/image2.gif" ContentType="image/gif"/>
  <Override PartName="/ppt/media/image13.jpeg" ContentType="image/jpeg"/>
  <Override PartName="/ppt/media/image4.png" ContentType="image/png"/>
  <Override PartName="/ppt/media/image24.gif" ContentType="image/gif"/>
  <Override PartName="/ppt/media/image27.png" ContentType="image/png"/>
  <Override PartName="/ppt/media/image12.png" ContentType="image/png"/>
  <Override PartName="/ppt/media/image7.png" ContentType="image/png"/>
  <Override PartName="/ppt/media/image3.gif" ContentType="image/gif"/>
  <Override PartName="/ppt/media/image6.png" ContentType="image/png"/>
  <Override PartName="/ppt/media/image26.png" ContentType="image/png"/>
  <Override PartName="/ppt/media/image25.png" ContentType="image/png"/>
  <Override PartName="/ppt/media/image23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6EE8E-A782-4CF0-B626-64BD1424106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hyperlink" Target="http://www.sunhome.ru/prose/15330" TargetMode="External"/><Relationship Id="rId2" Type="http://schemas.openxmlformats.org/officeDocument/2006/relationships/hyperlink" Target="http://www.donbass.ua/news/technology/space/2009/08/06/zvezda-pljuetsja-v-nebo-foto.html" TargetMode="External"/><Relationship Id="rId3" Type="http://schemas.openxmlformats.org/officeDocument/2006/relationships/slide" Target="../slides/slide18.xml"/><Relationship Id="rId4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Воева Наталья Михайловн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учитель начальных клас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МАОУНОШ д. Дубовицы Старорусского рай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Новгородской об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58668-B861-4ACA-AB48-58F164F591E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Чтобы глаз вооруж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И со звездами дружи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Млечный путь увидеть что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Нужен мощны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4110D-7C9C-4D8B-A2E5-634DB4E31E0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Телескопом сотни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Изучают жизнь план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Нам расскажет обо вс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Умный дяд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6A2E6-A130-4410-898B-EB44E5106F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Первым пересчитать звёзды и ввести числовую оценку их яркости или блеска  попробова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во </a:t>
            </a: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веке до н.э. древнегреческий астроном   Гиппар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84810-E77A-4AA8-97F2-6C95C27F4E0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В 1606 году голландские учёные – оптики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Иоанн Липперсгей и Захарий Янсе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сумели сделать  зрительную труб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DFBBC-5FB3-4AA4-80FC-2C75C0DBD38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Первым с помощью телескопа заглянул в глубины Вселенной великий учёный</a:t>
            </a:r>
            <a:br>
              <a:rPr sz="1200"/>
            </a:b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 Галилео Гали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044B4-3CD6-4901-930E-886407DE917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Рефракторы – линзовые телеско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FAC14-2695-4A8E-A3DB-FBD5BB755F0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Созвездия на зимнем небоскло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2D292-1BDB-4DC1-AD4A-65543079D65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Автоматические межпланетные стан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CA048-10EA-4252-80A5-0D75B41CBA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sunhome.ru/prose/153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donbass.ua/news/technology/space/2009/08/06/zvezda-pljuetsja-v-nebo-foto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unhome.ru/tags/publications/звезды+гига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sis.3dn.ru/load/31-3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astrogalaxy.ru/736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karaoke.ru/user/Nektok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goodfon.ru/wallpaper/43024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sovestilizator.bestpersons.ru/feed/post8413951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planeta.rambler.ru/community/astrologica/47938398.html?parent_id=47941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ccff"/>
                </a:solidFill>
                <a:uFillTx/>
                <a:latin typeface="Calibri"/>
              </a:rPr>
              <a:t>http://ru.wikipedia.or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es.yandex.r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C592F-F1F9-48CB-8D19-D268183A7A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«Небесный свод горящий славой звёздной,</a:t>
            </a:r>
            <a:br>
              <a:rPr sz="1200"/>
            </a:b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               Таинственно глядит из глубины,-</a:t>
            </a:r>
            <a:br>
              <a:rPr sz="1200"/>
            </a:b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               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И мы плывём, пылающею бездной,</a:t>
            </a:r>
            <a:br>
              <a:rPr sz="1200"/>
            </a:b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               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Со всех сторон окружены»               Фёдор Тютч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571D6-09F3-4390-886F-6DCA6176276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Из чего состоят звёзд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Что такое наше Солнц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Полетит ли человек к другим галактика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Одиноки 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мы 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Вселенн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32D58-E5CF-4C13-A733-C2B5A31D27B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Астрономия (греч. astronomía, от астро и nómos — закон), наука о строении и развитии космических тел, их систем и Вселенной в це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                     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(Большая Советская Энциклопед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00517-D9E7-4CBF-A496-6E8B5E2ECA7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Урания– муза астроно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B6441-BE94-4996-840E-9FFB2E74081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Самые горячие звёзды  голубого  цвета, другие, менее горячие – красн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CFB13-9962-46EA-B2BF-770A55F536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Есть звёзды – гиганты, а е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звёзды – карл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AD589-473D-4F00-B6A7-8AFA972AF29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633E-A404-4845-9D4C-8EBF2B983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AFDE-664A-4DE4-A36F-3FBCBE932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7BFE-A462-47F3-B9A7-BBE3479FB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4294-CACC-47F2-BD92-35B830137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7E912-7B37-4A23-B894-902F0E75A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CBE6D-0232-4E53-9A0D-8D34D4183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E2E00-7727-49D9-BF78-65E3F85E0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E6569-33DD-4602-99A9-13540B3F9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14F9D-DF0E-4E59-9F49-38A8CA0EB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88350-6B0D-4380-AFD6-C2C13032C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60F3E-1007-4A29-B659-7875AD52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6B6B-1707-4520-A3FF-2B435C918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E84B1-5830-4485-91A9-DF1B0BF9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A4193-A8B3-4ABC-994D-E2603940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A1A95-28D1-411F-911C-189D427B1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E2A79-8367-409E-8589-AD6E19233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8B3E3-E67B-4F98-8121-0399A3625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8442-2648-4F21-B31F-B5AFC7370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A85B-874F-4963-93B4-286FE65D8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B8CF-D1DE-431A-908B-C345015E0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10A0-2698-47A5-B391-B353A879D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89C6-BF8B-43A4-A213-E44B4BBE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F153-8910-47A9-8C72-9EFEE958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DF05-600D-4E85-9CBB-48BB0651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60F66-A23A-4810-91D7-C18C75F9299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ubPieSlice"/>
          <p:cNvSpPr/>
          <p:nvPr/>
        </p:nvSpPr>
        <p:spPr>
          <a:xfrm>
            <a:off x="6972480" y="5553000"/>
            <a:ext cx="4343400" cy="2610000"/>
          </a:xfrm>
          <a:custGeom>
            <a:avLst/>
            <a:gdLst>
              <a:gd name="textAreaLeft" fmla="*/ 635760 w 4343400"/>
              <a:gd name="textAreaRight" fmla="*/ 3707640 w 4343400"/>
              <a:gd name="textAreaTop" fmla="*/ 381960 h 2610000"/>
              <a:gd name="textAreaBottom" fmla="*/ 2228040 h 2610000"/>
            </a:gdLst>
            <a:ahLst/>
            <a:rect l="textAreaLeft" t="textAreaTop" r="textAreaRight" b="textAreaBottom"/>
            <a:pathLst>
              <a:path w="21600" h="21600">
                <a:moveTo>
                  <a:pt x="10698" y="0"/>
                </a:moveTo>
                <a:cubicBezTo>
                  <a:pt x="4773" y="56"/>
                  <a:pt x="0" y="4875"/>
                  <a:pt x="0" y="10799"/>
                </a:cubicBezTo>
                <a:lnTo>
                  <a:pt x="10800" y="10800"/>
                </a:lnTo>
                <a:lnTo>
                  <a:pt x="10698" y="0"/>
                </a:lnTo>
                <a:close/>
              </a:path>
            </a:pathLst>
          </a:custGeom>
          <a:solidFill>
            <a:srgbClr val="ffff61">
              <a:alpha val="62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055"/>
          <p:cNvPicPr/>
          <p:nvPr/>
        </p:nvPicPr>
        <p:blipFill>
          <a:blip r:embed="rId2"/>
          <a:stretch/>
        </p:blipFill>
        <p:spPr>
          <a:xfrm>
            <a:off x="8077320" y="5257800"/>
            <a:ext cx="61092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" name="AutoShape 10"/>
          <p:cNvSpPr/>
          <p:nvPr/>
        </p:nvSpPr>
        <p:spPr>
          <a:xfrm>
            <a:off x="1219320" y="3808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11"/>
          <p:cNvSpPr/>
          <p:nvPr/>
        </p:nvSpPr>
        <p:spPr>
          <a:xfrm>
            <a:off x="3049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AutoShape 12"/>
          <p:cNvSpPr/>
          <p:nvPr/>
        </p:nvSpPr>
        <p:spPr>
          <a:xfrm>
            <a:off x="1066680" y="152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AutoShape 13"/>
          <p:cNvSpPr/>
          <p:nvPr/>
        </p:nvSpPr>
        <p:spPr>
          <a:xfrm>
            <a:off x="838080" y="4572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2133720"/>
            <a:ext cx="9144000" cy="228600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2d9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gradFill rotWithShape="0">
            <a:gsLst>
              <a:gs pos="0">
                <a:srgbClr val="2d96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2346"/>
              </a:gs>
              <a:gs pos="100000">
                <a:srgbClr val="0047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7924680" y="2209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6"/>
          <p:cNvSpPr/>
          <p:nvPr/>
        </p:nvSpPr>
        <p:spPr>
          <a:xfrm>
            <a:off x="5410080" y="8380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7"/>
          <p:cNvSpPr/>
          <p:nvPr/>
        </p:nvSpPr>
        <p:spPr>
          <a:xfrm>
            <a:off x="84582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8"/>
          <p:cNvSpPr/>
          <p:nvPr/>
        </p:nvSpPr>
        <p:spPr>
          <a:xfrm>
            <a:off x="75438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9"/>
          <p:cNvSpPr/>
          <p:nvPr/>
        </p:nvSpPr>
        <p:spPr>
          <a:xfrm>
            <a:off x="609588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0"/>
          <p:cNvSpPr/>
          <p:nvPr/>
        </p:nvSpPr>
        <p:spPr>
          <a:xfrm>
            <a:off x="8839080" y="1295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1"/>
          <p:cNvSpPr/>
          <p:nvPr/>
        </p:nvSpPr>
        <p:spPr>
          <a:xfrm>
            <a:off x="876312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2"/>
          <p:cNvSpPr/>
          <p:nvPr/>
        </p:nvSpPr>
        <p:spPr>
          <a:xfrm>
            <a:off x="83059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3"/>
          <p:cNvSpPr/>
          <p:nvPr/>
        </p:nvSpPr>
        <p:spPr>
          <a:xfrm>
            <a:off x="70866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4"/>
          <p:cNvSpPr/>
          <p:nvPr/>
        </p:nvSpPr>
        <p:spPr>
          <a:xfrm>
            <a:off x="3200400" y="2514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5"/>
          <p:cNvSpPr/>
          <p:nvPr/>
        </p:nvSpPr>
        <p:spPr>
          <a:xfrm>
            <a:off x="1600200" y="3049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6"/>
          <p:cNvSpPr/>
          <p:nvPr/>
        </p:nvSpPr>
        <p:spPr>
          <a:xfrm>
            <a:off x="69343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7"/>
          <p:cNvSpPr/>
          <p:nvPr/>
        </p:nvSpPr>
        <p:spPr>
          <a:xfrm>
            <a:off x="30481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8"/>
          <p:cNvSpPr/>
          <p:nvPr/>
        </p:nvSpPr>
        <p:spPr>
          <a:xfrm>
            <a:off x="228600" y="17524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9"/>
          <p:cNvSpPr/>
          <p:nvPr/>
        </p:nvSpPr>
        <p:spPr>
          <a:xfrm>
            <a:off x="43434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0"/>
          <p:cNvSpPr/>
          <p:nvPr/>
        </p:nvSpPr>
        <p:spPr>
          <a:xfrm>
            <a:off x="4572000" y="5335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1"/>
          <p:cNvSpPr/>
          <p:nvPr/>
        </p:nvSpPr>
        <p:spPr>
          <a:xfrm>
            <a:off x="380988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2"/>
          <p:cNvSpPr/>
          <p:nvPr/>
        </p:nvSpPr>
        <p:spPr>
          <a:xfrm>
            <a:off x="1752480" y="2438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3" descr="29r1"/>
          <p:cNvPicPr/>
          <p:nvPr/>
        </p:nvPicPr>
        <p:blipFill>
          <a:blip r:embed="rId2"/>
          <a:stretch/>
        </p:blipFill>
        <p:spPr>
          <a:xfrm>
            <a:off x="609480" y="685800"/>
            <a:ext cx="838440" cy="349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4" descr="fire14"/>
          <p:cNvPicPr/>
          <p:nvPr/>
        </p:nvPicPr>
        <p:blipFill>
          <a:blip r:embed="rId3"/>
          <a:stretch/>
        </p:blipFill>
        <p:spPr>
          <a:xfrm>
            <a:off x="792468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5" descr="fire14"/>
          <p:cNvPicPr/>
          <p:nvPr/>
        </p:nvPicPr>
        <p:blipFill>
          <a:blip r:embed="rId4"/>
          <a:stretch/>
        </p:blipFill>
        <p:spPr>
          <a:xfrm>
            <a:off x="1905120" y="1143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6" descr="fire14"/>
          <p:cNvPicPr/>
          <p:nvPr/>
        </p:nvPicPr>
        <p:blipFill>
          <a:blip r:embed="rId5"/>
          <a:stretch/>
        </p:blipFill>
        <p:spPr>
          <a:xfrm>
            <a:off x="5257800" y="22096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73" name="PubPieSlice"/>
          <p:cNvSpPr/>
          <p:nvPr/>
        </p:nvSpPr>
        <p:spPr>
          <a:xfrm>
            <a:off x="6629400" y="5391000"/>
            <a:ext cx="5029200" cy="2934000"/>
          </a:xfrm>
          <a:custGeom>
            <a:avLst/>
            <a:gdLst>
              <a:gd name="textAreaLeft" fmla="*/ 736200 w 5029200"/>
              <a:gd name="textAreaRight" fmla="*/ 4293000 w 5029200"/>
              <a:gd name="textAreaTop" fmla="*/ 429480 h 2934000"/>
              <a:gd name="textAreaBottom" fmla="*/ 2504520 h 2934000"/>
            </a:gdLst>
            <a:ahLst/>
            <a:rect l="textAreaLeft" t="textAreaTop" r="textAreaRight" b="textAreaBottom"/>
            <a:pathLst>
              <a:path w="21600" h="21600">
                <a:moveTo>
                  <a:pt x="10698" y="0"/>
                </a:moveTo>
                <a:cubicBezTo>
                  <a:pt x="4773" y="56"/>
                  <a:pt x="0" y="4875"/>
                  <a:pt x="0" y="10799"/>
                </a:cubicBezTo>
                <a:lnTo>
                  <a:pt x="10800" y="10800"/>
                </a:lnTo>
                <a:lnTo>
                  <a:pt x="10698" y="0"/>
                </a:lnTo>
                <a:close/>
              </a:path>
            </a:pathLst>
          </a:custGeom>
          <a:solidFill>
            <a:srgbClr val="ffff6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3" descr="055"/>
          <p:cNvPicPr/>
          <p:nvPr/>
        </p:nvPicPr>
        <p:blipFill>
          <a:blip r:embed="rId6"/>
          <a:stretch/>
        </p:blipFill>
        <p:spPr>
          <a:xfrm>
            <a:off x="7543800" y="5105520"/>
            <a:ext cx="61128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22D89-783C-4A7C-93F0-7CA35603BB8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sunhome.ru/prose/15330" TargetMode="External"/><Relationship Id="rId2" Type="http://schemas.openxmlformats.org/officeDocument/2006/relationships/hyperlink" Target="http://www.donbass.ua/news/technology/space/2009/08/06/zvezda-pljuetsja-v-nebo-foto.html" TargetMode="External"/><Relationship Id="rId3" Type="http://schemas.openxmlformats.org/officeDocument/2006/relationships/hyperlink" Target="http://www.sunhome.ru/tags/publications/&#1079;&#1074;&#1077;&#1079;&#1076;&#1099;+&#1075;&#1080;&#1075;&#1072;&#1085;&#1090;&#1099;" TargetMode="External"/><Relationship Id="rId4" Type="http://schemas.openxmlformats.org/officeDocument/2006/relationships/hyperlink" Target="http://sis.3dn.ru/load/31-3-2" TargetMode="External"/><Relationship Id="rId5" Type="http://schemas.openxmlformats.org/officeDocument/2006/relationships/hyperlink" Target="http://www.astrogalaxy.ru/736.html" TargetMode="External"/><Relationship Id="rId6" Type="http://schemas.openxmlformats.org/officeDocument/2006/relationships/hyperlink" Target="http://www.karaoke.ru/user/Nektokto" TargetMode="External"/><Relationship Id="rId7" Type="http://schemas.openxmlformats.org/officeDocument/2006/relationships/hyperlink" Target="http://www.goodfon.ru/wallpaper/43024.html" TargetMode="External"/><Relationship Id="rId8" Type="http://schemas.openxmlformats.org/officeDocument/2006/relationships/hyperlink" Target="http://sovestilizator.bestpersons.ru/feed/post8413951/" TargetMode="External"/><Relationship Id="rId9" Type="http://schemas.openxmlformats.org/officeDocument/2006/relationships/hyperlink" Target="http://planeta.rambler.ru/community/astrologica/47938398.html?parent_id=47941000" TargetMode="External"/><Relationship Id="rId10" Type="http://schemas.openxmlformats.org/officeDocument/2006/relationships/hyperlink" Target="http://ru.wikipedia.org/" TargetMode="External"/><Relationship Id="rId11" Type="http://schemas.openxmlformats.org/officeDocument/2006/relationships/hyperlink" Target="http://images.yandex.ru/" TargetMode="Externa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16.xml"/><Relationship Id="rId4" Type="http://schemas.openxmlformats.org/officeDocument/2006/relationships/slide" Target="slide10.xml"/><Relationship Id="rId5" Type="http://schemas.openxmlformats.org/officeDocument/2006/relationships/slide" Target="slide3.xml"/><Relationship Id="rId6" Type="http://schemas.openxmlformats.org/officeDocument/2006/relationships/slide" Target="slide17.xml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79280" y="4149360"/>
            <a:ext cx="640080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Воева Наталья Михайлов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учитель начальных кла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МАОУНОШ д. Дубовицы Старорусского рай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Новгород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755640" y="256536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Наблюдательная астроном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2050920" y="259920"/>
            <a:ext cx="555480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Чтобы глаз воору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И со звездами дру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Млечный путь увидеть что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Нужен мощный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4427640" y="3429000"/>
            <a:ext cx="194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5653440" y="1989000"/>
            <a:ext cx="209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телеско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" descr="Drawn_wallpapers_Vector_Wallpapers_Telescope_015787_"/>
          <p:cNvPicPr/>
          <p:nvPr/>
        </p:nvPicPr>
        <p:blipFill>
          <a:blip r:embed="rId1"/>
          <a:stretch/>
        </p:blipFill>
        <p:spPr>
          <a:xfrm>
            <a:off x="1706400" y="2724120"/>
            <a:ext cx="5164200" cy="3902040"/>
          </a:xfrm>
          <a:prstGeom prst="rect">
            <a:avLst/>
          </a:prstGeom>
          <a:ln w="0">
            <a:noFill/>
          </a:ln>
        </p:spPr>
      </p:pic>
      <p:sp>
        <p:nvSpPr>
          <p:cNvPr id="175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8459640" y="638172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11971" y="3794"/>
                </a:moveTo>
                <a:lnTo>
                  <a:pt x="25984" y="10800"/>
                </a:lnTo>
                <a:lnTo>
                  <a:pt x="1197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708000" y="836640"/>
            <a:ext cx="519444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Телескопом сотни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Изучают жизнь пла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Нам расскажет обо вс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Умный дядя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6588720" y="2492280"/>
            <a:ext cx="22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астрон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аст"/>
          <p:cNvPicPr/>
          <p:nvPr/>
        </p:nvPicPr>
        <p:blipFill>
          <a:blip r:embed="rId1"/>
          <a:stretch/>
        </p:blipFill>
        <p:spPr>
          <a:xfrm>
            <a:off x="353880" y="3316320"/>
            <a:ext cx="3468960" cy="3402000"/>
          </a:xfrm>
          <a:prstGeom prst="rect">
            <a:avLst/>
          </a:prstGeom>
          <a:ln w="0">
            <a:noFill/>
          </a:ln>
        </p:spPr>
      </p:pic>
      <p:sp>
        <p:nvSpPr>
          <p:cNvPr id="180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459640" y="638172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11971" y="3794"/>
                </a:moveTo>
                <a:lnTo>
                  <a:pt x="25984" y="10800"/>
                </a:lnTo>
                <a:lnTo>
                  <a:pt x="1197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7"/>
          <p:cNvSpPr/>
          <p:nvPr/>
        </p:nvSpPr>
        <p:spPr>
          <a:xfrm>
            <a:off x="4427640" y="260280"/>
            <a:ext cx="4500360" cy="3993480"/>
          </a:xfrm>
          <a:prstGeom prst="rect">
            <a:avLst/>
          </a:prstGeom>
          <a:gradFill rotWithShape="0">
            <a:gsLst>
              <a:gs pos="0">
                <a:srgbClr val="107b9e"/>
              </a:gs>
              <a:gs pos="100000">
                <a:srgbClr val="24d4ff"/>
              </a:gs>
            </a:gsLst>
            <a:lin ang="16200000"/>
          </a:gra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ервым пересчитать звёзды и ввести числовую оценку их яркости или блеска  попробова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во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веке до н.э. древнегреческий астроном   Гиппар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" descr="http://im2-tub-ru.yandex.net/i?id=11134387-17-72"/>
          <p:cNvPicPr/>
          <p:nvPr/>
        </p:nvPicPr>
        <p:blipFill>
          <a:blip r:embed="rId1"/>
          <a:stretch/>
        </p:blipFill>
        <p:spPr>
          <a:xfrm>
            <a:off x="158760" y="1895400"/>
            <a:ext cx="3895560" cy="4743360"/>
          </a:xfrm>
          <a:prstGeom prst="rect">
            <a:avLst/>
          </a:prstGeom>
          <a:ln w="0">
            <a:noFill/>
          </a:ln>
        </p:spPr>
      </p:pic>
      <p:sp>
        <p:nvSpPr>
          <p:cNvPr id="184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459640" y="638172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11971" y="3794"/>
                </a:moveTo>
                <a:lnTo>
                  <a:pt x="25984" y="10800"/>
                </a:lnTo>
                <a:lnTo>
                  <a:pt x="1197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C:\Users\Светлана\Desktop\картинки\липперсгей 1655.jpg"/>
          <p:cNvPicPr/>
          <p:nvPr/>
        </p:nvPicPr>
        <p:blipFill>
          <a:blip r:embed="rId1"/>
          <a:stretch/>
        </p:blipFill>
        <p:spPr>
          <a:xfrm>
            <a:off x="665280" y="2835360"/>
            <a:ext cx="2962080" cy="35352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C:\Users\Светлана\Desktop\картинки\янин.jpg"/>
          <p:cNvPicPr/>
          <p:nvPr/>
        </p:nvPicPr>
        <p:blipFill>
          <a:blip r:embed="rId2"/>
          <a:stretch/>
        </p:blipFill>
        <p:spPr>
          <a:xfrm>
            <a:off x="3906720" y="2908440"/>
            <a:ext cx="2927520" cy="3492360"/>
          </a:xfrm>
          <a:prstGeom prst="rect">
            <a:avLst/>
          </a:prstGeom>
          <a:ln w="0">
            <a:noFill/>
          </a:ln>
        </p:spPr>
      </p:pic>
      <p:sp>
        <p:nvSpPr>
          <p:cNvPr id="188" name="TextBox 5"/>
          <p:cNvSpPr/>
          <p:nvPr/>
        </p:nvSpPr>
        <p:spPr>
          <a:xfrm>
            <a:off x="0" y="6922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В 1606 году голландские учёные – оптики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Иоанн Липперсгей и Захарий Янсе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сумели сделать  зрительную труб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459640" y="638172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11971" y="3794"/>
                </a:moveTo>
                <a:lnTo>
                  <a:pt x="25984" y="10800"/>
                </a:lnTo>
                <a:lnTo>
                  <a:pt x="1197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ервым с помощью телескопа заглянул в глубины Вселенной великий учёный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Галилео Гали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Файл:Galileo Galilei 2.jpg"/>
          <p:cNvPicPr/>
          <p:nvPr/>
        </p:nvPicPr>
        <p:blipFill>
          <a:blip r:embed="rId1"/>
          <a:stretch/>
        </p:blipFill>
        <p:spPr>
          <a:xfrm>
            <a:off x="2462040" y="1609560"/>
            <a:ext cx="3999240" cy="5053320"/>
          </a:xfrm>
          <a:prstGeom prst="rect">
            <a:avLst/>
          </a:prstGeom>
          <a:ln w="0">
            <a:noFill/>
          </a:ln>
        </p:spPr>
      </p:pic>
      <p:sp>
        <p:nvSpPr>
          <p:cNvPr id="193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459640" y="638172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11971" y="3794"/>
                </a:moveTo>
                <a:lnTo>
                  <a:pt x="25984" y="10800"/>
                </a:lnTo>
                <a:lnTo>
                  <a:pt x="1197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Рефракторы – линзовые телескоп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C:\Users\Светлана\Desktop\картинки\рефрактор 3.jpg"/>
          <p:cNvPicPr/>
          <p:nvPr/>
        </p:nvPicPr>
        <p:blipFill>
          <a:blip r:embed="rId1"/>
          <a:stretch/>
        </p:blipFill>
        <p:spPr>
          <a:xfrm>
            <a:off x="6059520" y="3773520"/>
            <a:ext cx="3084480" cy="30844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C:\Users\Светлана\Desktop\картинки\рефрактор1.jpg"/>
          <p:cNvPicPr/>
          <p:nvPr/>
        </p:nvPicPr>
        <p:blipFill>
          <a:blip r:embed="rId2"/>
          <a:stretch/>
        </p:blipFill>
        <p:spPr>
          <a:xfrm>
            <a:off x="3187800" y="1322280"/>
            <a:ext cx="2981160" cy="2292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" descr="C:\Users\Светлана\Desktop\картинки\рефрактор2.jpg"/>
          <p:cNvPicPr/>
          <p:nvPr/>
        </p:nvPicPr>
        <p:blipFill>
          <a:blip r:embed="rId3"/>
          <a:stretch/>
        </p:blipFill>
        <p:spPr>
          <a:xfrm>
            <a:off x="250920" y="3357720"/>
            <a:ext cx="2870280" cy="2868480"/>
          </a:xfrm>
          <a:prstGeom prst="rect">
            <a:avLst/>
          </a:prstGeom>
          <a:ln w="0">
            <a:noFill/>
          </a:ln>
        </p:spPr>
      </p:pic>
      <p:sp>
        <p:nvSpPr>
          <p:cNvPr id="199" name="Управляющая кнопка: назад 5">
            <a:hlinkClick r:id="rId4" action="ppaction://hlinksldjump"/>
          </p:cNvPr>
          <p:cNvSpPr/>
          <p:nvPr/>
        </p:nvSpPr>
        <p:spPr>
          <a:xfrm>
            <a:off x="8532720" y="6237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10800"/>
                </a:moveTo>
                <a:lnTo>
                  <a:pt x="18536" y="3794"/>
                </a:lnTo>
                <a:lnTo>
                  <a:pt x="1853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Созвездия на зимнем небоскло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6"/>
          <p:cNvPicPr/>
          <p:nvPr/>
        </p:nvPicPr>
        <p:blipFill>
          <a:blip r:embed="rId1"/>
          <a:stretch/>
        </p:blipFill>
        <p:spPr>
          <a:xfrm>
            <a:off x="684360" y="1125360"/>
            <a:ext cx="7273800" cy="5456520"/>
          </a:xfrm>
          <a:prstGeom prst="rect">
            <a:avLst/>
          </a:prstGeom>
          <a:ln w="0">
            <a:noFill/>
          </a:ln>
        </p:spPr>
      </p:pic>
      <p:sp>
        <p:nvSpPr>
          <p:cNvPr id="204" name="Управляющая кнопка: назад 5">
            <a:hlinkClick r:id="rId2" action="ppaction://hlinksldjump"/>
          </p:cNvPr>
          <p:cNvSpPr/>
          <p:nvPr/>
        </p:nvSpPr>
        <p:spPr>
          <a:xfrm>
            <a:off x="8532720" y="6237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10800"/>
                </a:moveTo>
                <a:lnTo>
                  <a:pt x="18536" y="3794"/>
                </a:lnTo>
                <a:lnTo>
                  <a:pt x="1853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Box 7"/>
          <p:cNvSpPr/>
          <p:nvPr/>
        </p:nvSpPr>
        <p:spPr>
          <a:xfrm>
            <a:off x="250920" y="6165720"/>
            <a:ext cx="76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Автоматические межпланетные стан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7" descr="Express"/>
          <p:cNvPicPr/>
          <p:nvPr/>
        </p:nvPicPr>
        <p:blipFill>
          <a:blip r:embed="rId1"/>
          <a:stretch/>
        </p:blipFill>
        <p:spPr>
          <a:xfrm>
            <a:off x="6278400" y="1036800"/>
            <a:ext cx="2706840" cy="36385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3" descr="Картинка 1 из 127466"/>
          <p:cNvPicPr/>
          <p:nvPr/>
        </p:nvPicPr>
        <p:blipFill>
          <a:blip r:embed="rId2"/>
          <a:stretch/>
        </p:blipFill>
        <p:spPr>
          <a:xfrm>
            <a:off x="304920" y="2687760"/>
            <a:ext cx="3267000" cy="3225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5" descr="Картинка 3 из 127466"/>
          <p:cNvPicPr/>
          <p:nvPr/>
        </p:nvPicPr>
        <p:blipFill>
          <a:blip r:embed="rId3"/>
          <a:stretch/>
        </p:blipFill>
        <p:spPr>
          <a:xfrm>
            <a:off x="2828880" y="171360"/>
            <a:ext cx="3059280" cy="2363760"/>
          </a:xfrm>
          <a:prstGeom prst="rect">
            <a:avLst/>
          </a:prstGeom>
          <a:ln w="0">
            <a:noFill/>
          </a:ln>
        </p:spPr>
      </p:pic>
      <p:sp>
        <p:nvSpPr>
          <p:cNvPr id="210" name="Управляющая кнопка: назад 5">
            <a:hlinkClick r:id="rId4" action="ppaction://hlinksldjump"/>
          </p:cNvPr>
          <p:cNvSpPr/>
          <p:nvPr/>
        </p:nvSpPr>
        <p:spPr>
          <a:xfrm>
            <a:off x="8532720" y="6237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10800"/>
                </a:moveTo>
                <a:lnTo>
                  <a:pt x="18536" y="3794"/>
                </a:lnTo>
                <a:lnTo>
                  <a:pt x="1853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unhome.ru/prose/153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donbass.ua/news/technology/space/2009/08/06/zvezda-pljuetsja-v-nebo-foto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sunhome.ru/tags/publications/звезды+гига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sis.3dn.ru/load/31-3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astrogalaxy.ru/736.htm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karaoke.ru/user/Nektok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goodfon.ru/wallpaper/43024.htm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sovestilizator.bestpersons.ru/feed/post8413951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planeta.rambler.ru/community/astrologica/47938398.html?parent_id=4794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ru.wikipedia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images.yandex.ru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ятно 1 7">
            <a:hlinkClick r:id="rId1" action="ppaction://hlinksldjump"/>
          </p:cNvPr>
          <p:cNvSpPr/>
          <p:nvPr/>
        </p:nvSpPr>
        <p:spPr>
          <a:xfrm>
            <a:off x="3348000" y="189000"/>
            <a:ext cx="2987640" cy="2087640"/>
          </a:xfrm>
          <a:prstGeom prst="irregularSeal1">
            <a:avLst/>
          </a:prstGeom>
          <a:solidFill>
            <a:srgbClr val="ffff00">
              <a:alpha val="93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аука астроно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ятно 1 10"/>
          <p:cNvSpPr/>
          <p:nvPr/>
        </p:nvSpPr>
        <p:spPr>
          <a:xfrm>
            <a:off x="5364000" y="2492280"/>
            <a:ext cx="2988000" cy="2089080"/>
          </a:xfrm>
          <a:prstGeom prst="irregularSeal1">
            <a:avLst/>
          </a:prstGeom>
          <a:solidFill>
            <a:srgbClr val="ffff00">
              <a:alpha val="93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зимние созвезд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ятно 1 11"/>
          <p:cNvSpPr/>
          <p:nvPr/>
        </p:nvSpPr>
        <p:spPr>
          <a:xfrm>
            <a:off x="179280" y="2276640"/>
            <a:ext cx="2987640" cy="2089080"/>
          </a:xfrm>
          <a:prstGeom prst="irregularSeal1">
            <a:avLst/>
          </a:prstGeom>
          <a:solidFill>
            <a:srgbClr val="ffff00">
              <a:alpha val="93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астрономы и телеско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ятно 1 12">
            <a:hlinkClick r:id="rId5" action="ppaction://hlinksldjump"/>
          </p:cNvPr>
          <p:cNvSpPr/>
          <p:nvPr/>
        </p:nvSpPr>
        <p:spPr>
          <a:xfrm>
            <a:off x="1908000" y="4365720"/>
            <a:ext cx="3311640" cy="2232000"/>
          </a:xfrm>
          <a:prstGeom prst="irregularSeal1">
            <a:avLst/>
          </a:prstGeom>
          <a:solidFill>
            <a:srgbClr val="ffff00">
              <a:alpha val="93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автоматические стан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Управляющая кнопка: домой 5">
            <a:hlinkClick r:id="" action="ppaction://hlinkshowjump?jump=lastslide"/>
          </p:cNvPr>
          <p:cNvSpPr/>
          <p:nvPr/>
        </p:nvSpPr>
        <p:spPr>
          <a:xfrm>
            <a:off x="8172360" y="5805360"/>
            <a:ext cx="754200" cy="825480"/>
          </a:xfrm>
          <a:custGeom>
            <a:avLst/>
            <a:gdLst>
              <a:gd name="textAreaLeft" fmla="*/ 48600 w 754200"/>
              <a:gd name="textAreaRight" fmla="*/ 705600 w 754200"/>
              <a:gd name="textAreaTop" fmla="*/ 48600 h 825480"/>
              <a:gd name="textAreaBottom" fmla="*/ 776880 h 825480"/>
            </a:gdLst>
            <a:ahLst/>
            <a:rect l="textAreaLeft" t="textAreaTop" r="textAreaRight" b="textAreaBottom"/>
            <a:pathLst>
              <a:path w="21600" h="23640">
                <a:moveTo>
                  <a:pt x="0" y="0"/>
                </a:moveTo>
                <a:lnTo>
                  <a:pt x="21600" y="0"/>
                </a:lnTo>
                <a:lnTo>
                  <a:pt x="21600" y="23640"/>
                </a:lnTo>
                <a:lnTo>
                  <a:pt x="0" y="23640"/>
                </a:lnTo>
                <a:close/>
              </a:path>
              <a:path fill="lightenLess" w="21600" h="236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40">
                <a:moveTo>
                  <a:pt x="21600" y="0"/>
                </a:moveTo>
                <a:lnTo>
                  <a:pt x="21600" y="23640"/>
                </a:lnTo>
                <a:lnTo>
                  <a:pt x="20200" y="22240"/>
                </a:lnTo>
                <a:lnTo>
                  <a:pt x="20200" y="1400"/>
                </a:lnTo>
                <a:close/>
              </a:path>
              <a:path fill="darkenLess" w="21600" h="23640">
                <a:moveTo>
                  <a:pt x="21600" y="23640"/>
                </a:moveTo>
                <a:lnTo>
                  <a:pt x="0" y="23640"/>
                </a:lnTo>
                <a:lnTo>
                  <a:pt x="1400" y="22240"/>
                </a:lnTo>
                <a:lnTo>
                  <a:pt x="20200" y="22240"/>
                </a:lnTo>
                <a:close/>
              </a:path>
              <a:path fill="lighten" w="21600" h="23640">
                <a:moveTo>
                  <a:pt x="0" y="236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40"/>
                </a:lnTo>
                <a:close/>
              </a:path>
              <a:path fill="darken" w="21600" h="23640">
                <a:moveTo>
                  <a:pt x="10800" y="4857"/>
                </a:moveTo>
                <a:lnTo>
                  <a:pt x="13376" y="7468"/>
                </a:lnTo>
                <a:lnTo>
                  <a:pt x="13376" y="5728"/>
                </a:lnTo>
                <a:lnTo>
                  <a:pt x="15152" y="5728"/>
                </a:lnTo>
                <a:lnTo>
                  <a:pt x="15152" y="9244"/>
                </a:lnTo>
                <a:lnTo>
                  <a:pt x="17763" y="11820"/>
                </a:lnTo>
                <a:lnTo>
                  <a:pt x="16109" y="11820"/>
                </a:lnTo>
                <a:lnTo>
                  <a:pt x="16109" y="19009"/>
                </a:lnTo>
                <a:lnTo>
                  <a:pt x="5491" y="19009"/>
                </a:lnTo>
                <a:lnTo>
                  <a:pt x="5491" y="11820"/>
                </a:lnTo>
                <a:lnTo>
                  <a:pt x="3837" y="11820"/>
                </a:lnTo>
                <a:close/>
              </a:path>
              <a:path fill="darkenLess" w="21600" h="23640">
                <a:moveTo>
                  <a:pt x="13376" y="7468"/>
                </a:moveTo>
                <a:lnTo>
                  <a:pt x="13376" y="5728"/>
                </a:lnTo>
                <a:lnTo>
                  <a:pt x="15152" y="5728"/>
                </a:lnTo>
                <a:lnTo>
                  <a:pt x="15152" y="9244"/>
                </a:lnTo>
                <a:close/>
              </a:path>
              <a:path fill="darkenLess" w="21600" h="23640">
                <a:moveTo>
                  <a:pt x="9877" y="15319"/>
                </a:moveTo>
                <a:lnTo>
                  <a:pt x="11723" y="15319"/>
                </a:lnTo>
                <a:lnTo>
                  <a:pt x="11723" y="19009"/>
                </a:lnTo>
                <a:lnTo>
                  <a:pt x="16109" y="19009"/>
                </a:lnTo>
                <a:lnTo>
                  <a:pt x="16109" y="11820"/>
                </a:lnTo>
                <a:lnTo>
                  <a:pt x="5491" y="11820"/>
                </a:lnTo>
                <a:lnTo>
                  <a:pt x="5491" y="19009"/>
                </a:lnTo>
                <a:lnTo>
                  <a:pt x="9877" y="1900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68680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        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«Небесный свод горящий славой звёздной,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   Таинственно глядит из глубины,-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И мы плывём, пылающею бездной,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Со всех сторон окружены»               Фёдор Тютч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Картинка 15 из 68560"/>
          <p:cNvPicPr/>
          <p:nvPr/>
        </p:nvPicPr>
        <p:blipFill>
          <a:blip r:embed="rId1"/>
          <a:stretch/>
        </p:blipFill>
        <p:spPr>
          <a:xfrm>
            <a:off x="1011240" y="1957320"/>
            <a:ext cx="6237360" cy="4692600"/>
          </a:xfrm>
          <a:prstGeom prst="rect">
            <a:avLst/>
          </a:prstGeom>
          <a:ln w="0">
            <a:noFill/>
          </a:ln>
        </p:spPr>
      </p:pic>
      <p:sp>
        <p:nvSpPr>
          <p:cNvPr id="134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459640" y="638172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11971" y="3794"/>
                </a:moveTo>
                <a:lnTo>
                  <a:pt x="25984" y="10800"/>
                </a:lnTo>
                <a:lnTo>
                  <a:pt x="1197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0" y="549000"/>
            <a:ext cx="91440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Arial"/>
              </a:rPr>
              <a:t>Из чего состоят звёзд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Arial"/>
              </a:rPr>
              <a:t>Что такое наше Солнц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Полетит ли человек к другим галактика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Arial"/>
              </a:rPr>
              <a:t>Одиноки 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Arial"/>
              </a:rPr>
              <a:t>        </a:t>
            </a:r>
            <a:r>
              <a:rPr b="0" lang="ru-RU" sz="4000" spc="-1" strike="noStrike">
                <a:solidFill>
                  <a:srgbClr val="7030a0"/>
                </a:solidFill>
                <a:latin typeface="Arial"/>
              </a:rPr>
              <a:t>мы 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7030a0"/>
                </a:solidFill>
                <a:latin typeface="Arial"/>
              </a:rPr>
              <a:t>Вселенно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6"/>
          <p:cNvPicPr/>
          <p:nvPr/>
        </p:nvPicPr>
        <p:blipFill>
          <a:blip r:embed="rId1"/>
          <a:stretch/>
        </p:blipFill>
        <p:spPr>
          <a:xfrm>
            <a:off x="3524400" y="2882880"/>
            <a:ext cx="5454360" cy="3683160"/>
          </a:xfrm>
          <a:prstGeom prst="rect">
            <a:avLst/>
          </a:prstGeom>
          <a:ln w="0">
            <a:noFill/>
          </a:ln>
        </p:spPr>
      </p:pic>
      <p:sp>
        <p:nvSpPr>
          <p:cNvPr id="138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179280" y="638172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11971" y="3794"/>
                </a:moveTo>
                <a:lnTo>
                  <a:pt x="25984" y="10800"/>
                </a:lnTo>
                <a:lnTo>
                  <a:pt x="1197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79280" y="836640"/>
            <a:ext cx="8785440" cy="2016000"/>
          </a:xfrm>
          <a:prstGeom prst="rect">
            <a:avLst/>
          </a:prstGeom>
          <a:solidFill>
            <a:srgbClr val="6699ff"/>
          </a:solidFill>
          <a:ln w="3816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Астрономия (греч. astronomía, от астро и nómos — закон), наука о строении и развитии космических тел, их систем и Вселенной в це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                 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(Большая Советская Энциклопед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611280" y="3141720"/>
            <a:ext cx="7921440" cy="2087640"/>
          </a:xfrm>
          <a:prstGeom prst="rect">
            <a:avLst/>
          </a:prstGeom>
          <a:solidFill>
            <a:srgbClr val="6699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Астрономия – одна из древнейших и интереснейших наук на земле. Даже в наше время учёные слишком мало знают о том, что представляет собой вся Вселенна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459640" y="638172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11971" y="3794"/>
                </a:moveTo>
                <a:lnTo>
                  <a:pt x="25984" y="10800"/>
                </a:lnTo>
                <a:lnTo>
                  <a:pt x="1197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Урания– муза астроном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Урания"/>
          <p:cNvPicPr/>
          <p:nvPr/>
        </p:nvPicPr>
        <p:blipFill>
          <a:blip r:embed="rId1"/>
          <a:stretch/>
        </p:blipFill>
        <p:spPr>
          <a:xfrm>
            <a:off x="2176560" y="963720"/>
            <a:ext cx="4327560" cy="5754600"/>
          </a:xfrm>
          <a:prstGeom prst="rect">
            <a:avLst/>
          </a:prstGeom>
          <a:ln w="0">
            <a:noFill/>
          </a:ln>
        </p:spPr>
      </p:pic>
      <p:sp>
        <p:nvSpPr>
          <p:cNvPr id="146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459640" y="638172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11971" y="3794"/>
                </a:moveTo>
                <a:lnTo>
                  <a:pt x="25984" y="10800"/>
                </a:lnTo>
                <a:lnTo>
                  <a:pt x="1197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1"/>
          <p:cNvPicPr/>
          <p:nvPr/>
        </p:nvPicPr>
        <p:blipFill>
          <a:blip r:embed="rId1"/>
          <a:stretch/>
        </p:blipFill>
        <p:spPr>
          <a:xfrm>
            <a:off x="-42840" y="-42840"/>
            <a:ext cx="3408480" cy="25779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C:\Users\Светлана\Desktop\картинки\чёрная дыра 1.jpg"/>
          <p:cNvPicPr/>
          <p:nvPr/>
        </p:nvPicPr>
        <p:blipFill>
          <a:blip r:embed="rId2"/>
          <a:stretch/>
        </p:blipFill>
        <p:spPr>
          <a:xfrm>
            <a:off x="6510240" y="3425760"/>
            <a:ext cx="2640240" cy="2846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C:\Users\Светлана\Desktop\картинки\чёрная дыра 2.jpg"/>
          <p:cNvPicPr/>
          <p:nvPr/>
        </p:nvPicPr>
        <p:blipFill>
          <a:blip r:embed="rId3"/>
          <a:stretch/>
        </p:blipFill>
        <p:spPr>
          <a:xfrm>
            <a:off x="3114720" y="2328840"/>
            <a:ext cx="3267000" cy="26272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7"/>
          <p:cNvSpPr/>
          <p:nvPr/>
        </p:nvSpPr>
        <p:spPr>
          <a:xfrm>
            <a:off x="3635280" y="476280"/>
            <a:ext cx="5275440" cy="459720"/>
          </a:xfrm>
          <a:prstGeom prst="rect">
            <a:avLst/>
          </a:prstGeom>
          <a:solidFill>
            <a:srgbClr val="33cc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Существовала ли планета Фаэто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0" y="3068640"/>
            <a:ext cx="2556000" cy="1191240"/>
          </a:xfrm>
          <a:prstGeom prst="rect">
            <a:avLst/>
          </a:prstGeom>
          <a:solidFill>
            <a:srgbClr val="33cc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осмические монстры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«чёрные дыр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324000" y="5661000"/>
            <a:ext cx="4248000" cy="825480"/>
          </a:xfrm>
          <a:prstGeom prst="rect">
            <a:avLst/>
          </a:prstGeom>
          <a:solidFill>
            <a:srgbClr val="33cc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Загадочные невидимки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«коричневые карли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5"/>
          <p:cNvSpPr/>
          <p:nvPr/>
        </p:nvSpPr>
        <p:spPr>
          <a:xfrm flipV="1">
            <a:off x="4716360" y="4941360"/>
            <a:ext cx="1798920" cy="107964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5"/>
          <p:cNvSpPr/>
          <p:nvPr/>
        </p:nvSpPr>
        <p:spPr>
          <a:xfrm flipV="1">
            <a:off x="2124000" y="3644640"/>
            <a:ext cx="1727280" cy="14436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Управляющая кнопка: далее 9">
            <a:hlinkClick r:id="" action="ppaction://hlinkshowjump?jump=nextslide"/>
          </p:cNvPr>
          <p:cNvSpPr/>
          <p:nvPr/>
        </p:nvSpPr>
        <p:spPr>
          <a:xfrm>
            <a:off x="8459640" y="638172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11971" y="3794"/>
                </a:moveTo>
                <a:lnTo>
                  <a:pt x="25984" y="10800"/>
                </a:lnTo>
                <a:lnTo>
                  <a:pt x="1197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2005-0322cluster-full"/>
          <p:cNvPicPr/>
          <p:nvPr/>
        </p:nvPicPr>
        <p:blipFill>
          <a:blip r:embed="rId1"/>
          <a:stretch/>
        </p:blipFill>
        <p:spPr>
          <a:xfrm>
            <a:off x="1925640" y="1500120"/>
            <a:ext cx="5103720" cy="5052960"/>
          </a:xfrm>
          <a:prstGeom prst="rect">
            <a:avLst/>
          </a:prstGeom>
          <a:ln w="0">
            <a:noFill/>
          </a:ln>
        </p:spPr>
      </p:pic>
      <p:grpSp>
        <p:nvGrpSpPr>
          <p:cNvPr id="159" name="Text Box 7"/>
          <p:cNvGrpSpPr/>
          <p:nvPr/>
        </p:nvGrpSpPr>
        <p:grpSpPr>
          <a:xfrm>
            <a:off x="225360" y="165240"/>
            <a:ext cx="8723520" cy="1127160"/>
            <a:chOff x="225360" y="165240"/>
            <a:chExt cx="8723520" cy="1127160"/>
          </a:xfrm>
        </p:grpSpPr>
        <p:pic>
          <p:nvPicPr>
            <p:cNvPr id="160" name="Text Box 7" descr=""/>
            <p:cNvPicPr/>
            <p:nvPr/>
          </p:nvPicPr>
          <p:blipFill>
            <a:blip r:embed="rId2"/>
            <a:stretch/>
          </p:blipFill>
          <p:spPr>
            <a:xfrm>
              <a:off x="225360" y="165240"/>
              <a:ext cx="872352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 Box 4"/>
            <p:cNvSpPr/>
            <p:nvPr/>
          </p:nvSpPr>
          <p:spPr>
            <a:xfrm>
              <a:off x="250920" y="189000"/>
              <a:ext cx="86724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00"/>
                  </a:solidFill>
                  <a:latin typeface="Arial"/>
                </a:rPr>
                <a:t>Самые горячие звёзды  голубого  цвета, другие, менее горячие – красного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459640" y="6381720"/>
            <a:ext cx="505080" cy="287280"/>
          </a:xfrm>
          <a:custGeom>
            <a:avLst/>
            <a:gdLst>
              <a:gd name="textAreaLeft" fmla="*/ 18360 w 505080"/>
              <a:gd name="textAreaRight" fmla="*/ 486720 w 505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955" h="21600">
                <a:moveTo>
                  <a:pt x="0" y="0"/>
                </a:moveTo>
                <a:lnTo>
                  <a:pt x="37955" y="0"/>
                </a:lnTo>
                <a:lnTo>
                  <a:pt x="37955" y="21600"/>
                </a:lnTo>
                <a:lnTo>
                  <a:pt x="0" y="21600"/>
                </a:lnTo>
                <a:close/>
              </a:path>
              <a:path fill="lightenLess" w="37955" h="21600">
                <a:moveTo>
                  <a:pt x="0" y="0"/>
                </a:moveTo>
                <a:lnTo>
                  <a:pt x="37955" y="0"/>
                </a:lnTo>
                <a:lnTo>
                  <a:pt x="36555" y="1400"/>
                </a:lnTo>
                <a:lnTo>
                  <a:pt x="1400" y="1400"/>
                </a:lnTo>
                <a:close/>
              </a:path>
              <a:path fill="darken" w="37955" h="21600">
                <a:moveTo>
                  <a:pt x="37955" y="0"/>
                </a:moveTo>
                <a:lnTo>
                  <a:pt x="37955" y="21600"/>
                </a:lnTo>
                <a:lnTo>
                  <a:pt x="36555" y="20200"/>
                </a:lnTo>
                <a:lnTo>
                  <a:pt x="36555" y="1400"/>
                </a:lnTo>
                <a:close/>
              </a:path>
              <a:path fill="darkenLess" w="37955" h="21600">
                <a:moveTo>
                  <a:pt x="37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5" y="20200"/>
                </a:lnTo>
                <a:close/>
              </a:path>
              <a:path fill="lighten" w="37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55" h="21600">
                <a:moveTo>
                  <a:pt x="11971" y="3794"/>
                </a:moveTo>
                <a:lnTo>
                  <a:pt x="25984" y="10800"/>
                </a:lnTo>
                <a:lnTo>
                  <a:pt x="1197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68360" y="2420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Есть звёзды – гиганты, а е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звёзды – карли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2"/>
          <p:cNvPicPr/>
          <p:nvPr/>
        </p:nvPicPr>
        <p:blipFill>
          <a:blip r:embed="rId1"/>
          <a:stretch/>
        </p:blipFill>
        <p:spPr>
          <a:xfrm>
            <a:off x="5508720" y="333360"/>
            <a:ext cx="2879640" cy="22305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5"/>
          <p:cNvPicPr/>
          <p:nvPr/>
        </p:nvPicPr>
        <p:blipFill>
          <a:blip r:embed="rId2"/>
          <a:stretch/>
        </p:blipFill>
        <p:spPr>
          <a:xfrm>
            <a:off x="395280" y="4005360"/>
            <a:ext cx="2521080" cy="252072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7"/>
          <p:cNvSpPr/>
          <p:nvPr/>
        </p:nvSpPr>
        <p:spPr>
          <a:xfrm>
            <a:off x="754200" y="1125360"/>
            <a:ext cx="3141720" cy="642600"/>
          </a:xfrm>
          <a:prstGeom prst="rect">
            <a:avLst/>
          </a:prstGeom>
          <a:gradFill rotWithShape="0">
            <a:gsLst>
              <a:gs pos="0">
                <a:srgbClr val="107b9e"/>
              </a:gs>
              <a:gs pos="100000">
                <a:srgbClr val="24d4ff"/>
              </a:gs>
            </a:gsLst>
            <a:lin ang="16200000"/>
          </a:gra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Звезда-гига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3493080" y="5013360"/>
            <a:ext cx="3268440" cy="642600"/>
          </a:xfrm>
          <a:prstGeom prst="rect">
            <a:avLst/>
          </a:prstGeom>
          <a:gradFill rotWithShape="0">
            <a:gsLst>
              <a:gs pos="0">
                <a:srgbClr val="107b9e"/>
              </a:gs>
              <a:gs pos="100000">
                <a:srgbClr val="24d4ff"/>
              </a:gs>
            </a:gsLst>
            <a:lin ang="16200000"/>
          </a:gra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Звезда-карл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Управляющая кнопка: назад 9">
            <a:hlinkClick r:id="rId3" action="ppaction://hlinksldjump"/>
          </p:cNvPr>
          <p:cNvSpPr/>
          <p:nvPr/>
        </p:nvSpPr>
        <p:spPr>
          <a:xfrm>
            <a:off x="8532720" y="6237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10800"/>
                </a:moveTo>
                <a:lnTo>
                  <a:pt x="18536" y="3794"/>
                </a:lnTo>
                <a:lnTo>
                  <a:pt x="1853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13:44:07Z</dcterms:created>
  <dc:creator>мама</dc:creator>
  <dc:description/>
  <dc:language>en-US</dc:language>
  <cp:lastModifiedBy>LEGION</cp:lastModifiedBy>
  <dcterms:modified xsi:type="dcterms:W3CDTF">2015-01-12T14:16:28Z</dcterms:modified>
  <cp:revision>33</cp:revision>
  <dc:subject/>
  <dc:title>Слайд 1</dc:title>
</cp:coreProperties>
</file>