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E0170-C20D-4CCC-A381-2E3E46F5E30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лег Григорьевич Мак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ажды Герой Советского Союз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ётчик-космонавт СССР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ндидат технических нау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женер-механи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-испытатель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учно-производственн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ъединения "Энергия"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оцент кафедры аэрофизическо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ханики факультета астрофизик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космических исследований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овского Физико-техническ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ститута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 Мира № 65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смонавт СССР № 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76E2-7121-4E22-8C86-E5D4E45A1C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лантливый учёный, инженер и один из опытнейших космонавт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Макаров скончался от сердечного приступа 28 мая 2003 год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ронен он в Москве, на Останкинском кладбищ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24C5-3682-464A-80C7-3651DA846D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О. Г. Макарова двое сыновей Леонид и Константин, которые живут в г.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и Валентина Ивановна при воспитании сыновей стремились привить им скромность и порядочность, целеустремленность и организованность, качества, которые были свойственны им сами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еще в январе 1978 года в интервью корреспонденту газеты “Неделя” на вопрос “Какими Вы хотели бы вырастить своих детей?” ответил так: “Единственный критерий – порядочность. Что будут делать, какую выберут профессию, не имеет значения, но порядочными должны быть”. И они такими ста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смерти О.Г. Макарова на столе сына Константина появился на подставке аккуратно вставленный в рамочку текст, написанный Олегом Григорьевич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Обязан быть доброжелательным все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Должен порученное дело исполнять хорошо и быстр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Каждый вечер составлять подробный список дел на завтра. Итог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аждое утро приходить чуть раньше, уточнять спис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Значит, добрые советы отца имеют для сына важное знач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7354-E1C7-4296-B857-03A4428E50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Марки с изображением О. Г. Макар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018B-A72A-4AD9-925E-8607AA240D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резентация выполнена Ларионовой Г. 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материалов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arina.library.tver.ru/us-36-1.htm - 28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u.wikipedia.org/wik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E204-8746-410E-A99E-BDFFEA9001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Макаров родился 6 января 1933 года в городе Удомля, Калининской (ныне Тверской) 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школьное детство Олега прошло в Удомле. Дом, в котором жили Макаровы, не сохранился (сгорел). В 1940 году семья переехала в Молдавию, куда был направлен по службе офицер Г.В. Мака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начале войны Г.В. Макаров был направлен на фронт, а семья эвакуирована в Саратов. Вскоре Ольга Степановна Макарова с детьми переехала в Фергану, а в 1943 году перебралась к брату Алексею Степановичу Звереву в Кесову Гору Калининской области, где около года их семьи проживали вместе, а потом семья Макаровых получила комна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окончании войны с 1945 по 1949 годы Макаровы проживали в Восточной Германии в г. Веймаре по месту службы В.Г. Макарова, отца Ол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49 году семья переезжает на Украину в г. Ровно. В этом городе Олег закончил 10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1 году поступил в Московское Высшее Техническое Училище имени Н.Э. Баума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 декабря 1956 года, находясь на преддипломной практике, работал техником в ОКБ-1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57 году окончил МВТУ, получил специальность инженера-меха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9C758-3CD2-4B31-BAEE-CBDA796FB1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института О. Г. Макаров работал в конструкторском бюро у Сергея Павловича Королё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лег Григорьевич занимался разработкой систем и оборудования ракетно-космической техники, принимал участие в проведении наземных и летных испытаний. Он являлся одним из авторов отчета по вопросам создания спутника Земли с человеком на борту (1958 год), принимал непосредственное участие в разработке эскизного проекта пилотируемого корабля “Восток” и руководил всей проектной подготовкой по более совершенному космическому кораблю “Восход”, затем принимал участие в проведении их летных испыт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 читал космонавтам первого, так называемого “гагаринского” набора курс об устройстве пульта управления и других систем космического корабля “Восток”, на котором в 1961 году первый космонавт планеты Ю.А. Гагарин облетел вокруг Земли. Он провожал на космодром Байконур почти все советские ракеты с “обитаемой” носовой ча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ного среди космонавтов людей, которые еще до своего первого полета в космос сумели сделать для космонавтики столько, сколько О.Г. Мак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ериод с 1961-го по 1962 год участвовал в проектных работах по корабл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оюз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7К-ОК)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38D2-284A-46AB-8177-DDCDC06093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благословения С.П. Королева в первый “инженерный” отряд после прохождения строгой медицинской комиссии в 1966 году был зачислен Олег Григорьевич Макаров. Потребовалось пройти трудный и длительный период подготовки, прежде чем исполнилась мечта Олега Григорьевича полететь в космос. Судьба и Государственная комиссия не торопились с его первым стартом, до его космического полета получили крещение космосом чуть ли не все инженеры из первого наб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67-1968 годах О.Г. Макаров прошел подготовку по программе полета к Луне (вместе с А.А. Леоновы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еты не состоялись, так как лунная программа была закрыта по ряду причин, в основном из-за аварий ракет при запусках в беспилотном режиме. Не состоялся полет и на долговременную орбитальную станцию ДОС-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F7CD2-3008-4723-918E-D0A7FA7716B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во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еский пол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 О.Г. Макаров совершил в год своего 40-летия 27-29 сентября 1973 года в качестве бортинженера космического корабля (КК) “Союз-12” по программе автономного испытательного полета вместе с В.Г. Лазаревым Продолжительность полета около 2-х сут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ь этого полета заключалась в том, что он был первым полетом после трагически закончившегося в 1971 году полета в космос и гибелью космонавтов В.Н. Волкова, Г.Т. Добровольского В.И. Пацаева (всего к этому времени в нашей стране погибло 5 космонавтов из 26 уже летавших в космо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у и В.Г. Лазареву предстояло проверить конструкторские решения и технические доработки, внесенные в конструкцию корабля и системы жизнеобеспечения и испытать новые скафандры. Успешно закончившийся полет открыл дорогу для следующих полетов и уже в этом же 1973 году был осуществлен космический полет экипажа в составе П.И. Климука и В.В. Лебедева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8190-0D7F-462B-AF63-E1A310B701D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ующ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а совместно с В.Г. Лазаревым едва не закончился трагически. 5 апреля 1975 года ракета-носитель с космонавтами на борту успешно ушла со стартовой площадки космодрома, но во время ее выведения на орбиту на высоте 192 км от земли произошла авария. К счастью для космонавтов сработала система аварийного спасения, в результате чего спускаемый аппарат с космонавтами катапультировало и он устремился к Земле по баллистической траектории. Космонавты подверглись 20-кратной перегрузке, такой перегрузки ранее никому и никогда не приходилось испытать. Известный журналист М.Ф. Ребров в своей книге “Космические катастрофы” пишет так о состоянии космонавтов в период нарастания перегрузок при падении спускаемого аппарата “…тяжесть перегрузок ломала, лишала возможности говорить, “съедала” все звуки, оставляя только гортанный хрип и сопение”. И далее “в истории авиации известен случай, когда при перегрузке 15g летчику-испытателю оторвало почку”. Сам О.Г. Макаров вспоминал: “Спуск был баллистический, значит перегрузки значительно выше. Мы физподготовку прошли всерьез, но и то чувствуем: ребра сильно врезаются в грудь, приборная доска плывет перед глазами…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ое испытание космонавтам пришлось выдержать на Земле. Космонавты приземлились в незапланированном районе в Алтайских горах на заснеженный склон. И снова везение, огромный парашют зацепился за дерево и удержал спускаемый аппарат от падения в полукилометровую пропасть. Космонавты просидели ночь у костра и только на следующий день их забрал прилетевший за ними верто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олет относится к разряду суборбитальных полетов и не считается космическим, так как пилотируемый корабль не вышел на орбиту. Продолжительность полёта составила 21 минуту 27 секун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онавты за проявленное мужество были награждены орденами Ле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FBD8-D525-417A-9577-4107C20F78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Второй космическ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а состоялся 10-16 января 1978 года на КК “Союз-27” в качестве бортинженера первой экспедиции посещения долговременной орбитальной станции “Салют-6” вместе с В.А. Джанибековым. На станции уже находились космонавты Ю.В. Романенко и Г.М. Гречко, которые прибыли на станцию на КК “Союз-26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ыв в космическом полете около 6 суток О.Г. Макаров и В.А. Джанибеков впервые вернулись на Землю на другом космическом корабле (стартовали на КК “Союз-27”, приземлились на КК “Союз-26”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проявленное мужество и героизм в этом полете О.Г. Макарову была вручена вторая медаль “Золотая звезда” и третий орден Ле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1ED1-EE3F-41EE-89A0-C36B155E7EE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етий космический полет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.Г. Макаров совершил, когда ему было почти 48 лет, 27 ноября –10 декабря 1980 года в качестве бортинженера на КК “Союз Т-3” и орбитальной станции “Салют-6” по программе экспедиции посещения ЭП-9 вместе с Л.Д. Кизимом и Г.М. Стрекалов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задачей полета в космос был ремонт системы терморегулирования станции. Задание отличалось большой сложностью.      Позывной:«Маяк-2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Продолжительность полета составила 12 суток 19 часов 07 минут 42 секунды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успешное осуществление космического полета О.Г. Макарова наградили четвертым орденом Ле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FB94-92D6-4E10-9CEA-9701439C93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ухода из отряда космонавтов с 7 апреля 1986 года продолжал работать заместителем руководителя комплекса №19 (300-й отдел) НПО «Энер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6 августа 1999 года работал Главным специалистом 318-го отдела РКК «Энергия».  С 2000 года работал Главным специалистом комплекса №31 РКК «Энергия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83 года преподавал в Московском физико-техническом институте на кафедре «Аэрофизическая механика». С 1992 года работал (по совместительству) Доцентом на кафедре аэрофизической механики факультета астрофизики и космических исследований МФТИ. </a:t>
            </a:r>
            <a:br>
              <a:rPr sz="1200"/>
            </a:b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лег Григорьевич был награжд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умя медалями «Золотая Звезда» Героя Советского Союз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тырьмя орденами Ленина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ительство Эфиопии наградило его орденом «Голубой Нил»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E0F0-7228-4F61-B7D6-9CE3B00D2C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011-595F-44C4-9740-4870AA54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B01-F839-4520-A80C-BEC523EA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F5D3-2BBD-4AD4-870A-FE615A970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740-0B37-4CB7-9424-317953AE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0FE1-2688-44A7-9E56-81E70348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0502-CC81-49ED-9C2D-6B79BB38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5ADE-C04A-48C8-A4F1-5C1EE6FAD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EA5-08D5-4D52-AB5B-4E57C69A9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8EC4-2BEB-4C70-A7D6-F1DE9549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D77F-1654-4508-9572-4263C6CF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7E0A-27AA-4101-9A8A-6FC8E159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3CF1-4E46-461F-AD50-2788AAF3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614B-5DC0-4B48-BBA8-E85DA817CC3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A0FF-1D24-42B6-831C-D2BFA5276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ru.wikipedia.org/wiki/&#1055;&#1086;&#1095;&#1090;&#1086;&#1074;&#1072;&#1103;_&#1084;&#1072;&#1088;&#1082;&#1072;" TargetMode="External"/><Relationship Id="rId3" Type="http://schemas.openxmlformats.org/officeDocument/2006/relationships/hyperlink" Target="http://ru.wikipedia.org/wiki/&#1057;&#1057;&#1057;&#1056;" TargetMode="External"/><Relationship Id="rId4" Type="http://schemas.openxmlformats.org/officeDocument/2006/relationships/hyperlink" Target="http://ru.wikipedia.org/wiki/&#1044;&#1078;&#1072;&#1085;&#1080;&#1073;&#1077;&#1082;&#1086;&#1074;,_&#1042;&#1083;&#1072;&#1076;&#1080;&#1084;&#1080;&#1088;_&#1040;&#1083;&#1077;&#1082;&#1089;&#1072;&#1085;&#1076;&#1088;&#1086;&#1074;&#1080;&#1095;" TargetMode="External"/><Relationship Id="rId5" Type="http://schemas.openxmlformats.org/officeDocument/2006/relationships/hyperlink" Target="http://ru.wikipedia.org/wiki/&#1057;&#1086;&#1102;&#1079;-27" TargetMode="External"/><Relationship Id="rId6" Type="http://schemas.openxmlformats.org/officeDocument/2006/relationships/hyperlink" Target="http://ru.wikipedia.org/wiki/&#1057;&#1072;&#1083;&#1102;&#1090;-6" TargetMode="External"/><Relationship Id="rId7" Type="http://schemas.openxmlformats.org/officeDocument/2006/relationships/hyperlink" Target="http://ru.wikipedia.org/wiki/&#1057;&#1086;&#1102;&#1079;-26" TargetMode="External"/><Relationship Id="rId8" Type="http://schemas.openxmlformats.org/officeDocument/2006/relationships/hyperlink" Target="http://ru.wikipedia.org/wiki/1979" TargetMode="External"/><Relationship Id="rId9" Type="http://schemas.openxmlformats.org/officeDocument/2006/relationships/hyperlink" Target="http://ru.wikipedia.org/wiki/&#1050;&#1086;&#1087;&#1077;&#1081;&#1082;&#1072;" TargetMode="External"/><Relationship Id="rId10" Type="http://schemas.openxmlformats.org/officeDocument/2006/relationships/hyperlink" Target="http://ru.wikipedia.org/wiki/&#1062;&#1060;&#1040;_(&#1082;&#1072;&#1090;&#1072;&#1083;&#1086;&#1075;)" TargetMode="External"/><Relationship Id="rId11" Type="http://schemas.openxmlformats.org/officeDocument/2006/relationships/hyperlink" Target="http://ru.wikipedia.org/wiki/&#1057;&#1082;&#1086;&#1090;&#1090;_(&#1082;&#1072;&#1090;&#1072;&#1083;&#1086;&#1075;)" TargetMode="External"/><Relationship Id="rId12" Type="http://schemas.openxmlformats.org/officeDocument/2006/relationships/image" Target="../media/image12.png"/><Relationship Id="rId13" Type="http://schemas.openxmlformats.org/officeDocument/2006/relationships/hyperlink" Target="http://ru.wikipedia.org/wiki/&#1055;&#1086;&#1095;&#1090;&#1086;&#1074;&#1072;&#1103;_&#1084;&#1072;&#1088;&#1082;&#1072;" TargetMode="External"/><Relationship Id="rId14" Type="http://schemas.openxmlformats.org/officeDocument/2006/relationships/hyperlink" Target="http://ru.wikipedia.org/wiki/&#1057;&#1057;&#1057;&#1056;" TargetMode="External"/><Relationship Id="rId15" Type="http://schemas.openxmlformats.org/officeDocument/2006/relationships/hyperlink" Target="http://ru.wikipedia.org/wiki/&#1050;&#1080;&#1079;&#1080;&#1084;,_&#1051;&#1077;&#1086;&#1085;&#1080;&#1076;_&#1044;&#1077;&#1085;&#1080;&#1089;&#1086;&#1074;&#1080;&#1095;" TargetMode="External"/><Relationship Id="rId16" Type="http://schemas.openxmlformats.org/officeDocument/2006/relationships/hyperlink" Target="http://ru.wikipedia.org/wiki/&#1057;&#1090;&#1088;&#1077;&#1082;&#1072;&#1083;&#1086;&#1074;,_&#1043;&#1077;&#1085;&#1085;&#1072;&#1076;&#1080;&#1081;_&#1052;&#1080;&#1093;&#1072;&#1081;&#1083;&#1086;&#1074;&#1080;&#1095;" TargetMode="External"/><Relationship Id="rId17" Type="http://schemas.openxmlformats.org/officeDocument/2006/relationships/hyperlink" Target="http://ru.wikipedia.org/w/index.php?title=&#1057;&#1086;&#1102;&#1079;-&#1058;-3&amp;action=edit&amp;redlink=1" TargetMode="External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490760" y="3279600"/>
          <a:ext cx="6162480" cy="298800"/>
        </p:xfrm>
        <a:graphic>
          <a:graphicData uri="http://schemas.openxmlformats.org/drawingml/2006/table">
            <a:tbl>
              <a:tblPr/>
              <a:tblGrid>
                <a:gridCol w="57600"/>
                <a:gridCol w="1129320"/>
                <a:gridCol w="4860720"/>
                <a:gridCol w="57600"/>
                <a:gridCol w="57600"/>
              </a:tblGrid>
              <a:tr h="43200">
                <a:tc gridSpan="5">
                  <a:txBody>
                    <a:bodyPr lIns="10800" rIns="108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lIns="10800" rIns="10800" tIns="5400" bIns="5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важды Герой Советского Союза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ётчик-космонавт СССР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ндидат технических наук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женер-механик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-испытатель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чно-производственного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ъединения "Энергия",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цент кафедры аэрофизической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ханики факультета астрофизики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 космических исследований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сковского Физико-технического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ститута</a:t>
                      </a:r>
                      <a:br>
                        <a:rPr sz="100"/>
                      </a:b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 Мира № 65</a:t>
                      </a:r>
                      <a:br>
                        <a:rPr sz="100"/>
                      </a:br>
                      <a:r>
                        <a:rPr b="1" lang="ru-RU" sz="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смонавт СССР № 27</a:t>
                      </a:r>
                      <a:endParaRPr b="0" lang="en-US" sz="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0800" rIns="10800" tIns="5400" bIns="5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800" marR="108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9" name="Picture 3" descr="http://space-memorial.narod.ru/img/energy.jpg"/>
          <p:cNvPicPr/>
          <p:nvPr/>
        </p:nvPicPr>
        <p:blipFill>
          <a:blip r:embed="rId1"/>
          <a:stretch/>
        </p:blipFill>
        <p:spPr>
          <a:xfrm>
            <a:off x="285840" y="1714680"/>
            <a:ext cx="2147760" cy="321444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5"/>
          <p:cNvSpPr/>
          <p:nvPr/>
        </p:nvSpPr>
        <p:spPr>
          <a:xfrm>
            <a:off x="2214720" y="1643040"/>
            <a:ext cx="435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ажды Герой Советского Союз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Лётчик-космонавт СССР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андидат технических нау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женер-механик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-испытатель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учно-производственн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ъединения "Энергия"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цент кафедры аэрофизическо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еханики факультета астрофизик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космических исследований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сковского Физико-техническог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ститута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 Мира № 65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смонавт СССР № 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2143080" y="64296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Олег Григорьевич Макар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6286680" y="1785960"/>
            <a:ext cx="2631960" cy="300024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1500120" y="5000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2"/>
          <p:cNvSpPr/>
          <p:nvPr/>
        </p:nvSpPr>
        <p:spPr>
          <a:xfrm>
            <a:off x="1071720" y="5214960"/>
            <a:ext cx="735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лантливый учёный, инженер и один из опытнейших космонавтов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Макаров скончался от сердечного приступа 28 мая 2003 г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хоронен он в Москве, на Останкинском кладбищ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"/>
          <p:cNvSpPr/>
          <p:nvPr/>
        </p:nvSpPr>
        <p:spPr>
          <a:xfrm>
            <a:off x="571680" y="525960"/>
            <a:ext cx="792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О. Г. Макарова двое сыновей Леонид и Константин, которые живут в г. Моск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и Валентина Ивановна при воспитании сыновей стремились привить им скромность и порядочность, целеустремленность и организованность, качества, которые были свойственны им сами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еще в январе 1978 года в интервью корреспонденту газеты “Неделя” на вопрос “Какими Вы хотели бы вырастить своих детей?” ответил так: “Единственный критерий – порядочность. Что будут делать, какую выберут профессию, не имеет значения, но порядочными должны быть”. И они такими ст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смерти О.Г. Макарова на столе сына Константина появился на подставке аккуратно вставленный в рамочку текст, написанный Олегом Григорьевич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Обязан быть доброжелательным 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Должен порученное дело исполнять хорошо и быст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 Каждый вечер составлять подробный список дел на завтра. Итог д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Каждое утро приходить чуть раньше, уточнять спис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чит, добрые советы отца имеют для сына важное значен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2928960" cy="40705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2"/>
          <p:cNvSpPr/>
          <p:nvPr/>
        </p:nvSpPr>
        <p:spPr>
          <a:xfrm>
            <a:off x="285840" y="4714920"/>
            <a:ext cx="30002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Мар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ССС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олёт космонавто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В. А. Джанибек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О. Г. Макарова на космическом комплексе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Союз-27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 —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Салют-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 —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Союз-26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1979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4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копей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ЦФ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№  4972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Скот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№  475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2"/>
          <a:stretch/>
        </p:blipFill>
        <p:spPr>
          <a:xfrm>
            <a:off x="3857760" y="1214280"/>
            <a:ext cx="4929120" cy="35974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4429080" y="4929120"/>
            <a:ext cx="4357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Марк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СССР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«Полёт космонавтов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Л. Д. Кизим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Г. М. Стрекалова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и О. Г. Макарова на транспортном корабле „</a:t>
            </a:r>
            <a:r>
              <a:rPr b="0" lang="ru-RU" sz="16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Союз-Т-3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“» (1981, 10 копеек, ЦФА №  5169, Скотт №  492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571760" y="214200"/>
            <a:ext cx="66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арки с изображением О. Г. Макаро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2356920" y="242892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tarina.library.tver.ru/us-36-1.htm - 28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3714840" y="3571920"/>
            <a:ext cx="1428840" cy="190512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4"/>
          <p:cNvSpPr/>
          <p:nvPr/>
        </p:nvSpPr>
        <p:spPr>
          <a:xfrm>
            <a:off x="2875320" y="2857680"/>
            <a:ext cx="286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ru.wikipedia.org/wik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2000160" y="1357200"/>
            <a:ext cx="471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Презентация выполнена Ларионовой Г. 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основе материалов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928800" y="1224000"/>
            <a:ext cx="757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ошкольное детство Олега прошло в Удомле. Дом, в котором жили Макаровы, не сохранился (сгорел). В 1940 году семья переехала в Молдавию, куда был направлен по службе офицер Г.В. Мак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начале войны Г.В. Макаров был направлен на фронт, а семья эвакуирована в Саратов. Вскоре Ольга Степановна Макарова с детьми переехала в Фергану, а в 1943 году перебралась к брату Алексею Степановичу Звереву в Кесову Гору Калининской области, где около года их семьи проживали вместе, а потом семья Макаровых получила комна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928800" y="3506400"/>
            <a:ext cx="7643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 окончании войны с 1945 по 1949 годы Макаровы проживали в Восточной Германии в г. Веймаре по месту службы В.Г. Макарова, отца Оле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49 году семья переезжает на Украину в г. Ровно. В этом городе Олег закончил 10 клас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857160" y="642960"/>
            <a:ext cx="742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Макаров родился 6 января 1933 года в городе Удомля, Калининской (ныне Тверской) 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928800" y="4714920"/>
            <a:ext cx="778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51 году поступил в Московское Высшее Техническое Училище имени Н.Э. Баума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 декабря 1956 года, находясь на преддипломной практике, работал техником в ОКБ-1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57 году окончил МВТУ, получил специальность инженера-меха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4"/>
          <p:cNvSpPr/>
          <p:nvPr/>
        </p:nvSpPr>
        <p:spPr>
          <a:xfrm>
            <a:off x="642960" y="428760"/>
            <a:ext cx="7858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института О. Г. Макаров работал в конструкторском бюро у Сергея Павловича Королё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лег Григорьевич занимался разработкой систем и оборудования ракетно-космической техники, принимал участие в проведении наземных и летных испытаний. Он являлся одним из авторов отчета по вопросам создания спутника Земли с человеком на борту (1958 год), принимал непосредственное участие в разработке эскизного проекта пилотируемого корабля “Восток” и руководил всей проектной подготовкой по более совершенному космическому кораблю “Восход”, затем принимал участие в проведении их летных испыт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.Г. Макаров читал космонавтам первого, так называемого “гагаринского” набора курс об устройстве пульта управления и других систем космического корабля “Восток”, на котором в 1961 году первый космонавт планеты Ю.А. Гагарин облетел вокруг Земли. Он провожал на космодром Байконур почти все советские ракеты с “обитаемой” носовой ча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много среди космонавтов людей, которые еще до своего первого полета в космос сумели сделать для космонавтики столько, сколько О.Г. Мака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период с 1961-го по 1962 год участвовал в проектных работах по кораблю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«Союз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(7К-ОК)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28760" y="593280"/>
            <a:ext cx="5715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С благословения С.П. Королева в первый “инженерный” отряд после прохождения строгой медицинской комиссии в 1966 году был зачислен Олег Григорьевич Макаров. Потребовалось пройти трудный и длительный период подготовки, прежде чем исполнилась мечта Олега Григорьевича полететь в космос. Судьба и Государственная комиссия не торопились с его первым стартом, до его космического полета получили крещение космосом чуть ли не все инженеры из первого наб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1967-1968 годах О.Г. Макаров прошел подготовку по программе полета к Луне (вместе с А.А. Леоновы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еты не состоялись, так как лунная программа была закрыта по ряду причин, в основном из-за аварий ракет при запусках в беспилотном режиме. Не состоялся полет и на долговременную орбитальную станцию ДОС-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6323040" y="1214280"/>
            <a:ext cx="2463840" cy="328644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Экипаж корабля &quot;Союз-12&quot;. Связка Василий Лазарев - Олег Макаров будет неизменна в течении почти десяти лет."/>
          <p:cNvPicPr/>
          <p:nvPr/>
        </p:nvPicPr>
        <p:blipFill>
          <a:blip r:embed="rId1"/>
          <a:stretch/>
        </p:blipFill>
        <p:spPr>
          <a:xfrm>
            <a:off x="5500800" y="928800"/>
            <a:ext cx="3287520" cy="40082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357120" y="531720"/>
            <a:ext cx="485784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ервы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свой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смический полет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О.Г. Макаров совершил в год своего 40-летия 27-29 сентября 1973 года в качестве бортинженера космического корабля (КК) “Союз-12” по программе автономного испытательного полета вместе с В.Г. Лазаревым Продолжительность полета около 2-х сут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собенность этого полета заключалась в том, что он был первым полетом после трагически закончившегося в 1971 году полета в космос и гибелью космонавтов В.Н. Волкова, Г.Т. Добровольского В.И. Пацаева (всего к этому времени в нашей стране погибло 5 космонавтов из 26 уже летавших в космос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у и В.Г. Лазареву предстояло проверить конструкторские решения и технические доработки, внесенные в конструкцию корабля и системы жизнеобеспечения и испытать новые скафандры. Успешно закончившийся полет открыл дорогу для следующих полетов и уже в этом же 1973 году был осуществлен космический полет экипажа в составе П.И. Климука и В.В. Лебедева.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7"/>
          <p:cNvSpPr/>
          <p:nvPr/>
        </p:nvSpPr>
        <p:spPr>
          <a:xfrm>
            <a:off x="6072120" y="57862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8"/>
          <p:cNvSpPr/>
          <p:nvPr/>
        </p:nvSpPr>
        <p:spPr>
          <a:xfrm>
            <a:off x="5929200" y="521496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озывной: «Урал-2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Продолжительность полета составила 1 сутки 23 часа 15 минут 32 секун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5857920" y="285840"/>
            <a:ext cx="2928960" cy="44956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2"/>
          <p:cNvSpPr/>
          <p:nvPr/>
        </p:nvSpPr>
        <p:spPr>
          <a:xfrm>
            <a:off x="214200" y="142920"/>
            <a:ext cx="5572080" cy="67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Следующий полет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.Г. Макарова совместно с В.Г. Лазаревым едва не закончился трагически. 5 апреля 1975 года ракета-носитель с космонавтами на борту успешно ушла со стартовой площадки космодрома, но во время ее выведения на орбиту на высоте 192 км от земли произошла авария. К счастью для космонавтов сработала система аварийного спасения, в результате чего спускаемый аппарат с космонавтами катапультировало и он устремился к Земле по баллистической траектории. Космонавты подверглись 20-кратной перегрузке, такой перегрузки ранее никому и никогда не приходилось испытать. Известный журналист М.Ф. Ребров в своей книге “Космические катастрофы” пишет так о состоянии космонавтов в период нарастания перегрузок при падении спускаемого аппарата “…тяжесть перегрузок ломала, лишала возможности говорить, “съедала” все звуки, оставляя только гортанный хрип и сопение”. И далее “в истории авиации известен случай, когда при перегрузке 15g летчику-испытателю оторвало почку”. Сам О.Г. Макаров вспоминал: “Спуск был баллистический, значит перегрузки значительно выше. Мы физподготовку прошли всерьез, но и то чувствуем: ребра сильно врезаются в грудь, приборная доска плывет перед глазами…”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торое испытание космонавтам пришлось выдержать на Земле. Космонавты приземлились в незапланированном районе в Алтайских горах на заснеженный склон. И снова везение, огромный парашют зацепился за дерево и удержал спускаемый аппарат от падения в полукилометровую пропасть. Космонавты просидели ночь у костра и только на следующий день их забрал прилетевший за ними вертол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нный полет относится к разряду суборбитальных полетов и не считается космическим, так как пилотируемый корабль не вышел на орбиту. Продолжительность полёта составила 21 минуту 27 секун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осмонавты за проявленное мужество были награждены орденами Лен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5030640" y="500040"/>
            <a:ext cx="3756240" cy="414324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3"/>
          <p:cNvSpPr/>
          <p:nvPr/>
        </p:nvSpPr>
        <p:spPr>
          <a:xfrm>
            <a:off x="5072040" y="4286160"/>
            <a:ext cx="3786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зывной: «Памир-2»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должительность полета составила 5 суток 22 часа 58 минут 58 секунд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57120" y="314280"/>
            <a:ext cx="42148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торой космический пол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О.Г. Макарова состоялся 10-16 января 1978 года на КК “Союз-27” в качестве бортинженера первой экспедиции посещения долговременной орбитальной станции “Салют-6” вместе с В.А. Джанибековым. На станции уже находились космонавты Ю.В. Романенко и Г.М. Гречко, которые прибыли на станцию на КК “Союз-26”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быв в космическом полете около 6 суток О.Г. Макаров и В.А. Джанибеков впервые вернулись на Землю на другом космическом корабле (стартовали на КК “Союз-27”, приземлились на КК “Союз-26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проявленное мужество и героизм в этом полете О.Г. Макарову была вручена вторая медаль “Золотая звезда” и третий орден Лени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500040" y="3571920"/>
            <a:ext cx="8358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дний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ретий космический полет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.Г. Макаров совершил, когда ему было почти 48 лет, 27 ноября –10 декабря 1980 года в качестве бортинженера на КК “Союз Т-3” и орбитальной станции “Салют-6” по программе экспедиции посещения ЭП-9 вместе с Л.Д. Кизимом и Г.М. Стрекалов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ой задачей полета в космос был ремонт системы терморегулирования станции. Задание отличалось большой сложностью.      Позывной:«Маяк-2»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Продолжительность полета составила 12 суток 19 часов 07 минут 42 секунды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успешное осуществление космического полета О.Г. Макарова наградили четвертым орденом Лен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2214720" y="428760"/>
            <a:ext cx="5190840" cy="302400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3"/>
          <p:cNvSpPr/>
          <p:nvPr/>
        </p:nvSpPr>
        <p:spPr>
          <a:xfrm>
            <a:off x="642960" y="5500800"/>
            <a:ext cx="83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6215040" y="928800"/>
            <a:ext cx="2324160" cy="331920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2"/>
          <p:cNvSpPr/>
          <p:nvPr/>
        </p:nvSpPr>
        <p:spPr>
          <a:xfrm>
            <a:off x="285840" y="642960"/>
            <a:ext cx="5643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ухода из отряда космонавтов с 7 апреля 1986 года продолжал работать заместителем руководителя комплекса №19 (300-й отдел) НПО «Энергия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6 августа 1999 года работал Главным специалистом 318-го отдела РКК «Энергия».  С 2000 года работал Главным специалистом комплекса №31 РКК «Энергия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1983 года преподавал в Московском физико-техническом институте на кафедре «Аэрофизическая механика». С 1992 года работал (по совместительству) Доцентом на кафедре аэрофизической механики факультета астрофизики и космических исследований МФТИ.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лег Григорьевич был награжд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вумя медалями «Золотая Звезда» Героя Советского Союз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етырьмя орденами Ленина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тельство Эфиопии наградило его орденом «Голубой Нил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572160" y="4429080"/>
            <a:ext cx="617760" cy="1143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653760" cy="12128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1:25:55Z</dcterms:created>
  <dc:creator>Дима</dc:creator>
  <dc:description/>
  <dc:language>en-US</dc:language>
  <cp:lastModifiedBy>LEGION</cp:lastModifiedBy>
  <dcterms:modified xsi:type="dcterms:W3CDTF">2015-01-12T14:17:38Z</dcterms:modified>
  <cp:revision>35</cp:revision>
  <dc:subject/>
  <dc:title>Слайд 1</dc:title>
</cp:coreProperties>
</file>