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3B99-2A6F-431A-B7B5-98604262B3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DE59-B27D-46D2-848E-8338FEC587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518-D57F-4F75-84EF-B7D9C594DC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2EB4-1CB6-4EBC-BDFB-852B3DFA78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A9E4-C7A3-4767-8F8D-559B73CBC0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C7D-9927-4AB3-BDED-4D8F741C65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0D49-E690-492F-91B9-49CE45AD7C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182A-A609-4AAB-B1D5-713266C657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DE7A-9FE7-449A-905A-93902D3BD0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5CAF-8E6A-4327-8574-1C9C52A41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3902-5265-4979-8A8F-CB9F22CA52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E412-D209-47BE-88B1-DD93E0F27A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AD67-500B-474C-928C-926CBD588E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7FB0-25CF-48C8-B0CD-55068C5B4B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B1B-EC3B-422C-8055-0FD3D668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7EB-D3BD-45DE-96F6-28C05BC3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B01-5417-406F-8387-9D1074DE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989-AD3B-43C0-BBCF-F63459FE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ED7-5028-46A8-87F1-3FDE622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3A6-2F1A-43CF-9A5B-62CB303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756-F3CF-475F-B543-8EEDA123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EB8-C527-4CFA-A617-0A0DC1D1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932-EB22-47EC-950D-AFB4A8A6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092-1C7A-4C2A-A8B1-4BC61C6E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265-6DB5-405E-9CD3-5CBDEC6A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2EB-20B1-4976-A35D-E3D635F1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FE7B-FE62-4856-B425-CFCA005CAD4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48E6-05CA-4F04-8611-60252B61D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6;&#1095;&#1090;&#1086;&#1074;&#1072;&#1103;_&#1084;&#1072;&#1088;&#1082;&#1072;" TargetMode="External"/><Relationship Id="rId3" Type="http://schemas.openxmlformats.org/officeDocument/2006/relationships/hyperlink" Target="http://ru.wikipedia.org/wiki/&#1057;&#1057;&#1057;&#1056;" TargetMode="External"/><Relationship Id="rId4" Type="http://schemas.openxmlformats.org/officeDocument/2006/relationships/hyperlink" Target="http://ru.wikipedia.org/wiki/&#1044;&#1078;&#1072;&#1085;&#1080;&#1073;&#1077;&#1082;&#1086;&#1074;,_&#1042;&#1083;&#1072;&#1076;&#1080;&#1084;&#1080;&#1088;_&#1040;&#1083;&#1077;&#1082;&#1089;&#1072;&#1085;&#1076;&#1088;&#1086;&#1074;&#1080;&#1095;" TargetMode="External"/><Relationship Id="rId5" Type="http://schemas.openxmlformats.org/officeDocument/2006/relationships/hyperlink" Target="http://ru.wikipedia.org/wiki/&#1057;&#1086;&#1102;&#1079;-27" TargetMode="External"/><Relationship Id="rId6" Type="http://schemas.openxmlformats.org/officeDocument/2006/relationships/hyperlink" Target="http://ru.wikipedia.org/wiki/&#1057;&#1072;&#1083;&#1102;&#1090;-6" TargetMode="External"/><Relationship Id="rId7" Type="http://schemas.openxmlformats.org/officeDocument/2006/relationships/hyperlink" Target="http://ru.wikipedia.org/wiki/&#1057;&#1086;&#1102;&#1079;-26" TargetMode="External"/><Relationship Id="rId8" Type="http://schemas.openxmlformats.org/officeDocument/2006/relationships/hyperlink" Target="http://ru.wikipedia.org/wiki/1979" TargetMode="External"/><Relationship Id="rId9" Type="http://schemas.openxmlformats.org/officeDocument/2006/relationships/hyperlink" Target="http://ru.wikipedia.org/wiki/&#1050;&#1086;&#1087;&#1077;&#1081;&#1082;&#1072;" TargetMode="External"/><Relationship Id="rId10" Type="http://schemas.openxmlformats.org/officeDocument/2006/relationships/hyperlink" Target="http://ru.wikipedia.org/wiki/&#1062;&#1060;&#1040;_(&#1082;&#1072;&#1090;&#1072;&#1083;&#1086;&#1075;)" TargetMode="External"/><Relationship Id="rId11" Type="http://schemas.openxmlformats.org/officeDocument/2006/relationships/hyperlink" Target="http://ru.wikipedia.org/wiki/&#1057;&#1082;&#1086;&#1090;&#1090;_(&#1082;&#1072;&#1090;&#1072;&#1083;&#1086;&#1075;)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ru.wikipedia.org/wiki/&#1055;&#1086;&#1095;&#1090;&#1086;&#1074;&#1072;&#1103;_&#1084;&#1072;&#1088;&#1082;&#1072;" TargetMode="External"/><Relationship Id="rId14" Type="http://schemas.openxmlformats.org/officeDocument/2006/relationships/hyperlink" Target="http://ru.wikipedia.org/wiki/&#1057;&#1057;&#1057;&#1056;" TargetMode="External"/><Relationship Id="rId15" Type="http://schemas.openxmlformats.org/officeDocument/2006/relationships/hyperlink" Target="http://ru.wikipedia.org/wiki/&#1050;&#1080;&#1079;&#1080;&#1084;,_&#1051;&#1077;&#1086;&#1085;&#1080;&#1076;_&#1044;&#1077;&#1085;&#1080;&#1089;&#1086;&#1074;&#1080;&#1095;" TargetMode="External"/><Relationship Id="rId16" Type="http://schemas.openxmlformats.org/officeDocument/2006/relationships/hyperlink" Target="http://ru.wikipedia.org/wiki/&#1057;&#1090;&#1088;&#1077;&#1082;&#1072;&#1083;&#1086;&#1074;,_&#1043;&#1077;&#1085;&#1085;&#1072;&#1076;&#1080;&#1081;_&#1052;&#1080;&#1093;&#1072;&#1081;&#1083;&#1086;&#1074;&#1080;&#1095;" TargetMode="External"/><Relationship Id="rId17" Type="http://schemas.openxmlformats.org/officeDocument/2006/relationships/hyperlink" Target="http://ru.wikipedia.org/w/index.php?title=&#1057;&#1086;&#1102;&#1079;-&#1058;-3&amp;action=edit&amp;redlink=1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90760" y="3279600"/>
          <a:ext cx="6162480" cy="298800"/>
        </p:xfrm>
        <a:graphic>
          <a:graphicData uri="http://schemas.openxmlformats.org/drawingml/2006/table">
            <a:tbl>
              <a:tblPr/>
              <a:tblGrid>
                <a:gridCol w="57600"/>
                <a:gridCol w="1129320"/>
                <a:gridCol w="4860720"/>
                <a:gridCol w="57600"/>
                <a:gridCol w="57600"/>
              </a:tblGrid>
              <a:tr h="43200">
                <a:tc gridSpan="5"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жды Герой Советского Союза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тчик-космонавт СССР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дидат технических нау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-механи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-испытатель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производственн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ия "Энергия"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цент кафедры аэрофизическо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ки факультета астрофизики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космических исследовани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овского Физико-техническ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итута</a:t>
                      </a:r>
                      <a:br>
                        <a:rPr sz="100"/>
                      </a:b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Мира № 65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СССР № 27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3" descr="http://space-memorial.narod.ru/img/energy.jpg"/>
          <p:cNvPicPr/>
          <p:nvPr/>
        </p:nvPicPr>
        <p:blipFill>
          <a:blip r:embed="rId1"/>
          <a:stretch/>
        </p:blipFill>
        <p:spPr>
          <a:xfrm>
            <a:off x="285840" y="1714680"/>
            <a:ext cx="2147760" cy="32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2214720" y="1643040"/>
            <a:ext cx="435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143080" y="6429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286680" y="1785960"/>
            <a:ext cx="2631960" cy="30002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071720" y="521496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71680" y="525960"/>
            <a:ext cx="792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2928960" cy="40705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85840" y="4714920"/>
            <a:ext cx="300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. А. Джанибек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космическом комплекс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оюз-2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алют-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оюз-2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7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4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копей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ЦФ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972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Скот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7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2"/>
          <a:stretch/>
        </p:blipFill>
        <p:spPr>
          <a:xfrm>
            <a:off x="3857760" y="1214280"/>
            <a:ext cx="4929120" cy="35974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429080" y="4929120"/>
            <a:ext cx="43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Л. Д. Кизи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Г. М. Стрекал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транспортном корабл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Союз-Т-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(1981, 10 копеек, ЦФА №  5169, Скотт №  49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571760" y="21420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356920" y="24289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714840" y="357192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875320" y="28576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000160" y="1357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28800" y="122400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28800" y="350640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857160" y="6429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928800" y="471492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642960" y="4287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28760" y="593280"/>
            <a:ext cx="571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323040" y="1214280"/>
            <a:ext cx="2463840" cy="32864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Экипаж корабля &quot;Союз-12&quot;. Связка Василий Лазарев - Олег Макаров будет неизменна в течении почти десяти лет."/>
          <p:cNvPicPr/>
          <p:nvPr/>
        </p:nvPicPr>
        <p:blipFill>
          <a:blip r:embed="rId1"/>
          <a:stretch/>
        </p:blipFill>
        <p:spPr>
          <a:xfrm>
            <a:off x="5500800" y="928800"/>
            <a:ext cx="3287520" cy="4008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57120" y="531720"/>
            <a:ext cx="4857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072120" y="57862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5929200" y="521496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зывной: «Урал-2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1 сутки 23 часа 15 минут 32 секу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928960" cy="4495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142920"/>
            <a:ext cx="5572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30640" y="500040"/>
            <a:ext cx="3756240" cy="4143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5072040" y="4286160"/>
            <a:ext cx="378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ывной: «Памир-2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5 суток 22 часа 58 минут 58 секун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57120" y="31428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500040" y="35719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14720" y="428760"/>
            <a:ext cx="519084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42960" y="550080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215040" y="928800"/>
            <a:ext cx="2324160" cy="3319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85840" y="642960"/>
            <a:ext cx="5643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61776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653760" cy="12128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25:55Z</dcterms:created>
  <dc:creator>Дима</dc:creator>
  <dc:description/>
  <dc:language>en-US</dc:language>
  <cp:lastModifiedBy>LEGION</cp:lastModifiedBy>
  <dcterms:modified xsi:type="dcterms:W3CDTF">2015-01-12T14:17:38Z</dcterms:modified>
  <cp:revision>35</cp:revision>
  <dc:subject/>
  <dc:title>Слайд 1</dc:title>
</cp:coreProperties>
</file>