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F6EA-2C5A-47D4-A09B-1B12B22A7F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C4A8-9640-45E5-8D8A-F5D3EBDEE6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F5EB-9B65-4549-8FBF-798BAE63BD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8086-97F1-4956-AAAE-6A80036468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0E84-4072-40D2-A051-A10BF5AD46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C65C-31B0-4AC0-95E0-D7A3D46160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3F39-19F1-4FBB-BAB2-EF19895361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40D5-2217-447E-A743-3EB6E0A462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A9A6-3FF7-4506-B74C-4916279657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3A02-B6F3-442C-A26F-396A2B1CD5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CB37-BAC3-42CA-AAD8-0FABFF2FA7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62F2-68F8-44A6-9EC1-7F18B61DEE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D8EB-9073-4618-9F6B-1007E203D5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3656-4B5C-446F-B0FF-9D04AE7792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339-B2D6-4B2E-BDEB-41FB293E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607-7C82-475F-9CBF-86D2EC0B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3E4-79B8-4A80-A469-20CED6B4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2DA-3298-4A0D-B5B4-996F858C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2BF-7966-4978-A6E9-607B67E7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7C8-6276-4CDD-908E-C47D034D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6F8-CCEE-48D2-B752-16CFE032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44F-668A-48B8-AF73-0E024AF0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571-8184-4B79-B21D-AF093458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CC1-1E59-4EBA-BE96-4E3B1D57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0D2-D788-4D61-BDA9-E0B24FBB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BCF-1494-4662-AAAC-27FA843C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F8E1-2A64-43AE-91A3-B8917903431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D566-8B46-4CA6-947C-3B8279330D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5;&#1086;&#1095;&#1090;&#1086;&#1074;&#1072;&#1103;_&#1084;&#1072;&#1088;&#1082;&#1072;" TargetMode="External"/><Relationship Id="rId3" Type="http://schemas.openxmlformats.org/officeDocument/2006/relationships/hyperlink" Target="http://ru.wikipedia.org/wiki/&#1057;&#1057;&#1057;&#1056;" TargetMode="External"/><Relationship Id="rId4" Type="http://schemas.openxmlformats.org/officeDocument/2006/relationships/hyperlink" Target="http://ru.wikipedia.org/wiki/&#1044;&#1078;&#1072;&#1085;&#1080;&#1073;&#1077;&#1082;&#1086;&#1074;,_&#1042;&#1083;&#1072;&#1076;&#1080;&#1084;&#1080;&#1088;_&#1040;&#1083;&#1077;&#1082;&#1089;&#1072;&#1085;&#1076;&#1088;&#1086;&#1074;&#1080;&#1095;" TargetMode="External"/><Relationship Id="rId5" Type="http://schemas.openxmlformats.org/officeDocument/2006/relationships/hyperlink" Target="http://ru.wikipedia.org/wiki/&#1057;&#1086;&#1102;&#1079;-27" TargetMode="External"/><Relationship Id="rId6" Type="http://schemas.openxmlformats.org/officeDocument/2006/relationships/hyperlink" Target="http://ru.wikipedia.org/wiki/&#1057;&#1072;&#1083;&#1102;&#1090;-6" TargetMode="External"/><Relationship Id="rId7" Type="http://schemas.openxmlformats.org/officeDocument/2006/relationships/hyperlink" Target="http://ru.wikipedia.org/wiki/&#1057;&#1086;&#1102;&#1079;-26" TargetMode="External"/><Relationship Id="rId8" Type="http://schemas.openxmlformats.org/officeDocument/2006/relationships/hyperlink" Target="http://ru.wikipedia.org/wiki/1979" TargetMode="External"/><Relationship Id="rId9" Type="http://schemas.openxmlformats.org/officeDocument/2006/relationships/hyperlink" Target="http://ru.wikipedia.org/wiki/&#1050;&#1086;&#1087;&#1077;&#1081;&#1082;&#1072;" TargetMode="External"/><Relationship Id="rId10" Type="http://schemas.openxmlformats.org/officeDocument/2006/relationships/hyperlink" Target="http://ru.wikipedia.org/wiki/&#1062;&#1060;&#1040;_(&#1082;&#1072;&#1090;&#1072;&#1083;&#1086;&#1075;)" TargetMode="External"/><Relationship Id="rId11" Type="http://schemas.openxmlformats.org/officeDocument/2006/relationships/hyperlink" Target="http://ru.wikipedia.org/wiki/&#1057;&#1082;&#1086;&#1090;&#1090;_(&#1082;&#1072;&#1090;&#1072;&#1083;&#1086;&#1075;)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ru.wikipedia.org/wiki/&#1055;&#1086;&#1095;&#1090;&#1086;&#1074;&#1072;&#1103;_&#1084;&#1072;&#1088;&#1082;&#1072;" TargetMode="External"/><Relationship Id="rId14" Type="http://schemas.openxmlformats.org/officeDocument/2006/relationships/hyperlink" Target="http://ru.wikipedia.org/wiki/&#1057;&#1057;&#1057;&#1056;" TargetMode="External"/><Relationship Id="rId15" Type="http://schemas.openxmlformats.org/officeDocument/2006/relationships/hyperlink" Target="http://ru.wikipedia.org/wiki/&#1050;&#1080;&#1079;&#1080;&#1084;,_&#1051;&#1077;&#1086;&#1085;&#1080;&#1076;_&#1044;&#1077;&#1085;&#1080;&#1089;&#1086;&#1074;&#1080;&#1095;" TargetMode="External"/><Relationship Id="rId16" Type="http://schemas.openxmlformats.org/officeDocument/2006/relationships/hyperlink" Target="http://ru.wikipedia.org/wiki/&#1057;&#1090;&#1088;&#1077;&#1082;&#1072;&#1083;&#1086;&#1074;,_&#1043;&#1077;&#1085;&#1085;&#1072;&#1076;&#1080;&#1081;_&#1052;&#1080;&#1093;&#1072;&#1081;&#1083;&#1086;&#1074;&#1080;&#1095;" TargetMode="External"/><Relationship Id="rId17" Type="http://schemas.openxmlformats.org/officeDocument/2006/relationships/hyperlink" Target="http://ru.wikipedia.org/w/index.php?title=&#1057;&#1086;&#1102;&#1079;-&#1058;-3&amp;action=edit&amp;redlink=1" TargetMode="Externa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490760" y="3279600"/>
          <a:ext cx="6162480" cy="298800"/>
        </p:xfrm>
        <a:graphic>
          <a:graphicData uri="http://schemas.openxmlformats.org/drawingml/2006/table">
            <a:tbl>
              <a:tblPr/>
              <a:tblGrid>
                <a:gridCol w="57600"/>
                <a:gridCol w="1129320"/>
                <a:gridCol w="4860720"/>
                <a:gridCol w="57600"/>
                <a:gridCol w="57600"/>
              </a:tblGrid>
              <a:tr h="43200">
                <a:tc gridSpan="5"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жды Герой Советского Союза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ётчик-космонавт СССР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дидат технических нау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женер-механи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-испытатель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о-производственн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ия "Энергия"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цент кафедры аэрофизическо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ки факультета астрофизики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космических исследовани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овского Физико-техническ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итута</a:t>
                      </a:r>
                      <a:br>
                        <a:rPr sz="100"/>
                      </a:b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Мира № 65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СССР № 27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3" descr="http://space-memorial.narod.ru/img/energy.jpg"/>
          <p:cNvPicPr/>
          <p:nvPr/>
        </p:nvPicPr>
        <p:blipFill>
          <a:blip r:embed="rId1"/>
          <a:stretch/>
        </p:blipFill>
        <p:spPr>
          <a:xfrm>
            <a:off x="285840" y="1714680"/>
            <a:ext cx="2147760" cy="321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2214720" y="1643040"/>
            <a:ext cx="435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143080" y="64296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286680" y="1785960"/>
            <a:ext cx="2631960" cy="30002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071720" y="521496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571680" y="525960"/>
            <a:ext cx="792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2928960" cy="40705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85840" y="4714920"/>
            <a:ext cx="300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В. А. Джанибек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космическом комплекс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оюз-2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алют-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Союз-2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197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4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копей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ЦФ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972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Скот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7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2"/>
          <a:stretch/>
        </p:blipFill>
        <p:spPr>
          <a:xfrm>
            <a:off x="3857760" y="1214280"/>
            <a:ext cx="4929120" cy="35974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4429080" y="4929120"/>
            <a:ext cx="435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Л. Д. Кизим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Г. М. Стрекал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транспортном корабл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Союз-Т-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(1981, 10 копеек, ЦФА №  5169, Скотт №  49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571760" y="21420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2356920" y="24289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714840" y="357192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875320" y="28576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000160" y="1357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28800" y="122400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928800" y="350640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857160" y="6429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928800" y="471492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642960" y="4287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28760" y="593280"/>
            <a:ext cx="571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323040" y="1214280"/>
            <a:ext cx="2463840" cy="32864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Экипаж корабля &quot;Союз-12&quot;. Связка Василий Лазарев - Олег Макаров будет неизменна в течении почти десяти лет."/>
          <p:cNvPicPr/>
          <p:nvPr/>
        </p:nvPicPr>
        <p:blipFill>
          <a:blip r:embed="rId1"/>
          <a:stretch/>
        </p:blipFill>
        <p:spPr>
          <a:xfrm>
            <a:off x="5500800" y="928800"/>
            <a:ext cx="3287520" cy="4008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57120" y="531720"/>
            <a:ext cx="4857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6072120" y="57862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5929200" y="521496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зывной: «Урал-2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1 сутки 23 часа 15 минут 32 секу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928960" cy="4495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14200" y="142920"/>
            <a:ext cx="55720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30640" y="500040"/>
            <a:ext cx="3756240" cy="4143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5072040" y="4286160"/>
            <a:ext cx="378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ывной: «Памир-2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5 суток 22 часа 58 минут 58 секун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57120" y="314280"/>
            <a:ext cx="4214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500040" y="35719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14720" y="428760"/>
            <a:ext cx="519084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642960" y="550080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215040" y="928800"/>
            <a:ext cx="2324160" cy="33192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285840" y="642960"/>
            <a:ext cx="5643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572160" y="4429080"/>
            <a:ext cx="61776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653760" cy="12128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25:55Z</dcterms:created>
  <dc:creator>Дима</dc:creator>
  <dc:description/>
  <dc:language>en-US</dc:language>
  <cp:lastModifiedBy>LEGION</cp:lastModifiedBy>
  <dcterms:modified xsi:type="dcterms:W3CDTF">2015-01-12T14:17:38Z</dcterms:modified>
  <cp:revision>35</cp:revision>
  <dc:subject/>
  <dc:title>Слайд 1</dc:title>
</cp:coreProperties>
</file>