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8C6A-36DE-4107-B18D-1741AF91D71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ория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6F62-4D4F-4463-BF1D-F41C703D340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Столкновение нашей Галак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00 000 километров в ч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9F76-EDBF-4501-8279-07177C0B29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Что было до Большого взрыв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нгулярностью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24C8-66D3-494D-B8A5-00F90587B5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Загадки теории Большого взры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5057-D512-471E-8CAD-D08AB76ACD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Теория Большого Взрыв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ширяющуюся Вселенную и существование космического фонового изл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FC18-BE9E-41F8-AED8-DA8289F9CC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D6A6-F72E-4CBD-9DB7-6648249C5D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Начало звездообразов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0A12-406B-4D85-A736-D6700B21DF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Первые галак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65B2-7EF0-4567-B827-F1FBA6E3E0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Туманность Песочных часов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0DAA-F446-4480-8646-0EEBEB1B9D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Calibri"/>
              </a:rPr>
              <a:t>Туманность Краб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7BD7-8FB9-4308-9667-CC2AD98946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f81bd"/>
                </a:solidFill>
                <a:uFillTx/>
                <a:latin typeface="Calibri"/>
              </a:rPr>
              <a:t>Млечный Пут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0FB2-794A-4ED5-A695-2F9ECE4129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ом снимке показана спиральная галактика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2D75-0CE4-4EB0-BDF4-E65386497B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E9A-1200-457B-808A-C97C0EB9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FD1-02FC-47FD-A821-45B48DDA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2E7-1B37-4C0E-BF2D-9C5189C3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7CC5-2C0E-4B2B-8D51-908F95A4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2BCF-02D4-4D91-AD06-9678B532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3795F-00AC-4E8B-B5BC-0BB72C7EA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66CB-3EC5-4604-A0C0-466796A5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3F48-47B9-47B2-86ED-8611A75D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3C0A-6934-4CCB-A5B7-13F94D78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BD13-3989-4CAA-BF2D-1777668B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FE01-1332-495F-8B7A-E23A53A2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8E0-8B73-45A5-9570-9135C9D3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6594-ED1A-4EBD-8882-D1C70C89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AD8D-BE09-4098-AF53-E5E94FEC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3A02-71C5-45F9-B0E0-3C89EC65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4B0E-A3E6-4618-BCC9-0A7C20BF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228D-EB17-4787-888B-945D5378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FB8-D175-44D5-9AF4-31732F7B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C42-5663-4F43-9878-BBF60FBD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079-37FA-451A-BF21-A59EACAE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D24-DD62-4F21-9B62-819B4836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405-99D2-48E1-B010-18EF1234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112-B26C-4200-9C92-417AA813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AE78-F5D4-4CF1-9902-C7497E24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E3DB-E644-42EE-85DF-5331C7F5A41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CF18-6090-4375-BC9C-0A55A2AF95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LEGION</cp:lastModifiedBy>
  <dcterms:modified xsi:type="dcterms:W3CDTF">2015-01-12T14:19:59Z</dcterms:modified>
  <cp:revision>9</cp:revision>
  <dc:subject/>
  <dc:title>Слайд 1</dc:title>
</cp:coreProperties>
</file>