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wind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C5D9-AF30-4D66-84B0-8673742F93B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ПРОИСХОЖДЕНИЕ   ПЛА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0B83-B7EB-4F8A-A711-575AD8092FF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образуются зародыши, их круговые или почти круговые орбиты не пересека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580B-96F4-4F87-A0A1-A16691E4319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витационное взаимодействие зародышей между собой и с гигантской планетой возмущает орб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EF06-5B00-4D8B-BFA8-9340BFD8265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одыши объединяются в планету типа Земли. Она возвращается на круговую орбиту, перемешивая оставшийся газ и разбрасывая сохранившиеся планетезим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F15E-481B-4AF6-8D18-412AA34A8F3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х пор происхождение планет остается не изученным до конца. Постоянно появляются новые теории, которые имеют доказательства и требуют вним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063C-20A4-4216-B5C0-94030BCF601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планет, издавна считавшееся спокойны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тационарным процессом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йствительност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лось весьма хаотическ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556D-C60E-41DC-815E-C1489963018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сштабах космоса планеты — всего лишь песчинки, играющие незначительную роль в грандиозной картине развития природных процессов. Однако это наиболее разнообразные и сложные объекты Вселенной. Ни у одного из других типов небесных тел не наблюдается подобного взаимодействия астрономических, геологических, химических и биологических процессов. Ни в одном из иных мест в космосе не может зародиться жизнь в том виде, как мы ее знаем. Только в течение последнего десятилетия астрономы обнаружили более 200 пла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8AF5-DCFA-4BB8-BE95-0E11AF377F9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азительное разнообразие масс, размеров, состава и орбит заставило многих задуматься об их происхождении. В 1970-е г.г. формирование планет считалось упорядоченным, детерминированным процессом — конвейером, на котором аморфные газово-пылевые диски превращаются в копии Солнечной системы. Но теперь нам известн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это хаотичный процесс, предполагающий различный результат для каждой системы. Родившиеся планеты выжили в хаосе конкурирующих механизмов формирования и разрушения. Многие объекты погибли, сгорев в огне своей звезды, или были выброшены в межзвездное пространство. У нашей Земли могли быть давно потерянные близнецы, странствующие ныне в темном и холодном космо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01C2-BF3F-4A56-B4A6-0A2A7F5323D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 о формировании планет лежит на стыке астрофизики, планетологии, статистической механики и нелинейной динамики. В целом планетологи развивают два основных направления. Согласно теории последовательной аккреции, крошечные частицы пыли слипаются, образуя крупные глыб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такая глыба притянет к себе много газа, она превращается в газовый гигант, как Юпитер, а если нет — в каменистую планету типа Зем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едостатки данной теории — медлительность процесса и возможность рассеяния газа до формирования план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BD30-FD24-4350-9687-7F2975ADF85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ругом сценарии (теория гравитационной неустойчивости) утверждается, что газовые гиганты формируются путем внезапного коллапса, приводящего к разрушению первичного газово-пылевого облака. Данный процесс в миниатюре копирует формирование звезд. Но гипотеза эта весьма спорная, т.к. предполагает наличие сильной неустойчивости, которая может и не наступ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5D97-3D71-4FBA-8FC2-775B69E3410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ждение естественных спутников пла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бразовании планет, в процессе сближения частиц с крупными зародышами планет, некоторые из частиц, сталкиваясь, настолько теряли скорость, что выпадали из общего роя и начинали обращаться вокруг планеты. Таким образом, около планетного зародыша образуется сгущение - рой частиц, обращающихся около него по эллиптическим орбитам. Эти частицы также сталкиваются, изменяют свои орбиты. В уменьшенном масштабе в этих роях будут происходить те же процессы, что и при образовании планет. Большинство частиц упадет на планету (присоединится к ней), часть же их будет образовывать околопланетный рой и объединяться в самостоятельные зародыши - будущие спутники планет… При осреднении орбит частиц, образующих спутник, последний приобретает симметричную, т.е. близкую к круговой, орбиту, лежащую в плоскости экватора план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CDE8-CE17-46B2-813A-FF9E7CB1873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е лет десять назад ученые, изучающие формирование планет, основывали свои теории на единственном примере — нашей Солнечной системе. Но теперь обнаружены десятки рождающихся и десятки уже сформировавшихся планетных систем, причем среди них нет двух одинаков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идея ведущих теорий формирования планет такова: мелкие пылинки слипаются и захватывают газ. Но эти процессы сложны и запутанны. Борьба конкурирующих механизмов может привести к совершенно различным результат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0A07-5ABF-4AA1-B77D-2329B4E7850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ЪЯСНЕНИЕ НЕКРУГОВОГО ДВИЖЕНИЯ  ПЛАНЕТ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нутренней области Солнечной системы зародыши планет не могут раст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хватывая газ, поэтому они должны сливаться друг с другом. Для этого их орбиты должны пересекаться, а значит, что-то должно нарушить их первоначально круговое дви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543D-780C-466E-814A-2F46D486DFE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2BA1-5A38-4A10-9792-75772A0E4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F2AA-F9EA-4238-B9CB-6311D7E8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A426-823E-46D2-8781-AC7AE0DE9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4C1D-DC58-463C-9536-BB8EA641E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2FA0-C688-4583-99A0-8FBB945EB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1964-BAE5-4349-BEE0-AA637A5A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A92E-25B8-49C8-A4B6-06026C14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BCF49-BBA9-4963-864D-2D7524A9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BADD-D4FE-47B9-A4B8-B3D45513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075CF-E459-4C98-8F3D-0BF0AAFB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6731-19C4-459E-8851-8AA96337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D8B4-A38A-4994-B45F-33A7AE76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C9944-BF7E-4682-8643-AA274DD0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510F-4D6B-42A6-8DC0-7AE88FAA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116D7-DB93-4A99-87EF-05134FD3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1D02B-562F-47E8-B81E-2324FB705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9C30-052F-47CD-A9B9-3EDE13267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D9D1-CB50-4C6A-BFFA-B9531097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2DDF-2580-4BB2-B907-F8BC4260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6D22-84F3-4452-8DCF-1DC95FAA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116F-168D-4BC5-A36F-CBF718EF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934E-40B5-44A2-BD65-D2D2E170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484B-D07F-4E43-B79A-7776D078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5916-8D8C-4687-BDC1-6E300E12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4065-20D4-4BFA-8F0C-281F7AA95F2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03FF-C94A-45BD-8020-D87BC8F90A8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142920" y="142920"/>
            <a:ext cx="8786880" cy="23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ИСХОЖДЕНИЕ   ПЛАНЕТ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6" name="Picture 6" descr="1190318403_antigravitation"/>
          <p:cNvPicPr/>
          <p:nvPr/>
        </p:nvPicPr>
        <p:blipFill>
          <a:blip r:embed="rId1"/>
          <a:stretch/>
        </p:blipFill>
        <p:spPr>
          <a:xfrm>
            <a:off x="4714920" y="2714760"/>
            <a:ext cx="2722680" cy="358920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"/>
    <p:sndAc>
      <p:stSnd>
        <p:snd r:embed="rId2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remov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remov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" dur="250" autoRev="1" fill="remov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113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Когда образуются зародыши, их круговые или почти круговые орбиты не пересекаются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2" name="Picture 8" descr="astronomy6"/>
          <p:cNvPicPr/>
          <p:nvPr/>
        </p:nvPicPr>
        <p:blipFill>
          <a:blip r:embed="rId1"/>
          <a:stretch/>
        </p:blipFill>
        <p:spPr>
          <a:xfrm>
            <a:off x="1187280" y="2565360"/>
            <a:ext cx="7062840" cy="33512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127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Гравитационное взаимодействие зародышей между собой и с гигантской планетой возмущает орбиты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5" name="Picture 6" descr="1"/>
          <p:cNvPicPr/>
          <p:nvPr/>
        </p:nvPicPr>
        <p:blipFill>
          <a:blip r:embed="rId1"/>
          <a:stretch/>
        </p:blipFill>
        <p:spPr>
          <a:xfrm>
            <a:off x="1258920" y="2781360"/>
            <a:ext cx="6810480" cy="328932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42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Зародыши объединяются в планету типа Земли. Она возвращается на круговую орбиту, перемешивая оставшийся газ и разбрасывая сохранившиеся планетезимал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8" name="Picture 6" descr="2"/>
          <p:cNvPicPr/>
          <p:nvPr/>
        </p:nvPicPr>
        <p:blipFill>
          <a:blip r:embed="rId1"/>
          <a:stretch/>
        </p:blipFill>
        <p:spPr>
          <a:xfrm>
            <a:off x="1116000" y="2637000"/>
            <a:ext cx="6810480" cy="326052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250" autoRev="1" fill="hold"/>
                                        <p:tgtEl>
                                          <p:spTgt spid="1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1260360" y="0"/>
            <a:ext cx="990432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       </a:t>
            </a: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Заключение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116000" y="1844280"/>
            <a:ext cx="7740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х пор происхождение планет остается не изученным до конца. Постоянно появляются новые теории, которые имеют доказательства и требуют вним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" dur="250" autoRev="1" fill="remove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86" dur="250" autoRev="1" fill="remove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87" dur="250" autoRev="1" fill="remove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5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5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92888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Формирование планет, издавна считавшееся спокойным 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и стационарным процессом, 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в действительности 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оказалось весьма хаотическим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0" descr="p192111_big"/>
          <p:cNvPicPr/>
          <p:nvPr/>
        </p:nvPicPr>
        <p:blipFill>
          <a:blip r:embed="rId1"/>
          <a:stretch/>
        </p:blipFill>
        <p:spPr>
          <a:xfrm>
            <a:off x="2124000" y="2924280"/>
            <a:ext cx="5112000" cy="35668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1"/>
          <p:cNvSpPr/>
          <p:nvPr/>
        </p:nvSpPr>
        <p:spPr>
          <a:xfrm>
            <a:off x="640080" y="6491160"/>
            <a:ext cx="85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Юная планета-гигант захватывает газ из диска вокруг новорожденной звез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масштабах космоса планеты — всего лишь песчинки, играющие незначительную роль в грандиозной картине развития природных процессов. Однако это наиболее разнообразные и сложные объекты Вселенной. Ни у одного из других типов небесных тел не наблюдается подобного взаимодействия астрономических, геологических, химических и биологических процессов. Ни в одном из иных мест в космосе не может зародиться жизнь в том виде, как мы ее знаем. Только в течение последнего десятилетия астрономы обнаружили более 200 план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250" autoRev="1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5724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разительное разнообразие масс, размеров, состава и орбит заставило многих задуматься об их происхождении. В 1970-е г.г. формирование планет считалось упорядоченным, детерминированным процессом — конвейером, на котором аморфные газово-пылевые диски превращаются в копии Солнечной системы. Но теперь нам известн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это хаотичный процесс, предполагающий различный результат для каждой системы. Родившиеся планеты выжили в хаосе конкурирующих механизмов формирования и разрушения. Многие объекты погибли, сгорев в огне своей звезды, или были выброшены в межзвездное пространство. У нашей Земли могли быть давно потерянные близнецы, странствующие ныне в темном и холодном космос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6" descr="1190318403_antigravitation"/>
          <p:cNvPicPr/>
          <p:nvPr/>
        </p:nvPicPr>
        <p:blipFill>
          <a:blip r:embed="rId1"/>
          <a:stretch/>
        </p:blipFill>
        <p:spPr>
          <a:xfrm>
            <a:off x="5778360" y="1268280"/>
            <a:ext cx="3365640" cy="443736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250" autoRev="1" fill="remove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46" dur="250" autoRev="1" fill="remove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7" dur="250" autoRev="1" fill="remove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7" descr="image_large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214200" y="356760"/>
            <a:ext cx="71438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ука о формировании планет лежит на стыке астрофизики, планетологии, статистической механики и нелинейной динамики. В целом планетологи развивают два основных направления. Согласно теории последовательной аккреции, крошечные частицы пыли слипаются, образуя крупные глыб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такая глыба притянет к себе много газа, она превращается в газовый гигант, как Юпитер, а если нет — в каменистую планету типа Земл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новные недостатки данной теории — медлительность процесса и возможность рассеяния газа до формирования плане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899640" y="836280"/>
            <a:ext cx="694548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ругом сценарии (теория гравитационной неустойчивости) утверждается, что газовые гиганты формируются путем внезапного коллапса, приводящего к разрушению первичного газово-пылевого облака. Данный процесс в миниатюре копирует формирование звезд. Но гипотеза эта весьма спорная, т.к. предполагает наличие сильной неустойчивости, которая может и не наступи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Происхождение естественных спутников планет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образовании планет, в процессе сближения частиц с крупными зародышами планет, некоторые из частиц, сталкиваясь, настолько теряли скорость, что выпадали из общего роя и начинали обращаться вокруг планеты. Таким образом, около планетного зародыша образуется сгущение - рой частиц, обращающихся около него по эллиптическим орбитам. Эти частицы также сталкиваются, изменяют свои орбиты. В уменьшенном масштабе в этих роях будут происходить те же процессы, что и при образовании планет. Большинство частиц упадет на планету (присоединится к ней), часть же их будет образовывать околопланетный рой и объединяться в самостоятельные зародыши - будущие спутники планет… При осреднении орбит частиц, образующих спутник, последний приобретает симметричную, т.е. близкую к круговой, орбиту, лежащую в плоскости экватора плане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ОСНОВНЫЕ ПОЛОЖ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ще лет десять назад ученые, изучающие формирование планет, основывали свои теории на единственном примере — нашей Солнечной системе. Но теперь обнаружены десятки рождающихся и десятки уже сформировавшихся планетных систем, причем среди них нет двух одинаков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ая идея ведущих теорий формирования планет такова: мелкие пылинки слипаются и захватывают газ. Но эти процессы сложны и запутанны. Борьба конкурирующих механизмов может привести к совершенно различным результат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ОБЪЯСНЕНИЕ НЕКРУГОВОГО ДВИЖЕНИЯ  ПЛАНЕТ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2421000"/>
            <a:ext cx="91440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 внутренней области Солнечной системы зародыши планет не могут раст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хватывая газ, поэтому они должны сливаться друг с другом. Для этого их орбиты должны пересекаться, а значит, что-то должно нарушить их первоначально круговое движ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6:59:41Z</dcterms:created>
  <dc:creator>П.А.С.</dc:creator>
  <dc:description/>
  <dc:language>en-US</dc:language>
  <cp:lastModifiedBy>LEGION</cp:lastModifiedBy>
  <dcterms:modified xsi:type="dcterms:W3CDTF">2015-01-12T14:25:10Z</dcterms:modified>
  <cp:revision>13</cp:revision>
  <dc:subject/>
  <dc:title>Слайд 1</dc:title>
</cp:coreProperties>
</file>