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3D49-E378-4E28-9F37-D75C9AA439A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Заместитель главного врача по организационно – методической работе ГЛПУ ТО ООД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.А. Гайси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94C4-EE26-473F-B49F-27C4FB331D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Функции Кабин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тивная помощь по ведению онкологических больных на дому участковым врачом-терапевтом или врачом общей практики (семейным врачом), контроль за проведением симптоматического лечения онкологических боль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исывание наркотических средств списка II и  III   Перечня наркотических средств, психотропных веществ и их прекурс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4069-A590-47C6-802D-D52E8EDEDE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динамического наблюдения за больными, получающими лекарственную противоопухолевую терапию в соответствии с рекомендациями врача-онколога, проводимую специализированным онкологическим учреждени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и оценка лабораторных показателей с целью предупреждения развития токсических реакций, своевременное направление больного в специализированное онкологическое учрежд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е больных для паллиативного и симптоматического лечения в соответствующие отделения онкологических диспансеров (онкологических больниц), хоспи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ичин отказов от госпита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 онкологических больных; проживающих на прикрепленной к Кабинету территор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воевременности направления в онкологические диспансеры сведений о впервые выявленных случаях злокачественных новообразов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AAC0-3A7F-4358-B037-0507DB9E80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тивная и методическая помощь специалистам медицинских учреждений по вопросам проведения профилактических осмотров, диспансеризации больных с предопухолевыми и хроническими заболевания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-гигиеническое просвещение насе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 разбор с участковыми врачами-терапевтами, врачами общей практики (семейный врач), а также врачами-специалистами диагностических ошибок и причин запущенности онкологических заболев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полноты и эффективности профилактических осмот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оформления амбулаторно-поликлиническими учреждениями установленных форм медицинской документации при обследовании и лечении онкологических боль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е учетной и отчетной документации, предоставление отчетов о деятельности в установленном порядке, сбор данных для регистров, ведение которых предусмотрено законодатель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функции в соответствии с законодательством Российской Федерации, нормативными правовыми актами субъектов Российской Федерации, муниципальных образ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F99D-32F7-44D7-92DA-6943DD267A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структуре Кабинете рекомендуется предусматри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 для приема боль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 для выполнения лечебных процедур, входящих в функции кабине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 для хранения медицинской докумен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бинет оснащается оборудованием в соответствии со стандартом оснащения (приложение №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3B06-A6C3-4063-8C89-C3011E67BD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уемые штатные нормативы медицинского 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ого персонала первичного онкологического отделения (кабинета), отделения городской и центральной районной поликлиники, отделений онкологического диспансера (онкологической больницы), отделения паллиативной помощи онкологическим боль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6D4D-8A1D-48EF-BDC2-A5AE411244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дарт оснащ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х организаций, оказывающих медицинскую помощь онкологическим больным, а также соответствующих организаций, находящихся в ведении субъекта Российской Фед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1385-5B05-4A4B-A7E7-FC1D1D81AC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б организации деятельности хосписа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ри оказании помощи онкологическим больны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оящее Положение регулирует организацию деятельности хосписа по оказанию медицинской, социальной, психологической помощи больным с распространенными формами онкологически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спис является учреждением здравоохранения, предназначенным для оказания медицинской, социальной, психологической, юридической помощи преимущественно инкурабельным онкологическим больным по рекомендации врача-онколога с целью обеспечения необходимой обезболивающей терапии, оказания медико-социальной помощи, ухода, психо-социальной реабилитации, а также психологической и социальной поддержки родствен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F369-7966-4E73-BFC6-51F6135BB2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B15C-CD96-48B0-ADE2-06B753925D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ЗДРАВООХРАНЕНИЯ И СОЦИАЛЬН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ТВЕРЖДА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министр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 и социальн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Российской Федера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И. Скворц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Ы ВЫЯВЛЕНИЯ ОНКОЛОГИЧЕСКИХ ЗАБОЛЕВАНИЙ В РАБОТЕ ВРАЧА ОБЩЕЙ ПРАК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для организаторов здравоохранения, врачей общей практики, профильных специалистов, врачей-онк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BEF2-B3C8-49D8-9B11-79E6D9EF16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бликовано 21 декабря 2009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ает в силу: 1 января 201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регистрирован в Минюсте РФ 15 декабря 200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гистрационный N 156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о статьей 37.1 Основ законодательства Российской Федерации об охране здоровья граждан от 22 июля 1993 г. N 5487-1 (Ведомости Съезда народных депутатов Российской Федерации и Верховного Совета Российской Федерации, 1993, N 33, ст. 1318; Собрание законодательства Российской Федерации, 2007, N 1, ст. 21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ыва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д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 согласно прилож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нистр Т. Голи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F62E-32EC-4D20-AE88-1CC08EF78C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соответствии с приказом Министерства здравоохранения и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, с целью своевременного обеспечения подачи све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риказываю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 Главным врачам ЛПУ юга Тюменской област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1.  Сосредоточить все виды онкологической помощи и диспансерного наблюдения пациентов  на уровне плановой первичной медико-санитарной помощи, в кабинетах первичного онкологического прием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2.  Обеспечить непрерывную работу кабинета первичного онкологического приема, укомплектовать кадрами в том числе за счет возможного совмещения ставок,в соответствии с приказом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3.  Укомплектовать кабинеты первичного онкологического приема в соответствии с табелем оснащения по приказу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4.  Обеспечить регистрацию пациентов, с нарастающим итогом с 01.01.2010 года, впервые обратившихся в кабинет первичного онкологического приема, а так же пациентов, направленных в онкологический диспансер (по локализациям), для чего ввести соответствующие журналы (Приложение №1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5.  На основании документации первичного онкологического кабинета информация по мониторингу(Приложение №2) предоставляется в срок до 28 числа отчетного месяца: по электронной почте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tymen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-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onko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@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mail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E4D2-A134-4920-997D-E05C02A081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лавному врачу ГЛПУ ТО «Областной онкологический диспансер»   (А.Г.Синяков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Обеспечить свод и анализ информации в соответствии с приказом Министерства здравоохранения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Проводить в ежемесячном режиме курацию районных ЛПУ и поликлиник г.Тюмени по методике мониторирования и оказывать консультативную помощь по необход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Подготовленную информацию предоставлять на электронном и бумажном носителе в департамент здравоохранения Тюменской области сроком до 3 числа очередного меся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 ГЛПУ ТО «Областной онкологический диспансер» в срок до 15.02.2010г обеспечить все ЛПУ юга Тюменской области и поликлиник г.Тюмени экземпляром журнала регистрации и инструкции по его заполн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F702-B1A1-4665-9046-6BD63C29CA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Учитывать результаты работы по мониторингу, направленного на совершенствование организации онкологической помощи населению, при определении размера премирования главных врачей областных ЛПУ, поликлиник г.Тюмени, главного врача ГЛПУ ТО «Областной онкологический диспансер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Рекомендовать руководителям органов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. Начальнику управления по здравоохранению администрации г.Тюмени (Ярцеву С.Е.) и советнику главы администрации г.Тобольска (Репетиеву В.И.), обеспечить исполнение данного приказа в муниципальных учреждениях г.Тюмени и г.Тоболь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 Производить свод информации по поликлиникам г.Тюмени и предоставлять в ГЛПУ ТО «Областной онкологический диспансер» общую информацию сроком до 28 числа отчетного месяца. : по электронной почте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tymen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onko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@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mail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Контроль за исполнением приказа возложить на  первого заместителя директора департамента Н.С.Брын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ор департамента                                                  А.Ю.Кудря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F246-E2BB-43E1-837B-51F3E2445B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AB75-49DA-4B28-8573-02BE33127C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оящий Порядок регулирует вопросы оказания медицинской помощи населению при онкологических заболеваниях в государственных и муниципальных учреждениях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ным с онкологическими заболеваниями медицинская помощь оказыв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плановой первичной медико-санитарной помощи - терапевтическая, хирургическая и онкологическая помощ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плановой специализированной, в том числе высокотехнологичной медицинской помощи - специализированная онкологическая помощ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лановой помощи больным с онкологическими заболеваниями в рамках первичной медико-санитарной помощи организуется в амбулаторно-поликлинических и больничных учреждениях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лановой специализированной, в том числе высокотехнологичной медицинской помощи больным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A412-C938-4FEF-AE59-BCEF24C484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вая онкологическая помощь в рамках первичной медико-санитарной помощи в амбулаторно-поликлинических учреждениях оказывается на основе взаимодействия врачей первичного звена здравоохранения: участковых врачей-терапевтов, врачей общей практики (семейных врачей), врачей-хирургов и врачей-онкол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ие работники фельдшерско-акушерских пунктов оказывают медицинскую помощь больным с онкологическими заболеваниями в соответствии с рекомендациями врачей-онкологов и врачей-специали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       В амбулаторно-поликлинических учреждениях участковые врачи-терапевты, врачи общей практики (семейные врачи), врачи-хирурги во взаимодействии с врачами-специалистами выявляют риск развития онкологически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2.       При подозрении или выявлении опухолевого заболевания пациента направляют в первичный онкологический кабинет (отделение), после чего врач-специалист первичного онкологического кабинета направляет пациента в онкологический диспансер, онкологическую больницу для уточнения диагноза и определения последующей тактики ведения паци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3.       В случае подозрения и/или выявления у пациента злокачественного новообразования врач-специалист первичного онкологического кабинета уведомляет организационно-методический отдел онкологического диспансера для постановки больного на учет (с его добровольного информированного соглас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4.        В случае подтверждения в онкологическом диспансере у пациента факта наличия онкологического заболевания, информация о диагнозе пациента (с его добровольного информированного согласия) направляется из организационно-методического отдела онкологического диспансера в первичный онкологический кабинет, из которого был направлен пациент для последующего диспансерного наблю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33D3-78F4-4A3B-8131-ADDE09B6D7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 амбулаторно-поликлинических учреждениях онкологическая помощь больным с онкологическими заболеваниями оказывается врачами-онкологами в первичном онкологическом кабинете (отделении, дневном стационаре), осуществляющим свою деятельность в соответствии с Положениями об организации деятельности первичного онкологического кабинета поликлиники, первичного онкологического отделения (приложения N 1 и 2 к Порядку оказания медицинской помощи населению при онкологических заболеваниях, утвержденному настоящим приказом)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лановое стационарное обследование и лечение больных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1. Специализированная, в том числе высокотехнологичная медицинская помощь больным с онкологическими заболеваниями оказывается в федеральных организациях, оказывающих медицинскую помощь, а также в онкологическом диспансере, онкологической больнице, осуществляющих свою деятельность в соответствии с Положением об организации деятельности онкологического диспансера (онкологической больницы) (приложение N 4 к Порядку оказания медицинской помощи населению при онкологических заболеваниях, утвержденному настоящим приказом) и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6714-0B9C-4268-909E-452C873B80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2. Оснащение онкологического диспансера, онкологической больницы осуществляется в зависимости от профиля структурного подразделения в соответствии со стандартами оснащения (приложение N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3.   При выявлении у больного в онкологическом диспансере медицинских показаний к высокотехнологичным методам лечения помощь оказывается ему в соответствии с установленным порядком оказания высокотехнологичной медицинск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4. Больные злокачественными новообразованиями подлежат пожизненному диспансерному наблюдению в онкологическом диспансере. Если течение заболевания не требует изменения тактики ведения пациента, диспансерные осмотры после проведенного лечения осущест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первого года один раз в три меся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второго года - один раз в шесть месяцев, в дальнейшем - один раз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4A17-6B34-4D7D-A538-2F89A807C5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    В организации онкологической помощи больным сочетаются лечебные методы (хирургический, радиотерапевтический и лекарственный) и паллиативные мероприятия в отделениях (хосписе), осуществляющих свою деятельность в соответствии с положениями об организации деятельности структурных подразделений федеральных организаций, оказывающих медицинскую помощь онкологическим больным, а также в соответствующих организациях, находящихся в ведении субъекта Российской Федерации (приложения N 4 и 6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   Скорая медицинская помощь больным злокачественными новообразованиями оказывается станциями (подстанциями) скорой медицинской помощи и отделениями скорой медицинской помощи при районных и центральных районных больниц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скорой медицинской помощи больным злокачественными новообразованиями осуществляют специализированные реаниматологические, врачебные и фельдшерские выездные бригады, штатный состав которых определен приказом Мин-здравсоцразвития России от 1 ноября 2004 г. N 179 "Об утверждении порядка оказания скорой медицинской помощи" (зарегистрирован Минюстом России 23 ноября 2004 г., регистрационный N 6136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озрении и/или выявлении у больных злокачественного новообразования в ходе оказания им скорой медицинской помощи, таких больных переводят или направляют в онкологические диспансеры (онкологические больницы) для определения тактики ведения и необходимости применения дополнительно других методов специализированного противоопухолевого л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В случае если проведение медицинских манипуляций, связанных с оказанием помощи онкологическим больным, может повлечь возникновение болевых ощущений у пациента, такие манипуляции должны проводиться с обезболив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58F9-8B84-47B1-8CAA-CBE7792C9A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стоящее Положение определяет организацию деятельности первичного онкологического кабинета городской и центральной районной поликли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ервичный онкологический кабинет (далее - Кабинет) создается в городской и центральной районной поликлинике при обслуживании контингента онкологических больных до 500 человек для обеспечения консультативной, диагностической помощью больным с онкологическими и предопухолевыми заболеваниями, своевременного направления больных в онкологическое учреждение для определения тактики ведения, диспансерного наблюдения онкологических больных, мониторинга за состоянием здоровья пациентов групп риска.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18FF-1EEC-4EB6-A0A0-5A34FDDCD3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15A6-370F-4CC1-99EA-0852724CD2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B946-D467-420A-847D-991CE3F5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4489-FBE6-4B76-A5BB-8A842A56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3E5524-10EC-42D1-BBE2-A8C6F9A1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4C6D39-F5FB-42A1-B7D8-71D9E4D1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C493D7-D9E8-48D9-9B7B-29681027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01AD9D-7F3A-4CA7-B60C-6A59FA96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2C16B9-EB6B-464B-8D3C-5A6B4849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EC8B49-D248-4F0B-AE42-6B1783A0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07C727-EFB4-4ECF-8FF4-6677CBBA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4C1CC8-F9CB-4258-8151-A9F31B1E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9806B-E8B9-4F26-B9EA-4ECB9EDE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168CC9-591A-4D06-A971-DB625BF7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7AC6-95D9-45B6-8DCD-F5B24D09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6DFD74-E27C-496A-9F9D-D85E2B8D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C6C939-68C3-4DDA-916C-250BC00E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DDCC49-D105-4845-B945-85DFC7C6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073D23-4BCA-4AE6-A700-5A34D651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B72FFF-933E-4D29-8599-DF6CCF44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B9B623-79E6-4AE4-B784-E180C482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0E18EC-EAFE-44D2-A5E0-78A9D4A4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EE01BD-C33D-4918-8E64-4268E6DF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7C926F-097A-4F0C-AADD-37A378A7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B04FCB-42A9-4629-A1CB-AEF39951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79C6-3E93-43BB-8FD2-2063A148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705048-895A-4683-8657-336CD602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A748E-0BA7-41E6-A2BE-CD9F80CE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3ECA2-4ECA-45A3-B3A2-4B3D85B4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F6B11-19BE-4DDE-920D-F1FB9435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25DF6-06C1-4FD4-90EA-3C0ACB29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411F1-0158-42AA-B5A1-23BFD005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3BAE1-404F-4835-A4A1-1CE3EFAF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F5D30-5189-47CC-A5F4-24DD9588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F273D-0915-4864-B703-5D50D62F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11AB8-6A82-47B7-8FA6-C2C38371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C532-F382-4EF3-90EB-BB19A989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7FFEF-4D3F-4EB8-9417-D4AF959D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5F90C-628C-4FC4-8D55-ABFECD93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DDAB6-A071-4818-BB94-4A7130AC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6DF62A-8197-47FF-BB77-4DCF2155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C8AB9B-FE63-41CB-8768-D9E8740C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020450-12A9-4B63-8ACB-C67642D8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92F70C-8B49-44F7-BA55-56E0FE4D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F3AB4E-AD8C-4479-9026-54E72E74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9A6423-609D-4BD9-8E30-D3AD85B1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453D11-3020-4ACE-B7B2-C8DA3DCC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5D77-AB92-410C-B2F9-9D1BCDD0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317944-7075-4285-AD13-AD7B20C9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5327DC-D9C3-41AB-9CC9-35321DE2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613EBC-7AC7-4714-896D-E0EF35C1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BABBD3-A127-4E6B-BF71-B67C957C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9EC08B-2794-4D03-949A-F326CF10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A9DF-5E4F-45F0-BDFF-C32D0709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F12A-5011-4976-B838-03F6444B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5043-ECD2-4341-A025-758C8124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282D-340D-4217-9D99-BA3C9B5C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C44C-C118-4942-9ED8-CACC6FCE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5AD2-7132-4CDB-800C-E2425F55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5D52-5087-476D-889F-586C6A9C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ACB3-3637-4D54-B962-2945840F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902C-0B8C-465E-BA95-BC59068B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1CE3-5D9B-4D94-94C4-219E6BA5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CE2E-9A24-4D25-A70D-82448A33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539AF-0A67-4362-88DB-DB922766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0F48A-8E79-4F75-883C-94DF60FB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68598-0ABE-4D97-8C30-451AF0F4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D145E-316C-4F78-8258-EF19F332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C8D83-6105-400B-B416-3DFE0C03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D3DB-3E3C-45D4-A284-04EDD067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C0C9D-6EF7-4E29-A24C-C35B2012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1A1F9-F552-466D-813F-EBAD8CEC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3DC6F-C90D-4D89-9745-D18204FC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8DA36-721B-4F4C-9643-B97167F1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6ECC5-69F5-4A53-B663-C14EEE4B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FF995-5FF6-4955-BBB7-2047E933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7ECA3-0C98-44A7-8EE8-4D2390F3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DDD22-AF26-4BBB-8C42-D30F9F7C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15A24-03B6-4736-8790-91C6B20A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AE97D-853A-4DED-86BA-C42F6B80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C225-DE2F-4973-9E9E-FE5DCD1A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FED4B-692A-4FDE-986E-5D13C542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1B148-5A4F-4D49-8455-E6B46908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BAC39-CD61-46D7-83B2-23FB9089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AD608-ADFB-4F0B-B0DB-EB77B295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6A672-DD6D-4E7D-A5C0-8FA41A80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58110-CAC9-4061-A010-AA0E825A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81238-3024-484B-AE6E-E2B3D57D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2DD2A-499D-4FB2-A31E-4F1D10CB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D8CBE-7B85-4A87-81D5-E0AC278C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B3860-8983-4FD4-AB27-296D8F29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EBA7-9E89-4863-A24D-73DB894D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8D67C-FE8E-4F45-9050-BE66601A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3DE57-7AE0-46F3-9DDE-3DEB0E51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8200D-1B3F-42AF-B215-7C6C8CEF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B819A-571B-4462-A870-7641D10A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24959-ABFC-4048-827A-9F346ED2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C266C-4BB3-4C87-A8F7-57E49A85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31675-452D-4112-9FC7-29B8F657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2585E-E2D3-480D-A740-D9E80141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FBA4D-B83E-4858-B807-EFF095EF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58FDB-2DEB-48E0-A666-D7B12D1A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E283-7FDB-4BC5-A59D-32797367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CF91C-3DAE-4847-BC79-47333EA2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ED108-2404-44C8-9318-1AC9C306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F1D71-8B80-4D77-B48A-746024CA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10473-0FFE-4C29-9F5C-0C7A2347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75006-BE8C-41D8-907A-249F21BB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9D8FC-9A78-415C-8A71-165CEA63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D0168-69F9-4C73-AE7C-2D6A00AC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45F8D-7A3D-49DD-B869-49D28FE7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CD137-1162-484B-BDE1-02F32920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04A35-82F7-48EA-B398-86D642C5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0180-B18F-427D-90E0-7B0D4AD0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4A781-5FBA-4B5D-82B0-DF842338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CB22A-20BD-4834-AB81-0AC05341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E8F76-876C-4C43-99CD-FF6ECA6B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3F980-585C-4F62-9DAD-785E4F63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17373-B5A6-40DE-A4CF-46E0C195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8A576-5FB0-40DB-9F9A-61D8E4C6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056B9-6EB1-4632-8AFC-5BD7C1BC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73F51-2E30-4C43-82EC-83816D2D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DE34F-05EB-4484-8E4B-4E994628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BB088-F743-4E02-8D56-87E3D3B1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7B00-8B75-4E55-A168-10F54F69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69F9F-4375-432D-8148-CD9FC1D0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62946-8D51-47DA-BDCA-0835A2EC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612F1-CC6E-4696-B777-608FE07A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77178-06D0-4695-BF60-CA1793FA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1BF99-E736-478E-9104-14BE2CF5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95BA4-7157-4017-B166-D8606F6A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4B2B8-F684-4523-A1E8-E56BC634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F38C1-8762-44A0-B455-4F003987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04397-A8F9-491C-BB10-80DCBED2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A09A8-3184-4159-B5AE-8E166216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2560-5614-4936-91A9-F92B59B0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A5D77-BEC2-49C1-8BC2-598BF33F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1C56C-6CCD-43B6-979F-76112579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A0D8B-E9F5-4EBB-8893-2B6D9537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2695F-A8B7-467D-AAAB-6D519F18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4883F-2909-425F-B1AA-1BB1A79C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BDE7C-C1A8-4B9B-ABD6-C7AB3674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8C3F6-30C0-4E85-B253-6E37D774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C5F12F-8CB0-4B2C-BE7A-39A13F8E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1374CF-EB88-45AD-86D0-08075C99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79DF97-AC30-499B-BCCD-C6088106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ECE6-3D08-4512-97D3-250AEBBCFF98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C66B-16B5-4820-81F5-0790B7350AF6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AAD1-F580-44F5-831E-12EFFD8267DE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DE34-7577-4655-B775-41C2E6A21793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A426-EB13-4953-92CD-5BF5838AE368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E17B-9D30-4A24-8755-4E07CA9D43B5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5622-3ABC-45E7-8E2D-1EA59097A4D9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616E-F9F4-4392-BFEA-B1BE9C3530BC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2510-44AF-42D9-9DB3-66F35F20C8B8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938E-3385-429E-82A1-FF5CA7892DC5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6E77-2727-4887-8029-3B04583972D7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CBD9-2AB8-4F10-B96D-4EC7DBD103AC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27CB-2B88-4D69-A51C-766D734BF251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1F04-A0BE-4156-B57A-98B171DBEB32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e3b3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F834-4631-42C8-B078-E97715345C07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20A4-0CEB-4CBD-8BFB-BAB1DED24B73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e3b3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A543-EC4F-4AD0-8C50-D71F0BEBE302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8D92-D1F5-45EA-B3AB-C95194815391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C4CF-ADB1-487E-93A6-B384CDE070CB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008F-4F6E-4C69-A6C5-9606B4875B62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0DE5-707B-4A96-AAAA-9059B7FDD44E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3C25-36DA-4743-8528-8CB6A39598CB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FA1E-F8D0-4B1A-AF47-980DF986ACB7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F257-D619-4718-8286-A3ABC03AE4F2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5643720" y="5643360"/>
            <a:ext cx="3186000" cy="68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Заместитель главного врача по организационно – методической работе ГЛПУ ТО ООД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Т.А. Гайсин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324000" y="1071360"/>
            <a:ext cx="85341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"</a:t>
            </a:r>
            <a:endParaRPr b="0" lang="en-US" sz="20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1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 Функции Кабинета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нсультативная помощь по ведению онкологических больных на дому участковым врачом-терапевтом или врачом общей практики (семейным врачом), контроль за проведением симптоматического лечения онкологических больных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писывание наркотических средств списка II и  III   Перечня наркотических средств, психотропных веществ и их прекурсор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существление динамического наблюдения за больными, получающими лекарственную противоопухолевую терапию в соответствии с рекомендациями врача-онколога, проводимую специализированным онкологическим учреждением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мониторинг и оценка лабораторных показателей с целью предупреждения развития токсических реакций, своевременное направление больного в специализированное онкологическое учреждение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направление больных для паллиативного и симптоматического лечения в соответствующие отделения онкологических диспансеров (онкологических больниц), хосписы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нализ причин отказов от госпитализаци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учет онкологических больных; проживающих на прикрепленной к Кабинету территори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ценка своевременности направления в онкологические диспансеры сведений о впервые выявленных случаях злокачественных новообразований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консультативная и методическая помощь специалистам медицинских учреждений по вопросам проведения профилактических осмотров, диспансеризации больных с предопухолевыми и хроническими заболеваниями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санитарно-гигиеническое просвещение населения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нализ и разбор с участковыми врачами-терапевтами, врачами общей практики (семейный врач), а также врачами-специалистами диагностических ошибок и причин запущенности онкологических заболеваний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ценка полноты и эффективности профилактических осмотров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нализ оформления амбулаторно-поликлиническими учреждениями установленных форм медицинской документации при обследовании и лечении онкологических больных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едение учетной и отчетной документации, предоставление отчетов о деятельности в установленном порядке, сбор данных для регистров, ведение которых предусмотрено законодательством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ные функции в соответствии с законодательством Российской Федерации, нормативными правовыми актами субъектов Российской Федерации, муниципальных образований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. В структуре Кабинете рекомендуется предусматривать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мещение для приема больных,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мещение для выполнения лечебных процедур, входящих в функции кабинета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мещение для хранения медицинской документаци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5. Кабинет оснащается оборудованием в соответствии со стандартом оснащения (приложение №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Рекомендуемые штатные нормативы медицинского 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иного персонала первичного онкологического отделения (кабинета), отделения городской и центральной районной поликлиники, отделений онкологического диспансера (онкологической больницы), отделения паллиативной помощи онкологическим больным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214200" y="1643040"/>
          <a:ext cx="8715600" cy="4608360"/>
        </p:xfrm>
        <a:graphic>
          <a:graphicData uri="http://schemas.openxmlformats.org/drawingml/2006/table">
            <a:tbl>
              <a:tblPr/>
              <a:tblGrid>
                <a:gridCol w="4143600"/>
                <a:gridCol w="4572000"/>
              </a:tblGrid>
              <a:tr h="484920">
                <a:tc gridSpan="2"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ервичный онкологический отделение (кабинет) городской и центральной районной поликли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2640">
                <a:tc gridSpan="2"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Врачебны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86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рач-онколог или врач-специалист, прошедший подготовку по онк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должность на 500 человек контингента диспансерных онкологических больных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орма нагрузки на амбулаторном прием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консультативный прием – 20 мин.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лечебно-диагностический прием (в т.ч. повторный) – 20 мин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консультативный прием (на выезде) – 60 м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 gridSpan="2"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Средн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9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дицинская сес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должность на 500 человек контингента диспансерных онкологических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дицинская сестра процедур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з расчета 1 должность на процедурный каби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 gridSpan="2"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Примечание: При меньшем числе контингента диспансерных онкологических больных– 1 должность врача и  1 должность среднего медицинского персонала в соотношении 1: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058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тандарт оснащения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федеральных организаций, оказывающих медицинскую помощь онкологическим больным, а также соответствующих организаций, находящихся в ведении субъекта Российской Федерации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285840" y="2571840"/>
          <a:ext cx="8501040" cy="3500280"/>
        </p:xfrm>
        <a:graphic>
          <a:graphicData uri="http://schemas.openxmlformats.org/drawingml/2006/table">
            <a:tbl>
              <a:tblPr/>
              <a:tblGrid>
                <a:gridCol w="5352840"/>
                <a:gridCol w="3148200"/>
              </a:tblGrid>
              <a:tr h="6224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 осна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marL="1260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ребуемое количество,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40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Ламинарная камера для стерильного разведения лекарственных препар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на 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есы для взвешивания бо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на 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нфузом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на 6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ейф для хранения сильнодействующих и психотропных средств, докумен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 на 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7" name="Прямоугольник 4"/>
          <p:cNvSpPr/>
          <p:nvPr/>
        </p:nvSpPr>
        <p:spPr>
          <a:xfrm>
            <a:off x="1214280" y="191628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ервичное онкологическое отделение (каби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б организации деятельности хоспис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и оказании помощи онкологическим больным</a:t>
            </a:r>
            <a:endParaRPr b="0" lang="en-US" sz="20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Настоящее Положение регулирует организацию деятельности хосписа по оказанию медицинской, социальной, психологической помощи больным с распространенными формами онкологических заболеваний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Хоспис является учреждением здравоохранения, предназначенным для оказания медицинской, социальной, психологической, юридической помощи преимущественно инкурабельным онкологическим больным по рекомендации врача-онколога с целью обеспечения необходимой обезболивающей терапии, оказания медико-социальной помощи, ухода, психо-социальной реабилитации, а также психологической и социальной поддержки родственников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Заголовок 11"/>
          <p:cNvSpPr/>
          <p:nvPr/>
        </p:nvSpPr>
        <p:spPr>
          <a:xfrm>
            <a:off x="971640" y="189000"/>
            <a:ext cx="75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3" name="Object 2"/>
          <p:cNvGraphicFramePr/>
          <p:nvPr/>
        </p:nvGraphicFramePr>
        <p:xfrm>
          <a:off x="216000" y="115920"/>
          <a:ext cx="8748720" cy="61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15920"/>
                    <a:ext cx="874872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1"/>
          <p:cNvSpPr/>
          <p:nvPr/>
        </p:nvSpPr>
        <p:spPr>
          <a:xfrm>
            <a:off x="285840" y="459000"/>
            <a:ext cx="850104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ЗДРАВООХРАНЕНИЯ И СОЦИАЛЬНОГО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ТВЕРЖДАЮ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министр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 и социального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Российской Федераци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И. Скворц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Ы ВЫЯВЛЕНИЯ ОНКОЛОГИЧЕСКИХ ЗАБОЛЕВАНИЙ В РАБОТЕ ВРАЧА ОБЩЕЙ ПРАК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для организаторов здравоохранения, врачей общей практики, профильных специалистов, врачей-онколо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B69F-F41F-4C17-B702-7B7A4DF7F9C7}" type="slidenum">
              <a:rPr b="0" lang="ru-RU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Заголовок 11"/>
          <p:cNvSpPr/>
          <p:nvPr/>
        </p:nvSpPr>
        <p:spPr>
          <a:xfrm>
            <a:off x="971640" y="44280"/>
            <a:ext cx="75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2"/>
          <p:cNvSpPr/>
          <p:nvPr/>
        </p:nvSpPr>
        <p:spPr>
          <a:xfrm>
            <a:off x="8317080" y="6453360"/>
            <a:ext cx="82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Object 11"/>
          <p:cNvGraphicFramePr/>
          <p:nvPr/>
        </p:nvGraphicFramePr>
        <p:xfrm>
          <a:off x="324000" y="189000"/>
          <a:ext cx="8496000" cy="59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8496000" cy="59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8648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6760"/>
            <a:ext cx="850428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публиковано 21 декабря 2009 г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ступает в силу: 1 января 2010 г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Зарегистрирован в Минюсте РФ 15 декабря 2009 г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Регистрационный N 15605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соответствии со статьей 37.1 Основ законодательства Российской Федерации об охране здоровья граждан от 22 июля 1993 г. N 5487-1 (Ведомости Съезда народных депутатов Российской Федерации и Верховного Совета Российской Федерации, 1993, N 33, ст. 1318; Собрание законодательства Российской Федерации, 2007, N 1, ст. 21)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приказываю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Утвердить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 согласно приложению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Министр Т. Голикова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4"/>
          <p:cNvSpPr/>
          <p:nvPr/>
        </p:nvSpPr>
        <p:spPr>
          <a:xfrm>
            <a:off x="571680" y="214200"/>
            <a:ext cx="7786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соответствии с приказом Министерства здравоохранения и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, с целью своевременного обеспечения подачи свед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5"/>
          <p:cNvSpPr/>
          <p:nvPr/>
        </p:nvSpPr>
        <p:spPr>
          <a:xfrm>
            <a:off x="285840" y="1643040"/>
            <a:ext cx="85723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риказываю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 Главным врачам ЛПУ юга Тюменской обла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1.  Сосредоточить все виды онкологической помощи и диспансерного наблюдения пациентов  на уровне плановой первичной медико-санитарной помощи, в кабинетах первичного онкологического прие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2.  Обеспечить непрерывную работу кабинета первичного онкологического приема, укомплектовать кадрами в том числе за счет возможного совмещения ставок,в соответствии с приказом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3.  Укомплектовать кабинеты первичного онкологического приема в соответствии с табелем оснащения по приказу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4.  Обеспечить регистрацию пациентов, с нарастающим итогом с 01.01.2010 года, впервые обратившихся в кабинет первичного онкологического приема, а так же пациентов, направленных в онкологический диспансер (по локализациям), для чего ввести соответствующие журналы (Приложение №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5.  На основании документации первичного онкологического кабинета информация по мониторингу(Приложение №2) предоставляется в срок до 28 числа отчетного месяца: по электронной почте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tymen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-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onko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@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mail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Box 1"/>
          <p:cNvSpPr/>
          <p:nvPr/>
        </p:nvSpPr>
        <p:spPr>
          <a:xfrm>
            <a:off x="285840" y="285840"/>
            <a:ext cx="8643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 Главному врачу ГЛПУ ТО «Областной онкологический диспансер»   (А.Г.Синяков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1. Обеспечить свод и анализ информации в соответствии с приказом Министерства здравоохранения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2. Проводить в ежемесячном режиме курацию районных ЛПУ и поликлиник г.Тюмени по методике мониторирования и оказывать консультативную помощь по необходи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3. Подготовленную информацию предоставлять на электронном и бумажном носителе в департамент здравоохранения Тюменской области сроком до 3 числа очередного меся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4. ГЛПУ ТО «Областной онкологический диспансер» в срок до 15.02.2010г обеспечить все ЛПУ юга Тюменской области и поликлиник г.Тюмени экземпляром журнала регистрации и инструкции по его запол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214200" y="285840"/>
            <a:ext cx="8715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3.   Учитывать результаты работы по мониторингу, направленного на совершенствование организации онкологической помощи населению, при определении размера премирования главных врачей областных ЛПУ, поликлиник г.Тюмени, главного врача ГЛПУ ТО «Областной онкологический диспансе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    Рекомендовать руководителям органов управ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1. Начальнику управления по здравоохранению администрации г.Тюмени (Ярцеву С.Е.) и советнику главы администрации г.Тобольска (Репетиеву В.И.), обеспечить исполнение данного приказа в муниципальных учреждениях г.Тюмени и г.Тоболь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2. Производить свод информации по поликлиникам г.Тюмени и предоставлять в ГЛПУ ТО «Областной онкологический диспансер» общую информацию сроком до 28 числа отчетного месяца. : по электронной почте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tymen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-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onko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@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mail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5.    Контроль за исполнением приказа возложить на  первого заместителя директора департамента Н.С.Брын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иректор департамента                                                  А.Ю.Кудря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1"/>
          <p:cNvSpPr/>
          <p:nvPr/>
        </p:nvSpPr>
        <p:spPr>
          <a:xfrm>
            <a:off x="2105640" y="143280"/>
            <a:ext cx="472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Журнал учета оказания онкологической помощ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285840" y="500040"/>
          <a:ext cx="8572320" cy="1143000"/>
        </p:xfrm>
        <a:graphic>
          <a:graphicData uri="http://schemas.openxmlformats.org/drawingml/2006/table">
            <a:tbl>
              <a:tblPr/>
              <a:tblGrid>
                <a:gridCol w="662040"/>
                <a:gridCol w="815760"/>
                <a:gridCol w="946080"/>
                <a:gridCol w="1273320"/>
                <a:gridCol w="1238400"/>
                <a:gridCol w="636480"/>
                <a:gridCol w="636480"/>
                <a:gridCol w="636480"/>
                <a:gridCol w="863640"/>
                <a:gridCol w="863640"/>
              </a:tblGrid>
              <a:tr h="245160"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паци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обра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ый диагн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направления в диспанс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ый диагн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а исключ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85840" y="1960560"/>
          <a:ext cx="8572320" cy="4681440"/>
        </p:xfrm>
        <a:graphic>
          <a:graphicData uri="http://schemas.openxmlformats.org/drawingml/2006/table">
            <a:tbl>
              <a:tblPr/>
              <a:tblGrid>
                <a:gridCol w="339480"/>
                <a:gridCol w="330480"/>
                <a:gridCol w="295200"/>
                <a:gridCol w="361800"/>
                <a:gridCol w="411120"/>
                <a:gridCol w="411480"/>
                <a:gridCol w="411120"/>
                <a:gridCol w="334800"/>
                <a:gridCol w="246240"/>
                <a:gridCol w="245880"/>
                <a:gridCol w="328680"/>
                <a:gridCol w="365040"/>
                <a:gridCol w="461880"/>
                <a:gridCol w="536760"/>
                <a:gridCol w="520560"/>
                <a:gridCol w="596880"/>
                <a:gridCol w="519120"/>
                <a:gridCol w="520920"/>
                <a:gridCol w="371520"/>
                <a:gridCol w="371160"/>
                <a:gridCol w="592200"/>
              </a:tblGrid>
              <a:tr h="1373040">
                <a:tc gridSpan="13"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Метод подтверждения диагно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роведено ле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Число умерших больных от З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атол. иссл. умерших от  З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 gridSpan="3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Эндоскопичес-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У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ент-ген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Лаборатор-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адиоизотоп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ИГ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Химиотерап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Лучев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ператив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омбинирован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аллиатив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 состоящих на уче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360"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ФГ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ФБ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зят  о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цитолог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Т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 контрастир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Гемато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Цитоло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ИФ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канир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7" name=""/>
          <p:cNvGraphicFramePr/>
          <p:nvPr/>
        </p:nvGraphicFramePr>
        <p:xfrm>
          <a:off x="214200" y="1643040"/>
          <a:ext cx="8715600" cy="4654440"/>
        </p:xfrm>
        <a:graphic>
          <a:graphicData uri="http://schemas.openxmlformats.org/drawingml/2006/table">
            <a:tbl>
              <a:tblPr/>
              <a:tblGrid>
                <a:gridCol w="357480"/>
                <a:gridCol w="2268360"/>
                <a:gridCol w="541440"/>
                <a:gridCol w="1076400"/>
                <a:gridCol w="739440"/>
                <a:gridCol w="1011240"/>
                <a:gridCol w="1009800"/>
                <a:gridCol w="855720"/>
                <a:gridCol w="855720"/>
              </a:tblGrid>
              <a:tr h="420480">
                <a:tc rowSpan="2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специа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ланировано обучение на год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лено специалистов на отчетную да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тся подготовка специалистов на отчетную да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чреждения образования и (или) науки, в котором осуществлялась подготовка специали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шли повышение квалифика-ции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шли профессиональ-ную переподготовку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чреждения образования и (или) науки, в котором осуществляется подготовка специали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ят повышение квалифика-ции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ят профессионал-ную переподготовку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и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. – реанимат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звуковая диагнос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ая лаб. диагнос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ая он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8" name="Rectangle 1"/>
          <p:cNvSpPr/>
          <p:nvPr/>
        </p:nvSpPr>
        <p:spPr>
          <a:xfrm>
            <a:off x="0" y="220680"/>
            <a:ext cx="9001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ежемесячного отчета по мониторингу  оказания онкологической помощи.                    Форма № МОПН-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одготовке медицинского персонала для учреждений здравоохранения субъекта Российской Федерации и муниципальных образований, участвующих в реализации мероприятий, направленных на совершенствование организации онкологической помощи населению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убъект Российской Федераци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______________ 200_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сяц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1"/>
          <p:cNvSpPr/>
          <p:nvPr/>
        </p:nvSpPr>
        <p:spPr>
          <a:xfrm>
            <a:off x="214200" y="151560"/>
            <a:ext cx="86439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МОПН-Ц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сновных целевых показателях деятельности учреждений субъекта Российской Федерации и муниципальных образований, участвующих в реализации мероприятий, направленных на совершенствование организации онкологической помощи населению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убъект Российской Федер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_____________ 200_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сяц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4928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деятельности первичных онкологических кабинетов (отделений) (муниципальное зве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357120" y="2071800"/>
          <a:ext cx="8429760" cy="3882960"/>
        </p:xfrm>
        <a:graphic>
          <a:graphicData uri="http://schemas.openxmlformats.org/drawingml/2006/table">
            <a:tbl>
              <a:tblPr/>
              <a:tblGrid>
                <a:gridCol w="546120"/>
                <a:gridCol w="2825640"/>
                <a:gridCol w="1686240"/>
                <a:gridCol w="1685880"/>
                <a:gridCol w="1685880"/>
              </a:tblGrid>
              <a:tr h="2523960"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прикрепленного населения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рошедших через первичный кабинет за отчетный период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рошедших через первичный кабинет за соответствующий период, предшествующий отчетному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90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ый онкологический кабинет (отделение) (муниципальное звен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1"/>
          <p:cNvSpPr/>
          <p:nvPr/>
        </p:nvSpPr>
        <p:spPr>
          <a:xfrm>
            <a:off x="142920" y="142920"/>
            <a:ext cx="88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генты выявленных первичными онкологическими кабинетами (отделения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214200" y="571680"/>
          <a:ext cx="8715600" cy="5879880"/>
        </p:xfrm>
        <a:graphic>
          <a:graphicData uri="http://schemas.openxmlformats.org/drawingml/2006/table">
            <a:tbl>
              <a:tblPr/>
              <a:tblGrid>
                <a:gridCol w="500040"/>
                <a:gridCol w="2384640"/>
                <a:gridCol w="542880"/>
                <a:gridCol w="1312920"/>
                <a:gridCol w="1312920"/>
                <a:gridCol w="1331640"/>
                <a:gridCol w="1330560"/>
              </a:tblGrid>
              <a:tr h="385560"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отчетный пери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оответствующий период, предшествующий отчетном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в региональный или окружной онкологический диспансер (РОД/ООД) для уточнения диагно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ольных, с подтвержденным в РОД или ООД диагноз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в региональный или окружной онкологический диспансер (РОД/ООД) для уточнения диагно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ольных, с подтвержденным диагнозом в РОД или ООД диагноз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76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смотренных с целью выявления злокачественных новообразований (ЗНО), всег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ч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щев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уд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ая киш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желудоч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итовид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тель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чеполовая сист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е тазовые орга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опухоли кож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овной моз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4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ночник и спинной моз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5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и, суставы и мягкие тк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68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6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атическая и кроветворная тк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6" name=""/>
          <p:cNvGraphicFramePr/>
          <p:nvPr/>
        </p:nvGraphicFramePr>
        <p:xfrm>
          <a:off x="214200" y="214200"/>
          <a:ext cx="8715600" cy="5973840"/>
        </p:xfrm>
        <a:graphic>
          <a:graphicData uri="http://schemas.openxmlformats.org/drawingml/2006/table">
            <a:tbl>
              <a:tblPr/>
              <a:tblGrid>
                <a:gridCol w="500040"/>
                <a:gridCol w="2813040"/>
                <a:gridCol w="865440"/>
                <a:gridCol w="1008000"/>
                <a:gridCol w="1295280"/>
                <a:gridCol w="1152720"/>
                <a:gridCol w="1081080"/>
              </a:tblGrid>
              <a:tr h="85284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первые зарегистрированных больных ЗНО,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верждено специальным исследование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ческие исследования, 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звуковы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rowSpan="4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доскопически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оскоп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й желудочно-кишечного тра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зятием материалов на цитоморфологическое иссле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rowSpan="4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ые исследования (число проведенных анализ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ферментные анализы крови на онкомарк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7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8" name=""/>
          <p:cNvGraphicFramePr/>
          <p:nvPr/>
        </p:nvGraphicFramePr>
        <p:xfrm>
          <a:off x="214200" y="285840"/>
          <a:ext cx="8715600" cy="5121360"/>
        </p:xfrm>
        <a:graphic>
          <a:graphicData uri="http://schemas.openxmlformats.org/drawingml/2006/table">
            <a:tbl>
              <a:tblPr/>
              <a:tblGrid>
                <a:gridCol w="500040"/>
                <a:gridCol w="2928960"/>
                <a:gridCol w="857520"/>
                <a:gridCol w="900000"/>
                <a:gridCol w="1295280"/>
                <a:gridCol w="1152720"/>
                <a:gridCol w="1081080"/>
              </a:tblGrid>
              <a:tr h="426600">
                <a:tc rowSpan="2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Т (КТ)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ные с использованием контрастных препар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rowSpan="2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иоизотопны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нир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гистохимически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rowSpan="6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выявленных, в том числе ранее, больных ЗНО I, II, III, IV стадий проведен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отерапевтическое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евая терап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ое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терап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мерших больных от З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остоявших под диспансерным наблюде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исследований умерших больных от ЗНО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9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"/>
          <p:cNvSpPr/>
          <p:nvPr/>
        </p:nvSpPr>
        <p:spPr>
          <a:xfrm>
            <a:off x="2157480" y="2786040"/>
            <a:ext cx="41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80722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214200" y="1428840"/>
            <a:ext cx="8715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астоящий Порядок регулирует вопросы оказания медицинской помощи населению при онкологических заболеваниях в государственных и муниципальных учреждениях здравоохранени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Больным с онкологическими заболеваниями медицинская помощь оказывается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рамках плановой первичной медико-санитарной помощи - терапевтическая, хирургическая и онкологическая помощь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рамках плановой специализированной, в том числе высокотехнологичной медицинской помощи - специализированная онкологическая помощь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казание плановой помощи больным с онкологическими заболеваниями в рамках первичной медико-санитарной помощи организуется в амбулаторно-поликлинических и больничных учреждениях здравоохранени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казание плановой специализированной, в том числе высокотехнологичной медицинской помощи больным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214200" y="1500120"/>
            <a:ext cx="8715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лановая онкологическая помощь в рамках первичной медико-санитарной помощи в амбулаторно-поликлинических учреждениях оказывается на основе взаимодействия врачей первичного звена здравоохранения: участковых врачей-терапевтов, врачей общей практики (семейных врачей), врачей-хирургов и врачей-онкологов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Медицинские работники фельдшерско-акушерских пунктов оказывают медицинскую помощь больным с онкологическими заболеваниями в соответствии с рекомендациями врачей-онкологов и врачей-специалистов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1.       В амбулаторно-поликлинических учреждениях участковые врачи-терапевты, врачи общей практики (семейные врачи), врачи-хирурги во взаимодействии с врачами-специалистами выявляют риск развития онкологических заболеваний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2.       При подозрении или выявлении опухолевого заболевания пациента направляют в первичный онкологический кабинет (отделение), после чего врач-специалист первичного онкологического кабинета направляет пациента в онкологический диспансер, онкологическую больницу для уточнения диагноза и определения последующей тактики ведения пациент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3.       В случае подозрения и/или выявления у пациента злокачественного новообразования врач-специалист первичного онкологического кабинета уведомляет организационно-методический отдел онкологического диспансера для постановки больного на учет (с его добровольного информированного согласия)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4.        В случае подтверждения в онкологическом диспансере у пациента факта наличия онкологического заболевания, информация о диагнозе пациента (с его добровольного информированного согласия) направляется из организационно-методического отдела онкологического диспансера в первичный онкологический кабинет, из которого был направлен пациент для последующего диспансерного наблюдения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864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214200" y="150012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6. В амбулаторно-поликлинических учреждениях онкологическая помощь больным с онкологическими заболеваниями оказывается врачами-онкологами в первичном онкологическом кабинете (отделении, дневном стационаре), осуществляющим свою деятельность в соответствии с Положениями об организации деятельности первичного онкологического кабинета поликлиники, первичного онкологического отделения (приложения N 1 и 2 к Порядку оказания медицинской помощи населению при онкологических заболеваниях, утвержденному настоящим приказом)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7. Плановое стационарное обследование и лечение больных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7.1. Специализированная, в том числе высокотехнологичная медицинская помощь больным с онкологическими заболеваниями оказывается в федеральных организациях, оказывающих медицинскую помощь, а также в онкологическом диспансере, онкологической больнице, осуществляющих свою деятельность в соответствии с Положением об организации деятельности онкологического диспансера (онкологической больницы) (приложение N 4 к Порядку оказания медицинской помощи населению при онкологических заболеваниях, утвержденному настоящим приказом) и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42976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285840" y="157140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7.2. Оснащение онкологического диспансера, онкологической больницы осуществляется в зависимости от профиля структурного подразделения в соответствии со стандартами оснащения (приложение N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7.3.   При выявлении у больного в онкологическом диспансере медицинских показаний к высокотехнологичным методам лечения помощь оказывается ему в соответствии с установленным порядком оказания высокотехнологичной медицинской помощ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7.4. Больные злокачественными новообразованиями подлежат пожизненному диспансерному наблюдению в онкологическом диспансере. Если течение заболевания не требует изменения тактики ведения пациента, диспансерные осмотры после проведенного лечения осуществляются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течение первого года один раз в три месяца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течение второго года - один раз в шесть месяцев, в дальнейшем - один раз в год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8648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214200" y="1356840"/>
            <a:ext cx="8715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8.     В организации онкологической помощи больным сочетаются лечебные методы (хирургический, радиотерапевтический и лекарственный) и паллиативные мероприятия в отделениях (хосписе), осуществляющих свою деятельность в соответствии с положениями об организации деятельности структурных подразделений федеральных организаций, оказывающих медицинскую помощь онкологическим больным, а также в соответствующих организациях, находящихся в ведении субъекта Российской Федерации (приложения N 4 и 6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9.    Скорая медицинская помощь больным злокачественными новообразованиями оказывается станциями (подстанциями) скорой медицинской помощи и отделениями скорой медицинской помощи при районных и центральных районных больницах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казание скорой медицинской помощи больным злокачественными новообразованиями осуществляют специализированные реаниматологические, врачебные и фельдшерские выездные бригады, штатный состав которых определен приказом Мин-здравсоцразвития России от 1 ноября 2004 г. N 179 "Об утверждении порядка оказания скорой медицинской помощи" (зарегистрирован Минюстом России 23 ноября 2004 г., регистрационный N 6136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и подозрении и/или выявлении у больных злокачественного новообразования в ходе оказания им скорой медицинской помощи, таких больных переводят или направляют в онкологические диспансеры (онкологические больницы) для определения тактики ведения и необходимости применения дополнительно других методов специализированного противоопухолевого лечения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0. В случае если проведение медицинских манипуляций, связанных с оказанием помощи онкологическим больным, может повлечь возникновение болевых ощущений у пациента, такие манипуляции должны проводиться с обезболиванием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 Настоящее Положение определяет организацию деятельности первичного онкологического кабинета городской и центральной районной поликлиник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 Первичный онкологический кабинет (далее - Кабинет) создается в городской и центральной районной поликлинике при обслуживании контингента онкологических больных до 500 человек для обеспечения консультативной, диагностической помощью больным с онкологическими и предопухолевыми заболеваниями, своевременного направления больных в онкологическое учреждение для определения тактики ведения, диспансерного наблюдения онкологических больных, мониторинга за состоянием здоровья пациентов групп риска.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214200" y="1357200"/>
          <a:ext cx="8715600" cy="5100840"/>
        </p:xfrm>
        <a:graphic>
          <a:graphicData uri="http://schemas.openxmlformats.org/drawingml/2006/table">
            <a:tbl>
              <a:tblPr/>
              <a:tblGrid>
                <a:gridCol w="1928880"/>
                <a:gridCol w="857160"/>
                <a:gridCol w="1285920"/>
                <a:gridCol w="1714680"/>
                <a:gridCol w="2928960"/>
              </a:tblGrid>
              <a:tr h="536040"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айон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остоит на конец года (чел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Штатный норматив (ставок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Фактическое обеспечение онкологами (ставок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бучение по онкологи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(вид учебы, год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ат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мизо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а 144ч.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омаше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дюж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гай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ул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а 144ч.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Ишим, Ишимский р-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Тобольс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 2006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ышман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6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одоук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5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ет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-Тавд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а 144ч.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ут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7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дк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ч. по онкологии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ок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ч. по онкологии 2006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боль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юме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т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р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5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г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лутор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5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к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ч. по онкологии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9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5:46:25Z</dcterms:created>
  <dc:creator>Кислый Денис</dc:creator>
  <dc:description/>
  <dc:language>en-US</dc:language>
  <cp:lastModifiedBy>LEGION</cp:lastModifiedBy>
  <dcterms:modified xsi:type="dcterms:W3CDTF">2014-11-07T12:30:44Z</dcterms:modified>
  <cp:revision>20</cp:revision>
  <dc:subject/>
  <dc:title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"</dc:title>
</cp:coreProperties>
</file>