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gif" ContentType="image/gif"/>
  <Override PartName="/ppt/media/image14.jpeg" ContentType="image/jpeg"/>
  <Override PartName="/ppt/media/image2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3.jpeg" ContentType="image/jpeg"/>
  <Override PartName="/ppt/media/image25.png" ContentType="image/pn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A1CA3-EFD2-44D2-8F52-4165D907263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лнечная актив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15E2C-AF28-4CF7-8545-4A55AAB9BE7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раектория космической обсерватории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9DAFC-7070-481E-80F8-7EEDBDE8C19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ая стран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C69B8-B83E-48E7-B116-F5CC8DCE545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формация с космической обсерватории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HO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поступает разнообразная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(разные температуры атмосферы Солнца в разных длинах вол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7666A-9130-46DE-87EA-18D48E335FB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ияние солнечной активности на биосферу Зем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F9BC0-9F9C-4A80-A390-E2CE0FF4C02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анные мониторинга солнечной активност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орость солнечного вет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ярные сия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омагнитный индек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истики солнечного ветра (плотность потока протонов, плотность потока электрон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ок рентгеновского излуч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D3922-9FC3-4217-9851-9F60B889922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влияния солнечной активност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климат Зем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мля погружена во внешнюю исключительно подвижную атмосферу Солнца и, следовательно, подвергается сильному влиянию «погоды» на Солнц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смическая обсерватория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одит 10 лет постоянны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ниторинг активности Солнц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E6B6E-E7D8-4EA2-B366-1EB1C58B535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4595E-FCB3-4764-BD0D-A11057063ED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декс Вольфа за всю историю наблюдения Солн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8C772-EDA9-4D82-81DF-96D92856FC2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лнечная активность характеризуется различными факторам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лнечными пятн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34543-0233-427A-A263-41B5CC5CCA1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лнечная активность характеризуется различными факторам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лнечными вспышк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A02E3-3343-4430-9390-544B4361376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лнечная активность характеризуется различными факторам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лнечными протуберанц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2DFE0-4081-4E4C-B702-6B91AA12F34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начале 11-летнего цикла солнечной активности, после минимума W: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ятна появляются вдали от экватора Солнца, на широтах примерно 30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ечение цикла зона пятен спускается до 15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 максимуме и до 8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ледующем минимум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ее на высотах более 30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бразуются новые группы пят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7A59F-40C4-4595-A1EC-392D46E7565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космической обсерватори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HO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аботают различные приборы, в том числ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CO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CO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я с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HO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ступает на Землю в режиме реального времен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3C61D-CF0E-4661-BC92-BF3223FFAB4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98FE-F2CA-478B-B003-A551AC884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46F3-09DE-40D7-9D87-88C0C6093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2341-94FF-4506-8BF6-23595A31E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D2E2-FA6E-4EB1-9292-3D35ECC1E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446EA-A743-4244-9DEF-3841C7CD3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CAD13-3C3E-4640-9CD1-8E66E88D1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EABD3-7EFE-4501-9133-86B144638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6DB46-BFB9-4375-9D36-74A205B3A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7927F-3729-4D50-9FB6-56DBDD042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ED6B1-370A-435F-8CBF-A2A37ED12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8963F-F758-42F8-B373-77372CBC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A1CF-B19F-47B0-AA13-870048282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D413E-93C4-460B-A398-CCE97FF1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AF153-C4A0-4561-9A58-8694DEBC1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2E7A2-8C3A-47F6-98BE-229BC2903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ACA51-8C30-4A4C-BB43-B64295F66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C2577-EB1C-411D-9462-4008814EB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37BC8-2335-4544-9F4B-191ED1C0B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3B5F2-4C28-4118-9D69-58219FE0B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4BF35-F737-42A0-8925-24762B960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EF3C5-5C12-40C6-BD87-68187BC34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613F0-B21B-4AA2-8D06-ECAD6ABA0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9F30-9F16-418B-8512-010D41EE6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03999-8FAC-4F79-893C-8119D66D3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037DE-98BF-4E8E-BA5E-28CE774A1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31C0A-7096-45D7-AFB8-37C24B8F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34F61-9938-44D1-AE33-764BC8739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CEA9E-9338-4C6B-9369-6F47E48FC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69E65-8B9D-468C-8336-C61046938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B40C4-E1B4-4808-9D37-E1E6DA6DB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C5579-E0E9-42E1-A588-47C794D06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EA45C-EC20-4FE2-B040-5B72BB94D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57D11-E1AC-496A-AA58-7883C1BD3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B225-D3BD-4A1E-A43E-C9148C213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EB872-0CC1-4134-BD09-5A0E117A4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9B0C8-D933-4FBA-9F43-34EACA5DE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FB46B-5961-418F-9A9C-EA9331D71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9BB60-1E55-4036-A45D-83166F9D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FAD69-DE7B-4817-BBB8-267A5A0C4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55FCA-7C1A-4826-8183-31D2C7D5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6C1CC-329E-4D9E-ABCF-A70002423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20035-9AF0-4BB2-8B65-72D12F561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979CC-ACE7-4149-866E-9180E4C2E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296E-2038-4D95-B424-F16B074C5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A4D3-D304-4EEE-A8BF-D3725D555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8CFC-6F28-4EFF-95C7-4C4A35E7D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7678-F975-4AE7-81CD-9EDDE8920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6AAE-739F-4564-B56A-4E3C054D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Группа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Полилиния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5f0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Полилиния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bb5f0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Полилиния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Полилиния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b5f03">
                    <a:alpha val="0"/>
                  </a:srgbClr>
                </a:gs>
                <a:gs pos="100000">
                  <a:srgbClr val="994e0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Полилиния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3722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Полилиния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c37222"/>
                </a:gs>
                <a:gs pos="100000">
                  <a:srgbClr val="bb5f0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Полилиния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b5f03">
                    <a:alpha val="0"/>
                  </a:srgbClr>
                </a:gs>
                <a:gs pos="100000">
                  <a:srgbClr val="994e0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Полилиния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37222"/>
                </a:gs>
                <a:gs pos="100000">
                  <a:srgbClr val="bb5f03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0B606-A465-4928-A408-B4AC7D81C13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76a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76a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bfab"/>
            </a:gs>
            <a:gs pos="100000">
              <a:srgbClr val="dddcc5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Группа 2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51" name="Группа 3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52" name="Группа 4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53" name="Полилиния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bfbf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4" name="Группа 6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5" name="Полилиния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Полилиния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" name="Полилиния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8" name="Группа 10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59" name="Полилиния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bfbfa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60" name="Группа 12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61" name="Полилиния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bfbfa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62" name="Группа 14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63" name="Линия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Линия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Линия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Линия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Линия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Линия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Линия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Линия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Линия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Линия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Линия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Линия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Линия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Линия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Линия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Линия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Линия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Линия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Линия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Линия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Линия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Линия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Линия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Линия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Линия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Линия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Линия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Линия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Линия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Линия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Линия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Линия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Линия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Линия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Линия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8" name="Полилиния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bfbfab"/>
                        </a:solidFill>
                        <a:ln w="9360">
                          <a:solidFill>
                            <a:srgbClr val="bfbfab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99" name="Группа 51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100" name="Овал 52"/>
                          <p:cNvSpPr/>
                          <p:nvPr/>
                        </p:nvSpPr>
                        <p:spPr>
                          <a:xfrm rot="18780000">
                            <a:off x="2462400" y="4485600"/>
                            <a:ext cx="255600" cy="4446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1" name="Овал 53"/>
                          <p:cNvSpPr/>
                          <p:nvPr/>
                        </p:nvSpPr>
                        <p:spPr>
                          <a:xfrm rot="18780000">
                            <a:off x="2376360" y="4298400"/>
                            <a:ext cx="446040" cy="79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2" name="Овал 54"/>
                          <p:cNvSpPr/>
                          <p:nvPr/>
                        </p:nvSpPr>
                        <p:spPr>
                          <a:xfrm rot="18780000">
                            <a:off x="2256840" y="4001760"/>
                            <a:ext cx="747720" cy="12906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3" name="Овал 55"/>
                          <p:cNvSpPr/>
                          <p:nvPr/>
                        </p:nvSpPr>
                        <p:spPr>
                          <a:xfrm rot="18780000">
                            <a:off x="2164680" y="3742920"/>
                            <a:ext cx="988920" cy="17924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4" name="Овал 56"/>
                          <p:cNvSpPr/>
                          <p:nvPr/>
                        </p:nvSpPr>
                        <p:spPr>
                          <a:xfrm rot="18780000">
                            <a:off x="2063880" y="3426120"/>
                            <a:ext cx="1247760" cy="23292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5" name="Овал 57"/>
                          <p:cNvSpPr/>
                          <p:nvPr/>
                        </p:nvSpPr>
                        <p:spPr>
                          <a:xfrm rot="18780000">
                            <a:off x="1975320" y="3171960"/>
                            <a:ext cx="1543320" cy="28242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6" name="Овал 58"/>
                          <p:cNvSpPr/>
                          <p:nvPr/>
                        </p:nvSpPr>
                        <p:spPr>
                          <a:xfrm rot="18780000">
                            <a:off x="1850040" y="2891160"/>
                            <a:ext cx="1852920" cy="332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7" name="Овал 59"/>
                          <p:cNvSpPr/>
                          <p:nvPr/>
                        </p:nvSpPr>
                        <p:spPr>
                          <a:xfrm rot="18780000">
                            <a:off x="1733040" y="2628720"/>
                            <a:ext cx="2136960" cy="3807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8" name="Овал 60"/>
                          <p:cNvSpPr/>
                          <p:nvPr/>
                        </p:nvSpPr>
                        <p:spPr>
                          <a:xfrm rot="18780000">
                            <a:off x="1599120" y="2369160"/>
                            <a:ext cx="248112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9" name="Овал 61"/>
                          <p:cNvSpPr/>
                          <p:nvPr/>
                        </p:nvSpPr>
                        <p:spPr>
                          <a:xfrm rot="18780000">
                            <a:off x="1495800" y="2084760"/>
                            <a:ext cx="2716200" cy="4788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0" name="Овал 62"/>
                          <p:cNvSpPr/>
                          <p:nvPr/>
                        </p:nvSpPr>
                        <p:spPr>
                          <a:xfrm rot="18734400">
                            <a:off x="1402200" y="1818360"/>
                            <a:ext cx="2984400" cy="53103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1" name="Овал 63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12" name="Линия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3" name="Линия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4" name="Линия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5" name="Линия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6" name="Линия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7" name="Линия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8" name="Линия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9" name="Линия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0" name="Линия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1" name="Линия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2" name="Линия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3" name="Линия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4" name="Линия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5" name="Линия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6" name="Линия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7" name="Линия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" name="Линия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9" name="Линия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0" name="Линия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1" name="Линия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2" name="Линия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3" name="Линия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4" name="Линия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5" name="Линия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6" name="Линия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7" name="Линия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8" name="Линия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9" name="Линия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0" name="Линия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1" name="Линия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2" name="Линия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3" name="Линия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4" name="Линия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5" name="Линия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6" name="Линия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7" name="Линия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148" name="Группа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149" name="Линия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0" name="Линия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1" name="Группа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52" name="Линия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Полилиния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bfbfa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Линия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Линия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Линия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Линия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Линия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Линия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Линия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61" name="Группа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62" name="Полилиния 114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Полилиния 115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Прямоуг.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Прямоуг.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Прямоуг. 118"/>
              <p:cNvSpPr/>
              <p:nvPr/>
            </p:nvSpPr>
            <p:spPr>
              <a:xfrm rot="18182400">
                <a:off x="1610640" y="4283640"/>
                <a:ext cx="425124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Прямоуг.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8" name="Группа 120"/>
              <p:cNvGrpSpPr/>
              <p:nvPr/>
            </p:nvGrpSpPr>
            <p:grpSpPr>
              <a:xfrm>
                <a:off x="4752720" y="2104920"/>
                <a:ext cx="493920" cy="494280"/>
                <a:chOff x="4752720" y="2104920"/>
                <a:chExt cx="493920" cy="494280"/>
              </a:xfrm>
            </p:grpSpPr>
            <p:sp>
              <p:nvSpPr>
                <p:cNvPr id="169" name="Овал 121"/>
                <p:cNvSpPr/>
                <p:nvPr/>
              </p:nvSpPr>
              <p:spPr>
                <a:xfrm rot="2828400">
                  <a:off x="4768560" y="233064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Полилиния 122"/>
                <p:cNvSpPr/>
                <p:nvPr/>
              </p:nvSpPr>
              <p:spPr>
                <a:xfrm>
                  <a:off x="4866840" y="2226960"/>
                  <a:ext cx="254160" cy="24732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" name="Полилиния 123"/>
                <p:cNvSpPr/>
                <p:nvPr/>
              </p:nvSpPr>
              <p:spPr>
                <a:xfrm>
                  <a:off x="4949640" y="2217960"/>
                  <a:ext cx="182520" cy="1746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" name="Полилиния 124"/>
                <p:cNvSpPr/>
                <p:nvPr/>
              </p:nvSpPr>
              <p:spPr>
                <a:xfrm>
                  <a:off x="5014800" y="2112480"/>
                  <a:ext cx="227160" cy="22284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Полилиния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4" name="PlaceHolder 1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5AA15-7394-4451-942B-2E3D54D4576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3366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Группа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16" name="Полилиния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bb5f0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Полилиния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5f0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Полилиния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b5f03">
                    <a:alpha val="0"/>
                  </a:srgbClr>
                </a:gs>
                <a:gs pos="100000">
                  <a:srgbClr val="994e0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Полилиния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b5f03">
                    <a:alpha val="0"/>
                  </a:srgbClr>
                </a:gs>
                <a:gs pos="100000">
                  <a:srgbClr val="994e0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Полилиния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37222"/>
                </a:gs>
                <a:gs pos="100000">
                  <a:srgbClr val="bb5f0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Полилиния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37222"/>
                </a:gs>
                <a:gs pos="100000">
                  <a:srgbClr val="bb5f0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76a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76a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54035-D4BC-425E-BDC0-E2CBC5B08A0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bfab"/>
            </a:gs>
            <a:gs pos="100000">
              <a:srgbClr val="dddcc5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Группа 2"/>
          <p:cNvGrpSpPr/>
          <p:nvPr/>
        </p:nvGrpSpPr>
        <p:grpSpPr>
          <a:xfrm>
            <a:off x="-310680" y="798480"/>
            <a:ext cx="7080840" cy="6858360"/>
            <a:chOff x="-310680" y="798480"/>
            <a:chExt cx="7080840" cy="6858360"/>
          </a:xfrm>
        </p:grpSpPr>
        <p:grpSp>
          <p:nvGrpSpPr>
            <p:cNvPr id="264" name="Группа 3"/>
            <p:cNvGrpSpPr/>
            <p:nvPr/>
          </p:nvGrpSpPr>
          <p:grpSpPr>
            <a:xfrm>
              <a:off x="-310680" y="798480"/>
              <a:ext cx="7080840" cy="6858360"/>
              <a:chOff x="-310680" y="798480"/>
              <a:chExt cx="7080840" cy="6858360"/>
            </a:xfrm>
          </p:grpSpPr>
          <p:grpSp>
            <p:nvGrpSpPr>
              <p:cNvPr id="265" name="Группа 4"/>
              <p:cNvGrpSpPr/>
              <p:nvPr/>
            </p:nvGrpSpPr>
            <p:grpSpPr>
              <a:xfrm>
                <a:off x="-310680" y="798480"/>
                <a:ext cx="7080840" cy="6858360"/>
                <a:chOff x="-310680" y="798480"/>
                <a:chExt cx="7080840" cy="6858360"/>
              </a:xfrm>
            </p:grpSpPr>
            <p:sp>
              <p:nvSpPr>
                <p:cNvPr id="266" name="Полилиния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bfbf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7" name="Группа 6"/>
                <p:cNvGrpSpPr/>
                <p:nvPr/>
              </p:nvGrpSpPr>
              <p:grpSpPr>
                <a:xfrm>
                  <a:off x="-310680" y="798480"/>
                  <a:ext cx="7080840" cy="6858360"/>
                  <a:chOff x="-310680" y="798480"/>
                  <a:chExt cx="7080840" cy="6858360"/>
                </a:xfrm>
              </p:grpSpPr>
              <p:sp>
                <p:nvSpPr>
                  <p:cNvPr id="268" name="Полилиния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Полилиния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Полилиния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71" name="Группа 10"/>
                  <p:cNvGrpSpPr/>
                  <p:nvPr/>
                </p:nvGrpSpPr>
                <p:grpSpPr>
                  <a:xfrm>
                    <a:off x="-310680" y="798480"/>
                    <a:ext cx="7080840" cy="6858360"/>
                    <a:chOff x="-310680" y="798480"/>
                    <a:chExt cx="7080840" cy="6858360"/>
                  </a:xfrm>
                </p:grpSpPr>
                <p:sp>
                  <p:nvSpPr>
                    <p:cNvPr id="272" name="Полилиния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bfbfa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73" name="Группа 166"/>
                    <p:cNvGrpSpPr/>
                    <p:nvPr/>
                  </p:nvGrpSpPr>
                  <p:grpSpPr>
                    <a:xfrm>
                      <a:off x="-310680" y="805680"/>
                      <a:ext cx="7071120" cy="6851160"/>
                      <a:chOff x="-310680" y="805680"/>
                      <a:chExt cx="7071120" cy="6851160"/>
                    </a:xfrm>
                  </p:grpSpPr>
                  <p:sp>
                    <p:nvSpPr>
                      <p:cNvPr id="274" name="Полилиния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bfbfa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75" name="Группа 14"/>
                      <p:cNvGrpSpPr/>
                      <p:nvPr/>
                    </p:nvGrpSpPr>
                    <p:grpSpPr>
                      <a:xfrm>
                        <a:off x="-310680" y="805680"/>
                        <a:ext cx="7071120" cy="6851160"/>
                        <a:chOff x="-310680" y="805680"/>
                        <a:chExt cx="7071120" cy="6851160"/>
                      </a:xfrm>
                    </p:grpSpPr>
                    <p:sp>
                      <p:nvSpPr>
                        <p:cNvPr id="276" name="Линия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7" name="Линия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8" name="Линия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9" name="Линия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0" name="Линия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1" name="Линия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2" name="Линия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3" name="Линия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4" name="Линия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5" name="Линия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6" name="Линия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7" name="Линия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8" name="Линия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9" name="Линия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0" name="Линия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1" name="Линия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2" name="Линия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3" name="Линия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4" name="Линия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5" name="Линия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6" name="Линия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7" name="Линия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8" name="Линия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9" name="Линия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0" name="Линия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1" name="Линия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2" name="Линия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3" name="Линия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4" name="Линия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5" name="Линия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6" name="Линия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7" name="Линия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8" name="Линия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9" name="Линия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0" name="Линия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1" name="Полилиния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bfbfab"/>
                        </a:solidFill>
                        <a:ln w="9360">
                          <a:solidFill>
                            <a:srgbClr val="bfbfab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312" name="Группа 51"/>
                        <p:cNvGrpSpPr/>
                        <p:nvPr/>
                      </p:nvGrpSpPr>
                      <p:grpSpPr>
                        <a:xfrm>
                          <a:off x="-310680" y="1279080"/>
                          <a:ext cx="6462720" cy="6377760"/>
                          <a:chOff x="-310680" y="1279080"/>
                          <a:chExt cx="6462720" cy="6377760"/>
                        </a:xfrm>
                      </p:grpSpPr>
                      <p:sp>
                        <p:nvSpPr>
                          <p:cNvPr id="313" name="Овал 52"/>
                          <p:cNvSpPr/>
                          <p:nvPr/>
                        </p:nvSpPr>
                        <p:spPr>
                          <a:xfrm rot="18780000">
                            <a:off x="2448360" y="451728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4" name="Овал 53"/>
                          <p:cNvSpPr/>
                          <p:nvPr/>
                        </p:nvSpPr>
                        <p:spPr>
                          <a:xfrm rot="18780000">
                            <a:off x="2357280" y="4330080"/>
                            <a:ext cx="446040" cy="79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5" name="Овал 54"/>
                          <p:cNvSpPr/>
                          <p:nvPr/>
                        </p:nvSpPr>
                        <p:spPr>
                          <a:xfrm rot="18780000">
                            <a:off x="2237760" y="4033440"/>
                            <a:ext cx="747720" cy="12906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6" name="Овал 55"/>
                          <p:cNvSpPr/>
                          <p:nvPr/>
                        </p:nvSpPr>
                        <p:spPr>
                          <a:xfrm rot="18780000">
                            <a:off x="2145600" y="3774600"/>
                            <a:ext cx="988920" cy="17924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7" name="Овал 56"/>
                          <p:cNvSpPr/>
                          <p:nvPr/>
                        </p:nvSpPr>
                        <p:spPr>
                          <a:xfrm rot="18780000">
                            <a:off x="2046600" y="3458160"/>
                            <a:ext cx="1247760" cy="2328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8" name="Овал 57"/>
                          <p:cNvSpPr/>
                          <p:nvPr/>
                        </p:nvSpPr>
                        <p:spPr>
                          <a:xfrm rot="18780000">
                            <a:off x="1956240" y="3203640"/>
                            <a:ext cx="1543320" cy="28242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9" name="Овал 58"/>
                          <p:cNvSpPr/>
                          <p:nvPr/>
                        </p:nvSpPr>
                        <p:spPr>
                          <a:xfrm rot="18780000">
                            <a:off x="1832400" y="2922840"/>
                            <a:ext cx="1852920" cy="332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0" name="Овал 59"/>
                          <p:cNvSpPr/>
                          <p:nvPr/>
                        </p:nvSpPr>
                        <p:spPr>
                          <a:xfrm rot="18780000">
                            <a:off x="1713960" y="2660400"/>
                            <a:ext cx="2136960" cy="3807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1" name="Овал 60"/>
                          <p:cNvSpPr/>
                          <p:nvPr/>
                        </p:nvSpPr>
                        <p:spPr>
                          <a:xfrm rot="18780000">
                            <a:off x="1581480" y="2400840"/>
                            <a:ext cx="2481120" cy="42800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2" name="Овал 61"/>
                          <p:cNvSpPr/>
                          <p:nvPr/>
                        </p:nvSpPr>
                        <p:spPr>
                          <a:xfrm rot="18780000">
                            <a:off x="1476720" y="2116440"/>
                            <a:ext cx="2716200" cy="4788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3" name="Овал 62"/>
                          <p:cNvSpPr/>
                          <p:nvPr/>
                        </p:nvSpPr>
                        <p:spPr>
                          <a:xfrm rot="18734400">
                            <a:off x="1383120" y="1850040"/>
                            <a:ext cx="2984400" cy="53103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4" name="Овал 63"/>
                          <p:cNvSpPr/>
                          <p:nvPr/>
                        </p:nvSpPr>
                        <p:spPr>
                          <a:xfrm rot="18819600">
                            <a:off x="1294200" y="155304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25" name="Линия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6" name="Линия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7" name="Линия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8" name="Линия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9" name="Линия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0" name="Линия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1" name="Линия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2" name="Линия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3" name="Линия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4" name="Линия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5" name="Линия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6" name="Линия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7" name="Линия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8" name="Линия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9" name="Линия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0" name="Линия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1" name="Линия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2" name="Линия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3" name="Линия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4" name="Линия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5" name="Линия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6" name="Линия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7" name="Линия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8" name="Линия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9" name="Линия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0" name="Линия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1" name="Линия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2" name="Линия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3" name="Линия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4" name="Линия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5" name="Линия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6" name="Линия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7" name="Линия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8" name="Линия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9" name="Линия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0" name="Линия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361" name="Группа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362" name="Линия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" name="Линия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64" name="Группа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365" name="Линия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Полилиния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bfbfa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Линия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Линия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Линия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Линия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Линия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Линия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Линия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74" name="Группа 113"/>
            <p:cNvGrpSpPr/>
            <p:nvPr/>
          </p:nvGrpSpPr>
          <p:grpSpPr>
            <a:xfrm>
              <a:off x="1800" y="2141280"/>
              <a:ext cx="5230440" cy="4680000"/>
              <a:chOff x="1800" y="2141280"/>
              <a:chExt cx="5230440" cy="4680000"/>
            </a:xfrm>
          </p:grpSpPr>
          <p:sp>
            <p:nvSpPr>
              <p:cNvPr id="375" name="Полилиния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Полилиния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Прямоуг.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Прямоуг.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Прямоуг. 118"/>
              <p:cNvSpPr/>
              <p:nvPr/>
            </p:nvSpPr>
            <p:spPr>
              <a:xfrm rot="18182400">
                <a:off x="1590840" y="4315320"/>
                <a:ext cx="425160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Прямоуг.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81" name="Группа 120"/>
              <p:cNvGrpSpPr/>
              <p:nvPr/>
            </p:nvGrpSpPr>
            <p:grpSpPr>
              <a:xfrm>
                <a:off x="4738320" y="2141280"/>
                <a:ext cx="493920" cy="494280"/>
                <a:chOff x="4738320" y="2141280"/>
                <a:chExt cx="493920" cy="494280"/>
              </a:xfrm>
            </p:grpSpPr>
            <p:sp>
              <p:nvSpPr>
                <p:cNvPr id="382" name="Овал 121"/>
                <p:cNvSpPr/>
                <p:nvPr/>
              </p:nvSpPr>
              <p:spPr>
                <a:xfrm rot="2828400">
                  <a:off x="4754160" y="236700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3" name="Полилиния 122"/>
                <p:cNvSpPr/>
                <p:nvPr/>
              </p:nvSpPr>
              <p:spPr>
                <a:xfrm>
                  <a:off x="4852440" y="2263320"/>
                  <a:ext cx="252000" cy="24732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4" name="Полилиния 123"/>
                <p:cNvSpPr/>
                <p:nvPr/>
              </p:nvSpPr>
              <p:spPr>
                <a:xfrm>
                  <a:off x="4935240" y="2254320"/>
                  <a:ext cx="181440" cy="1746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5" name="Полилиния 124"/>
                <p:cNvSpPr/>
                <p:nvPr/>
              </p:nvSpPr>
              <p:spPr>
                <a:xfrm>
                  <a:off x="4999320" y="2148840"/>
                  <a:ext cx="227520" cy="22284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6" name="Полилиния 125"/>
                <p:cNvSpPr/>
                <p:nvPr/>
              </p:nvSpPr>
              <p:spPr>
                <a:xfrm>
                  <a:off x="514368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8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3366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B108F-09FE-4BD8-A742-36D44792D04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856880" y="785520"/>
            <a:ext cx="600084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eec94"/>
                </a:solidFill>
                <a:latin typeface="Arial Black"/>
              </a:rPr>
              <a:t>Солнечная активность</a:t>
            </a:r>
            <a:endParaRPr b="1" lang="en-US" sz="6000" spc="-1" strike="noStrike">
              <a:solidFill>
                <a:srgbClr val="feec94"/>
              </a:solidFill>
              <a:latin typeface="Arial Black"/>
            </a:endParaRPr>
          </a:p>
        </p:txBody>
      </p:sp>
      <p:pic>
        <p:nvPicPr>
          <p:cNvPr id="436" name="Рисунок 4" descr="febcme_sohoc2"/>
          <p:cNvPicPr/>
          <p:nvPr/>
        </p:nvPicPr>
        <p:blipFill>
          <a:blip r:embed="rId1"/>
          <a:stretch/>
        </p:blipFill>
        <p:spPr>
          <a:xfrm>
            <a:off x="2643120" y="3214800"/>
            <a:ext cx="3492720" cy="2762280"/>
          </a:xfrm>
          <a:prstGeom prst="rect">
            <a:avLst/>
          </a:prstGeom>
          <a:ln w="0">
            <a:noFill/>
          </a:ln>
        </p:spPr>
      </p:pic>
      <p:sp>
        <p:nvSpPr>
          <p:cNvPr id="437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7" name="Рисунок 4" descr="Сохо орбита"/>
          <p:cNvPicPr/>
          <p:nvPr/>
        </p:nvPicPr>
        <p:blipFill>
          <a:blip r:embed="rId1"/>
          <a:stretch/>
        </p:blipFill>
        <p:spPr>
          <a:xfrm>
            <a:off x="179280" y="133200"/>
            <a:ext cx="8785440" cy="6591600"/>
          </a:xfrm>
          <a:prstGeom prst="rect">
            <a:avLst/>
          </a:prstGeom>
          <a:ln w="0">
            <a:noFill/>
          </a:ln>
        </p:spPr>
      </p:pic>
      <p:sp>
        <p:nvSpPr>
          <p:cNvPr id="4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Рисунок 3" descr="soho траектория"/>
          <p:cNvPicPr/>
          <p:nvPr/>
        </p:nvPicPr>
        <p:blipFill>
          <a:blip r:embed="rId1"/>
          <a:stretch/>
        </p:blipFill>
        <p:spPr>
          <a:xfrm>
            <a:off x="2736720" y="189000"/>
            <a:ext cx="6156360" cy="640872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4249800" cy="228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раектория космической обсерватории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лавная стран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Рисунок 5" descr="Загрузочная страница"/>
          <p:cNvPicPr/>
          <p:nvPr/>
        </p:nvPicPr>
        <p:blipFill>
          <a:blip r:embed="rId1"/>
          <a:stretch/>
        </p:blipFill>
        <p:spPr>
          <a:xfrm>
            <a:off x="1332000" y="1628640"/>
            <a:ext cx="6495840" cy="5029200"/>
          </a:xfrm>
          <a:prstGeom prst="rect">
            <a:avLst/>
          </a:prstGeom>
          <a:ln w="0">
            <a:noFill/>
          </a:ln>
        </p:spPr>
      </p:pic>
      <p:sp>
        <p:nvSpPr>
          <p:cNvPr id="4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7" name="Рисунок 4" descr="Станция COХ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4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формация с космической обсерватории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HO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поступает разнообразная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(разные температуры атмосферы Солнца в разных длинах вол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Рисунок 3" descr="sohoopen"/>
          <p:cNvPicPr/>
          <p:nvPr/>
        </p:nvPicPr>
        <p:blipFill>
          <a:blip r:embed="rId1"/>
          <a:stretch/>
        </p:blipFill>
        <p:spPr>
          <a:xfrm>
            <a:off x="4572000" y="2421000"/>
            <a:ext cx="4500720" cy="4282920"/>
          </a:xfrm>
          <a:prstGeom prst="rect">
            <a:avLst/>
          </a:prstGeom>
          <a:ln w="0">
            <a:noFill/>
          </a:ln>
        </p:spPr>
      </p:pic>
      <p:pic>
        <p:nvPicPr>
          <p:cNvPr id="481" name="Рисунок 4" descr="20041231_0100_eit_171"/>
          <p:cNvPicPr/>
          <p:nvPr/>
        </p:nvPicPr>
        <p:blipFill>
          <a:blip r:embed="rId2"/>
          <a:stretch/>
        </p:blipFill>
        <p:spPr>
          <a:xfrm>
            <a:off x="1619280" y="256536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482" name="Рисунок 5" descr="20041231_0106_eit_284"/>
          <p:cNvPicPr/>
          <p:nvPr/>
        </p:nvPicPr>
        <p:blipFill>
          <a:blip r:embed="rId3"/>
          <a:stretch/>
        </p:blipFill>
        <p:spPr>
          <a:xfrm>
            <a:off x="3203640" y="256536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483" name="Рисунок 6" descr="20041231_0119_eit_304"/>
          <p:cNvPicPr/>
          <p:nvPr/>
        </p:nvPicPr>
        <p:blipFill>
          <a:blip r:embed="rId4"/>
          <a:stretch/>
        </p:blipFill>
        <p:spPr>
          <a:xfrm>
            <a:off x="179280" y="256536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484" name="Рисунок 7" descr="20041231_0542_c3"/>
          <p:cNvPicPr/>
          <p:nvPr/>
        </p:nvPicPr>
        <p:blipFill>
          <a:blip r:embed="rId5"/>
          <a:stretch/>
        </p:blipFill>
        <p:spPr>
          <a:xfrm>
            <a:off x="250920" y="407664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485" name="Рисунок 8" descr="20041231_0548_eit_195"/>
          <p:cNvPicPr/>
          <p:nvPr/>
        </p:nvPicPr>
        <p:blipFill>
          <a:blip r:embed="rId6"/>
          <a:stretch/>
        </p:blipFill>
        <p:spPr>
          <a:xfrm>
            <a:off x="3276720" y="407664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486" name="Рисунок 9" descr="20041231_0554_c2"/>
          <p:cNvPicPr/>
          <p:nvPr/>
        </p:nvPicPr>
        <p:blipFill>
          <a:blip r:embed="rId7"/>
          <a:stretch/>
        </p:blipFill>
        <p:spPr>
          <a:xfrm>
            <a:off x="1692360" y="407664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487" name="Рисунок 10" descr="20050101_1424_mdi_igr"/>
          <p:cNvPicPr/>
          <p:nvPr/>
        </p:nvPicPr>
        <p:blipFill>
          <a:blip r:embed="rId8"/>
          <a:stretch/>
        </p:blipFill>
        <p:spPr>
          <a:xfrm>
            <a:off x="1763640" y="544500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4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Рисунок 4" descr="Ласко"/>
          <p:cNvPicPr/>
          <p:nvPr/>
        </p:nvPicPr>
        <p:blipFill>
          <a:blip r:embed="rId1"/>
          <a:stretch/>
        </p:blipFill>
        <p:spPr>
          <a:xfrm>
            <a:off x="1174680" y="0"/>
            <a:ext cx="6794640" cy="6858000"/>
          </a:xfrm>
          <a:prstGeom prst="rect">
            <a:avLst/>
          </a:prstGeom>
          <a:ln w="0">
            <a:noFill/>
          </a:ln>
        </p:spPr>
      </p:pic>
      <p:sp>
        <p:nvSpPr>
          <p:cNvPr id="4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лияние солнечной активности на биосферу Зем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Рисунок 3" descr="268648_s"/>
          <p:cNvPicPr/>
          <p:nvPr/>
        </p:nvPicPr>
        <p:blipFill>
          <a:blip r:embed="rId1"/>
          <a:stretch/>
        </p:blipFill>
        <p:spPr>
          <a:xfrm>
            <a:off x="128520" y="2421000"/>
            <a:ext cx="3827520" cy="3887640"/>
          </a:xfrm>
          <a:prstGeom prst="rect">
            <a:avLst/>
          </a:prstGeom>
          <a:ln w="0">
            <a:noFill/>
          </a:ln>
        </p:spPr>
      </p:pic>
      <p:pic>
        <p:nvPicPr>
          <p:cNvPr id="493" name="Рисунок 4" descr="sunearth_01G"/>
          <p:cNvPicPr/>
          <p:nvPr/>
        </p:nvPicPr>
        <p:blipFill>
          <a:blip r:embed="rId2"/>
          <a:stretch/>
        </p:blipFill>
        <p:spPr>
          <a:xfrm>
            <a:off x="4284720" y="2421000"/>
            <a:ext cx="4819680" cy="3770280"/>
          </a:xfrm>
          <a:prstGeom prst="rect">
            <a:avLst/>
          </a:prstGeom>
          <a:ln w="0">
            <a:noFill/>
          </a:ln>
        </p:spPr>
      </p:pic>
      <p:sp>
        <p:nvSpPr>
          <p:cNvPr id="4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анные мониторинга солнечной активност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корость солнечного вет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лярные сия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Геомагнитный индек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Характеристики солнечного ветра (плотность потока протонов, плотность потока электронов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ток рентгеновского излуч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0" name="Рисунок 4" descr="Станция СОХ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Рисунок 2" descr="pmapN_ 17_01_1603"/>
          <p:cNvPicPr/>
          <p:nvPr/>
        </p:nvPicPr>
        <p:blipFill>
          <a:blip r:embed="rId1"/>
          <a:stretch/>
        </p:blipFill>
        <p:spPr>
          <a:xfrm>
            <a:off x="755640" y="0"/>
            <a:ext cx="7740720" cy="6880320"/>
          </a:xfrm>
          <a:prstGeom prst="rect">
            <a:avLst/>
          </a:prstGeom>
          <a:ln w="0">
            <a:noFill/>
          </a:ln>
        </p:spPr>
      </p:pic>
      <p:sp>
        <p:nvSpPr>
          <p:cNvPr id="5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100" spc="-1" strike="noStrike">
                <a:solidFill>
                  <a:srgbClr val="000000"/>
                </a:solidFill>
                <a:latin typeface="Arial"/>
              </a:rPr>
              <a:t>Анализ влияния солнечной активности </a:t>
            </a:r>
            <a:br>
              <a:rPr sz="5100"/>
            </a:br>
            <a:r>
              <a:rPr b="0" lang="ru-RU" sz="5100" spc="-1" strike="noStrike">
                <a:solidFill>
                  <a:srgbClr val="000000"/>
                </a:solidFill>
                <a:latin typeface="Arial"/>
              </a:rPr>
              <a:t>на климат Земли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0" y="2924280"/>
            <a:ext cx="9144000" cy="32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емля погружена во внешнюю исключительно подвижную атмосферу Солнца и, следовательно, подвергается сильному влиянию «погоды» на Солнц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смическая обсерватория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H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одит 10 лет постоянный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ониторинг активности Солнц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52472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ндекс Вольфа за всю историю наблюдения Солн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Рисунок 3" descr="380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95280" y="277920"/>
            <a:ext cx="8291520" cy="14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лнечная активность характеризуется различными факторам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лнечными пятн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6" name="Рисунок 4" descr="20031029_0136_mdi_igr"/>
          <p:cNvPicPr/>
          <p:nvPr/>
        </p:nvPicPr>
        <p:blipFill>
          <a:blip r:embed="rId1"/>
          <a:stretch/>
        </p:blipFill>
        <p:spPr>
          <a:xfrm>
            <a:off x="539640" y="270828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447" name="Рисунок 5" descr="20050115_1736_mdi_igr"/>
          <p:cNvPicPr/>
          <p:nvPr/>
        </p:nvPicPr>
        <p:blipFill>
          <a:blip r:embed="rId2"/>
          <a:stretch/>
        </p:blipFill>
        <p:spPr>
          <a:xfrm>
            <a:off x="4788000" y="2708280"/>
            <a:ext cx="3960720" cy="3960720"/>
          </a:xfrm>
          <a:prstGeom prst="rect">
            <a:avLst/>
          </a:prstGeom>
          <a:ln w="0">
            <a:noFill/>
          </a:ln>
        </p:spPr>
      </p:pic>
      <p:sp>
        <p:nvSpPr>
          <p:cNvPr id="4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95280" y="277920"/>
            <a:ext cx="8291520" cy="14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лнечная активность характеризуется различными факторам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лнечными вспышк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1" name="Рисунок 4" descr="eit195"/>
          <p:cNvPicPr/>
          <p:nvPr/>
        </p:nvPicPr>
        <p:blipFill>
          <a:blip r:embed="rId1"/>
          <a:stretch/>
        </p:blipFill>
        <p:spPr>
          <a:xfrm>
            <a:off x="1258920" y="2997360"/>
            <a:ext cx="6840360" cy="3421080"/>
          </a:xfrm>
          <a:prstGeom prst="rect">
            <a:avLst/>
          </a:prstGeom>
          <a:ln w="0">
            <a:noFill/>
          </a:ln>
        </p:spPr>
      </p:pic>
      <p:sp>
        <p:nvSpPr>
          <p:cNvPr id="4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24000" y="277920"/>
            <a:ext cx="8362800" cy="14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лнечная активность характеризуется различными факторам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8920" y="2133360"/>
            <a:ext cx="4032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лнечными протуберанц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5" name="Рисунок 4" descr="Солнце"/>
          <p:cNvPicPr/>
          <p:nvPr/>
        </p:nvPicPr>
        <p:blipFill>
          <a:blip r:embed="rId1"/>
          <a:stretch/>
        </p:blipFill>
        <p:spPr>
          <a:xfrm>
            <a:off x="4284720" y="2190600"/>
            <a:ext cx="4859280" cy="4667400"/>
          </a:xfrm>
          <a:prstGeom prst="rect">
            <a:avLst/>
          </a:prstGeom>
          <a:ln w="0">
            <a:noFill/>
          </a:ln>
        </p:spPr>
      </p:pic>
      <p:sp>
        <p:nvSpPr>
          <p:cNvPr id="4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8686800" cy="18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 начале 11-летнего цикла солнечной активности, после минимума W:</a:t>
            </a: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85228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ятна появляются вдали от экватора Солнца, на широтах примерно 30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течение цикла зона пятен спускается до 15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в максимуме и до 8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следующем минимум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лее на высотах более 30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образуются новые группы пятен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Рисунок 2" descr="bfly"/>
          <p:cNvPicPr/>
          <p:nvPr/>
        </p:nvPicPr>
        <p:blipFill>
          <a:blip r:embed="rId1"/>
          <a:stretch/>
        </p:blipFill>
        <p:spPr>
          <a:xfrm>
            <a:off x="179280" y="0"/>
            <a:ext cx="8856720" cy="6877080"/>
          </a:xfrm>
          <a:prstGeom prst="rect">
            <a:avLst/>
          </a:prstGeom>
          <a:ln w="0">
            <a:noFill/>
          </a:ln>
        </p:spPr>
      </p:pic>
      <p:sp>
        <p:nvSpPr>
          <p:cNvPr id="4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/>
          </p:nvPr>
        </p:nvSpPr>
        <p:spPr>
          <a:xfrm>
            <a:off x="-360" y="259920"/>
            <a:ext cx="889308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 космической обсерватории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HO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работают различные приборы, в том числе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SCO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SCO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3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формация с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HO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поступает на Землю в режиме реального времен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3" name="Рисунок 7" descr="Сохо"/>
          <p:cNvPicPr/>
          <p:nvPr/>
        </p:nvPicPr>
        <p:blipFill>
          <a:blip r:embed="rId1"/>
          <a:stretch/>
        </p:blipFill>
        <p:spPr>
          <a:xfrm>
            <a:off x="468360" y="1962000"/>
            <a:ext cx="7991280" cy="4521240"/>
          </a:xfrm>
          <a:prstGeom prst="rect">
            <a:avLst/>
          </a:prstGeom>
          <a:ln w="0">
            <a:noFill/>
          </a:ln>
        </p:spPr>
      </p:pic>
      <p:sp>
        <p:nvSpPr>
          <p:cNvPr id="4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4:34:40Z</dcterms:created>
  <dc:creator>Vladimir A. Marchenko</dc:creator>
  <dc:description/>
  <dc:language>en-US</dc:language>
  <cp:lastModifiedBy>LEGION</cp:lastModifiedBy>
  <dcterms:modified xsi:type="dcterms:W3CDTF">2015-01-12T14:27:38Z</dcterms:modified>
  <cp:revision>36</cp:revision>
  <dc:subject/>
  <dc:title>Анализ влияния солнечной активности  на климат Земл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611000000000001023620</vt:lpwstr>
  </property>
</Properties>
</file>