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345D-E8DF-4001-BD05-C41870F6F4D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XX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ек космонав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436F-AD2E-48E6-944D-C5554554991B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Космос народному хозяйств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осмонавтика играет все большую роль в нашей жизни, принося ощутимый экономический эффект, используемый для решения многих народно-хозяйствен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9103-612B-4697-9C7E-DEAA02FB2B4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первые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 ми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«Человечество не останется вечно на Земле, но, в погоне за светом и пространством, сначала робко проникнет за пределы атмосферы, а затем завоюет себе всё околосолнеч-ное пространство.»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К.Э. Циолк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69E6-D435-4CBF-B35F-9AA3CFE2C4C1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К.Э. Циолков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Выдающийся русский ученый впервые в истории человечества разработал теорию проникновения в космическое простр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E19B-7025-46DF-801E-53966D6CB179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Calibri"/>
              </a:rPr>
              <a:t>4 октября 1957 г. </a:t>
            </a: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Начало космической э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Благодаря работе ученых С.П. Королева и М.В. Келдыша впервые в истории мира на орбите оказался первый искус-ственный спутник Земли. На борту второго спутника было живое существо – собака Лайк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C107-B178-4FED-8E21-3DF08AEBD2A8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12 апреля 1961 г.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ервый полет человека в косм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Юрий Алексеевич Гагарин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за 108 минут совершил кругосветное космическое путешествие.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Этот день стал Днем космонавтики, который отмечают на всех континентах Земли.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BD91-BBC1-4109-900A-EC378F630AFC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Первый групповой полет в косм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Впервые над планетой летели сразу два космических корабля «Восток-3» «Восток-4» которые установили между собой ус тойчивую радиосвязь. В это время из космоса впервые велись телевизионные перед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9744-C9E9-4C68-83A9-258CDC4BB10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Первый полет женщины в космо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Женщина в космосе! Впервые в мире на околоземной орбите оказалась Валентина Владимировна Терешкова. «Чайка» - такой позывной Терешковой – летала в космосе около 70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8F58-9A3F-42BE-B318-468AE62EB8F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ервый выход человека в косм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Во время полета космического корабля «Восход-2» на втором витке вокруг Земли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                  А.А. Леонов в специальном скафандре с автономной системой жизнеобеспечения впервые в мире вышел из корабля в космическое простра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8CD4-FF61-4383-B9A3-55D60403CB46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сследование Лу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Самым популярным космическим автоматом стал «Луноход-1» - первый в истории передвигающийся аппарат, доставленный на Луну станцией «Луна-17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28B4-6F77-493C-8147-0A92FAA80A96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DEE7-EA4D-4954-886B-831D74A5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C589-9E61-4B4E-9B02-C43BB77F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CD2D-DC6A-4080-9723-A3163EA5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762B-2382-4263-9E8C-81095387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552C-C115-4601-9896-A31722A6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D032-7699-45A8-B615-B4C604B3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6074-25EF-488B-B50D-A4AE4DFB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C758-E3B7-42C6-90EF-F45E305D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2B9B-0647-4B50-82C7-027C6899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F918-3487-4D81-8CB4-4A9C2D01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2A36-EA94-4A4C-89A2-88D4682C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8068-5A39-4275-8E7A-75023958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0755-1599-4DB1-BC60-56B3DA21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DFBB-D48D-4861-A631-C6D0C1FC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DC9B-C579-44CB-9238-B3AA97F4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6FDE-F88F-406D-9F28-3000893D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A5A2-E213-45A2-B68F-5DC1AB95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C1C1-41F2-46A6-88CB-CE737699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BE55-7E24-4120-9520-27E8EC21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9D8D-4CE7-4DF0-817F-61523094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4D1B-2734-4F0C-B5A5-05A16C40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F08E-6F7D-4002-BE06-ADD19044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E40C-4621-4227-8D9E-FD0A21CE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F562-53DD-43E7-BB81-200CE39D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1027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1029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1030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9437-CBD5-4688-8797-79C90A8D76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B620-BFB9-4D4A-86ED-AC6487E1FAF7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APOLLO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5"/>
          <p:cNvSpPr txBox="1"/>
          <p:nvPr/>
        </p:nvSpPr>
        <p:spPr>
          <a:xfrm>
            <a:off x="609480" y="1066680"/>
            <a:ext cx="7848720" cy="579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XX ве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ек космонавти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9" descr="Копия (6) KB1_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8120" y="4568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Космос народному хозяйству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00400" y="1980720"/>
            <a:ext cx="5562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осмонавтика играет все большую роль в нашей жизни, принося ощутимый экономический эффект, используемый для решения многих народно-хозяйственных задач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7" name="Picture 8" descr="Копия (6) сканирование0017"/>
          <p:cNvPicPr/>
          <p:nvPr/>
        </p:nvPicPr>
        <p:blipFill>
          <a:blip r:embed="rId2"/>
          <a:stretch/>
        </p:blipFill>
        <p:spPr>
          <a:xfrm>
            <a:off x="304920" y="380880"/>
            <a:ext cx="2635200" cy="6207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SB91011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Копия (4) сканирование0006"/>
          <p:cNvPicPr/>
          <p:nvPr/>
        </p:nvPicPr>
        <p:blipFill>
          <a:blip r:embed="rId2"/>
          <a:stretch/>
        </p:blipFill>
        <p:spPr>
          <a:xfrm>
            <a:off x="380880" y="304920"/>
            <a:ext cx="2749680" cy="6264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81280" y="6091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Впервые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в мире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809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«Человечество не останется вечно на Земле, но, в погоне за светом и пространством, сначала робко проникнет за пределы атмосферы, а затем завоюет себе всё околосолнеч-ное пространство.»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К.Э. Циолковски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1" descr="Копия (5) KB1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К.Э. Циолковский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90960" y="1599840"/>
            <a:ext cx="2971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Выдающийся русский ученый впервые в истории человечества разработал теорию проникновения в космическое пространств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6" descr="Копия (2) сканирование0007"/>
          <p:cNvPicPr/>
          <p:nvPr/>
        </p:nvPicPr>
        <p:blipFill>
          <a:blip r:embed="rId2"/>
          <a:stretch/>
        </p:blipFill>
        <p:spPr>
          <a:xfrm>
            <a:off x="457200" y="2819520"/>
            <a:ext cx="2900520" cy="358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Копия сканирование0008"/>
          <p:cNvPicPr/>
          <p:nvPr/>
        </p:nvPicPr>
        <p:blipFill>
          <a:blip r:embed="rId3"/>
          <a:stretch/>
        </p:blipFill>
        <p:spPr>
          <a:xfrm>
            <a:off x="2819520" y="1447920"/>
            <a:ext cx="2666880" cy="39621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7060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9880" y="1066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imes New Roman"/>
              </a:rPr>
              <a:t>4 октября 1957 г. </a:t>
            </a: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Начало космической эры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038120" y="2286000"/>
            <a:ext cx="4800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Благодаря работе ученых С.П. Королева и М.В. Келдыша впервые в истории мира на орбите оказался первый искус-ственный спутник Земли. На борту второго спутника было живое существо – собака Лайк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Picture 6" descr="Копия (2) сканирование0010"/>
          <p:cNvPicPr/>
          <p:nvPr/>
        </p:nvPicPr>
        <p:blipFill>
          <a:blip r:embed="rId2"/>
          <a:stretch/>
        </p:blipFill>
        <p:spPr>
          <a:xfrm>
            <a:off x="457200" y="380880"/>
            <a:ext cx="3282840" cy="3210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Копия (2) сканирование0011"/>
          <p:cNvPicPr/>
          <p:nvPr/>
        </p:nvPicPr>
        <p:blipFill>
          <a:blip r:embed="rId3"/>
          <a:stretch/>
        </p:blipFill>
        <p:spPr>
          <a:xfrm>
            <a:off x="685800" y="3733920"/>
            <a:ext cx="2944800" cy="29448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2" descr="Копия (5) KB1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12 апреля 1961 г.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ервый полет человека в космос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55623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Юрий Алексеевич Гагарин 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за 108 минут совершил кругосветное космическое путешествие. 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Этот день стал Днем космонавтики, который отмечают на всех континентах Земли.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                                   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Picture 14" descr="Копия (6) сканирование0012"/>
          <p:cNvPicPr/>
          <p:nvPr/>
        </p:nvPicPr>
        <p:blipFill>
          <a:blip r:embed="rId2"/>
          <a:stretch/>
        </p:blipFill>
        <p:spPr>
          <a:xfrm>
            <a:off x="6172200" y="228600"/>
            <a:ext cx="275436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323034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7760" y="5331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Первый групповой полет в космос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352320" y="2819520"/>
            <a:ext cx="541044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первые над планетой летели сразу два космических корабля «Восток-3» «Восток-4» которые установили между собой ус тойчивую радиосвязь. В это время из космоса впервые велись телевизионные передачи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8" descr="Копия (6) сканирование0013"/>
          <p:cNvPicPr/>
          <p:nvPr/>
        </p:nvPicPr>
        <p:blipFill>
          <a:blip r:embed="rId2"/>
          <a:stretch/>
        </p:blipFill>
        <p:spPr>
          <a:xfrm>
            <a:off x="304920" y="228600"/>
            <a:ext cx="2635200" cy="63658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Копия 7060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ff"/>
                </a:solidFill>
                <a:latin typeface="Times New Roman"/>
              </a:rPr>
              <a:t>Первый полет женщины в космос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Женщина в космосе! Впервые в мире на околоземной орбите оказалась Валентина Владимировна Терешкова. «Чайка» - такой позывной Терешковой – летала в космосе около 70 часов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Picture 7" descr="Копия (6) сканирование0014"/>
          <p:cNvPicPr/>
          <p:nvPr/>
        </p:nvPicPr>
        <p:blipFill>
          <a:blip r:embed="rId2"/>
          <a:stretch/>
        </p:blipFill>
        <p:spPr>
          <a:xfrm>
            <a:off x="6400800" y="228600"/>
            <a:ext cx="2500200" cy="63244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Копия (3) SPACE007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004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Первый выход человека в космос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9000" y="198108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Во время полета космического корабля «Восход-2» на втором витке вокруг Земли 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                  А.А. Леонов в специальном скафандре с автономной системой жизнеобеспечения впервые в мире вышел из корабля в космическое пространство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8" descr="Копия (6) сканирование0015"/>
          <p:cNvPicPr/>
          <p:nvPr/>
        </p:nvPicPr>
        <p:blipFill>
          <a:blip r:embed="rId2"/>
          <a:stretch/>
        </p:blipFill>
        <p:spPr>
          <a:xfrm>
            <a:off x="304920" y="228600"/>
            <a:ext cx="2779560" cy="64771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Копия (3) FARS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Исследование Луны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7240" y="1904760"/>
            <a:ext cx="5181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Самым популярным космическим автоматом стал «Луноход-1» - первый в истории передвигающийся аппарат, доставленный на Луну станцией «Луна-17»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Picture 7" descr="Копия (6) сканирование0016"/>
          <p:cNvPicPr/>
          <p:nvPr/>
        </p:nvPicPr>
        <p:blipFill>
          <a:blip r:embed="rId2"/>
          <a:stretch/>
        </p:blipFill>
        <p:spPr>
          <a:xfrm>
            <a:off x="304920" y="228600"/>
            <a:ext cx="2819160" cy="63738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20:53:22Z</dcterms:created>
  <dc:creator>Nick</dc:creator>
  <dc:description/>
  <dc:language>en-US</dc:language>
  <cp:lastModifiedBy>LEGION</cp:lastModifiedBy>
  <dcterms:modified xsi:type="dcterms:W3CDTF">2015-01-13T07:43:14Z</dcterms:modified>
  <cp:revision>25</cp:revision>
  <dc:subject/>
  <dc:title>Презентация PowerPoint</dc:title>
</cp:coreProperties>
</file>