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483B-B0F3-4910-A4F1-38BAB9311C0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XX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ек космонав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24EC-3062-4255-B6CE-389B84FB8CE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Космос народному хозяйст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осмонавтика играет все большую роль в нашей жизни, принося ощутимый экономический эффект, используемый для решения многих народно-хозяйств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B7EB-778B-4BE9-B4DD-B10A17F5D17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первы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 ми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«Человечество не останется вечно на Земле, но, в погоне за светом и пространством, сначала робко проникнет за пределы атмосферы, а затем завоюет себе всё околосолнеч-ное пространство.»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К.Э. Циол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C344-9A0A-4D9C-A59B-3D4D709B90B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К.Э. Циолков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Выдающийся русский ученый впервые в истории человечества разработал теорию проникновения в космическое простр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CD7E-6138-459F-B1E8-26721323CF6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Calibri"/>
              </a:rPr>
              <a:t>4 октября 1957 г. </a:t>
            </a:r>
            <a:r>
              <a:rPr b="1" lang="ru-RU" sz="1200" spc="-1" strike="noStrike">
                <a:solidFill>
                  <a:srgbClr val="00ff00"/>
                </a:solidFill>
                <a:latin typeface="Calibri"/>
              </a:rPr>
              <a:t>Начало космической э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Благодаря работе ученых С.П. Королева и М.В. Келдыша впервые в истории мира на орбите оказался первый искус-ственный спутник Земли. На борту второго спутника было живое существо – собака Лайк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9EA6-E7A3-4AAB-9B1D-8A8758E6856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12 апреля 1961 г.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вый полет человека в косм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Юрий Алексеевич Гагарин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за 108 минут совершил кругосветное космическое путешествие.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Этот день стал Днем космонавтики, который отмечают на всех континентах Земли.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5749-2601-453F-8B94-728C71F4351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libri"/>
              </a:rPr>
              <a:t>Первый групповой полет в косм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первые над планетой летели сразу два космических корабля «Восток-3» «Восток-4» которые установили между собой ус тойчивую радиосвязь. В это время из космоса впервые велись телевизионные пере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9411-591E-4288-B2E0-4097D1F8487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Calibri"/>
              </a:rPr>
              <a:t>Первый полет женщины в косм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Женщина в космосе! Впервые в мире на околоземной орбите оказалась Валентина Владимировна Терешкова. «Чайка» - такой позывной Терешковой – летала в космосе около 70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8477-282C-4BFA-8645-3288E99B4A4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ервый выход человека в косм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Во время полета космического корабля «Восход-2» на втором витке вокруг Земли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                  А.А. Леонов в специальном скафандре с автономной системой жизнеобеспечения впервые в мире вышел из корабля в космическое простра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7497-3AF4-4102-BC14-09F7D2EBF73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сследование Л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Самым популярным космическим автоматом стал «Луноход-1» - первый в истории передвигающийся аппарат, доставленный на Луну станцией «Луна-17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001D-F19C-4631-8D20-C5BC05B6C2F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390E-FA30-4E8D-9F78-8830890F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FF01-DE91-43CF-8FA2-A67E7184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3F6-638E-43B5-91DE-7486414E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7E4A-AF1F-424E-94AE-76ED24A7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B224-120B-43B6-A121-8FF924B9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40B4-B81C-4AF0-8D79-258987BC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2C45-32E1-4311-B695-9A29E227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7FD7-E666-4140-9AF5-F43FEA03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20E6-8D6D-426B-8D45-4EE9CE16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0128-4372-4D4D-8706-ECFFC071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F894-3CF5-41B0-863B-4B650FD0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C9CB-0AFD-47C4-8EA9-ADB268E6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394F-B596-42DC-B5BF-66690687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5F3B-9A06-435C-8925-A24205F9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5E4A-B0C5-43CD-A2DD-1DF6D031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7A12-35E4-40B6-BA9B-F69D9E52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9B63-98D9-471E-B271-A72203FB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7FA-F004-49E7-92B2-E2EB1B48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90AC-C9D2-4DF3-A03A-8A175B1A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2A16-B262-4455-AA9F-48991C8B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6C5-932C-4D58-BB30-E9914645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11F6-14D5-48F5-ABA6-22AF80CB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D184-E831-4AB0-AE35-D5377F93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716-9900-4C25-8EE0-2B7ABE42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1027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1029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1030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2912-1AC5-4E88-A35F-E936F75311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2D45-04EB-4BBB-A7C8-6F6FC8D77EDE}" type="slidenum">
              <a:rPr b="0" lang="ru-R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APOLLO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>
            <a:off x="609480" y="1066680"/>
            <a:ext cx="784872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XX ве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ек космонавти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9" descr="Копия (6) KB1_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8120" y="456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Космос народному хозяйству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00400" y="1980720"/>
            <a:ext cx="556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осмонавтика играет все большую роль в нашей жизни, принося ощутимый экономический эффект, используемый для решения многих народно-хозяйственных задач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Picture 8" descr="Копия (6) сканирование0017"/>
          <p:cNvPicPr/>
          <p:nvPr/>
        </p:nvPicPr>
        <p:blipFill>
          <a:blip r:embed="rId2"/>
          <a:stretch/>
        </p:blipFill>
        <p:spPr>
          <a:xfrm>
            <a:off x="304920" y="380880"/>
            <a:ext cx="2635200" cy="6207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SB91011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Копия (4) сканирование0006"/>
          <p:cNvPicPr/>
          <p:nvPr/>
        </p:nvPicPr>
        <p:blipFill>
          <a:blip r:embed="rId2"/>
          <a:stretch/>
        </p:blipFill>
        <p:spPr>
          <a:xfrm>
            <a:off x="380880" y="304920"/>
            <a:ext cx="2749680" cy="6264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81280" y="6091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первые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 мире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809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«Человечество не останется вечно на Земле, но, в погоне за светом и пространством, сначала робко проникнет за пределы атмосферы, а затем завоюет себе всё околосолнеч-ное пространство.»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К.Э. Циолковски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1" descr="Копия (5) KB1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К.Э. Циолковский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2971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Выдающийся русский ученый впервые в истории человечества разработал теорию проникновения в космическое пространств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6" descr="Копия (2) сканирование0007"/>
          <p:cNvPicPr/>
          <p:nvPr/>
        </p:nvPicPr>
        <p:blipFill>
          <a:blip r:embed="rId2"/>
          <a:stretch/>
        </p:blipFill>
        <p:spPr>
          <a:xfrm>
            <a:off x="457200" y="2819520"/>
            <a:ext cx="2900520" cy="358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Копия сканирование0008"/>
          <p:cNvPicPr/>
          <p:nvPr/>
        </p:nvPicPr>
        <p:blipFill>
          <a:blip r:embed="rId3"/>
          <a:stretch/>
        </p:blipFill>
        <p:spPr>
          <a:xfrm>
            <a:off x="2819520" y="1447920"/>
            <a:ext cx="2666880" cy="39621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7060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880" y="1066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imes New Roman"/>
              </a:rPr>
              <a:t>4 октября 1957 г. 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Начало космической эры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038120" y="2286000"/>
            <a:ext cx="4800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Благодаря работе ученых С.П. Королева и М.В. Келдыша впервые в истории мира на орбите оказался первый искус-ственный спутник Земли. На борту второго спутника было живое существо – собака Лайк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Picture 6" descr="Копия (2) сканирование0010"/>
          <p:cNvPicPr/>
          <p:nvPr/>
        </p:nvPicPr>
        <p:blipFill>
          <a:blip r:embed="rId2"/>
          <a:stretch/>
        </p:blipFill>
        <p:spPr>
          <a:xfrm>
            <a:off x="457200" y="380880"/>
            <a:ext cx="3282840" cy="3210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Копия (2) сканирование0011"/>
          <p:cNvPicPr/>
          <p:nvPr/>
        </p:nvPicPr>
        <p:blipFill>
          <a:blip r:embed="rId3"/>
          <a:stretch/>
        </p:blipFill>
        <p:spPr>
          <a:xfrm>
            <a:off x="685800" y="373392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2" descr="Копия (5) KB1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2 апреля 1961 г.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ервый полет человека в космос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55623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Юрий Алексеевич Гагарин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за 108 минут совершил кругосветное космическое путешествие.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Этот день стал Днем космонавтики, который отмечают на всех континентах Земли.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                         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Picture 14" descr="Копия (6) сканирование0012"/>
          <p:cNvPicPr/>
          <p:nvPr/>
        </p:nvPicPr>
        <p:blipFill>
          <a:blip r:embed="rId2"/>
          <a:stretch/>
        </p:blipFill>
        <p:spPr>
          <a:xfrm>
            <a:off x="6172200" y="228600"/>
            <a:ext cx="275436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323034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7760" y="5331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Первый групповой полет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52320" y="2819520"/>
            <a:ext cx="54104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первые над планетой летели сразу два космических корабля «Восток-3» «Восток-4» которые установили между собой ус тойчивую радиосвязь. В это время из космоса впервые велись телевизионные передачи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8" descr="Копия (6) сканирование0013"/>
          <p:cNvPicPr/>
          <p:nvPr/>
        </p:nvPicPr>
        <p:blipFill>
          <a:blip r:embed="rId2"/>
          <a:stretch/>
        </p:blipFill>
        <p:spPr>
          <a:xfrm>
            <a:off x="304920" y="228600"/>
            <a:ext cx="2635200" cy="6365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Копия 7060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Times New Roman"/>
              </a:rPr>
              <a:t>Первый полет женщины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Женщина в космосе! Впервые в мире на околоземной орбите оказалась Валентина Владимировна Терешкова. «Чайка» - такой позывной Терешковой – летала в космосе около 70 часов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Picture 7" descr="Копия (6) сканирование0014"/>
          <p:cNvPicPr/>
          <p:nvPr/>
        </p:nvPicPr>
        <p:blipFill>
          <a:blip r:embed="rId2"/>
          <a:stretch/>
        </p:blipFill>
        <p:spPr>
          <a:xfrm>
            <a:off x="6400800" y="228600"/>
            <a:ext cx="2500200" cy="6324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Копия (3) SPACE007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004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Первый выход человека в космос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9000" y="198108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Во время полета космического корабля «Восход-2» на втором витке вокруг Земли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                  А.А. Леонов в специальном скафандре с автономной системой жизнеобеспечения впервые в мире вышел из корабля в космическое пространство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8" descr="Копия (6) сканирование0015"/>
          <p:cNvPicPr/>
          <p:nvPr/>
        </p:nvPicPr>
        <p:blipFill>
          <a:blip r:embed="rId2"/>
          <a:stretch/>
        </p:blipFill>
        <p:spPr>
          <a:xfrm>
            <a:off x="304920" y="228600"/>
            <a:ext cx="2779560" cy="64771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Копия (3) FARS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Исследование Луны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7240" y="1904760"/>
            <a:ext cx="5181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imes New Roman"/>
              </a:rPr>
              <a:t>Самым популярным космическим автоматом стал «Луноход-1» - первый в истории передвигающийся аппарат, доставленный на Луну станцией «Луна-17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7" descr="Копия (6) сканирование0016"/>
          <p:cNvPicPr/>
          <p:nvPr/>
        </p:nvPicPr>
        <p:blipFill>
          <a:blip r:embed="rId2"/>
          <a:stretch/>
        </p:blipFill>
        <p:spPr>
          <a:xfrm>
            <a:off x="304920" y="228600"/>
            <a:ext cx="2819160" cy="6373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20:53:22Z</dcterms:created>
  <dc:creator>Nick</dc:creator>
  <dc:description/>
  <dc:language>en-US</dc:language>
  <cp:lastModifiedBy>LEGION</cp:lastModifiedBy>
  <dcterms:modified xsi:type="dcterms:W3CDTF">2015-01-13T07:43:14Z</dcterms:modified>
  <cp:revision>25</cp:revision>
  <dc:subject/>
  <dc:title>Презентация PowerPoint</dc:title>
</cp:coreProperties>
</file>