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B7E6-97F0-465B-89BF-7A27198179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еты солнеч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8876-8EF5-4A4F-B856-0A801F9CD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состоит из камня и металлов и имеет сложное стро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281B-FB61-4927-B9DD-634722B2D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Земля исходит от первоначального корня, который несёт в себе смысл «низк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2859-8F2D-427A-94CD-2F6AE053C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80D0-6C7A-4F17-BF74-A994D9ED0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AA71-361F-424D-84E8-E17F9C394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A0A8-3A9A-4A72-8909-4C0E104059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2A8F-B25F-4461-991C-5CB2EEE01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 имеет цветастую атмосферу. В атмосфере постоянно бушуют мощные ура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DDA5-DF68-484C-AD1B-B7B34898A3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имеет 16 спу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E5D4-CC30-4864-BDA2-7A688F8A6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а в честь самого главного римского бога – Юпи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AD7E-8E14-492B-9B5B-88C091292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04F1-CA86-4F0E-A2A9-599BCCD919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 назван в честь римского бога землед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6A61-271D-4C15-A801-7A81E215E6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маленького каменного ядра и замёрзши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5C16-235D-42DD-9AC1-F2B57F624A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греческого бога неба Ур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2813-7BE6-4F22-8C5F-5BD10B92B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ту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F477-B143-4FF2-A6A1-3432B1AA10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ептун носит имя римского бога мо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3E0C-C891-4A8A-A63D-530B5A912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0035-6D69-4449-8DD8-A6FDA32D2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 назван в честь римского бога – повелителя царства мёрт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0112-516F-4883-8DF6-C361ACE48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1083-5181-4316-8F32-8FD4D2C88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кур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B97D-D10A-4383-A544-E63DBBB7E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ркурии нет атмосферы и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лнечной стороне – очень жарко, а на противоположной – ледяной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2701-7EBE-4C0B-8141-45B04A6559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римского бога торговли –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2666-D41E-46B8-9AC6-F4A8E0A0E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D6B7-1391-47C3-A579-3130A60C1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255E-BA00-4BE3-8AEF-9F659978C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богини красоты – Вен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991C-23A0-4F52-8200-108DC24E9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3E3F-1DE4-4B5A-AF81-215FF28944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185-4A28-482A-9631-337F055D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BA9-9B6C-4CCA-BCC7-C64085F3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68E-36FD-44C0-9849-B0329922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D03-B686-4B20-8BC9-6F7CC60F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6875-4547-4E90-B859-26DE978F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361F-BEAC-44FD-8736-F3E99C2E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0D32-152E-4564-9F43-CF56C88D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D798-44E4-4FB2-912D-0533076C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19F1-E3B9-4B2A-8BB1-26B0289B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B4DA-9533-4602-9656-DCD08799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7CAF-627F-4DFD-A340-7DA754B6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E73-D1DA-4C26-B156-1E7CA792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1241-B383-4E0B-A2B0-93DC17B7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873A-0AB9-46E1-87EE-2BFC9892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ED22-F2D8-4CFE-A02F-B1310F89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307D-8288-40D6-A629-BF374AEE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8FD1-D8EC-4073-A3CC-C61113CF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256-E097-4A26-A1AC-D0867959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367-C80D-43E5-B30F-49520988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D80-F8FB-4906-AB64-42A7D96B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2F4-EAFE-4F06-BAF4-D33F04DA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29A-A303-4559-AE29-54272797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5E5-A9D3-46CC-A246-ED8E2D22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206-AF5B-43EA-AFB2-D422F665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5730-4FC5-457A-8975-47DDCA4FD6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F45F-F571-457A-BC6D-E7B3DDD2E3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447920" y="2057400"/>
            <a:ext cx="4554360" cy="4525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533520" y="609480"/>
            <a:ext cx="7991280" cy="6010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2895480"/>
            <a:ext cx="3676680" cy="36576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609480" y="1117440"/>
            <a:ext cx="7391520" cy="57405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LEGION</cp:lastModifiedBy>
  <dcterms:modified xsi:type="dcterms:W3CDTF">2015-01-13T12:32:46Z</dcterms:modified>
  <cp:revision>33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