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63CE-C91F-4E59-B143-11C5164BA3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еты солнеч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F6AE-39E6-40A7-916F-7E1B52FE3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состоит из камня и металлов и имеет сложное стро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5999-CA01-42BA-BB52-52E529AE42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Земля исходит от первоначального корня, который несёт в себе смысл «низк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CC0D-7E84-407F-B514-7D6B4736D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4911-6862-4910-926F-A3E06F708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BE09-B79A-4C71-97C2-4EDAD4610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08FD-DC16-47AB-886E-F9C231D40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32F8-59AD-41C9-A820-93591605C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 имеет цветастую атмосферу. В атмосфере постоянно бушуют мощные ура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F870-E6C3-4247-B80F-43C7651072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имеет 16 спу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CBB2-FD06-459D-BCAA-222A1AD91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а в честь самого главного римского бога – Юпи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9680-A472-4EDA-848C-CCA0FAF23F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4FFE-2557-4687-8A7E-50B1ABF50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 назван в честь римского бога землед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A16D-FF2F-40DA-8117-D6B9C252C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маленького каменного ядра и замёрзши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4025-75A8-409E-BB0D-7CC346C3E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греческого бога неба Ур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A768-8D2C-4F86-B20A-7626C4992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ту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5B54-7A0F-4446-B573-053096523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ептун носит имя римского бога мо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FA9B-73D6-407A-9D68-48E4B5E076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B8FF-AB6F-4E99-B747-659BEDA829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 назван в честь римского бога – повелителя царства мёрт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E0CB-70C1-4F64-8198-80E3780390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23A3-B782-48EA-B9F3-0D5002A56E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кур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20EE-7A9F-40A3-ADFE-898046B45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ркурии нет атмосферы и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лнечной стороне – очень жарко, а на противоположной – ледяной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F97A-441C-40BC-BF0F-2F6227787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римского бога торговли –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9CB1-3AA1-4EC6-9785-8914AEA3D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A80E-59B8-47CC-B485-4218DD7D3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9E67-7272-488D-849B-782220AAA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богини красоты – Вен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5CDA-984D-4FFB-B385-A1C8134F6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5D58-C817-4262-8867-975E0301C2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BF1-5440-405E-B742-FE982D0B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D65-CC82-4F0B-B077-F667D8B6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721-97E0-4B78-BCD5-A799BA5E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4A1-77FB-4774-A24E-1F9FD96D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4288-8DE7-46E4-A16D-71DE6397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04A2-A1EF-4802-BCB0-080F02C6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97AF-AF14-4DFE-BAA9-11D35969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518E-4A1C-4ACB-8DE2-C3F08D0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143D-3B82-4F37-8E34-85427216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0FC0-AE38-4685-8266-C0664D6E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ACAA-3C48-4493-92DB-2EA7352E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0C0-6DF2-47D1-A0AD-18948B67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7250-B43A-499D-8F72-88FBDB79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03A0-A67E-47D5-A20A-18CBB355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50E3-C18E-4B22-BA90-C498B85F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CBCC-88DC-4912-8924-28B47769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FE04-DFA9-4DA5-8CCB-5F26AF3E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D10-3BE4-4F7C-981A-0F994462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CD5-7B4D-4E1F-8FC8-E9C2ABA5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2F2-EFD0-4EE5-AE9E-65E8EEDE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343-D504-4C31-9157-7A786ED8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CE8-5A26-481E-A608-A270A76D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299-6E05-4AA9-B903-1AF62C8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496-0C88-477C-B69B-6B4518A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F516-0BF2-467D-8C60-764DD3BF29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E551-012D-4F02-98E0-1895413956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609480"/>
            <a:ext cx="7991280" cy="6010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EGION</cp:lastModifiedBy>
  <dcterms:modified xsi:type="dcterms:W3CDTF">2015-01-13T12:32:46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