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7.png" ContentType="image/png"/>
  <Override PartName="/ppt/media/image34.jpeg" ContentType="image/jpeg"/>
  <Override PartName="/ppt/media/image36.jpeg" ContentType="image/jpe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BAB4-9AFE-4522-B29D-5EB69406C1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ые и планетарные туманности в процессе эволюции галакт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454D-096E-4605-875D-7C88280903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 – разновидность диффузных туманнос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8812-D144-46F4-8466-8B56B42EEA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нтре планетарных туманностей находится звезд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относится к тип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5126-2CA5-4791-9BBA-20E599FD37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7BB8-8B19-49B4-A98B-01189E30FE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 27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Лисич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D2F9-1596-4219-A6BC-4F90716B07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Кошачий глаз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3CA8-8C89-475C-8608-8E175CE55E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945F-F236-466D-990E-8B16CCCE34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Эскимос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C904-6865-4D67-9776-AE5D16FCFB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5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6000-8D05-4FFF-B7A8-60DFF3996E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412F-6B77-40A7-82E8-C7477EEA50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6EA6-4C25-4A94-9AC5-FD679F3BE8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ежзвездной среде открыты огромные холодные области -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ярные облак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 температурой 5 – 50 К и очень горячий газ с температурой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К –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ронарный га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C7E4-286D-4010-A899-43034D8201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ая 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нская Голов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C0CB-796C-4008-AE42-E82774491F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урительная Труб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06B9-28F1-43FE-A00F-E7E37B577E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жный Угольный Меш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8D57-18FA-4519-88DF-9A18FA38C9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звез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образуются в результате гравитационной неустойчивости в холодных и плот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х облаках, поэтому звёзды рождаются группами, скоплениями, комплекс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A1C8-7492-42BF-8A10-EC6CEBEC94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A1C5-F0D4-4815-8231-59BCD20A26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красное излуч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 нашей Гал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35A8-CD50-42E0-9527-87E885BCBD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а активного звездообразования – холодные струи г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213B-247D-4242-BA71-B68EC732B4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планетные д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BBD9-C68B-4524-81A0-2C7B2EB4A7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Орио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1D2F-98E0-40C8-80FD-2543503809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мки космическим телескоп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4F84-87CD-4862-A6D2-1FD0F1CFB2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иффузные туман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неправильную фор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т из межзвёздной пыли и га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486D-AA26-4E0B-8965-1DD599913F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Ориона (центральная час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7E23-243A-405F-BE8A-D591BEEECC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Трехразд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BFC4-72A8-4142-8B46-EB708CFF6E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Омег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A656-A774-425F-8D46-3BE8791D14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Лагун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C39A-6BA8-4A84-B551-28D6ADE2C4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бовидная туманность М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FCAA-6E53-4F4B-AA3A-2FD7F0F64F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Розе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BE43-5F29-4AD7-AC07-5A29A954B2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1F2-21CB-4FAD-8646-689A75C3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D85-3518-4D19-A1A5-69828362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B1D-D2A6-40A2-BE52-48A599EC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EA5-48BD-4021-BA88-31F56D29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8ADB-4E98-4BC4-BA08-97FB5B02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CDB2-7BCC-4200-ABC1-85A14427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6104-D876-441C-811B-9E87616C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CA0A-9DA5-4D73-BA18-07D433EA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2299-F045-4D96-951C-DA391322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DF0C-29B0-45DE-BC9B-5F414DB9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F02F-D23D-4A4D-8AAD-EBD36623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A6B-04AA-4C36-A2B0-6C68183C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6ACB-8FD3-4433-AF9B-DAABA70C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EC30-F6F9-4CA1-9EA9-F5F1A5A9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9928-0855-4A18-8D61-A95DBFD1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6705-705C-411D-A085-D7CB1983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3713-BD98-4AB4-9394-041DC45E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EAD1B-6850-44D9-B3C3-258CDF9C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6D740-160D-4795-9F21-304CCB89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0A30F-A51E-4206-A2FB-1499923E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80F2D-712D-460C-9044-55ECB328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3ADC1-7A1F-4CE4-9852-22ACFF43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75F-077D-4B83-B805-B7CC7F16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E935-5913-4464-9FCF-EC6E0E03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71F1F-D875-4171-B48A-703A9E44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0903B-2A2D-4640-B790-8F942B8A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5F81A-D35E-46F3-A8B1-E53B5189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AB522-347F-4D0D-B842-F1DCE58B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311DD-5751-4A61-97B0-75948744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6149-3A01-47F2-AC79-9E610EB8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6C9-E985-4AEB-B085-5E04C79D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6D9-0257-4113-B3A2-EA505F1C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AEE-0626-4623-8BB7-69A1CBC3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546-0A03-4DD7-8FB3-450C8DB7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21F-6D84-427F-8844-3C8C9A77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9E6-EA06-4FCD-9A3D-0258FC12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305E-9D3B-4CF8-824D-BA02CB2988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8199-721F-4611-87F2-590A736296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239E-D462-4D84-8B5D-391C3955C8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64332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ые и планетарные туманности в процессе эволюции галактик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9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57120" y="2286000"/>
            <a:ext cx="4560840" cy="3357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Трехраздельная туманность"/>
          <p:cNvPicPr/>
          <p:nvPr/>
        </p:nvPicPr>
        <p:blipFill>
          <a:blip r:embed="rId2"/>
          <a:stretch/>
        </p:blipFill>
        <p:spPr>
          <a:xfrm>
            <a:off x="4214880" y="3714840"/>
            <a:ext cx="3689280" cy="2428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Диффузная Туманность Ориона 2"/>
          <p:cNvPicPr/>
          <p:nvPr/>
        </p:nvPicPr>
        <p:blipFill>
          <a:blip r:embed="rId3"/>
          <a:stretch/>
        </p:blipFill>
        <p:spPr>
          <a:xfrm>
            <a:off x="6143760" y="2071800"/>
            <a:ext cx="2455560" cy="20160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ланетарные туманности – разновидность диффузных туманност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 центре планетарных туманностей находится звезда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относится к типу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RV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с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</a:t>
            </a: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2440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5" name="Picture 3" descr="Планетарная туманность NGC 2440"/>
          <p:cNvPicPr/>
          <p:nvPr/>
        </p:nvPicPr>
        <p:blipFill>
          <a:blip r:embed="rId1"/>
          <a:stretch/>
        </p:blipFill>
        <p:spPr>
          <a:xfrm>
            <a:off x="539640" y="1131840"/>
            <a:ext cx="7848720" cy="57261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Планетарная туманност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М 27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«Лисичка»</a:t>
            </a:r>
            <a:endParaRPr b="1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8" name="Picture 3" descr="2114"/>
          <p:cNvPicPr/>
          <p:nvPr/>
        </p:nvPicPr>
        <p:blipFill>
          <a:blip r:embed="rId1"/>
          <a:stretch/>
        </p:blipFill>
        <p:spPr>
          <a:xfrm>
            <a:off x="1908000" y="1989000"/>
            <a:ext cx="5837400" cy="486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Кошачий глаз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1" name="Picture 3" descr="Планетарная туманность Кошачий Глаз"/>
          <p:cNvPicPr/>
          <p:nvPr/>
        </p:nvPicPr>
        <p:blipFill>
          <a:blip r:embed="rId1"/>
          <a:stretch/>
        </p:blipFill>
        <p:spPr>
          <a:xfrm>
            <a:off x="1332000" y="1523880"/>
            <a:ext cx="6553080" cy="53341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</a:t>
            </a:r>
            <a:r>
              <a:rPr b="1" lang="ru-RU" sz="3600" spc="-1" strike="noStrike">
                <a:solidFill>
                  <a:srgbClr val="ffffff"/>
                </a:solidFill>
                <a:latin typeface="Corbel"/>
                <a:ea typeface="Times New Roman"/>
              </a:rPr>
              <a:t>ентральная звезда туманност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Эскимос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7" name="Picture 3" descr="Планетарная туманность Эскимос"/>
          <p:cNvPicPr/>
          <p:nvPr/>
        </p:nvPicPr>
        <p:blipFill>
          <a:blip r:embed="rId1"/>
          <a:stretch/>
        </p:blipFill>
        <p:spPr>
          <a:xfrm>
            <a:off x="1332000" y="1219320"/>
            <a:ext cx="7056360" cy="537840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543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0" name="Picture 3" descr="ngc6543"/>
          <p:cNvPicPr/>
          <p:nvPr/>
        </p:nvPicPr>
        <p:blipFill>
          <a:blip r:embed="rId1"/>
          <a:stretch/>
        </p:blipFill>
        <p:spPr>
          <a:xfrm>
            <a:off x="1371600" y="1111320"/>
            <a:ext cx="6513480" cy="574668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75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3" name="Picture 3" descr="ngc6751"/>
          <p:cNvPicPr/>
          <p:nvPr/>
        </p:nvPicPr>
        <p:blipFill>
          <a:blip r:embed="rId1"/>
          <a:stretch/>
        </p:blipFill>
        <p:spPr>
          <a:xfrm>
            <a:off x="826920" y="1547640"/>
            <a:ext cx="7417080" cy="53103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ем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странство между звездам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В межзвездной среде открыты огромные холодные области -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молекулярные облака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- с температурой 5 – 50 К и очень горячий газ с температурой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w Cen MT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 К –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коронарный газ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емная 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онская Голов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9" name="Picture 3" descr="Темная туманность Конская Голова"/>
          <p:cNvPicPr/>
          <p:nvPr/>
        </p:nvPicPr>
        <p:blipFill>
          <a:blip r:embed="rId1"/>
          <a:stretch/>
        </p:blipFill>
        <p:spPr>
          <a:xfrm>
            <a:off x="609480" y="1219320"/>
            <a:ext cx="7850160" cy="554976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урительная Трубк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Picture 3" descr="Туманность Курительная Трубка"/>
          <p:cNvPicPr/>
          <p:nvPr/>
        </p:nvPicPr>
        <p:blipFill>
          <a:blip r:embed="rId1"/>
          <a:stretch/>
        </p:blipFill>
        <p:spPr>
          <a:xfrm>
            <a:off x="755640" y="1503360"/>
            <a:ext cx="7777080" cy="515448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Южный Угольный Мешок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5" name="Picture 3" descr="Южный Угольный Мешок"/>
          <p:cNvPicPr/>
          <p:nvPr/>
        </p:nvPicPr>
        <p:blipFill>
          <a:blip r:embed="rId1"/>
          <a:stretch/>
        </p:blipFill>
        <p:spPr>
          <a:xfrm>
            <a:off x="468360" y="1773360"/>
            <a:ext cx="8316720" cy="5084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Рождение звезд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Звезды образуются в результате гравитационной неустойчивости в холодных и плотн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молекулярных облаках, поэтому звёзды рождаются группами, скоплениями, комплексами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Звезды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1" name="Picture 3" descr="Плеяды"/>
          <p:cNvPicPr/>
          <p:nvPr/>
        </p:nvPicPr>
        <p:blipFill>
          <a:blip r:embed="rId1"/>
          <a:stretch/>
        </p:blipFill>
        <p:spPr>
          <a:xfrm>
            <a:off x="971640" y="2021040"/>
            <a:ext cx="7200720" cy="483696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Инфракрасное излучение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ентра нашей Галактик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4" name="Picture 3" descr="Центр Галактики в инф лучах"/>
          <p:cNvPicPr/>
          <p:nvPr/>
        </p:nvPicPr>
        <p:blipFill>
          <a:blip r:embed="rId1"/>
          <a:stretch/>
        </p:blipFill>
        <p:spPr>
          <a:xfrm>
            <a:off x="468360" y="1628640"/>
            <a:ext cx="8244000" cy="522936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Места активного звездообразования – холодные струи газа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7" name="Picture 3" descr="Темные струи"/>
          <p:cNvPicPr/>
          <p:nvPr/>
        </p:nvPicPr>
        <p:blipFill>
          <a:blip r:embed="rId1"/>
          <a:stretch/>
        </p:blipFill>
        <p:spPr>
          <a:xfrm>
            <a:off x="1187280" y="1700280"/>
            <a:ext cx="6836040" cy="5157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4 диска в Орионе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5562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топланетные диск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1601"/>
          <p:cNvPicPr/>
          <p:nvPr/>
        </p:nvPicPr>
        <p:blipFill>
          <a:blip r:embed="rId1"/>
          <a:stretch/>
        </p:blipFill>
        <p:spPr>
          <a:xfrm>
            <a:off x="324000" y="836640"/>
            <a:ext cx="8604000" cy="58435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Ориона 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Протопланетный диск 1"/>
          <p:cNvPicPr/>
          <p:nvPr/>
        </p:nvPicPr>
        <p:blipFill>
          <a:blip r:embed="rId1"/>
          <a:stretch/>
        </p:blipFill>
        <p:spPr>
          <a:xfrm>
            <a:off x="324000" y="826920"/>
            <a:ext cx="8569080" cy="58597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Снимки космическим телескопом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се диффузные туманности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расположены около горячих звезд спектрального класса О и В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ветятся за счет мощного ультрафиолетового излучения горячих звезд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яркие эмиссионные линии в спектре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неправильную форму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остоят из межзвёздной пыли и газов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Диффузная туманность Ориона (центральная часть)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1" name="Picture 3" descr="Диффузная Туманность Ориона 2"/>
          <p:cNvPicPr/>
          <p:nvPr/>
        </p:nvPicPr>
        <p:blipFill>
          <a:blip r:embed="rId1"/>
          <a:stretch/>
        </p:blipFill>
        <p:spPr>
          <a:xfrm>
            <a:off x="1187280" y="1290600"/>
            <a:ext cx="6782040" cy="556740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Трехраздельная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4" name="Picture 3" descr="Трехраздельная туманность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Омег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7" name="Picture 4" descr="2104"/>
          <p:cNvPicPr/>
          <p:nvPr/>
        </p:nvPicPr>
        <p:blipFill>
          <a:blip r:embed="rId1"/>
          <a:stretch/>
        </p:blipFill>
        <p:spPr>
          <a:xfrm>
            <a:off x="324000" y="727200"/>
            <a:ext cx="8534160" cy="61308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Лагун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0" name="Picture 4" descr="Туманность Лагуна"/>
          <p:cNvPicPr/>
          <p:nvPr/>
        </p:nvPicPr>
        <p:blipFill>
          <a:blip r:embed="rId1"/>
          <a:stretch/>
        </p:blipFill>
        <p:spPr>
          <a:xfrm>
            <a:off x="1187280" y="762120"/>
            <a:ext cx="6705720" cy="60958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Крабовидная туманность М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3" name="Picture 3" descr="М1 Крабовидная туманность"/>
          <p:cNvPicPr/>
          <p:nvPr/>
        </p:nvPicPr>
        <p:blipFill>
          <a:blip r:embed="rId1"/>
          <a:stretch/>
        </p:blipFill>
        <p:spPr>
          <a:xfrm>
            <a:off x="539640" y="812880"/>
            <a:ext cx="8382240" cy="604512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Розетка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6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95280" y="687240"/>
            <a:ext cx="8381880" cy="61707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LEGION</cp:lastModifiedBy>
  <dcterms:modified xsi:type="dcterms:W3CDTF">2015-01-13T12:36:08Z</dcterms:modified>
  <cp:revision>80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</dc:title>
</cp:coreProperties>
</file>