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7.png" ContentType="image/png"/>
  <Override PartName="/ppt/media/image34.jpeg" ContentType="image/jpeg"/>
  <Override PartName="/ppt/media/image36.jpeg" ContentType="image/jpe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627B-6194-45E3-8D21-1A43AF06EA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ые и планетарные туманности в процессе эволюции галакт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22E8-4355-4179-88E2-3F095D3FA1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ые туманности – разновидность диффузных туманност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570-DC50-41F1-856F-C1FE4076C9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нтре планетарных туманностей находится звезд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относится к тип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1BF-AE33-42EF-B48F-9512820E17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0464-1750-40F6-90FB-5D4AC66B15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 27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исич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E365-D2EF-4E7F-AD95-63ACF1D175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Кошачий глаз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E13-0CAD-49E4-B4ED-93BDAE50F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E57-8B22-40F1-82AF-1B5B11E885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етарная туманность «Эскимос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B92-DFBA-4430-891F-EB80695BC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5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280-4F92-45AF-9D40-EA99046A95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GC 67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12A2-B91E-4D73-AB18-1DF5EF978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ые тума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97AA-B426-4C87-BB97-23B5F62C4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ежзвездной среде открыты огромные холодные области -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ярные облак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 температурой 5 – 50 К и очень горячий газ с температур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К –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ронарный га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DF3-1D70-45E3-8017-405B6021AC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ная 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нская Голов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9C3-6CD0-4914-B794-0DBDEDB916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урительная Труб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5FB1-EECD-477F-8E10-97865A4E4C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жный Угольный Меш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9F4-CA48-41B6-9250-734E7927E3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звез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образуются в результате гравитационной неустойчивости в холодных и плотны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х облаках, поэтому звёзды рождаются группами, скоплениями, комплекс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F58F-4FCE-478A-B379-D7635682AA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071-49DC-4810-9C52-14F8C4FF37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красное излуч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 нашей Гал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BC33-6C94-4DA6-A9F0-CFF71A3FE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а активного звездообразования – холодные струи г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D760-5C93-4218-8F9C-8DC0B3F5C7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планетные д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04AE-2FF0-4532-BBE8-2978AA2AFF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Орион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8A1A-83ED-45C3-9498-906B2126C7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мки космическим телескоп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921-A72C-47D5-AFEC-08581B743B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иффузные туман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т неправильную фор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т из межзвёздной пыли и га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7BF-86DF-42FA-AAC7-4C9152472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Ориона (центральная час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4836-310A-4508-A51D-1D428991FD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Трехразд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C4A7-57F2-419A-A310-0DBCF23880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Омег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D98-BA38-441E-A4F2-1C05671D72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узная туманность «Лагун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0E55-3B73-4CE6-B297-81B118E225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бовидная туманность М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9FE4-D217-433F-870E-665656C94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манность Розе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A453-9D9B-4535-A0B8-A920B058BF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D15-6D6F-47F9-9805-7F40C701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C5F-AF6A-4F49-9FD0-C2DA0E01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D6F-6678-4136-AD17-CA544AA7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F21-BEB7-4A94-9916-9F5C6037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715E-1C25-4183-8F38-B5EEFE05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F7B-979C-4A8D-A310-19C3125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3A19-65C9-477F-8D11-1783283E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BD02-1890-4C2C-95BE-3E23710E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F5B-FE2C-4CCC-9C38-EF927516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1069-62EC-477A-B4B6-2DBDD624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DC6-29B3-48D6-8B60-FF39EB2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F1A8-6654-4E28-B159-E31500C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9C1-0C63-433C-9D6C-7F2E9CBE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9427-349A-48CB-9140-6B9169AA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5EC4-C1E3-4AF9-B6B0-6402173E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60CC-E37B-4571-9BEE-EF19B9E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B99F-4AB2-4654-8398-41C4AB32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C865-F42D-4EC0-B408-9729C61A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56CB-9583-45F5-8F55-3D86D2A5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C0C1-11F7-4833-8827-5BF45598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3835-CD85-4951-BFA5-5D2D056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0EEA-270F-4D68-8E00-FD6CB36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5C9A-6D2D-46E7-ACB0-F32CB7C3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E048-90C6-4DBE-BFD6-A2B2597A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2411-6176-4788-8217-57F8D6F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8F70-7263-428E-9F86-3DCFB54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8E21-E2A5-4B11-9CB5-98A01F7C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89184-632A-47A1-98E2-0A13474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9204-E12F-4123-AA77-7D3714E1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8EC0-6E10-4607-A2A2-17101446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49F-1AD6-4F76-B6B7-942C058E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5F5-3D7B-4EE0-AA4D-1A49F049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EE96-BA21-4BCF-A992-40F99FC0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05A-5404-42C2-BC31-25537AC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920-5BE9-40A9-97A0-D6365735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494-13F4-4AFF-B902-221F28A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F77-F613-40E9-9E29-6B86CB2F5D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1A41-B395-4EC4-9D22-9D863CBD81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0480" y="-103320"/>
            <a:ext cx="41022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7360"/>
            <a:ext cx="6152760" cy="5139000"/>
            <a:chOff x="3309480" y="1737360"/>
            <a:chExt cx="6152760" cy="51390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0480"/>
              <a:ext cx="6152760" cy="4770000"/>
              <a:chOff x="3309480" y="1770480"/>
              <a:chExt cx="6152760" cy="477000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0480"/>
                <a:ext cx="6152760" cy="4770000"/>
                <a:chOff x="3309480" y="1770480"/>
                <a:chExt cx="6152760" cy="477000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7640" y="2959920"/>
                  <a:ext cx="5304240" cy="30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40160" y="3101760"/>
                  <a:ext cx="565560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20280" y="1780200"/>
                <a:ext cx="6108840" cy="4757400"/>
                <a:chOff x="3320280" y="1780200"/>
                <a:chExt cx="6108840" cy="475740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87160" y="2974320"/>
                  <a:ext cx="5241600" cy="305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52760" y="3105000"/>
                  <a:ext cx="5631840" cy="210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45120" y="2541960"/>
              <a:ext cx="2651760" cy="416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3600" y="2425680"/>
              <a:ext cx="3531240" cy="4219560"/>
              <a:chOff x="5133600" y="2425680"/>
              <a:chExt cx="3531240" cy="421956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8840" y="2619360"/>
                <a:ext cx="2884320" cy="3535560"/>
                <a:chOff x="5568840" y="2619360"/>
                <a:chExt cx="2884320" cy="353556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65480" y="3396240"/>
                  <a:ext cx="2243160" cy="1954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8240" y="2717640"/>
                  <a:ext cx="1324800" cy="33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3600" y="2425680"/>
                <a:ext cx="3531240" cy="4219560"/>
                <a:chOff x="5133600" y="2425680"/>
                <a:chExt cx="3531240" cy="421956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91440" y="3255120"/>
                  <a:ext cx="2721240" cy="231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3880" y="2595600"/>
                  <a:ext cx="1750680" cy="38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2920" y="3019320"/>
              <a:ext cx="3830400" cy="3755160"/>
              <a:chOff x="4102920" y="3019320"/>
              <a:chExt cx="3830400" cy="375516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8280" y="3695400"/>
                <a:ext cx="2715480" cy="2882520"/>
                <a:chOff x="4148280" y="3695400"/>
                <a:chExt cx="2715480" cy="288252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82760" y="3695040"/>
                  <a:ext cx="672480" cy="2832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8080" y="3991320"/>
                  <a:ext cx="1775160" cy="22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2920" y="3019320"/>
                <a:ext cx="3830400" cy="3755160"/>
                <a:chOff x="4102920" y="3019320"/>
                <a:chExt cx="3830400" cy="375516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33160" y="3166560"/>
                  <a:ext cx="1331280" cy="337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82440" y="3577680"/>
                  <a:ext cx="2871360" cy="263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6680" y="1737360"/>
              <a:ext cx="3408480" cy="3314880"/>
              <a:chOff x="4126680" y="1737360"/>
              <a:chExt cx="3408480" cy="331488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89800" y="2191680"/>
                <a:ext cx="2673360" cy="2802240"/>
                <a:chOff x="4789800" y="2191680"/>
                <a:chExt cx="2673360" cy="280224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89800" y="2690280"/>
                  <a:ext cx="2661120" cy="179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0440" y="2432160"/>
                  <a:ext cx="2035440" cy="232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6680" y="1737360"/>
                <a:ext cx="3408480" cy="3314880"/>
                <a:chOff x="4126680" y="1737360"/>
                <a:chExt cx="3408480" cy="331488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6680" y="2395080"/>
                  <a:ext cx="3326040" cy="205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3760" y="2063160"/>
                  <a:ext cx="2689560" cy="266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920" y="2099160"/>
              <a:ext cx="4903920" cy="4777200"/>
              <a:chOff x="4183920" y="2099160"/>
              <a:chExt cx="4903920" cy="477720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38280" y="2761560"/>
                <a:ext cx="3843000" cy="4023720"/>
                <a:chOff x="5138280" y="2761560"/>
                <a:chExt cx="3843000" cy="402372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38280" y="3481920"/>
                  <a:ext cx="3809160" cy="256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1560" y="3107520"/>
                  <a:ext cx="2927880" cy="33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920" y="2099160"/>
                <a:ext cx="4903920" cy="4777200"/>
                <a:chOff x="4183920" y="2099160"/>
                <a:chExt cx="4903920" cy="477720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920" y="3045600"/>
                  <a:ext cx="4781520" cy="29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4160" y="2568240"/>
                  <a:ext cx="3869280" cy="38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9AF5-7299-43F0-87E7-920E761499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64332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ые и планетарные туманности в процессе эволюции галактик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9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57120" y="2286000"/>
            <a:ext cx="4560840" cy="3357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Трехраздельная туманность"/>
          <p:cNvPicPr/>
          <p:nvPr/>
        </p:nvPicPr>
        <p:blipFill>
          <a:blip r:embed="rId2"/>
          <a:stretch/>
        </p:blipFill>
        <p:spPr>
          <a:xfrm>
            <a:off x="4214880" y="3714840"/>
            <a:ext cx="3689280" cy="2428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Диффузная Туманность Ориона 2"/>
          <p:cNvPicPr/>
          <p:nvPr/>
        </p:nvPicPr>
        <p:blipFill>
          <a:blip r:embed="rId3"/>
          <a:stretch/>
        </p:blipFill>
        <p:spPr>
          <a:xfrm>
            <a:off x="6143760" y="2071800"/>
            <a:ext cx="2455560" cy="20160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ланетарные туманности – разновидность диффузных туманност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 центре планетарных туманностей находится звезда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относится к типу 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RV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с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</a:t>
            </a: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2440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5" name="Picture 3" descr="Планетарная туманность NGC 2440"/>
          <p:cNvPicPr/>
          <p:nvPr/>
        </p:nvPicPr>
        <p:blipFill>
          <a:blip r:embed="rId1"/>
          <a:stretch/>
        </p:blipFill>
        <p:spPr>
          <a:xfrm>
            <a:off x="539640" y="1131840"/>
            <a:ext cx="7848720" cy="5726160"/>
          </a:xfrm>
          <a:prstGeom prst="rect">
            <a:avLst/>
          </a:prstGeom>
          <a:ln w="0">
            <a:noFill/>
          </a:ln>
        </p:spPr>
      </p:pic>
      <p:sp>
        <p:nvSpPr>
          <p:cNvPr id="28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Планетарная туманно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 27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«Лисичка»</a:t>
            </a:r>
            <a:endParaRPr b="1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88" name="Picture 3" descr="2114"/>
          <p:cNvPicPr/>
          <p:nvPr/>
        </p:nvPicPr>
        <p:blipFill>
          <a:blip r:embed="rId1"/>
          <a:stretch/>
        </p:blipFill>
        <p:spPr>
          <a:xfrm>
            <a:off x="1908000" y="1989000"/>
            <a:ext cx="5837400" cy="4869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Кошачий глаз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1" name="Picture 3" descr="Планетарная туманность Кошачий Глаз"/>
          <p:cNvPicPr/>
          <p:nvPr/>
        </p:nvPicPr>
        <p:blipFill>
          <a:blip r:embed="rId1"/>
          <a:stretch/>
        </p:blipFill>
        <p:spPr>
          <a:xfrm>
            <a:off x="1332000" y="1523880"/>
            <a:ext cx="6553080" cy="533412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  <a:ea typeface="Times New Roman"/>
              </a:rPr>
              <a:t>ентральная звезда туманност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ланетарная туманность «Эскимос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97" name="Picture 3" descr="Планетарная туманность Эскимос"/>
          <p:cNvPicPr/>
          <p:nvPr/>
        </p:nvPicPr>
        <p:blipFill>
          <a:blip r:embed="rId1"/>
          <a:stretch/>
        </p:blipFill>
        <p:spPr>
          <a:xfrm>
            <a:off x="1332000" y="1219320"/>
            <a:ext cx="7056360" cy="537840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543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0" name="Picture 3" descr="ngc6543"/>
          <p:cNvPicPr/>
          <p:nvPr/>
        </p:nvPicPr>
        <p:blipFill>
          <a:blip r:embed="rId1"/>
          <a:stretch/>
        </p:blipFill>
        <p:spPr>
          <a:xfrm>
            <a:off x="1371600" y="1111320"/>
            <a:ext cx="6513480" cy="574668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NGC 675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3" name="Picture 3" descr="ngc6751"/>
          <p:cNvPicPr/>
          <p:nvPr/>
        </p:nvPicPr>
        <p:blipFill>
          <a:blip r:embed="rId1"/>
          <a:stretch/>
        </p:blipFill>
        <p:spPr>
          <a:xfrm>
            <a:off x="826920" y="1547640"/>
            <a:ext cx="7417080" cy="53103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емные туманност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9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странство между звездам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В межзвездной среде открыты огромные холодные области -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молекулярные облака 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- с температурой 5 – 50 К и очень горячий газ с температур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w Cen MT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 К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w Cen MT"/>
              </a:rPr>
              <a:t>коронарный газ</a:t>
            </a: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емная 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онская Голов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9" name="Picture 3" descr="Темная туманность Конская Голова"/>
          <p:cNvPicPr/>
          <p:nvPr/>
        </p:nvPicPr>
        <p:blipFill>
          <a:blip r:embed="rId1"/>
          <a:stretch/>
        </p:blipFill>
        <p:spPr>
          <a:xfrm>
            <a:off x="609480" y="1219320"/>
            <a:ext cx="7850160" cy="55497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«Курительная Трубка»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2" name="Picture 3" descr="Туманность Курительная Трубка"/>
          <p:cNvPicPr/>
          <p:nvPr/>
        </p:nvPicPr>
        <p:blipFill>
          <a:blip r:embed="rId1"/>
          <a:stretch/>
        </p:blipFill>
        <p:spPr>
          <a:xfrm>
            <a:off x="755640" y="1503360"/>
            <a:ext cx="7777080" cy="51544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Южный Угольный Мешок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15" name="Picture 3" descr="Южный Угольный Мешок"/>
          <p:cNvPicPr/>
          <p:nvPr/>
        </p:nvPicPr>
        <p:blipFill>
          <a:blip r:embed="rId1"/>
          <a:stretch/>
        </p:blipFill>
        <p:spPr>
          <a:xfrm>
            <a:off x="468360" y="1773360"/>
            <a:ext cx="8316720" cy="5084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Рождение звезд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Звезды образуются в результате гравитационной неустойчивости в холодных и плотн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w Cen MT"/>
              </a:rPr>
              <a:t>молекулярных облаках, поэтому звёзды рождаются группами, скоплениями, комплексами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везды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1" name="Picture 3" descr="Плеяды"/>
          <p:cNvPicPr/>
          <p:nvPr/>
        </p:nvPicPr>
        <p:blipFill>
          <a:blip r:embed="rId1"/>
          <a:stretch/>
        </p:blipFill>
        <p:spPr>
          <a:xfrm>
            <a:off x="971640" y="2021040"/>
            <a:ext cx="7200720" cy="48369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Инфракрасное излучение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центра нашей Галактики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4" name="Picture 3" descr="Центр Галактики в инф лучах"/>
          <p:cNvPicPr/>
          <p:nvPr/>
        </p:nvPicPr>
        <p:blipFill>
          <a:blip r:embed="rId1"/>
          <a:stretch/>
        </p:blipFill>
        <p:spPr>
          <a:xfrm>
            <a:off x="468360" y="1628640"/>
            <a:ext cx="8244000" cy="522936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Места активного звездообразования – холодные струи газа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7" name="Picture 3" descr="Темные струи"/>
          <p:cNvPicPr/>
          <p:nvPr/>
        </p:nvPicPr>
        <p:blipFill>
          <a:blip r:embed="rId1"/>
          <a:stretch/>
        </p:blipFill>
        <p:spPr>
          <a:xfrm>
            <a:off x="1187280" y="1700280"/>
            <a:ext cx="6836040" cy="5157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4 диска в Орионе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5562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Протопланетные диски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1601"/>
          <p:cNvPicPr/>
          <p:nvPr/>
        </p:nvPicPr>
        <p:blipFill>
          <a:blip r:embed="rId1"/>
          <a:stretch/>
        </p:blipFill>
        <p:spPr>
          <a:xfrm>
            <a:off x="324000" y="836640"/>
            <a:ext cx="8604000" cy="5843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Ориона 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Протопланетный диск 1"/>
          <p:cNvPicPr/>
          <p:nvPr/>
        </p:nvPicPr>
        <p:blipFill>
          <a:blip r:embed="rId1"/>
          <a:stretch/>
        </p:blipFill>
        <p:spPr>
          <a:xfrm>
            <a:off x="324000" y="826920"/>
            <a:ext cx="8569080" cy="5859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40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Снимки космическим телескопом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189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Все диффузные туманности: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расположены около горячих звезд спектрального класса О и В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ветятся за счет мощного ультрафиолетового излучения горячих звезд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яркие эмиссионные линии в спектре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имеют неправильную форму;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70000"/>
              </a:lnSpc>
              <a:spcBef>
                <a:spcPts val="82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w Cen MT"/>
              </a:rPr>
              <a:t>состоят из межзвёздной пыли и газов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Диффузная туманность Ориона (центральная часть)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1" name="Picture 3" descr="Диффузная Туманность Ориона 2"/>
          <p:cNvPicPr/>
          <p:nvPr/>
        </p:nvPicPr>
        <p:blipFill>
          <a:blip r:embed="rId1"/>
          <a:stretch/>
        </p:blipFill>
        <p:spPr>
          <a:xfrm>
            <a:off x="1187280" y="1290600"/>
            <a:ext cx="6782040" cy="556740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Туманность Трехраздельная</a:t>
            </a:r>
            <a:endParaRPr b="1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Picture 3" descr="Трехраздельная туманность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Омег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7" name="Picture 4" descr="2104"/>
          <p:cNvPicPr/>
          <p:nvPr/>
        </p:nvPicPr>
        <p:blipFill>
          <a:blip r:embed="rId1"/>
          <a:stretch/>
        </p:blipFill>
        <p:spPr>
          <a:xfrm>
            <a:off x="324000" y="727200"/>
            <a:ext cx="8534160" cy="613080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Диффузная туманность «Лагуна»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0" name="Picture 4" descr="Туманность Лагуна"/>
          <p:cNvPicPr/>
          <p:nvPr/>
        </p:nvPicPr>
        <p:blipFill>
          <a:blip r:embed="rId1"/>
          <a:stretch/>
        </p:blipFill>
        <p:spPr>
          <a:xfrm>
            <a:off x="1187280" y="762120"/>
            <a:ext cx="6705720" cy="60958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рабовидная туманность М1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Picture 3" descr="М1 Крабовидная туманность"/>
          <p:cNvPicPr/>
          <p:nvPr/>
        </p:nvPicPr>
        <p:blipFill>
          <a:blip r:embed="rId1"/>
          <a:stretch/>
        </p:blipFill>
        <p:spPr>
          <a:xfrm>
            <a:off x="539640" y="812880"/>
            <a:ext cx="8382240" cy="604512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Туманность Розетка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6" name="Picture 3" descr="Туманность Розетка"/>
          <p:cNvPicPr/>
          <p:nvPr/>
        </p:nvPicPr>
        <p:blipFill>
          <a:blip r:embed="rId1"/>
          <a:stretch/>
        </p:blipFill>
        <p:spPr>
          <a:xfrm>
            <a:off x="395280" y="687240"/>
            <a:ext cx="8381880" cy="617076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267012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LEGION</cp:lastModifiedBy>
  <dcterms:modified xsi:type="dcterms:W3CDTF">2015-01-13T12:36:08Z</dcterms:modified>
  <cp:revision>80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</dc:title>
</cp:coreProperties>
</file>