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D4DD1-6DBD-4A31-9076-5C6FB72C1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CCC2C-E53B-4759-B0E9-C13C61B70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3BEE6-3DAE-4937-8E21-1AC1DA31F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3247B-F447-49A0-9236-B383A568D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Ганимед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всего лиш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= 1,93 г/см3: на спутнике очень много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F9204-49F2-4B09-B5FF-C2D8F971E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дяная Калли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ванный в честь превращенной в медведицу нимфы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ллист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B07EC-0A62-45E5-9500-B1ADA4753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алгалл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95E8D-D6A9-4B2D-851D-DD581B3AE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A2BB7-F829-4FC4-A88E-6C4766C77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DD4D9-6EAF-490E-9AE6-88E052093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о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– один из первых спутников Юпитера, открытых в 1610 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алилеем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F73B5-5F44-4C2A-9D74-7DD877EC2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914EB-BEF1-4210-A298-112B90CD1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42C10-FE6E-439F-97C0-A535A391B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6A9F7-913E-4E20-9185-4DE279439D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диус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Европы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019BC-AB22-4513-8B26-8D8215211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5E6-B7A9-4A84-B7CC-1A8949E3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0F4-3091-4FDB-93EB-FAD02DEA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519-38B6-4F0D-8BF8-A51427F2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F78-F119-4ABD-B120-4DE76AA7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2675-10C9-4B70-9DD6-FCC23A5F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4078-C549-4622-BF55-F7844288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7ED2-BB77-45B9-827C-AC478EBD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FF62-1DBF-460A-8333-A46417B8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F06C-3C97-492C-8C0F-5284BD11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B2FE-3CB3-49E2-84FF-9029DF9F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E649-C982-47E2-BCA9-9E0CA422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D69-6041-470E-B8A9-D932BC92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9957-7A50-4FA4-80BA-52EC7A04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2D94-F24F-4C13-A720-38CF0F04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644A-BD24-4805-A92B-3F090009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E197-3292-4DAA-AF8A-2ED26153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A665-9F67-43CD-BDD6-B8709456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8FE-9CFA-49AC-80A0-C5CD0926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21F-A8FD-464F-98BD-503C04CE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568-7718-43AD-B265-4DA548F1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53B-DB58-4905-AB78-301C2F46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DA4-8A30-4287-86CE-64AD2F2A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B50-7E46-4A9E-9526-5DE00028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2AD-F3D8-4483-84D6-3EF009CB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1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59853-DD56-4425-9D33-973BCC91F02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0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872720"/>
            <a:ext cx="77691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6D5F7C-2927-4550-BB39-85D36F3EA2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79280" y="0"/>
            <a:ext cx="8964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456080" y="3286080"/>
            <a:ext cx="25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анимед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его лиш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93 г/см3: на спутнике очень много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304812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Ледяная Каллист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ный в честь превращенной в медведицу нимфы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лли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лг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676520" y="297360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истема концентрических трещин Валгалла (в левой части фотографии) имеет диаметр более 3000 км. Как круги на воде разбежались трещины по поверхности спутника после удара гигантского метеор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Юпитер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33376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5264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13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– один из первых спутников Юпитера, открытых в 1610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Галилее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33840" cy="4533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00800" cy="4206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22860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514680" y="457200"/>
            <a:ext cx="5629320" cy="5867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2971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иу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вроп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76440" cy="59436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38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