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2640" y="676440"/>
            <a:ext cx="4568760" cy="34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88B9C-2678-4E7A-BAFF-26B34835E3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college.ru/astronomy/course/content/chapteri/section/paragraph4/subparagraph8.html" TargetMode="External"/><Relationship Id="rId2" Type="http://schemas.openxmlformats.org/officeDocument/2006/relationships/slide" Target="../slides/slide4.xml"/><Relationship Id="rId3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7F5EF-E43E-4C18-82B8-46B34AF1F6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b2b2b2"/>
                </a:solidFill>
                <a:latin typeface="Felix Titling"/>
              </a:rPr>
              <a:t>Галилеевы Спутники Юпитера</a:t>
            </a:r>
            <a:r>
              <a:rPr b="1" lang="ru-RU" sz="1200" spc="-1" strike="noStrike">
                <a:solidFill>
                  <a:srgbClr val="b2b2b2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17E408-B20F-44DC-A9B0-6DC2B8B5AF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-видимому, выявленные вариации магнитного поля у спутников объясняются наличием «подземного» океана с соленостью, близкой к солености океанов Земли (37,5 ‰). Возможное существование подземного водного океана на Европе дискутируется уже более двух десятилетий. Аккреционные, радиогенные и приливные источники тепла на спутнике достаточно мощны, чтобы стать причиной обезвоживания глубинных слоев и формирования приповерхностного слоя воды толщиной более 100 км. Гравитационные измерения, проведенные аппаратурой станции «Галилео», подтвердили дифференциацию тела Европы: твердое ядро и водно-ледяной покров толщиной около 100 км, хорошо отражающий солнечные лучи. Возможно, этот океан даже теплый: существуют предположения о существовании в нем примитивных форм жизни. Планируются международные экспедиции для исследования предполагаемых океанов Европ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2F7E3-39E9-4974-9210-92B9411BA60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Самый большой спутник в системе Юпитера и вообще в Солнечной системе назвали в честь Ганимеда – сына троянского царя, похищенного Зевсом на Олимп, где он стал разносить богам нектар. Радиус спутника 2631 км. По своему диаметру он превосходит Меркурий. Однако, средняя плотность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Ганимед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всего лишь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ρ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= 1,93 г/см3: на спутнике очень много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Внешне по фотографиям Ганимед напоминает Луну, но он значительно крупнее ее. 40 % поверхности Ганимеда представляют собой древнюю мощную ледяную кору, покрытую кратерами. 3,5 миллиарда лет назад на ней появились странные области, покрытые бороздами. Огромные ударные кратеры на поверхности Ганимеда образовались в эпоху образования спутников и планет. Молодые кратеры имеют светлое дно и обнажают ледяную поверхность. Кора Ганимеда состоит из смеси льда и темных горных поро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E6F7DA-3C22-4DD3-9133-F1DF9ED9A2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Ледяная Каллист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азванный в честь превращенной в медведицу нимфы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Каллисто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спутник размером примерно с Меркурий – третий по величине после Ганимеда и Титана, его диаметр 4800 км, а средняя плотность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 = 1,83 г/см3. Водяной лед Каллисто составляет до 60 % массы спутника. У Каллисто найдено собственное магнитное поле напряженностью 750 мТл на поверхности. Поэтому предполагается наличие металлического ядра под силикатной кор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C4337A-ADA0-4749-91CF-6F49F02E51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ак же, как и у Ганимеда, светлые кратеры – это более поздние образования на поверхности спутника. Их там огромное количество: особое внимание привлекает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Валгалла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, напоминающая бассейн Калорис на Меркурии. Возраст поверхности Каллисто измеряется миллиардами лет; на ней практически отсутствуют следы вулканической деятельности. Если наличие океана на Европе можно считать достаточно правдоподобным, то для Каллисто более вероятно его отсутствие. Хотя мощность аккреционных и радиогенных источников тепла на спутнике близка к требуемой для возникновения жидкой фазы, то есть температура должна быть не менее 0° С, гравитационные измерения с борта «Галилео» показали, что этот спутник состоит только из металлической оболочки и льд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F13E0-3090-4760-B141-0CAC71A4F7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cc66"/>
                </a:solidFill>
                <a:latin typeface="Times New Roman"/>
              </a:rPr>
              <a:t>Юпитер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тысячи лет назад названный в честь царя римских богов, господствует и среди девяти планет нашей Солнечной системы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К началу третьего тысячелетия у Юпитера известно 28 спутников. Четыре из них отличаются большими размерами и массой. Они движутся почти по круговым орбитам в плоскости экватора планеты. 20 внешних спутников настолько далеки от планеты, что невидимы с ее поверхности невооруженным глазом, а Юпитер в небе самого дальнего из них выглядит меньше Лу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6B6A9C-87ED-41E9-BC99-571AFEE538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EE8CB8-BD8C-4A06-AA54-3F5E56AF31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Ио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– один из первых спутников Юпитера, открытых в 1610 </a:t>
            </a:r>
            <a:r>
              <a:rPr b="0" lang="ru-RU" sz="1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Галилеем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. По массе и радиусу спутник похож на Луну и виден в небе Юпитера как яркий красноватый диск или полумесяц. Диаметр Ио равен 3630 км. Назван спутник в честь возлюбленной Зевса из древнегреческого мифа, которую ревнивая Гера превратила в коров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7BF9D0-5626-45E8-92FF-B1442D8312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На Ио обнаружено 20 действующих вулканов, извергающих султаны высотой до 300 км. Основной выбрасываемый ими газ – диоксид серы, замерзающий потом на поверхности Ио в виде белого твердого вещества. Некоторое его количество улетает космос и образует кольцо, опоясывающее Юпитер. Оранжевый цвет поверхности Ио объясняется отложениями серы и сконденсировавшегося сернистого газа. На Ио зарегистрирована атмосфера в 10 миллионов раз разреженнее, чем на Земле. Но эта атмосфера плотнее, чем на Меркур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9F3095-13CF-4F44-99D6-6C77E4DD91C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оверхность Ио молода (ей около миллиона лет) за счет постоянной сейсмической активности: на ней почти нет метеоритных кратеров; зато обнаружены лавовые потоки и озера черной серы. Расчеты показывают, что Ио разогревается за счет огромных приливных воздействий от Юпитера, Европы и Ганимеда. Спутники Юпитера лежат в области влияния магнитного поля, и это, возможно, также объясняет вулканическую деятельность И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Плотность Ио – 3,55 г/см3. Под расплавленной силикатной оболочкой находится железистое ядр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D5598E-5FB7-4FDC-9DC6-BCE807F5C8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У царя олимпийцев было много женщин. Очередная из них – царевна Европа, сцену похищения которой Зевсом-быком вы не раз могли видеть в музеях. В честь нее Галилей и назвал очередной открытый им спутни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5C851-1DBB-4C28-A727-349B00FC81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Радиус </a:t>
            </a:r>
            <a:r>
              <a:rPr b="1" i="1" lang="ru-RU" sz="1200" spc="-1" strike="noStrike">
                <a:solidFill>
                  <a:srgbClr val="ffffff"/>
                </a:solidFill>
                <a:latin typeface="Times New Roman"/>
              </a:rPr>
              <a:t>Европы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 1569 км. Она покрыта водяным льдом. По-видимому, под ледяной коркой толщиной в 100 километров существует водный океан, который покрывает силикатное ядро. Плотность спутника достаточно высокая – 3,04 г/см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8"/>
          <p:cNvSpPr/>
          <p:nvPr/>
        </p:nvSpPr>
        <p:spPr>
          <a:xfrm>
            <a:off x="3884760" y="8685360"/>
            <a:ext cx="2968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773B7-054E-425C-9E35-63F011CCDA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33640" y="67788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Те линии, которые видны на фотографиях, – это трещины в толстой водяной коре. Их толщина иногда превосходит сотню километров, а длина достигает нескольких тысяч километров. На поверхности Европы практически отсутствуют кратеры, что говорит о молодости поверхности спутника – сотни тысяч или миллионы лет. На ней нет возвышенностей более 100 м высото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7 декабря 1995 года космическая станция «Галилео» вышла на орбиту Юпитера, что позволило начать уникальные исследования его четырех спутников: Ио, Ганимеда, Европы и Каллисто. Магнитометрические измерения показали существенные возмущения магнитного поля Юпитера вблизи Европы и Каллисто. Объяснить значительную индукцию и наблюдаемые возмущения магнитного поля не позволяет гипотеза о существовании у этих спутников внутреннего ядра из ферромагнитного вещества, поскольку в таком случае магнитное поле, спадая обратно пропорционально кубу расстояния, было бы в восемь раз меньше наблюдаемог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534-4766-4466-A41E-4DAF2A92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B1B8-7A52-4FB5-BA47-5B0CDB16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A741-A176-43CF-9CC1-42321FA08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37DC-B029-4C3C-B63C-6C545347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AD40-1932-456B-BE1C-133E923EA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C917C-5498-4597-B6A0-55AFFE0A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CBF64-6F25-48BE-B2F7-1918AFBD7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F5A3-DB8B-447A-AAF6-283DAF355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A7025-EDB7-4D45-BE4D-7DA626C3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1666-6D79-4240-A02D-4AFDE1049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99853-19C2-47FD-80E6-18D533D0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0E278-ADBC-454B-84DB-39CBA0B7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427C-955A-4A3C-8838-8C451300B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8E34-9945-4AE5-9310-07C8910CA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FB069-4A22-4834-95A5-D1E875B43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2B283-009E-4389-A80B-FF4A79AF3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684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820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19560" y="3965040"/>
            <a:ext cx="264852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7B9EC-AB7C-452B-B073-A17D74D10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10F1-2FAD-45F5-9A4C-C8DBB186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D7AA-54BE-40D4-ADD7-FB1E5DDF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4C1A-CD98-4DA3-877F-CD3E45B5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1303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D3BA-086B-47D2-A81F-BF4A245F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A0AE-6EBC-428D-8A2A-8F973BD1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2440" y="39650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4E3-E75A-4E4C-B774-0C8A8FD6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65040"/>
            <a:ext cx="8226360" cy="21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BE60-6377-4706-88D7-11B1F614D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1" name="Freeform 2"/>
            <p:cNvSpPr/>
            <p:nvPr/>
          </p:nvSpPr>
          <p:spPr>
            <a:xfrm>
              <a:off x="0" y="3981240"/>
              <a:ext cx="3398760" cy="28623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4"/>
            <p:cNvSpPr/>
            <p:nvPr/>
          </p:nvSpPr>
          <p:spPr>
            <a:xfrm>
              <a:off x="0" y="4341600"/>
              <a:ext cx="2768400" cy="25020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5"/>
            <p:cNvSpPr/>
            <p:nvPr/>
          </p:nvSpPr>
          <p:spPr>
            <a:xfrm>
              <a:off x="0" y="4038120"/>
              <a:ext cx="2768400" cy="280548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6"/>
            <p:cNvSpPr/>
            <p:nvPr/>
          </p:nvSpPr>
          <p:spPr>
            <a:xfrm>
              <a:off x="331560" y="441936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7"/>
            <p:cNvSpPr/>
            <p:nvPr/>
          </p:nvSpPr>
          <p:spPr>
            <a:xfrm>
              <a:off x="2436840" y="616428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8"/>
            <p:cNvSpPr/>
            <p:nvPr/>
          </p:nvSpPr>
          <p:spPr>
            <a:xfrm>
              <a:off x="1254960" y="4322520"/>
              <a:ext cx="191880" cy="19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303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A5D042-BABC-4EA0-8183-D5A9F13D02C7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1"/>
          <p:cNvGrpSpPr/>
          <p:nvPr/>
        </p:nvGrpSpPr>
        <p:grpSpPr>
          <a:xfrm>
            <a:off x="0" y="3902040"/>
            <a:ext cx="3398760" cy="2948040"/>
            <a:chOff x="0" y="3902040"/>
            <a:chExt cx="3398760" cy="2948040"/>
          </a:xfrm>
        </p:grpSpPr>
        <p:sp>
          <p:nvSpPr>
            <p:cNvPr id="50" name="Freeform 2"/>
            <p:cNvSpPr/>
            <p:nvPr/>
          </p:nvSpPr>
          <p:spPr>
            <a:xfrm>
              <a:off x="0" y="3981240"/>
              <a:ext cx="3398760" cy="286236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3"/>
            <p:cNvSpPr/>
            <p:nvPr/>
          </p:nvSpPr>
          <p:spPr>
            <a:xfrm>
              <a:off x="0" y="3902040"/>
              <a:ext cx="2941560" cy="294804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4341600"/>
              <a:ext cx="2768400" cy="250200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4038120"/>
              <a:ext cx="2768400" cy="280548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6"/>
            <p:cNvSpPr/>
            <p:nvPr/>
          </p:nvSpPr>
          <p:spPr>
            <a:xfrm>
              <a:off x="331560" y="4419360"/>
              <a:ext cx="136080" cy="1360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7"/>
            <p:cNvSpPr/>
            <p:nvPr/>
          </p:nvSpPr>
          <p:spPr>
            <a:xfrm>
              <a:off x="2436840" y="6164280"/>
              <a:ext cx="145800" cy="145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8"/>
            <p:cNvSpPr/>
            <p:nvPr/>
          </p:nvSpPr>
          <p:spPr>
            <a:xfrm>
              <a:off x="1254960" y="4322520"/>
              <a:ext cx="191880" cy="1915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1872720"/>
            <a:ext cx="7769160" cy="15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720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21304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E02D267-C470-4213-B626-F13B64DD33F1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llege.ru/astronomy/course/content/chapteri/section/paragraph4/subparagraph8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2"/>
          <p:cNvSpPr/>
          <p:nvPr/>
        </p:nvSpPr>
        <p:spPr>
          <a:xfrm>
            <a:off x="179280" y="0"/>
            <a:ext cx="896472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b2b2b2"/>
                </a:solidFill>
                <a:latin typeface="Felix Titling"/>
              </a:rPr>
              <a:t>Галилеевы Спутники Юпитера</a:t>
            </a:r>
            <a:r>
              <a:rPr b="1" lang="ru-RU" sz="5400" spc="-1" strike="noStrike">
                <a:solidFill>
                  <a:srgbClr val="b2b2b2"/>
                </a:solidFill>
                <a:latin typeface="Arial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4456080" y="3286080"/>
            <a:ext cx="2556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0" y="8380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-видимому, выявленные вариации магнитного поля у спутников объясняются наличием «подземного» океана с соленостью, близкой к солености океанов Земли (37,5 ‰). Возможное существование подземного водного океана на Европе дискутируется уже более двух десятилетий. Аккреционные, радиогенные и приливные источники тепла на спутнике достаточно мощны, чтобы стать причиной обезвоживания глубинных слоев и формирования приповерхностного слоя воды толщиной более 100 км. Гравитационные измерения, проведенные аппаратурой станции «Галилео», подтвердили дифференциацию тела Европы: твердое ядро и водно-ледяной покров толщиной около 100 км, хорошо отражающий солнечные лучи. Возможно, этот океан даже теплый: существуют предположения о существовании в нем примитивных форм жизни. Планируются международные экспедиции для исследования предполагаемых океанов Европ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152280" y="22824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амый большой спутник в системе Юпитера и вообще в Солнечной системе назвали в честь Ганимеда – сына троянского царя, похищенного Зевсом на Олимп, где он стал разносить богам нектар. Радиус спутника 2631 км. По своему диаметру он превосходит Меркурий. Однако, средняя плотност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анимед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сего лиш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= 1,93 г/см3: на спутнике очень много ль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нешне по фотографиям Ганимед напоминает Луну, но он значительно крупнее ее. 40 % поверхности Ганимеда представляют собой древнюю мощную ледяную кору, покрытую кратерами. 3,5 миллиарда лет назад на ней появились странные области, покрытые бороздами. Огромные ударные кратеры на поверхности Ганимеда образовались в эпоху образования спутников и планет. Молодые кратеры имеют светлое дно и обнажают ледяную поверхность. Кора Ганимеда состоит из смеси льда и темных горных пород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334120" y="3352680"/>
            <a:ext cx="320040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1066680" y="3809880"/>
            <a:ext cx="3048120" cy="266724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b2b2b2"/>
                </a:solidFill>
                <a:latin typeface="Arial"/>
              </a:rPr>
              <a:t>Ледяная Каллисто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ный в честь превращенной в медведицу нимфы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аллист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путник размером примерно с Меркурий – третий по величине после Ганимеда и Титана, его диаметр 4800 км, а средняя плотность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ρ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= 1,83 г/см3. Водяной лед Каллисто составляет до 60 % массы спутника. У Каллисто найдено собственное магнитное поле напряженностью 750 мТл на поверхности. Поэтому предполагается наличие металлического ядра под силикатной кор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3048120" y="3048120"/>
            <a:ext cx="3429000" cy="342900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0" y="228240"/>
            <a:ext cx="91440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 же, как и у Ганимеда, светлые кратеры – это более поздние образования на поверхности спутника. Их там огромное количество: особое внимание привлекает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Валгалла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напоминающая бассейн Калорис на Меркурии. Возраст поверхности Каллисто измеряется миллиардами лет; на ней практически отсутствуют следы вулканической деятельности. Если наличие океана на Европе можно считать достаточно правдоподобным, то для Каллисто более вероятно его отсутствие. Хотя мощность аккреционных и радиогенных источников тепла на спутнике близка к требуемой для возникновения жидкой фазы, то есть температура должна быть не менее 0° С, гравитационные измерения с борта «Галилео» показали, что этот спутник состоит только из металлической оболочки и ль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952880" y="2895480"/>
            <a:ext cx="2857680" cy="381024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3"/>
          <p:cNvSpPr/>
          <p:nvPr/>
        </p:nvSpPr>
        <p:spPr>
          <a:xfrm>
            <a:off x="1676520" y="2973600"/>
            <a:ext cx="27432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cc66"/>
                </a:solidFill>
                <a:latin typeface="Arial"/>
              </a:rPr>
              <a:t>Система концентрических трещин Валгалла (в левой части фотографии) имеет диаметр более 3000 км. Как круги на воде разбежались трещины по поверхности спутника после удара гигантского метеори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62000"/>
            <a:ext cx="822960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ffcc66"/>
                </a:solidFill>
                <a:latin typeface="Arial"/>
              </a:rPr>
              <a:t>Юпитер</a:t>
            </a:r>
            <a:r>
              <a:rPr b="0" lang="ru-RU" sz="2800" spc="-1" strike="noStrike">
                <a:solidFill>
                  <a:srgbClr val="b2b2b2"/>
                </a:solidFill>
                <a:latin typeface="Arial"/>
              </a:rPr>
              <a:t>, тысячи лет назад названный в честь царя римских богов, господствует и среди девяти планет нашей Солнечной системы, </a:t>
            </a:r>
            <a:endParaRPr b="0" lang="en-US" sz="2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505320" y="1523880"/>
            <a:ext cx="533376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152640" y="1752480"/>
            <a:ext cx="37335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ачалу третьего тысячелетия у Юпитера известно 28 спутников. Четыре из них отличаются большими размерами и массой. Они движутся почти по круговым орбитам в плоскости экватора планеты. 20 внешних спутников настолько далеки от планеты, что невидимы с ее поверхности невооруженным глазом, а Юпитер в небе самого дальнего из них выглядит меньше Лун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"/>
          <p:cNvPicPr/>
          <p:nvPr/>
        </p:nvPicPr>
        <p:blipFill>
          <a:blip r:embed="rId1"/>
          <a:stretch/>
        </p:blipFill>
        <p:spPr>
          <a:xfrm>
            <a:off x="533520" y="0"/>
            <a:ext cx="8076960" cy="691344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30456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И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– один из первых спутников Юпитера, открытых в 1610 </a:t>
            </a:r>
            <a:r>
              <a:rPr b="0" lang="ru-RU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Галилее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По массе и радиусу спутник похож на Луну и виден в небе Юпитера как яркий красноватый диск или полумесяц. Диаметр Ио равен 3630 км. Назван спутник в честь возлюбленной Зевса из древнегреческого мифа, которую ревнивая Гера превратила в коров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2"/>
          <a:stretch/>
        </p:blipFill>
        <p:spPr>
          <a:xfrm>
            <a:off x="2514600" y="2057400"/>
            <a:ext cx="4533840" cy="453384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-360" y="152280"/>
            <a:ext cx="89154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Ио обнаружено 20 действующих вулканов, извергающих султаны высотой до 300 км. Основной выбрасываемый ими газ – диоксид серы, замерзающий потом на поверхности Ио в виде белого твердого вещества. Некоторое его количество улетает космос и образует кольцо, опоясывающее Юпитер. Оранжевый цвет поверхности Ио объясняется отложениями серы и сконденсировавшегося сернистого газа. На Ио зарегистрирована атмосфера в 10 миллионов раз разреженнее, чем на Земле. Но эта атмосфера плотнее, чем на Меркур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295280" y="2209680"/>
            <a:ext cx="6400800" cy="420696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-228600" y="228600"/>
            <a:ext cx="373392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верхность Ио молода (ей около миллиона лет) за счет постоянной сейсмической активности: на ней почти нет метеоритных кратеров; зато обнаружены лавовые потоки и озера черной серы. Расчеты показывают, что Ио разогревается за счет огромных приливных воздействий от Юпитера, Европы и Ганимеда. Спутники Юпитера лежат в области влияния магнитного поля, и это, возможно, также объясняет вулканическую деятельность И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лотность Ио – 3,55 г/см3. Под расплавленной силикатной оболочкой находится железистое ядр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3514680" y="457200"/>
            <a:ext cx="5629320" cy="58672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04560" y="304920"/>
            <a:ext cx="83055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 царя олимпийцев было много женщин. Очередная из них – царевна Европа, сцену похищения которой Зевсом-быком вы не раз могли видеть в музеях. В честь нее Галилей и назвал очередной открытый им спут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5790960" cy="434340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2971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33984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диус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Европы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 1569 км. Она покрыта водяным льдом. По-видимому, под ледяной коркой толщиной в 100 километров существует водный океан, который покрывает силикатное ядро. Плотность спутника достаточно высокая – 3,04 г/см3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733920" y="762120"/>
            <a:ext cx="5181480" cy="51814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2819160" y="533520"/>
            <a:ext cx="61722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 линии, которые видны на фотографиях, – это трещины в толстой водяной коре. Их толщина иногда превосходит сотню километров, а длина достигает нескольких тысяч километров. На поверхности Европы практически отсутствуют кратеры, что говорит о молодости поверхности спутника – сотни тысяч или миллионы лет. На ней нет возвышенностей более 100 м высот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7 декабря 1995 года космическая станция «Галилео» вышла на орбиту Юпитера, что позволило начать уникальные исследования его четырех спутников: Ио, Ганимеда, Европы и Каллисто. Магнитометрические измерения показали существенные возмущения магнитного поля Юпитера вблизи Европы и Каллисто. Объяснить значительную индукцию и наблюдаемые возмущения магнитного поля не позволяет гипотеза о существовании у этих спутников внутреннего ядра из ферромагнитного вещества, поскольку в таком случае магнитное поле, спадая обратно пропорционально кубу расстояния, было бы в восемь раз меньше наблюдаемого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476440" cy="59436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26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Николай</dc:creator>
  <dc:description/>
  <dc:language>en-US</dc:language>
  <cp:lastModifiedBy>LEGION</cp:lastModifiedBy>
  <dcterms:modified xsi:type="dcterms:W3CDTF">2015-01-13T12:38:0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