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66D3-3552-45FA-8C5A-E8579FE767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процесс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673D-AF9F-4AA3-9396-403E3FCE21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31DF-78D8-4C66-A8FA-C7C4AD6904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еловек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ным «запас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ности», который у разны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дей далеко не одинаков: он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т от пола, возраста,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ья, тренированности и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. Влияние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(магнитные  бур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вствует большинство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обостряются хрон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нфекционные заболе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происходят нервные с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B78C-CA6C-4DFF-B3B0-385B4CA747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ден 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Влияет ли 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магнитные бури) на Ваше здоровь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м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ли следующ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 30 лет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 98 опрошенных 26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или «да», 72 человека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 30 лет: 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 43 опрошенных 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ответили «да», 7 человек -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лабленной иммунной системо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F56E-3E0F-4FE9-9AE4-C79EBF2068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касается преступлений, то их числ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ся в период повыш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ой 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ми был проверен этот факт. 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етили прокуратуру, где н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или информацию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 преступл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ных несовершеннолет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113D-241F-4877-8719-B7282282DA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5CA8-780D-497E-85D0-F2B59B927E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климат и по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4CF8-4936-4659-BE75-26D2C049641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ей в системе Солн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, поможет предсказ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ретное собы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тролирует» все процес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дящие на Зем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E435-63B1-4E29-8B5E-E3593A0DFF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менд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161D-083F-4B42-9AC4-908DCEB1BD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903B-5828-401A-969B-7DC8FDB395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924E-CF6A-48E0-B7E5-A603A05462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Выяснить 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мат и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6EFE-4DA5-4F9D-B16B-9199154D2A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уемые мето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научной лите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Интернет-ресур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13EC-01F9-4021-A806-3A9B9542A3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лендарный план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CB04-6AE9-46B6-9FAE-F5B17114E0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-летние циклы солнечной активности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BF50-723D-4C5E-B75C-25196D7471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о, их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общим термином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B083-246B-48F8-BF8B-53E209450D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физические процесс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ы, происходящ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мосфере, гидросфере и лит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лярные сияния, озоновые ды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рчи, землетрясения, цу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водн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повышенной солне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сти 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ь геофизиче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D613-B83E-40C9-AE5C-66B4F48C296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Жизнедеятельность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зывается на поведении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вых организмов. Как сл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астрофически падают урожа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льскохозяйственных культу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градируют луга, сниж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ст древесины, происход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EA8F-8820-4371-A6E2-BE27BD6033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2A0-4DFB-4E0C-A5DD-77D0BDCC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FD9-601C-4B93-9EDA-FAD627EF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A6B-9693-4B6C-AB64-7DA53855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2B6-0BC8-4560-AFE1-BD66F174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A3E7-AEE9-41B4-B009-F2564B85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3A35-5620-4637-92B1-4CCBBE69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811F-6B56-4585-99C7-41D88190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8696-02BB-423B-9C2F-69D72C3E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052E-8D7A-4D73-A7D3-3049B138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F4C6-7A14-49B5-ADF3-08E51CB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EA3A-83C4-415F-920E-3212CA58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711-75F8-4171-AE61-EEC459A2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2B28-C844-4EBE-8CE9-53C476A3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0E96-8F9F-4708-ABD1-FF59990D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47FD-A672-475A-83C9-B0BD5447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624E-2439-45F0-9878-71203D23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D807-6158-4929-8411-5D3CEB29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05E-3751-4DE7-97F4-9D3D1E09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936-5F67-447C-A0C2-F70745F3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300-85D0-44BC-9B05-9AE5E777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A5B-471C-4C69-8706-7CD5BEAE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979-88AE-41A7-9B2C-B7015CB6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8BF-2FBE-43FC-8091-E22AC81A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CB5-5AB4-4FBD-A388-A7E2098D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0BF8-BAAB-4418-AD5C-52C46E792CF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0404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010A-7DEC-4B48-82A1-B0FBD995052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а процессы,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оисходящие на Земле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0" descr="s01113"/>
          <p:cNvPicPr/>
          <p:nvPr/>
        </p:nvPicPr>
        <p:blipFill>
          <a:blip r:embed="rId1"/>
          <a:stretch/>
        </p:blipFill>
        <p:spPr>
          <a:xfrm>
            <a:off x="3286080" y="3071880"/>
            <a:ext cx="3000600" cy="29862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4859280" y="1700280"/>
          <a:ext cx="35593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00280"/>
                    <a:ext cx="35593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6"/>
          <p:cNvSpPr/>
          <p:nvPr/>
        </p:nvSpPr>
        <p:spPr>
          <a:xfrm>
            <a:off x="250920" y="1126800"/>
            <a:ext cx="842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Замечаете ли Вы влияние солнечной активности на какие-либо процессы жизнедеятельности? Если да, то на какие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 всех опрошенны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замечают – 23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стениях – 8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здоровье – 27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раздражимости – 1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сонливости – 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ют на настроении – 2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ой вариант ответа – 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 небольшой  процент людей (23%) не замечают влияние солнечной активности, а остальные же замечают на самых разных процессах жизнедеятель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физическое и психическое состояние челове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ждый человек обладает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енным «запасо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чности», который у разных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ей далеко не одинаков: о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висит от пола, возраста,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я, тренированности и друг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ов. Влияние солнеч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ности (магнитные  бури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увствует большинство люд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 обостряются хрон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инфекционные заболева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ще происходят нервные сры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Picture 0" descr="MPj02277970000[1]"/>
          <p:cNvPicPr/>
          <p:nvPr/>
        </p:nvPicPr>
        <p:blipFill>
          <a:blip r:embed="rId1"/>
          <a:stretch/>
        </p:blipFill>
        <p:spPr>
          <a:xfrm>
            <a:off x="324000" y="1413000"/>
            <a:ext cx="2519280" cy="22176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" descr="MPj04101270000[1]"/>
          <p:cNvPicPr/>
          <p:nvPr/>
        </p:nvPicPr>
        <p:blipFill>
          <a:blip r:embed="rId2"/>
          <a:stretch/>
        </p:blipFill>
        <p:spPr>
          <a:xfrm>
            <a:off x="6227640" y="3933720"/>
            <a:ext cx="2301840" cy="251964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циологический опрос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5999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ми был проведен опрос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Влияет ли солнечная актив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магнитные бури) на Ваше здоровье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м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учили следующие результа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 30 лет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98 опрошенных 26 челове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или «да», 72 человека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ле 30 лет: 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 43 опрошенных 3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ловек ответили «да», 7 человек - «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им образом, солнечная активность и,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ствие, магнитные бури  оказывают больш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е на людей старше 30 лет и на людей 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лабленной иммунной систем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7" name="Object 4"/>
          <p:cNvGraphicFramePr/>
          <p:nvPr/>
        </p:nvGraphicFramePr>
        <p:xfrm>
          <a:off x="5076720" y="1125360"/>
          <a:ext cx="3743280" cy="29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125360"/>
                    <a:ext cx="374328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5076720" y="3933720"/>
          <a:ext cx="3743280" cy="27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933720"/>
                    <a:ext cx="37432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общественные процесс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наибольшей солнечной активности происходит увеличение числа несчастных случаев на транспорте и на производстве. Было установлено, что количество несчастных случаев среди рабочих угольных шахт в основном увеличивается в дни повышенной активности Солн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касается преступлений, то их числ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величивается в период повышен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актив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и был проверен этот факт. 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етили прокуратуру, где н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оставили информацию 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ичестве преступлен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ршенных несовершеннолетн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5" descr="P1000999"/>
          <p:cNvPicPr/>
          <p:nvPr/>
        </p:nvPicPr>
        <p:blipFill>
          <a:blip r:embed="rId1"/>
          <a:stretch/>
        </p:blipFill>
        <p:spPr>
          <a:xfrm>
            <a:off x="5867280" y="3141720"/>
            <a:ext cx="3168720" cy="27716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ступность по Моркинским образовательным учреждениям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88000" y="1599840"/>
            <a:ext cx="40543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24000" y="1844640"/>
          <a:ext cx="4194000" cy="3844800"/>
        </p:xfrm>
        <a:graphic>
          <a:graphicData uri="http://schemas.openxmlformats.org/drawingml/2006/table">
            <a:tbl>
              <a:tblPr/>
              <a:tblGrid>
                <a:gridCol w="885600"/>
                <a:gridCol w="647640"/>
                <a:gridCol w="649440"/>
                <a:gridCol w="612720"/>
                <a:gridCol w="700200"/>
                <a:gridCol w="698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СШ №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У №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Rectangle 1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0" name="Object 114"/>
          <p:cNvGraphicFramePr/>
          <p:nvPr/>
        </p:nvGraphicFramePr>
        <p:xfrm>
          <a:off x="4572000" y="2205000"/>
          <a:ext cx="4572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05000"/>
                    <a:ext cx="4572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Scan10009"/>
          <p:cNvPicPr/>
          <p:nvPr/>
        </p:nvPicPr>
        <p:blipFill>
          <a:blip r:embed="rId1"/>
          <a:stretch/>
        </p:blipFill>
        <p:spPr>
          <a:xfrm>
            <a:off x="4140360" y="1989000"/>
            <a:ext cx="4752720" cy="33130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климат и погод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28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телей западных и центральных районов европейской части нашей страны озадачили волны интенсивного тепла в последние месяцы 2006 г., когда несколько раз устанавливался и сходил снежный покров, во многих местах на деревьях по-весеннему набухали почки и начинала распускаться листва, а в лесах появились подснежн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447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ь солнечных и земных явлений устанавл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ычно на основании совпадения их ритмики. Этого, конеч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остаточно для того, чтобы прогнозировать то или и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бытие на Земле по степени активности Солнца. Толь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чение всех процессов, образующих сложную цепоч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связей в системе Солнце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, поможет предсказ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кретное событ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образом Солн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контролирует» все процесс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исходящие на Зем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Picture 0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543480" cy="264816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Рекоменда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1170000"/>
            <a:ext cx="8496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Более подвержены влиянию солнечной активности люди старше 30 лет, имеющие ослабленную иммунную систему, поэтому людям, чувствительным к солнечной активности, нужно внимательнее относиться к своему здоровью, укреплять свой иммунит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Необходимо контролировать свои эмоции и чувства, особенно в дни магнитных бурь, которые можно узнать из прогноза пог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Так как человечество не может влиять на цикличность солнечной активности, то нам следует быть более бдительными и интересоваться годами наибольшей солнечной активности. Ведь как говорится в русской пословице: «Предупрежден, значит вооружё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6" descr="aurora1_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65" name="WordArt 7"/>
          <p:cNvSpPr txBox="1"/>
          <p:nvPr/>
        </p:nvSpPr>
        <p:spPr>
          <a:xfrm>
            <a:off x="1692360" y="2349360"/>
            <a:ext cx="6049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ff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Актуальность проект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уальность изучения солнечной активност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лияния её н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емлю и человека сегодня не вызы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мнений. 2007 год приходится на минимум активнос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даже сегодня на Солнце имеются довольно крупные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енциально опасные группы пятен. Поэтому даже сейча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ы подвергаемся опас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первых, когда на Солнце возникают пятна, на нашей планете вспыхив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пидемии заболеваний, катастрофически быстро размножаются вредит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льского хозяйства, возникают неурожа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-вторых, это влияние солнечной активности на земную атмосферу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гнитное поле Земли: магнитные бури, полярные сияния, влияния солне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ности на качество радиосвязи, засухи, ледниковые периоды и д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0" descr="s01113"/>
          <p:cNvPicPr/>
          <p:nvPr/>
        </p:nvPicPr>
        <p:blipFill>
          <a:blip r:embed="rId1"/>
          <a:stretch/>
        </p:blipFill>
        <p:spPr>
          <a:xfrm>
            <a:off x="6732720" y="1268280"/>
            <a:ext cx="2238120" cy="222732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7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явление и изучение особенностей влияния солнечной активности на процессы, происходящие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Выяснить 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и обосновать влияние солнечной активности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 процессов на Земле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знедеятельность живых организм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сихическое и физическое состояние чело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ые процес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мат и по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Дать рекомендации метеочувствительным люд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Предложить использовать собранный материал на уроках географии, биологии, астрономии, медиц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Используемые мет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научной литерату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с Интернет-ресурс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о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скур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11" descr=""/>
          <p:cNvPicPr/>
          <p:nvPr/>
        </p:nvPicPr>
        <p:blipFill>
          <a:blip r:embed="rId1"/>
          <a:stretch/>
        </p:blipFill>
        <p:spPr>
          <a:xfrm>
            <a:off x="5292720" y="4149720"/>
            <a:ext cx="3097080" cy="2273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2951280" cy="2239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3" descr=""/>
          <p:cNvPicPr/>
          <p:nvPr/>
        </p:nvPicPr>
        <p:blipFill>
          <a:blip r:embed="rId3"/>
          <a:stretch/>
        </p:blipFill>
        <p:spPr>
          <a:xfrm>
            <a:off x="5867280" y="1341360"/>
            <a:ext cx="2952720" cy="215100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Календарный план проект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301680" y="1600200"/>
          <a:ext cx="8540640" cy="4861080"/>
        </p:xfrm>
        <a:graphic>
          <a:graphicData uri="http://schemas.openxmlformats.org/drawingml/2006/table">
            <a:tbl>
              <a:tblPr/>
              <a:tblGrid>
                <a:gridCol w="4701960"/>
                <a:gridCol w="383868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бор и изучение литерату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юнь-сен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иск информации в Интерне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нтябрь-окт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едение социологических о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тябрь-ноя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курс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-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а над реферат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 2007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здание презентации 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wer poi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щита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враль 2008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11-летние циклы солнечной активност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4723920"/>
            <a:ext cx="8540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ксимумы и минимумы чередуются в среднем каждые 11 лет (от 7 до 17 лет), последний максимум солнечной активности был в 2000 году. Основной характеристикой солнечной активности является число Вольф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05030205"/>
          <p:cNvPicPr/>
          <p:nvPr/>
        </p:nvPicPr>
        <p:blipFill>
          <a:blip r:embed="rId1"/>
          <a:stretch/>
        </p:blipFill>
        <p:spPr>
          <a:xfrm>
            <a:off x="900000" y="851040"/>
            <a:ext cx="7559640" cy="37796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77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ые пятна, солнечные вспышки, факелы, протуберанцы и корональные лучи — эти явления влияют практически на все происходящие на Земле процессы, от атмосферных явлений до поведения челове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авило, их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общим термином —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Picture 1" descr="активное солнечное пятно, вид сбоку"/>
          <p:cNvPicPr/>
          <p:nvPr/>
        </p:nvPicPr>
        <p:blipFill>
          <a:blip r:embed="rId1"/>
          <a:stretch/>
        </p:blipFill>
        <p:spPr>
          <a:xfrm>
            <a:off x="5292720" y="3500280"/>
            <a:ext cx="3527280" cy="280044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лияние солнечной активности на периодичность геофизических процесс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49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физические процессы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, происходящие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тмосфере, гидросфере и литосф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олярные сияния, озоновые ды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ерчи, землетрясения, цуна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водн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время повышенной солнеч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тивности увели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ичность геофизическ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9" name="Picture 6" descr="aurora1_wikipedia"/>
          <p:cNvPicPr/>
          <p:nvPr/>
        </p:nvPicPr>
        <p:blipFill>
          <a:blip r:embed="rId1"/>
          <a:stretch/>
        </p:blipFill>
        <p:spPr>
          <a:xfrm>
            <a:off x="5219640" y="220500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Жизнедеятельность живых организм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ая активно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зывается на поведении все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ых организмов. Как следстви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тастрофически падают урожа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льскохозяйственных культур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градируют луга, сниж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рост древесины, происходи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деж скота и резко сокращается численность других животных организмов. А во времена глобальных катастроф происходили относительно внезапные исчезновения многих форм организ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0" descr="MPj04277550000[1]"/>
          <p:cNvPicPr/>
          <p:nvPr/>
        </p:nvPicPr>
        <p:blipFill>
          <a:blip r:embed="rId1"/>
          <a:stretch/>
        </p:blipFill>
        <p:spPr>
          <a:xfrm>
            <a:off x="5076720" y="1557360"/>
            <a:ext cx="3384720" cy="25020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8:39:58Z</dcterms:created>
  <dc:creator>Семёнова С А</dc:creator>
  <dc:description/>
  <dc:language>en-US</dc:language>
  <cp:lastModifiedBy>LEGION</cp:lastModifiedBy>
  <dcterms:modified xsi:type="dcterms:W3CDTF">2015-01-13T12:39:21Z</dcterms:modified>
  <cp:revision>20</cp:revision>
  <dc:subject/>
  <dc:title>Влияние солнечной активности  на процессы,  происходящие на Земле  Исследовательский проект  по физике и астрономии</dc:title>
</cp:coreProperties>
</file>