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D4D5-D39B-4352-8FA0-922A0E1AC5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процесс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4801-9AB8-48AB-905C-2CF2F8DEB1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1A48-2EBB-4B2A-ABEF-BF912EB392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ным «запас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ности», который у раз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ей далеко не одинаков: он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т от пола, возраста,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ья, тренированности и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. Влияние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(магнитные  бур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вствует большинство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обостряются хро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нфекционные заболе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происходят нервные с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06C8-2EB2-4882-A02A-3B6B39F9DE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ден 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Влияет ли 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магнитные бури) на Ваше здоровь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м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ли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 30 лет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98 опрошенных 26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или «да», 72 человека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30 лет: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 43 опрошенных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ответили «да», 7 человек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лабленной иммунной системо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7955-7396-45AC-B93B-5860FD7CC2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касается преступлений, то их чис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ся в период повыш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ой 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рен этот факт. 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етили прокуратуру, где н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или информацию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 преступл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ных несовершеннолет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F775-A16A-48F6-834C-98CACA75D0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C1E7-CDF9-4E12-A37F-0C3509B241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лимат и по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B11B-CD4A-4397-9F10-24AED428E0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ей в системе Солн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, поможет предсказ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ретное собы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тролирует» все процес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7EC-0C58-405F-B4D5-EB68430781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97B5-E582-42D9-92B5-013022FBC4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481C-5331-4216-AC9D-B085B2ACA5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916C-564E-4FBF-AE3A-2EE37E2822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ыяснить 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и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92A4-560E-4B44-A207-BC1986E919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уемые мет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научной лите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Интернет-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118E-B58B-481A-B34D-10BFB206C6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ендарный план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0792-DCAC-4832-9330-BBE706CBA3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-летние циклы солнечной активности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7BA-C92A-488C-BACF-C47CEF6F5F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о, их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общим термином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70F5-F58D-4BDA-8741-6A231DFDD5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физические процесс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ы, происходящ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мосфере, гидросфере и лит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лярные сияния, озоновые ды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рчи, землетрясения, цу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одн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повышенной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0D86-64F3-4E12-9C3A-3D9371BF77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ывается на поведении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ых организмов. Как сл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астрофически падают урожа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хозяйственных культу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градируют луга, сниж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ст древесины,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EFD2-DCD5-4CBB-8167-DE3D717651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F91-E006-4EDA-9FE9-9A571F24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A95-8720-46E6-99E2-EBB0F2B3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B87-A454-4D2A-B94C-AA543CCD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2C7-377C-4F9F-9BE2-794DEAD8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535B-2FFC-4D51-AEF2-B94E2C87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1D06-A7A3-4822-B89C-2E2F8475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082A-811C-4781-898E-AC3E8FEC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E354-44CD-49B3-A367-1175175D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6EF2-21DF-43BF-B62C-E689642D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BED1-430C-4FD7-840D-45C2DEF1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6A27-080A-4F12-84EC-B0A03DE1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3EB-8BE8-4478-BE23-2C3DC00C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5D39-8129-4D8C-89B7-54103C62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98DD-A838-4BDD-97C3-C69CBCC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5E90-E906-4531-8F39-3DF1C294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0EA9-1A34-4116-BC60-770DFC53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516A-9610-4E41-B90A-D5102C04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2AE-B7FC-4A4C-BBB7-C6FDD9E6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A9C-F8DE-4294-8942-A972A944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112-80B8-436F-A69E-DAA0F5EC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365-1F81-46D3-8E92-8E8204CC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E0A-8E8F-45CF-92C7-9C41AF1F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BFD-CDEC-4098-9A3E-39E37C94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228-E953-48E9-A99E-C107D05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261D-0031-4B82-A6EE-043F243EE94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F474-1716-450D-B693-C84E2CB547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 процессы,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исходящие на Земле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0" descr="s01113"/>
          <p:cNvPicPr/>
          <p:nvPr/>
        </p:nvPicPr>
        <p:blipFill>
          <a:blip r:embed="rId1"/>
          <a:stretch/>
        </p:blipFill>
        <p:spPr>
          <a:xfrm>
            <a:off x="3286080" y="3071880"/>
            <a:ext cx="3000600" cy="29862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4859280" y="1700280"/>
          <a:ext cx="35593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00280"/>
                    <a:ext cx="35593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6"/>
          <p:cNvSpPr/>
          <p:nvPr/>
        </p:nvSpPr>
        <p:spPr>
          <a:xfrm>
            <a:off x="250920" y="112680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Замечаете ли Вы влияние солнечной активности на какие-либо процессы жизнедеятельности? Если да, то на каки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всех опрошенны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замечают – 2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стениях – 8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здоровье – 2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здражимости – 1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сонливости – 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настроении – 2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ой вариант ответа –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 небольшой  процент людей (23%) не замечают влияние солнечной активности, а остальные же замечают на самых разных процессах жизне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ждый человек обладает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енным «запас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ности», который у разных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ей далеко не одинаков: 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от пола, возраста,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я, тренированности и друг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ов. Влияние солнеч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ности (магнитные  бур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увствует большинство лю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обостряются хрон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инфекционные заболева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ще происходят нервные сры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0" descr="MPj02277970000[1]"/>
          <p:cNvPicPr/>
          <p:nvPr/>
        </p:nvPicPr>
        <p:blipFill>
          <a:blip r:embed="rId1"/>
          <a:stretch/>
        </p:blipFill>
        <p:spPr>
          <a:xfrm>
            <a:off x="324000" y="1413000"/>
            <a:ext cx="2519280" cy="2217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" descr="MPj04101270000[1]"/>
          <p:cNvPicPr/>
          <p:nvPr/>
        </p:nvPicPr>
        <p:blipFill>
          <a:blip r:embed="rId2"/>
          <a:stretch/>
        </p:blipFill>
        <p:spPr>
          <a:xfrm>
            <a:off x="6227640" y="3933720"/>
            <a:ext cx="2301840" cy="251964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5999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Влияет ли солнечная актив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магнитные бури) на Ваше здоровь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м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или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 30 лет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98 опрошенных 26 челове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или «да», 72 человека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ле 30 лет: 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 43 опрошенных 3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ловек ответили «да», 7 человек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лабленной иммунной систем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5076720" y="1125360"/>
          <a:ext cx="374328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125360"/>
                    <a:ext cx="374328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5076720" y="3933720"/>
          <a:ext cx="374328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933720"/>
                    <a:ext cx="37432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касается преступлений, то их числ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еличивается в период повыш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актив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и был проверен этот факт. 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етили прокуратуру, где н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оставили информацию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 преступлен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енных несовершеннолетн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5" descr="P1000999"/>
          <p:cNvPicPr/>
          <p:nvPr/>
        </p:nvPicPr>
        <p:blipFill>
          <a:blip r:embed="rId1"/>
          <a:stretch/>
        </p:blipFill>
        <p:spPr>
          <a:xfrm>
            <a:off x="5867280" y="3141720"/>
            <a:ext cx="3168720" cy="27716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40543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24000" y="1844640"/>
          <a:ext cx="4194000" cy="3844800"/>
        </p:xfrm>
        <a:graphic>
          <a:graphicData uri="http://schemas.openxmlformats.org/drawingml/2006/table">
            <a:tbl>
              <a:tblPr/>
              <a:tblGrid>
                <a:gridCol w="885600"/>
                <a:gridCol w="647640"/>
                <a:gridCol w="649440"/>
                <a:gridCol w="612720"/>
                <a:gridCol w="700200"/>
                <a:gridCol w="69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 №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Rectangle 1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0" name="Object 114"/>
          <p:cNvGraphicFramePr/>
          <p:nvPr/>
        </p:nvGraphicFramePr>
        <p:xfrm>
          <a:off x="4572000" y="220500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500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Scan10009"/>
          <p:cNvPicPr/>
          <p:nvPr/>
        </p:nvPicPr>
        <p:blipFill>
          <a:blip r:embed="rId1"/>
          <a:stretch/>
        </p:blipFill>
        <p:spPr>
          <a:xfrm>
            <a:off x="4140360" y="1989000"/>
            <a:ext cx="4752720" cy="3313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климат и погод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2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47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ей в системе Солнце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 поможет предсказ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кретное событ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онтролирует» все процесс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сходящие на Зем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0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43480" cy="264816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aurora1_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5" name="WordArt 7"/>
          <p:cNvSpPr txBox="1"/>
          <p:nvPr/>
        </p:nvSpPr>
        <p:spPr>
          <a:xfrm>
            <a:off x="1692360" y="2349360"/>
            <a:ext cx="6049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ктуальность проект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0" descr="s01113"/>
          <p:cNvPicPr/>
          <p:nvPr/>
        </p:nvPicPr>
        <p:blipFill>
          <a:blip r:embed="rId1"/>
          <a:stretch/>
        </p:blipFill>
        <p:spPr>
          <a:xfrm>
            <a:off x="6732720" y="1268280"/>
            <a:ext cx="2238120" cy="222732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ыяснить 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знедеятельность живых организм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ые процес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мат и по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спользуемы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научной литера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Интернет-ресур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11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097080" cy="2273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2951280" cy="2239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3" descr=""/>
          <p:cNvPicPr/>
          <p:nvPr/>
        </p:nvPicPr>
        <p:blipFill>
          <a:blip r:embed="rId3"/>
          <a:stretch/>
        </p:blipFill>
        <p:spPr>
          <a:xfrm>
            <a:off x="5867280" y="1341360"/>
            <a:ext cx="2952720" cy="215100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алендарный план проек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1680" y="1600200"/>
          <a:ext cx="8540640" cy="4861080"/>
        </p:xfrm>
        <a:graphic>
          <a:graphicData uri="http://schemas.openxmlformats.org/drawingml/2006/table">
            <a:tbl>
              <a:tblPr/>
              <a:tblGrid>
                <a:gridCol w="4701960"/>
                <a:gridCol w="383868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бор и изучение литера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юнь-сен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иск информации в Интерне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-ок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едение социологических о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-но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-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над реферат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ние презентации 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er po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щита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11-летние циклы солнечной активност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472392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05030205"/>
          <p:cNvPicPr/>
          <p:nvPr/>
        </p:nvPicPr>
        <p:blipFill>
          <a:blip r:embed="rId1"/>
          <a:stretch/>
        </p:blipFill>
        <p:spPr>
          <a:xfrm>
            <a:off x="900000" y="851040"/>
            <a:ext cx="7559640" cy="37796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77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авило, их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общим термином —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Picture 1" descr="активное солнечное пятно, вид сбоку"/>
          <p:cNvPicPr/>
          <p:nvPr/>
        </p:nvPicPr>
        <p:blipFill>
          <a:blip r:embed="rId1"/>
          <a:stretch/>
        </p:blipFill>
        <p:spPr>
          <a:xfrm>
            <a:off x="5292720" y="3500280"/>
            <a:ext cx="3527280" cy="280044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49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физические процессы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, происходящие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мосфере, гидросфере и литосф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лярные сияния, озоновые ды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рчи, землетрясения, цун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водн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повышенной солне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ивности увели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6" descr="aurora1_wikipedia"/>
          <p:cNvPicPr/>
          <p:nvPr/>
        </p:nvPicPr>
        <p:blipFill>
          <a:blip r:embed="rId1"/>
          <a:stretch/>
        </p:blipFill>
        <p:spPr>
          <a:xfrm>
            <a:off x="5219640" y="220500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изнедеятельность живых организм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зывается на поведении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х организмов. Как следств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астрофически падают урожа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ьскохозяйственных культур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градируют луга, сниж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рост древесины, происходи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0" descr="MPj04277550000[1]"/>
          <p:cNvPicPr/>
          <p:nvPr/>
        </p:nvPicPr>
        <p:blipFill>
          <a:blip r:embed="rId1"/>
          <a:stretch/>
        </p:blipFill>
        <p:spPr>
          <a:xfrm>
            <a:off x="5076720" y="1557360"/>
            <a:ext cx="3384720" cy="25020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8:39:58Z</dcterms:created>
  <dc:creator>Семёнова С А</dc:creator>
  <dc:description/>
  <dc:language>en-US</dc:language>
  <cp:lastModifiedBy>LEGION</cp:lastModifiedBy>
  <dcterms:modified xsi:type="dcterms:W3CDTF">2015-01-13T12:39:21Z</dcterms:modified>
  <cp:revision>20</cp:revision>
  <dc:subject/>
  <dc:title>Влияние солнечной активности  на процессы,  происходящие на Земле  Исследовательский проект  по физике и астрономии</dc:title>
</cp:coreProperties>
</file>