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wmf" ContentType="image/x-wmf"/>
  <Override PartName="/ppt/media/image22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.gif" ContentType="image/gif"/>
  <Override PartName="/ppt/media/image1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18.png" ContentType="image/png"/>
  <Override PartName="/ppt/media/image6.jpeg" ContentType="image/jpeg"/>
  <Override PartName="/ppt/media/image43.jpeg" ContentType="image/jpeg"/>
  <Override PartName="/ppt/media/image47.gif" ContentType="image/gif"/>
  <Override PartName="/ppt/media/image30.jpeg" ContentType="image/jpeg"/>
  <Override PartName="/ppt/media/image48.gif" ContentType="image/gif"/>
  <Override PartName="/ppt/media/image50.gif" ContentType="image/gif"/>
  <Override PartName="/ppt/media/image53.png" ContentType="image/png"/>
  <Override PartName="/ppt/media/image52.gif" ContentType="image/gif"/>
  <Override PartName="/ppt/media/image45.png" ContentType="image/png"/>
  <Override PartName="/ppt/media/image44.jpeg" ContentType="image/jpeg"/>
  <Override PartName="/ppt/media/image49.png" ContentType="image/png"/>
  <Override PartName="/ppt/media/image42.png" ContentType="image/png"/>
  <Override PartName="/ppt/media/image41.png" ContentType="image/png"/>
  <Override PartName="/ppt/media/image33.png" ContentType="image/png"/>
  <Override PartName="/ppt/media/image14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8.png" ContentType="image/png"/>
  <Override PartName="/ppt/media/image3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1CFD-71C8-437E-B6AD-8B229C3F63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кусственные спутник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E500-E3FF-4C37-B7D9-030E9E5B83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полёта нужно знать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8A80-C0C1-4B93-948F-342F121076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7AE9-2532-44E4-9EA3-E5479E9D88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E9DF-1E78-4C31-9C93-48BF297C66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8227-45AE-4DF8-86F3-6B15AB4E6B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 могут двигаться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9C3F-B228-45DC-B449-AA6C4884AC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2772-5D44-4BDD-8A90-721E59FCF3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F9A1-EB3F-491C-8B5D-6209C6A7CD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6721-362F-46C9-9568-2567094356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ы гордимся своей страно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38F6-9053-4ECA-ADE6-24236B5C5E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25A2-5864-45C4-AAD5-C6610DD24D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лияние на прир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- ИСЗ оказываю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52DC-5A45-433B-93B5-57B2022070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326D-4367-4D64-9B70-EEF8A55002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FA52-6799-4943-B507-95965946E0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 что думают поэ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A818-8144-44D7-B613-1967454A04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2EB8-C850-47D9-84F3-E90A254D8F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2983-3623-47B1-8A2C-4D992691F1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ими могут быть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7B36-513F-4F6D-BAFA-851C0CFA24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EF9B-75CF-4AF5-996E-3DF02F2FE6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путниковая систе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"Глонасс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 будущем буд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насчиты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коло 30 спу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7D76-83B8-42CE-865D-2079EACAE6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акеты, ракеты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B3D2-ADBE-4B04-B555-97DE435FB4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A37E-CFBA-474B-8655-EEE694088E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47E4-7149-4E2F-B12B-294F8756DD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4D3-483E-4A7C-B512-DAE50295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611-BF7B-4993-8027-9B275831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02C-72E0-4639-8347-B0BB5D02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1A6-8C0A-4289-872E-161F9221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C47-C48A-4510-A35C-7FB12506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717-87E2-4DC8-8676-41975AC9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1F4-ED04-40A1-AF23-28E2A530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451-55FB-4867-8245-7630161A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DAF-F4F0-4B3A-B95A-F944D0EC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E85C-2AC7-45E6-846A-05DC7BA3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C98-1408-4607-B61B-BB944C15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7E6-DF07-4591-8387-9007FF26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B858-1D5F-43D9-9861-CD41A0794D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1052640"/>
            <a:ext cx="64962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кусственные спутники Земл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i"/>
          <p:cNvPicPr/>
          <p:nvPr/>
        </p:nvPicPr>
        <p:blipFill>
          <a:blip r:embed="rId1"/>
          <a:stretch/>
        </p:blipFill>
        <p:spPr>
          <a:xfrm>
            <a:off x="179280" y="3357720"/>
            <a:ext cx="2016360" cy="150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142501"/>
          <p:cNvPicPr/>
          <p:nvPr/>
        </p:nvPicPr>
        <p:blipFill>
          <a:blip r:embed="rId2"/>
          <a:stretch/>
        </p:blipFill>
        <p:spPr>
          <a:xfrm>
            <a:off x="0" y="0"/>
            <a:ext cx="2158920" cy="15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sz1museumrkke"/>
          <p:cNvPicPr/>
          <p:nvPr/>
        </p:nvPicPr>
        <p:blipFill>
          <a:blip r:embed="rId3"/>
          <a:stretch/>
        </p:blipFill>
        <p:spPr>
          <a:xfrm>
            <a:off x="6877080" y="2637000"/>
            <a:ext cx="2060640" cy="277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GLONASS_html_m363924f5"/>
          <p:cNvPicPr/>
          <p:nvPr/>
        </p:nvPicPr>
        <p:blipFill>
          <a:blip r:embed="rId4"/>
          <a:stretch/>
        </p:blipFill>
        <p:spPr>
          <a:xfrm>
            <a:off x="6948360" y="260280"/>
            <a:ext cx="1947960" cy="194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759120" y="44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684360" y="1844640"/>
            <a:ext cx="5813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ля полёта нужно знать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279600" y="2465280"/>
            <a:ext cx="2068560" cy="81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968400" y="4037040"/>
            <a:ext cx="7240680" cy="11574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538360" y="3940200"/>
            <a:ext cx="108000" cy="19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468600" cy="1149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195640" y="5445000"/>
            <a:ext cx="3565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 1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,2 км/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16000" y="134136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68360" y="155736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75912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4511520" cy="20095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187280" y="2997360"/>
            <a:ext cx="683136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могут двигаться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971640" y="3357720"/>
            <a:ext cx="0" cy="792000"/>
          </a:xfrm>
          <a:prstGeom prst="line">
            <a:avLst/>
          </a:prstGeom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826920" y="3213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495200">
            <a:off x="1618920" y="112500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572000" y="1197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20020800">
            <a:off x="7740720" y="119664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 rot="804600">
            <a:off x="2987640" y="112536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042920" y="2349360"/>
            <a:ext cx="93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700360" y="234936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067280" y="2276640"/>
            <a:ext cx="14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&lt; V &lt; 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012000" y="227664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 rot="20587200">
            <a:off x="6084720" y="1125000"/>
            <a:ext cx="287640" cy="1008360"/>
          </a:xfrm>
          <a:prstGeom prst="downArrow">
            <a:avLst>
              <a:gd name="adj1" fmla="val 50000"/>
              <a:gd name="adj2" fmla="val 8764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766764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5" descr="earth[1]"/>
          <p:cNvPicPr/>
          <p:nvPr/>
        </p:nvPicPr>
        <p:blipFill>
          <a:blip r:embed="rId1"/>
          <a:stretch/>
        </p:blipFill>
        <p:spPr>
          <a:xfrm>
            <a:off x="250920" y="3933720"/>
            <a:ext cx="1360440" cy="1366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468360" y="6093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ямая ли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7" descr="earth[1]"/>
          <p:cNvPicPr/>
          <p:nvPr/>
        </p:nvPicPr>
        <p:blipFill>
          <a:blip r:embed="rId2"/>
          <a:stretch/>
        </p:blipFill>
        <p:spPr>
          <a:xfrm>
            <a:off x="1835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1" name="Oval 18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9" descr="earth[1]"/>
          <p:cNvPicPr/>
          <p:nvPr/>
        </p:nvPicPr>
        <p:blipFill>
          <a:blip r:embed="rId3"/>
          <a:stretch/>
        </p:blipFill>
        <p:spPr>
          <a:xfrm>
            <a:off x="3851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3" name="Oval 20"/>
          <p:cNvSpPr/>
          <p:nvPr/>
        </p:nvSpPr>
        <p:spPr>
          <a:xfrm>
            <a:off x="3564000" y="472428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6156360" y="321300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7308720" y="4076640"/>
            <a:ext cx="1274760" cy="129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1835280" y="623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35280" y="61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5"/>
          <p:cNvSpPr/>
          <p:nvPr/>
        </p:nvSpPr>
        <p:spPr>
          <a:xfrm>
            <a:off x="7740720" y="3213000"/>
            <a:ext cx="28728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308720" y="6165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7236000" y="6237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8"/>
          <p:cNvSpPr/>
          <p:nvPr/>
        </p:nvSpPr>
        <p:spPr>
          <a:xfrm>
            <a:off x="1619280" y="3573360"/>
            <a:ext cx="1873080" cy="192240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780000" y="3429000"/>
            <a:ext cx="1584000" cy="280836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30"/>
          <p:cNvSpPr/>
          <p:nvPr/>
        </p:nvSpPr>
        <p:spPr>
          <a:xfrm>
            <a:off x="7956720" y="3357720"/>
            <a:ext cx="1152360" cy="13665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366560"/>
              <a:gd name="textAreaBottom" fmla="*/ 1366920 h 136656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1" descr="earth[1]"/>
          <p:cNvPicPr/>
          <p:nvPr/>
        </p:nvPicPr>
        <p:blipFill>
          <a:blip r:embed="rId4"/>
          <a:stretch/>
        </p:blipFill>
        <p:spPr>
          <a:xfrm>
            <a:off x="5580000" y="393372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35" name="Freeform 32"/>
          <p:cNvSpPr/>
          <p:nvPr/>
        </p:nvSpPr>
        <p:spPr>
          <a:xfrm>
            <a:off x="6300720" y="3357720"/>
            <a:ext cx="935280" cy="1584000"/>
          </a:xfrm>
          <a:custGeom>
            <a:avLst/>
            <a:gdLst>
              <a:gd name="textAreaLeft" fmla="*/ 0 w 935280"/>
              <a:gd name="textAreaRight" fmla="*/ 935640 w 935280"/>
              <a:gd name="textAreaTop" fmla="*/ 0 h 1584000"/>
              <a:gd name="textAreaBottom" fmla="*/ 1584360 h 158400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580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Unicode MS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4.81481E-006 L 1.38778E-017 0.1574 E">
                                      <p:cBhvr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C 0.05608 -1.48148E-006 0.10191 0.06343 0.10191 0.14167 C 0.10191 0.21968 0.05608 0.28333 -4.16667E-006 0.28333 C -0.05625 0.28333 -0.10191 0.21968 -0.10191 0.14167 C -0.10191 0.06343 -0.05625 -1.48148E-006 -4.16667E-006 -1.48148E-006 Z">
                                      <p:cBhvr>
                                        <p:cTn id="1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C 0.02239 -0.12245 0.05642 -0.19953 0.09409 -0.19953 C 0.13177 -0.19953 0.16579 -0.12245 0.18888 -2.22222E-006 C 0.16579 0.12222 0.13177 0.19954 0.09409 0.19954 C 0.05642 0.19954 0.02239 0.12222 4.44444E-006 -2.22222E-006 Z">
                                      <p:cBhvr>
                                        <p:cTn id="2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C 0.03403 0.01459 0.06806 0.0294 0.08698 0.1007 C 0.10591 0.17223 0.10903 0.35023 0.11354 0.42848 C 0.11806 0.50695 0.11354 0.5426 0.11354 0.57037 C 0.11354 0.59838 0.11354 0.59699 0.11354 0.59561 E">
                                      <p:cBhvr>
                                        <p:cTn id="3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C 0.06615 0.05162 0.13403 0.10602 0.16129 0.19051 C 0.18907 0.2757 0.16129 0.46181 0.16129 0.51042 E">
                                      <p:cBhvr>
                                        <p:cTn id="3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h26[1]"/>
          <p:cNvPicPr/>
          <p:nvPr/>
        </p:nvPicPr>
        <p:blipFill>
          <a:blip r:embed="rId1"/>
          <a:stretch/>
        </p:blipFill>
        <p:spPr>
          <a:xfrm>
            <a:off x="395280" y="1484280"/>
            <a:ext cx="5299200" cy="5094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 flipV="1">
            <a:off x="6156360" y="278136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867280" y="270828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33316[1]"/>
          <p:cNvPicPr/>
          <p:nvPr/>
        </p:nvPicPr>
        <p:blipFill>
          <a:blip r:embed="rId1"/>
          <a:stretch/>
        </p:blipFill>
        <p:spPr>
          <a:xfrm>
            <a:off x="6516720" y="1800360"/>
            <a:ext cx="1038240" cy="325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poslanie[1]"/>
          <p:cNvPicPr/>
          <p:nvPr/>
        </p:nvPicPr>
        <p:blipFill>
          <a:blip r:embed="rId2"/>
          <a:stretch/>
        </p:blipFill>
        <p:spPr>
          <a:xfrm>
            <a:off x="611280" y="1752480"/>
            <a:ext cx="4476600" cy="3353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68360" y="5300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5"/>
          <p:cNvSpPr txBox="1"/>
          <p:nvPr/>
        </p:nvSpPr>
        <p:spPr>
          <a:xfrm>
            <a:off x="971640" y="1628640"/>
            <a:ext cx="741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гордимся своей страной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Королев"/>
          <p:cNvPicPr/>
          <p:nvPr/>
        </p:nvPicPr>
        <p:blipFill>
          <a:blip r:embed="rId1"/>
          <a:stretch/>
        </p:blipFill>
        <p:spPr>
          <a:xfrm>
            <a:off x="611280" y="333360"/>
            <a:ext cx="1523880" cy="2498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first_sputnik_3"/>
          <p:cNvPicPr/>
          <p:nvPr/>
        </p:nvPicPr>
        <p:blipFill>
          <a:blip r:embed="rId2"/>
          <a:stretch/>
        </p:blipFill>
        <p:spPr>
          <a:xfrm>
            <a:off x="5940360" y="3716280"/>
            <a:ext cx="2981520" cy="195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первый спутник"/>
          <p:cNvPicPr/>
          <p:nvPr/>
        </p:nvPicPr>
        <p:blipFill>
          <a:blip r:embed="rId3"/>
          <a:stretch/>
        </p:blipFill>
        <p:spPr>
          <a:xfrm>
            <a:off x="6588000" y="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первый спутник 1"/>
          <p:cNvPicPr/>
          <p:nvPr/>
        </p:nvPicPr>
        <p:blipFill>
          <a:blip r:embed="rId4"/>
          <a:stretch/>
        </p:blipFill>
        <p:spPr>
          <a:xfrm>
            <a:off x="5508720" y="1844640"/>
            <a:ext cx="290808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200px-Правда_-_6_октября_1957"/>
          <p:cNvPicPr/>
          <p:nvPr/>
        </p:nvPicPr>
        <p:blipFill>
          <a:blip r:embed="rId5"/>
          <a:stretch/>
        </p:blipFill>
        <p:spPr>
          <a:xfrm>
            <a:off x="2700360" y="333360"/>
            <a:ext cx="227952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3851280" y="5157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82520" y="2565360"/>
            <a:ext cx="29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первый спутник.avi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456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44802"/>
          <p:cNvPicPr/>
          <p:nvPr/>
        </p:nvPicPr>
        <p:blipFill>
          <a:blip r:embed="rId1"/>
          <a:stretch/>
        </p:blipFill>
        <p:spPr>
          <a:xfrm>
            <a:off x="6804000" y="1268280"/>
            <a:ext cx="1992240" cy="496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3d_space_019"/>
          <p:cNvPicPr/>
          <p:nvPr/>
        </p:nvPicPr>
        <p:blipFill>
          <a:blip r:embed="rId2"/>
          <a:stretch/>
        </p:blipFill>
        <p:spPr>
          <a:xfrm>
            <a:off x="-1080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фото первого спутника в космо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60" name="04-Pozyvnye Pervogo Sputnika Zemli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1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900000" y="2060640"/>
            <a:ext cx="77533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на природу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ИСЗ оказывают?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мусор в косм"/>
          <p:cNvPicPr/>
          <p:nvPr/>
        </p:nvPicPr>
        <p:blipFill>
          <a:blip r:embed="rId1"/>
          <a:stretch/>
        </p:blipFill>
        <p:spPr>
          <a:xfrm>
            <a:off x="0" y="260280"/>
            <a:ext cx="3809880" cy="2908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1547640" y="3141720"/>
            <a:ext cx="67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180px-Debris-GEO1280"/>
          <p:cNvPicPr/>
          <p:nvPr/>
        </p:nvPicPr>
        <p:blipFill>
          <a:blip r:embed="rId1"/>
          <a:stretch/>
        </p:blipFill>
        <p:spPr>
          <a:xfrm>
            <a:off x="0" y="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692360" y="2205000"/>
            <a:ext cx="682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476360" y="3144960"/>
            <a:ext cx="612000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что думают поэты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1229089022_cosmos_7"/>
          <p:cNvPicPr/>
          <p:nvPr/>
        </p:nvPicPr>
        <p:blipFill>
          <a:blip r:embed="rId1"/>
          <a:stretch/>
        </p:blipFill>
        <p:spPr>
          <a:xfrm>
            <a:off x="0" y="2503440"/>
            <a:ext cx="9144000" cy="4354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0" y="0"/>
            <a:ext cx="8066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280360" y="5994360"/>
            <a:ext cx="86364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8" descr="r7"/>
          <p:cNvPicPr/>
          <p:nvPr/>
        </p:nvPicPr>
        <p:blipFill>
          <a:blip r:embed="rId1"/>
          <a:stretch/>
        </p:blipFill>
        <p:spPr>
          <a:xfrm>
            <a:off x="6659640" y="2060640"/>
            <a:ext cx="2077920" cy="138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112"/>
          <p:cNvPicPr/>
          <p:nvPr/>
        </p:nvPicPr>
        <p:blipFill>
          <a:blip r:embed="rId2"/>
          <a:stretch/>
        </p:blipFill>
        <p:spPr>
          <a:xfrm>
            <a:off x="539640" y="429264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611280" y="1413000"/>
            <a:ext cx="640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78a4fa568606"/>
          <p:cNvPicPr/>
          <p:nvPr/>
        </p:nvPicPr>
        <p:blipFill>
          <a:blip r:embed="rId3"/>
          <a:stretch/>
        </p:blipFill>
        <p:spPr>
          <a:xfrm>
            <a:off x="684360" y="2637000"/>
            <a:ext cx="5715000" cy="3876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File010"/>
          <p:cNvPicPr/>
          <p:nvPr/>
        </p:nvPicPr>
        <p:blipFill>
          <a:blip r:embed="rId4"/>
          <a:stretch/>
        </p:blipFill>
        <p:spPr>
          <a:xfrm>
            <a:off x="7236000" y="189000"/>
            <a:ext cx="1771560" cy="2219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backgrounds_00034"/>
          <p:cNvPicPr/>
          <p:nvPr/>
        </p:nvPicPr>
        <p:blipFill>
          <a:blip r:embed="rId5"/>
          <a:stretch/>
        </p:blipFill>
        <p:spPr>
          <a:xfrm>
            <a:off x="6518160" y="2421000"/>
            <a:ext cx="2625840" cy="1969920"/>
          </a:xfrm>
          <a:prstGeom prst="rect">
            <a:avLst/>
          </a:prstGeom>
          <a:ln w="0">
            <a:noFill/>
          </a:ln>
        </p:spPr>
      </p:pic>
      <p:pic>
        <p:nvPicPr>
          <p:cNvPr id="183" name="Владимир Трошин_-_Четырнадцать минут до старта.mp3" descr=""/>
          <p:cNvPicPr/>
          <p:nvPr/>
        </p:nvPicPr>
        <p:blipFill>
          <a:blip r:embed="rId6"/>
          <a:stretch/>
        </p:blipFill>
        <p:spPr>
          <a:xfrm>
            <a:off x="8532720" y="6626160"/>
            <a:ext cx="231840" cy="231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364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332000" y="2060640"/>
            <a:ext cx="684504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ми могут быть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776px-Milstar"/>
          <p:cNvPicPr/>
          <p:nvPr/>
        </p:nvPicPr>
        <p:blipFill>
          <a:blip r:embed="rId1"/>
          <a:stretch/>
        </p:blipFill>
        <p:spPr>
          <a:xfrm>
            <a:off x="324000" y="189000"/>
            <a:ext cx="35478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800px-GOES_8_Spac0255"/>
          <p:cNvPicPr/>
          <p:nvPr/>
        </p:nvPicPr>
        <p:blipFill>
          <a:blip r:embed="rId2"/>
          <a:stretch/>
        </p:blipFill>
        <p:spPr>
          <a:xfrm>
            <a:off x="6372360" y="404640"/>
            <a:ext cx="2125440" cy="137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90479407"/>
          <p:cNvPicPr/>
          <p:nvPr/>
        </p:nvPicPr>
        <p:blipFill>
          <a:blip r:embed="rId3"/>
          <a:stretch/>
        </p:blipFill>
        <p:spPr>
          <a:xfrm>
            <a:off x="5148360" y="2349360"/>
            <a:ext cx="3679560" cy="217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229089022_cosmos_7"/>
          <p:cNvPicPr/>
          <p:nvPr/>
        </p:nvPicPr>
        <p:blipFill>
          <a:blip r:embed="rId4"/>
          <a:stretch/>
        </p:blipFill>
        <p:spPr>
          <a:xfrm>
            <a:off x="179280" y="3860640"/>
            <a:ext cx="2791080" cy="223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Скайлэб 1974"/>
          <p:cNvPicPr/>
          <p:nvPr/>
        </p:nvPicPr>
        <p:blipFill>
          <a:blip r:embed="rId5"/>
          <a:stretch/>
        </p:blipFill>
        <p:spPr>
          <a:xfrm>
            <a:off x="3635280" y="5084640"/>
            <a:ext cx="1571760" cy="16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сша - авангард-2"/>
          <p:cNvPicPr/>
          <p:nvPr/>
        </p:nvPicPr>
        <p:blipFill>
          <a:blip r:embed="rId6"/>
          <a:stretch/>
        </p:blipFill>
        <p:spPr>
          <a:xfrm>
            <a:off x="6084720" y="4724280"/>
            <a:ext cx="24768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gagarin[1]"/>
          <p:cNvPicPr/>
          <p:nvPr/>
        </p:nvPicPr>
        <p:blipFill>
          <a:blip r:embed="rId1"/>
          <a:stretch/>
        </p:blipFill>
        <p:spPr>
          <a:xfrm>
            <a:off x="684360" y="1916280"/>
            <a:ext cx="288432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572000" y="1557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2 апреля 196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Ю.А. Гагарин. СССР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7[2]"/>
          <p:cNvPicPr/>
          <p:nvPr/>
        </p:nvPicPr>
        <p:blipFill>
          <a:blip r:embed="rId2"/>
          <a:stretch/>
        </p:blipFill>
        <p:spPr>
          <a:xfrm>
            <a:off x="5940360" y="2997360"/>
            <a:ext cx="2063880" cy="3127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219640" y="6021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GLONASS_html_m19644972"/>
          <p:cNvPicPr/>
          <p:nvPr/>
        </p:nvPicPr>
        <p:blipFill>
          <a:blip r:embed="rId1"/>
          <a:stretch/>
        </p:blipFill>
        <p:spPr>
          <a:xfrm>
            <a:off x="324000" y="1989000"/>
            <a:ext cx="2798640" cy="348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GLONASS_html_m363924f5"/>
          <p:cNvPicPr/>
          <p:nvPr/>
        </p:nvPicPr>
        <p:blipFill>
          <a:blip r:embed="rId2"/>
          <a:stretch/>
        </p:blipFill>
        <p:spPr>
          <a:xfrm>
            <a:off x="5508720" y="189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WordArt 6"/>
          <p:cNvSpPr txBox="1"/>
          <p:nvPr/>
        </p:nvSpPr>
        <p:spPr>
          <a:xfrm>
            <a:off x="4067280" y="3357720"/>
            <a:ext cx="39430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утниковая система 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Глонасс" 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будущем будет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читывать </a:t>
            </a:r>
            <a:endParaRPr b="0" lang="en-US" sz="32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оло 30 спутников</a:t>
            </a:r>
            <a:endParaRPr b="0" lang="en-US" sz="32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1187280" y="1125360"/>
            <a:ext cx="51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кеты, ракеты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les"/>
          <p:cNvPicPr/>
          <p:nvPr/>
        </p:nvPicPr>
        <p:blipFill>
          <a:blip r:embed="rId1"/>
          <a:stretch/>
        </p:blipFill>
        <p:spPr>
          <a:xfrm>
            <a:off x="324000" y="1197000"/>
            <a:ext cx="8051760" cy="4790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830160" y="62064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406160" y="6035760"/>
            <a:ext cx="55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Плесецк зимой"/>
          <p:cNvPicPr/>
          <p:nvPr/>
        </p:nvPicPr>
        <p:blipFill>
          <a:blip r:embed="rId1"/>
          <a:stretch/>
        </p:blipFill>
        <p:spPr>
          <a:xfrm>
            <a:off x="324000" y="692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262520" y="5734080"/>
            <a:ext cx="63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1:25Z</dcterms:modified>
  <cp:revision>30</cp:revision>
  <dc:subject/>
  <dc:title>Искусственные спутники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3000000000001024140</vt:lpwstr>
  </property>
</Properties>
</file>