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6023-49F0-467E-8453-1CD5960CCF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CDD6-E28F-48A5-B2B7-FE14A45074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ические особ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е эмоции, повышенная внушаем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дность воображ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ожательная и автоматическая деяте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одних повышенное настроение, суетлив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других - двигательная затормож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зли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ы выполнять простые виды раб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ьше могут, чем знают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7564-CE67-4A4A-A24F-09D8A6FA69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врологические 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истагм, парез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зорефлексия, шаткость походки, атаксии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численные нейроэндокринные и сома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ские аномал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задержка роста, микроцеф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мышечная гипотония, кератит, волч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ть, врожденные пороки сердца и дистроф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тчатки, гипотиреоз, гипогенитализм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ые органы неразвиты, вторичные поло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выражены слабо. Менструации у девоч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ются поздно, нерегулярные, рано наступ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опауза. Половая активность снижена, поэт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мства больные, как правило, не име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C6B6-54C5-4905-8B8F-384FF6425A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Клайнфелт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бор половых хромосом X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н в 1942 году Х. В. Клайнфельте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индром мужскогo гипогонад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никают чаще в результате оплодотво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еррантной ХХ яйцеклетк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, имеющим Y-хромос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2-2,5 случая на 1000 новорожденных мальч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является синдромом полового недо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 X-Y полисомии у лиц мужского по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7 - XXY;        47 - XYY;        48 - XXXY;      48 - XYYY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 - XXYY;      49 - XXXXY;   49 - XXXY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9CCB-3ACB-46F9-9F6B-7388E52687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ая выявляется в пубертатном перио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рост, астеническая конституция (уз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чи, широкий таз, слаборазвитая мускулатур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генитализм (скудная растительность на ли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некомастия). Хотя наружные половые орг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ого типа и половая функция у молод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 сохраняется, продолжение рода чащ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невозможно вследствие атрофии сем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льцев и аспермии. Около 20% муж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одия имеют в основе синдром Клайнфел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1591-4AE3-4675-8E5E-BF21BE4BC8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имеется некоторая задерж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ого развития, вялость, инерт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ость, отсутствие должного интер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кружающему, склонность к аффек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яются и небольшие орган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- частичный птоз, нистагмои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зорефлексия, миопия, астигматизм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4727-72FC-484C-A23F-1076371A5B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F59C-5773-41A9-8383-283535808F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5416-5C04-4BF5-A3C0-8F9078F937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омосомные болезни - 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уна, Клайнфелтер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ерешевского-Тернера и д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омные болезни - 3-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ессивная мышечная дистроф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ные атаксии, дрож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лич, миотония, хорея Гентингтон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пато-церебральная дистроф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тическая параплегия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2% всех заболеваний нервной сис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966F-8E89-4DFD-8FB6-2398179F48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ота клинических проявл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рослость - 98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авильное телосложение - 92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чкообразная грудная клетка - 75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орочение шеи - 63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рост волос на шее - 57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е «готическое» нёбо - 5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ыловидные складки кожи в области шеи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ормация ушных раковин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орочение костей и аплазия фаланг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ормация локтевых суставов - 3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жественные пигментные родинки - 35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остаз - 24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ки сердца и крупных сосудов - 22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ое артериальное давление - 17 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5AEE-18AE-442E-955B-8AC123D1A9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ч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осомных болезней начинают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ком возрасте: общеукрепляющие (аминало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ебролизин, ноотропил), анаболические стер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таболил), в пубертатном возрасте – половые горм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индроме Клайнфелтера - тестостерона пропион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1 мл 1% раствора 1 - 3 раза в неделю или тетрастер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устанон) по 1 мл в/м 1 раз в месяц. При синдро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решевского-Тернера - этинилэстрадиол, микрофолл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0,00015 г и прегнин по 0,03 r в день, циклами 16 и 7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уменьшает нервно-психические и вегетатив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мональные рас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ноз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о благоприятен. Высока дет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. Рано наступает стар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жизни в целом сниже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отдельные больные и доживают до пожилого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старческого возра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D90D-56BC-41B7-8C22-D7607FA71A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Дауна – трисомия 21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Клайнфелтер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рисомия половых хромосом – (ХХ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оносомия половой хромосомы (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Эдвардса - трисомия 18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Патау - трисомия 13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6A93-850A-4F2A-974C-EC73F50D35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 хромосом - 44 аутосомы и 2 половых хр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омы: мужчины - ХУ, женщины - Х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групп хромосом - А, В, С, D, F, 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группы - более круп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ующие - более мелкие хромос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ромосомах разное количество ген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Y-хромосоме несколько ген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ых хромосомах А и В – тысячи ге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 пара хромосом наиболее насыщ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ыми ге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в хромосомах человека насчитыв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100 000 генов. (По данным разных ав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25 000 до 140 000 генов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5A49-E1E5-49D1-BD21-251B944C44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ушения структуры хромос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нсло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бменные перестройки м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омологичными хромосо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ле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отери участка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рс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овороты участка хромосомы на 180 граду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пли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удвоения участка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хромосом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хромосомы с повторяющими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ческим материалом в обоих плеч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никновение кольцевых хромо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еди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 концевых делеций в обоих плечах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человека известно более 700 заболев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ванных изменением числа или структуры хромо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25% приходится на аутосомные трисом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% – на патологию половых хромо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е перестройки составляют 10,4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хромосомных перестроек наиболее часто встречаю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локации и дел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FE5C-9D4C-4A00-AAE5-26E59FEE89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вития хромосомны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значима патология яйцеклет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е значима патология сперматозои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роженицы старше 33-4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вокупный возраст родителей более 80-88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лизкородственные браки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E328-CC85-400A-B123-372C435F8E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рисомия 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рожденное слабоуми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66 году Джон Даун описал этот синдром,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9 году Джер Лежен - генетическую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матери старше 33-40 лет (90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астота - до 25 лет - 1/1400, до 30 - 1/100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35 - 1/350, 42 - 1/60, 49 - до 1/1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% даунов рождены матерями до 30 л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отца (10%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лизкородственные бр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возраст матери рожениц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к уменьшению - 1/700            1/1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2A18-362C-4FDD-8FC3-AF0D1931FA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7F1-84B9-40C6-91B2-D6C909C3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9BD5-A81D-455D-8456-D5C0CD7E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CF8-B988-4C9E-933B-0E052707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6BE-756A-42B6-8188-87E7408C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605D-4097-45B6-83D7-5910D519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D9C1-8B91-40E5-9391-471B0F36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8C5A-E40E-4710-93A1-37DB02C5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14AB-DAA5-45DF-8AB0-95DDEA83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CFBE-2217-4A44-B5A9-FFBCB9DB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1639-0BE6-4E15-BD0B-8503C107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07D2-278F-4E78-A9FA-628D85E3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2D7-3359-40EB-B93B-133E337F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C269-16A5-410F-B9C1-2ADE6B5E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68BE-8441-47DE-9C35-94AC9749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E4A3-781D-47F2-81AB-6BEEF36E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DDE1-0BC8-4610-92D0-D84DD94C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6F88-85D1-4D64-84D6-EE54403A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363C2-158F-4C3A-8361-658EE358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FC63A-5D10-41C7-BC41-DB9CB863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9F32C-E940-4770-926B-E1541A35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A4B61-86E6-4C68-8FE5-512DE6D6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58EE5-52D2-48CE-822C-1EB1EEAF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275-67F6-42C8-B52D-A44A1232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ACDF1-2887-4027-94C6-89D33E2F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2AEE6-AB80-4549-B650-D5321CC4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169A6-1595-470C-B5FC-A094BB62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FE27D-826D-446D-AD66-9AD57D41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B03E4-6BC6-4205-B199-DF70DE56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E4845-9388-49FD-8E58-EF60291A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52264-0204-454C-BCEB-84258E6E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9E926-5041-4EE2-AF6A-D5751D76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5ED04-8DEA-4840-8F19-CFF9F80C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34447-1AC4-4379-A02E-C979BBA5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5696-79BF-4250-92EA-99562044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E9BAA-B224-48CF-A086-4A7CB2A2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C7C38-9B29-456C-9A29-BD45A215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FB59B-7F39-4D50-B2BB-87F13C4C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C0839-FE55-4526-91FE-7780C944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889E6-CE77-4FB0-89FC-2DFF7A57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7C823-817A-4205-86A1-25DBAE1B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FE6BC-3073-4813-885B-BFEB2790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3CEA6-903E-489E-B2C7-191078AC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76578-4ED3-4EE5-A2F1-532B7820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91633-8FA7-4BAD-8C3B-609DC470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AAB-0934-4ECE-A26E-B3B89402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A3F2D-A674-416D-A0B6-0A262DBD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FB975-C174-4B3A-BC3F-D0B1A753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4818C-A717-45A5-900E-AA850A04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A9041-0969-4877-86FC-1CBBD730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AB7A9-7229-4707-9F24-BBCBE5B9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6C168-6F1F-4035-B5CE-51094F1B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56ACA-B368-4CDB-BC14-5AAD6A1C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54356-CCCB-4C84-8CBD-61E765AE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7374C-60FD-4DB3-AB04-9E9C3661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C7C0B-A890-4F49-AB6F-DF55545E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D11F-DDAD-4226-BB39-A24A382B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9EF73-7272-486E-9BD0-55E8B0AA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24F-BF7E-4C7C-988A-81090911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A597-846E-4B51-806C-26241093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C0A0-7055-4C24-84DB-84B5781F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9CFC-F825-4A49-A95E-F6031A90A5F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EE24-6BE9-406B-BD61-45125769F76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D2A7-36D7-45A3-BA55-86683E49C5E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0B0E-01AD-4B1C-9337-1414B6B6A81C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6967-8B94-4675-AB48-F978DC16FF1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95280" y="18900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У ВПО «РОССИЙСКИЙ УНИВЕРСИТЕТ ДРУЖБЫ НАРОДОВ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ФЕДРА НЕРВНЫХ БОЛЕЗНЕЙ И НЕЙРОХИРУ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2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1-3"/>
          <p:cNvPicPr/>
          <p:nvPr/>
        </p:nvPicPr>
        <p:blipFill>
          <a:blip r:embed="rId1"/>
          <a:stretch/>
        </p:blipFill>
        <p:spPr>
          <a:xfrm>
            <a:off x="214200" y="1428840"/>
            <a:ext cx="302904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http://www.iks.ru/~soroka/r-22.jpg"/>
          <p:cNvPicPr/>
          <p:nvPr/>
        </p:nvPicPr>
        <p:blipFill>
          <a:blip r:embed="rId2"/>
          <a:stretch/>
        </p:blipFill>
        <p:spPr>
          <a:xfrm>
            <a:off x="3747960" y="857160"/>
            <a:ext cx="2538720" cy="27147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2" descr="http://www.iks.ru/~soroka/mlad.jpg"/>
          <p:cNvPicPr/>
          <p:nvPr/>
        </p:nvPicPr>
        <p:blipFill>
          <a:blip r:embed="rId3"/>
          <a:stretch/>
        </p:blipFill>
        <p:spPr>
          <a:xfrm>
            <a:off x="6429240" y="857160"/>
            <a:ext cx="2571840" cy="27021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4"/>
          <p:cNvSpPr/>
          <p:nvPr/>
        </p:nvSpPr>
        <p:spPr>
          <a:xfrm>
            <a:off x="158040" y="78588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ая ладо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4867200" y="285840"/>
            <a:ext cx="23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донь Да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854-1"/>
          <p:cNvPicPr/>
          <p:nvPr/>
        </p:nvPicPr>
        <p:blipFill>
          <a:blip r:embed="rId4"/>
          <a:stretch/>
        </p:blipFill>
        <p:spPr>
          <a:xfrm>
            <a:off x="4429080" y="3643200"/>
            <a:ext cx="3606840" cy="307188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569440" cy="115236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1100"/>
                </a:solidFill>
                <a:latin typeface="Franklin Gothic Book"/>
                <a:ea typeface="Tunga"/>
              </a:rPr>
              <a:t>ДЕТИ, СТРАДАЮЩИЕ БОЛЕЗНЬЮ ДАУНА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924360" cy="4572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735360" cy="457200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289080" y="284040"/>
            <a:ext cx="792108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сихические особ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итивные эмоции, повышенная внушаем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дность воображ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рожательная и автоматическая дея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одних повышенное настроение, суетлив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других - двигательная заторможен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зразлич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ы выполнять простые виды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Больше могут, чем знают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216360" y="260280"/>
            <a:ext cx="812988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врологические симптом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нистагм, парез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изорефлексия, шаткость походки, атаксиии т. 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ногочисленные нейроэндокринные и сомат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ские аномал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задержка роста, микроцефал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ая мышечная гипотония, кератит, волч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сть, врожденные пороки сердца и дистро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тчатки, гипотиреоз, гипогенитализм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овые органы неразвиты, вторичные поло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выражены слабо. Менструации у девоч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являются поздно, нерегулярные, рано наступ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нопауза. Половая активность снижена, поэт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омства больные, как правило, не име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838080" y="87480"/>
            <a:ext cx="782964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индром Клайнфелте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абор половых хромосом X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писан в 1942 году Х. В. Клайнфельт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индром мужскогo гипогонадиз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озникают чаще в результате оплодотв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беррантной ХХ яйцеклетк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рмием, имеющим Y-хромос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2-2,5 случая на 1000 новорожденных маль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оявляется синдромом полового недо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ие X-Y полисомии у лиц мужского по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7 - XXY;        47 - XYY;        48 - XXXY;      48 - XYY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8 - XXYY;      49 - XXXXY;   49 - XXXY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683280" y="260280"/>
            <a:ext cx="80629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иническая выявляется в пубертатном период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кий рост, астеническая конституция (уз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ечи, широкий таз, слаборазвитая мускулатур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погенитализм (скудная растительность на лиц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некомастия). Хотя наружные половые орг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жского типа и половая функция у молод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дей сохраняется, продолжение рода ча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невозможно вследствие атрофии с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нальцев и аспермии. Около 20% муж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плодия имеют в основе синдром Клайнфел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1" descr="http://jeffline.tju.edu/Education/dl/PA570/cases/images/CASE3B-10.JPG"/>
          <p:cNvPicPr/>
          <p:nvPr/>
        </p:nvPicPr>
        <p:blipFill>
          <a:blip r:embed="rId1"/>
          <a:stretch/>
        </p:blipFill>
        <p:spPr>
          <a:xfrm>
            <a:off x="5143680" y="214200"/>
            <a:ext cx="2500200" cy="64137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2"/>
          <p:cNvSpPr/>
          <p:nvPr/>
        </p:nvSpPr>
        <p:spPr>
          <a:xfrm>
            <a:off x="214920" y="214200"/>
            <a:ext cx="387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йнфельт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ГИНЕКОМАСТИЯ у пациента с синдромом Клайнфельтера"/>
          <p:cNvPicPr/>
          <p:nvPr/>
        </p:nvPicPr>
        <p:blipFill>
          <a:blip r:embed="rId2"/>
          <a:stretch/>
        </p:blipFill>
        <p:spPr>
          <a:xfrm>
            <a:off x="928800" y="2071800"/>
            <a:ext cx="2643120" cy="42926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735840" y="324000"/>
            <a:ext cx="69274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ычно имеется некоторая задерж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ственного развития, вялость, инерт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ссивность, отсутствие должного интере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окружающему, склонность к аффек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ляются и небольшие орган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я - частичный птоз, нистагмои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изорефлексия, миопия, астигматизм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573120" y="214200"/>
            <a:ext cx="8265600" cy="60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164520" y="142920"/>
            <a:ext cx="11728080" cy="89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182520" y="260280"/>
            <a:ext cx="75340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омосомные болезни -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уна, Клайнфелте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ерешевского-Тернера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омные болезни - 3-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ессивная мышечная дистроф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ные атаксии, дрож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лич, миотония, хорея Гентингто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пато-церебральная дистроф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тическая параплег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2% всех заболеваний нервн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2"/>
          <p:cNvSpPr/>
          <p:nvPr/>
        </p:nvSpPr>
        <p:spPr>
          <a:xfrm>
            <a:off x="281160" y="142920"/>
            <a:ext cx="357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ндр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ерешевског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Девочка с синдромом Тёрнера"/>
          <p:cNvPicPr/>
          <p:nvPr/>
        </p:nvPicPr>
        <p:blipFill>
          <a:blip r:embed="rId1"/>
          <a:stretch/>
        </p:blipFill>
        <p:spPr>
          <a:xfrm>
            <a:off x="2333520" y="1619280"/>
            <a:ext cx="2238480" cy="5238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Новый рисунок (37)"/>
          <p:cNvPicPr/>
          <p:nvPr/>
        </p:nvPicPr>
        <p:blipFill>
          <a:blip r:embed="rId2"/>
          <a:stretch/>
        </p:blipFill>
        <p:spPr>
          <a:xfrm>
            <a:off x="5562720" y="533520"/>
            <a:ext cx="3057480" cy="453384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662040" y="271440"/>
            <a:ext cx="77565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та клинических проявл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орослость - 98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авильное телосложение - 92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чкообразная грудная клетка - 75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рочение шеи - 63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ий рост волос на шее - 57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е «готическое» нёбо - 5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овидные складки кожи в области шеи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ормация ушных раковин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рочение костей и аплазия фаланг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ормация локтевых суставов - 3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енные пигментные родинки - 35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мфостаз - 24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ки сердца и крупных сосудов - 22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ное артериальное давление - 17 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271440" y="179280"/>
            <a:ext cx="81756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омосомных болезней начинаю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ском возрасте: общеукрепляющие (аминал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ребролизин, ноотропил), анаболические стеро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ретаболил), в пубертатном возрасте – половые горм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синдроме Клайнфелтера - тестостерона пропион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1 мл 1% раствора 1 - 3 раза в неделю или тетрастер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устанон) по 1 мл в/м 1 раз в месяц. При синдро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ерешевского-Тернера - этинилэстрадиол, микрофолл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0,00015 г и прегнин по 0,03 r в день, циклами 16 и 7 д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уменьшает нервно-психические и вегетатив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рмональные расстро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гноз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ло благоприятен. Высока де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ертность. Рано наступает стар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олжительность жизни в целом сниже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тя отдельные больные и доживают до пожилог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же старческ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6"/>
          <p:cNvSpPr/>
          <p:nvPr/>
        </p:nvSpPr>
        <p:spPr>
          <a:xfrm>
            <a:off x="245880" y="214200"/>
            <a:ext cx="79516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Дауна – трисомия 21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Клайнфелтер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рисомия половых хромосом – (ХХ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моносомия половой хромосомы (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Эдвардса - трисомия 18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Патау - трисомия 13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73880" y="214200"/>
            <a:ext cx="771372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6 хромосом - 44 аутосомы и 2 половых хр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сомы: мужчины - ХУ, женщины - Х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 групп хромосом - А, В, С, D, F, 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е группы - более круп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ующие - более мелкие хромосо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ромосомах разное количество ген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Y-хромосоме несколько ген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вых хромосомах А и В – тысячи ге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 пара хромосом наиболее насыщ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ивными ге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в хромосомах человека насчиты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оло 100 000 генов. (По данным разных ав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000 до 140 000 генов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171720" y="214200"/>
            <a:ext cx="9111240" cy="70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рушения структуры хромо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сло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бменные перестройки 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омологичными хромосом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е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тери участка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вер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вороты участка хромосомы на 180 граду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пл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двоения участка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хромосом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ромосомы с повторяющим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етическим материалом в обоих плеч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новение кольцевых хромос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оеди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х концевых делеций в обоих плечах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человека известно более 700 заболева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ванных изменением числа или структуры хромос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ло 25% приходится на аутосомные трисом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6% – на патологию половых хромос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ые перестройки составляют 10,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хромосомных перестроек наиболее часто встреч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локации и дел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407520" y="515880"/>
            <a:ext cx="8044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развития хромосомных заболе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ее значима патология яйцеклет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нее значима патология сперматозои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роженицы старше 33-4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совокупный возраст родителей более 80-88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близкородственные брак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40480" y="285840"/>
            <a:ext cx="783396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исомия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рожденное слабоум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866 году Джон Даун описал этот синдром,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59 году Джер Леже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етическую прир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матери старше 33-40 лет (9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частота - до 25 лет - 1/1400, до 30 - 1/100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35 - 1/350, 42 - 1/60, 49 - до 1/1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0% даунов рождены матерями до 30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отца (10%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Близкородственные бр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ой возраст матери роженицы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намика к уменьшению - 1/700            1/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Прямая со стрелкой 6"/>
          <p:cNvCxnSpPr/>
          <p:nvPr/>
        </p:nvCxnSpPr>
        <p:spPr>
          <a:xfrm>
            <a:off x="5572080" y="6428880"/>
            <a:ext cx="572400" cy="2520"/>
          </a:xfrm>
          <a:prstGeom prst="straightConnector1">
            <a:avLst/>
          </a:prstGeom>
          <a:ln w="507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3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431280" y="7858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Графическое представление нормального человеческого кариотипа."/>
          <p:cNvPicPr/>
          <p:nvPr/>
        </p:nvPicPr>
        <p:blipFill>
          <a:blip r:embed="rId1"/>
          <a:stretch/>
        </p:blipFill>
        <p:spPr>
          <a:xfrm>
            <a:off x="214200" y="1357200"/>
            <a:ext cx="3929040" cy="42354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3"/>
          <p:cNvSpPr/>
          <p:nvPr/>
        </p:nvSpPr>
        <p:spPr>
          <a:xfrm>
            <a:off x="4289040" y="16430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Изображение:Down Syndrome Karyotype.png"/>
          <p:cNvPicPr/>
          <p:nvPr/>
        </p:nvPicPr>
        <p:blipFill>
          <a:blip r:embed="rId2"/>
          <a:stretch/>
        </p:blipFill>
        <p:spPr>
          <a:xfrm>
            <a:off x="4572000" y="1357200"/>
            <a:ext cx="3968640" cy="42609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228240" y="142920"/>
            <a:ext cx="280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хромос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4592160" y="142920"/>
            <a:ext cx="34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хромосом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езни Да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трелка вверх 11"/>
          <p:cNvSpPr/>
          <p:nvPr/>
        </p:nvSpPr>
        <p:spPr>
          <a:xfrm>
            <a:off x="5929200" y="5715000"/>
            <a:ext cx="484200" cy="97776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360000" y="178596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1" descr="Сегодня в мире каждый шестисотый ребенок рождается с синдромом Дауна (фото с сайта www.einstein-syndrome.com)"/>
          <p:cNvPicPr/>
          <p:nvPr/>
        </p:nvPicPr>
        <p:blipFill>
          <a:blip r:embed="rId1"/>
          <a:stretch/>
        </p:blipFill>
        <p:spPr>
          <a:xfrm>
            <a:off x="138240" y="1019160"/>
            <a:ext cx="2970000" cy="35193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3"/>
          <p:cNvSpPr/>
          <p:nvPr/>
        </p:nvSpPr>
        <p:spPr>
          <a:xfrm>
            <a:off x="155160" y="142920"/>
            <a:ext cx="393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дром Да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http://www.hram-st.obninsk.ru/arxiv/2006/sda.jpg"/>
          <p:cNvPicPr/>
          <p:nvPr/>
        </p:nvPicPr>
        <p:blipFill>
          <a:blip r:embed="rId2"/>
          <a:stretch/>
        </p:blipFill>
        <p:spPr>
          <a:xfrm>
            <a:off x="5442120" y="2514600"/>
            <a:ext cx="2786040" cy="3732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Новый рисунок (34)"/>
          <p:cNvPicPr/>
          <p:nvPr/>
        </p:nvPicPr>
        <p:blipFill>
          <a:blip r:embed="rId3"/>
          <a:stretch/>
        </p:blipFill>
        <p:spPr>
          <a:xfrm>
            <a:off x="4738680" y="142920"/>
            <a:ext cx="4191120" cy="2162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Новый рисунок (35)"/>
          <p:cNvPicPr/>
          <p:nvPr/>
        </p:nvPicPr>
        <p:blipFill>
          <a:blip r:embed="rId4"/>
          <a:stretch/>
        </p:blipFill>
        <p:spPr>
          <a:xfrm>
            <a:off x="138240" y="4559400"/>
            <a:ext cx="4038480" cy="208584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07T12:57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