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B326-6054-4AA2-B305-E6C6C4FB6F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1682-6314-417E-A4C7-01B9B85D9D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ические особ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е эмоции, повышенная внушаем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воображ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жательная и автоматическая дея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одних повышенное настроение, суетлив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других - двигательная затормож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ы выполнять простые виды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е могут, чем знают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6B09-03C2-4822-BA3C-1A5E9B90DC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рологические 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истагм, парез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зорефлексия, шаткость походки, атаксии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нейроэндокринные и сома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ские аномал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задержка роста, микроцеф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мышечная гипотония, кератит, волч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ь, врожденные пороки сердца и дистро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чатки, гипотиреоз, гипогенитализм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ые органы неразвиты, вторичные пол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выражены слабо. Менструации у девоч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ются поздно, нерегулярные, рано наступ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опауза. Половая активность снижена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мства больные, как правило, не име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45A7-A4EB-492D-BFB2-FC0712C7D0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Клайнфелт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бор половых хромосом X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н в 1942 году Х. В. Клайнфельте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ндром мужскогo гипогонад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никают чаще в результате оплодотво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еррантной ХХ яйцеклетк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, имеющим Y-хромос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2-2,5 случая на 1000 новорожденных мальч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является синдромом полового недо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X-Y полисомии у лиц мужского по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 - XXY;        47 - XYY;        48 - XXXY;      48 - XYYY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 - XXYY;      49 - XXXXY;   49 - XXXY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FBA1-736F-4B80-96DC-201BEE6827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ая выявляется в пубертатном перио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рост, астеническая конституция (уз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чи, широкий таз, слаборазвитая мускулатур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генитализм (скудная растительность на ли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некомастия). Хотя наружные половые орг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ого типа и половая функция у молод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сохраняется, продолжение рода чащ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невозможно вследствие атрофии сем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льцев и аспермии. Около 20% муж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одия имеют в основе синдром Клайнфел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D254-34E8-4717-BEC6-C1E42FB73B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еется некоторая задерж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развития, вялость, инерт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сть, отсутствие должного интер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кружающему, склонность к аффе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яются и небольшие орган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- частичный птоз, нистагмо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зорефлексия, миопия, астигматизм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30FF-25E2-422E-8F90-1FABF5332E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233D-26EB-4EB4-823D-7D5230F832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BB57-4CC3-4959-88A9-304B8A7062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сомные болезни - 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уна, Клайнфелте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решевского-Тернера и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омные болезни - 3-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ессивная мышечная дистроф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ые атаксии, дрож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ич, миотония, хорея Гентингто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о-церебральная дистроф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тическая параплегия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2% всех заболеваний нервной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3332-8E08-4EA5-AAD5-AFF4FE7D2C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ота клинических проявл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рослость - 98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авильное телосложение - 92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чкообразная грудная клетка - 75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орочение шеи - 63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рост волос на шее - 57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«готическое» нёбо - 5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овидные складки кожи в области шеи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ормация ушных раковин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орочение костей и аплазия фаланг - 4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ормация локтевых суставов - 36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жественные пигментные родинки - 35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стаз - 24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ки сердца и крупных сосудов - 22 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ртериальное давление - 17 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53FA-A44C-44FB-B5D9-FDD8FC9250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осомных болезней начинаю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ом возрасте: общеукрепляющие (аминало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ебролизин, ноотропил), анаболические стер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таболил), в пубертатном возрасте – половые горм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индроме Клайнфелтера - тестостерона пропион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1 мл 1% раствора 1 - 3 раза в неделю или тетрастер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устанон) по 1 мл в/м 1 раз в месяц. При синдро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решевского-Тернера - этинилэстрадиол, микрофолл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0,00015 г и прегнин по 0,03 r в день, циклами 16 и 7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уменьшает нервно-психические и вегетатив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мональные рас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 благоприятен. Высока дет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. Рано наступает стар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жизни в целом сниже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отдельные больные и доживают до пожилого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старческого возр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30FF-B32E-4D61-A832-D4CFB5F282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Дауна – трисомия 21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Клайнфелтер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рисомия половых хромосом – (ХХ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носомия половой хромосомы (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Эдвардса - трисомия 18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дром Патау - трисомия 13 хромосомы (ХХ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2E97-D1F1-4648-BB18-F1916FBBC9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 хромосом - 44 аутосомы и 2 половых х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омы: мужчины - ХУ, женщины - Х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групп хромосом - А, В, С, D, F, 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группы - более круп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е - более мелкие хромос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ромосомах разное количество ген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Y-хромосоме несколько ге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ых хромосомах А и В – тысячи г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 пара хромосом наиболее насыщ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ми ге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в хромосомах человека насчитыв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100 000 генов. (По данным разных ав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25 000 до 140 000 генов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C135-AAF6-4D76-BFB7-95E5CEAF2E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ушения структуры хромо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нсло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менные перестройк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мологичными хромосо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е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отери участка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р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овороты участка хромосомы на 180 граду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пли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двоения участка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хромосо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хромосомы с повторяющими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ческим материалом в обоих плеч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никновение кольцевых хром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еди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 концевых делеций в обоих плечах хромосо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человека известно более 700 заболе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ванных изменением числа или структуры хромо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25% приходится на аутосомные трисом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% – на патологию половых хромо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е перестройки составляют 10,4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хромосомных перестроек наиболее часто встречаю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локации и дел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7D04-197B-4F06-B2E3-47B05A7407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хромосомн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значима патология яйцеклет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значима патология сперматозои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роженицы старше 33-4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вокупный возраст родителей более 80-8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лизкородственные брак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5A1B-FF0D-4EE5-BF77-7525461490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езнь Дау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исомия 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рожденное слабоуми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66 году Джон Даун описал этот синдром,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9 году Джер Лежен - генетическ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матери старше 33-40 лет (90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астота - до 25 лет - 1/1400, до 30 - 1/100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35 - 1/350, 42 - 1/60, 49 - до 1/1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% даунов рождены матерями до 30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 отца (10%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лизкородственные бр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озраст матери рожениц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к уменьшению - 1/700            1/1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1930-E59C-4217-B26E-DA79897A01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CD2-7444-4B4E-8853-9FF399BC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4C9-A733-4B40-A092-4CC78F14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B23-D75F-4AEA-9F96-DD51DA1A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88B-4E06-41D4-8599-6752262A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9265-6A00-465C-86D3-827F36E7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D59D-8F15-43C2-A983-C5440795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2861-07D7-445F-B8AE-DA21849C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E446-B586-4550-837E-5C503B2B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46E1-F5FF-4667-A618-554C8122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E783-3EC8-4931-A73F-4E5BC48A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A7F3-CB10-41F1-9D05-9B5C7B55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115-21B3-4058-AEDB-1BFD5262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E773-9075-40CF-B455-1FAFBD22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C78F-ED96-421C-B889-0E029804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3003-F81A-49F4-ADB2-838EE043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712E-D4B9-45D9-A667-97AAFD19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5847-F569-46A8-A350-65957825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69F8-A8A5-42A0-B443-6CF7B39E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83A49-AE5E-471E-ADE0-32959DF2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37F86-629D-4C44-90A1-FE0BE5A1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05411-071D-484C-8196-CF9695B0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927D-6A44-4A58-BC2B-B0857042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F47-99C2-484E-90B9-44E29F92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55C5D-F793-4531-A1FB-53CA6C63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47393-CF42-44C3-95DC-A9809F8D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22C5-57AA-412C-97FA-04EDAD7C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C31C-FD24-429A-86C9-405EDB27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96D19-651B-41CB-8D2D-D33FF9B9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1F132-4C29-419D-8955-A2105579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AFE4-F889-49E3-A5A9-8FDA4F68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C9F50-C980-40F5-BA8B-3F0DD153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41CFE-0BBB-423C-9A34-893959C2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4A8E1-5074-4249-B9C4-CE1E7FAF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514F-AB72-4A89-9D29-AD60F1FD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78C95-9FAB-42FD-927C-2B4B15DD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BBA69-A892-49AB-B39B-35DA92AF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CA116-FD66-43BD-93D5-3E8F77DB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AF5B2-D9AD-40C2-9DE4-D67FE085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890A2-E99F-4BE6-B49C-1D3588FB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7AA9-62E2-4259-8B3E-6558EF89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D848E-CE4B-4CA7-AB16-EEEE24E9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1242E-7785-4555-ADF3-A0CC6FC7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41E5B-7045-4C67-84E1-11090552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3AEE3-1985-40DC-840A-787F60A6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ABA-C6D5-48C5-9F2B-B5EAEF9B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E21DE-04EB-49F0-9CD8-9A4CE321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727BB-E2D2-47F4-841A-C4B19FC3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B591A-E96F-4816-A78F-32D41C6E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B8346-87D1-41C7-A5E4-29A702CF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4CF07-1ACA-4A08-ACEC-5E40F1FD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ED9E7-00F5-45F1-9DDF-EE570CB3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757A0-40AC-4CBD-81EC-C42AE67E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09051-0F4D-41B5-8D54-135CAB30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40F16-159A-4CA2-A843-2551E8CA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DF6F3-A8EF-492F-8256-FC529AA5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17B-7B4A-43C2-AA58-3F0111B8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144A6-9038-4E00-A76F-63F93967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925-BC96-463E-8E7C-E37C7900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52C-9FBA-4BD6-8B0D-8BED7F57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C92-8B31-47A9-ADA3-5736C29C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C13A-B879-4733-891F-782C4938761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B1A1-B2F1-4A5F-BAE0-77490EFA11F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B6A2-259A-41FA-90F0-E7FECF4E1E0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9E27-80EF-4110-B30D-92E5FBD59156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6568-2D88-4344-BB3F-11C4808F05A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95280" y="18900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У ВПО «РОССИЙСКИЙ УНИВЕРСИТЕТ ДРУЖБЫ НАРОДОВ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ФЕДРА НЕРВНЫХ БОЛЕЗНЕЙ И НЕЙРОХИРУ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2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1-3"/>
          <p:cNvPicPr/>
          <p:nvPr/>
        </p:nvPicPr>
        <p:blipFill>
          <a:blip r:embed="rId1"/>
          <a:stretch/>
        </p:blipFill>
        <p:spPr>
          <a:xfrm>
            <a:off x="214200" y="1428840"/>
            <a:ext cx="302904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http://www.iks.ru/~soroka/r-22.jpg"/>
          <p:cNvPicPr/>
          <p:nvPr/>
        </p:nvPicPr>
        <p:blipFill>
          <a:blip r:embed="rId2"/>
          <a:stretch/>
        </p:blipFill>
        <p:spPr>
          <a:xfrm>
            <a:off x="3747960" y="857160"/>
            <a:ext cx="2538720" cy="27147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" descr="http://www.iks.ru/~soroka/mlad.jpg"/>
          <p:cNvPicPr/>
          <p:nvPr/>
        </p:nvPicPr>
        <p:blipFill>
          <a:blip r:embed="rId3"/>
          <a:stretch/>
        </p:blipFill>
        <p:spPr>
          <a:xfrm>
            <a:off x="6429240" y="857160"/>
            <a:ext cx="2571840" cy="27021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4"/>
          <p:cNvSpPr/>
          <p:nvPr/>
        </p:nvSpPr>
        <p:spPr>
          <a:xfrm>
            <a:off x="158040" y="78588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ая лад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4867200" y="28584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донь Да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854-1"/>
          <p:cNvPicPr/>
          <p:nvPr/>
        </p:nvPicPr>
        <p:blipFill>
          <a:blip r:embed="rId4"/>
          <a:stretch/>
        </p:blipFill>
        <p:spPr>
          <a:xfrm>
            <a:off x="4429080" y="3643200"/>
            <a:ext cx="3606840" cy="307188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569440" cy="115236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1100"/>
                </a:solidFill>
                <a:latin typeface="Franklin Gothic Book"/>
                <a:ea typeface="Tunga"/>
              </a:rPr>
              <a:t>ДЕТИ, СТРАДАЮЩИЕ БОЛЕЗНЬЮ ДАУНА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924360" cy="4572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735360" cy="457200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289080" y="284040"/>
            <a:ext cx="792108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сихические 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итивные эмоции, повышенная внушаем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дность вообра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рожательная и автоматическая дея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одних повышенное настроение, суетлив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других - двигательная заторможен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зразли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ы выполнять простые виды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ьше могут, чем знают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16360" y="260280"/>
            <a:ext cx="812988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врологические симптом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нистагм, парез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изорефлексия, шаткость походки, атаксиии т. 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ногочисленные нейроэндокринные и сомат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ские аномал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задержка роста, микроцефал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ая мышечная гипотония, кератит, волч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ть, врожденные пороки сердца и дистро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тчатки, гипотиреоз, гипогенитализм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вые органы неразвиты, вторичные поло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выражены слабо. Менструации у девоч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являются поздно, нерегулярные, рано наступ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опауза. Половая активность снижена, поэт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омства больные, как правило, не име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838080" y="87480"/>
            <a:ext cx="782964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дром Клайнфелте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бор половых хромосом X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исан в 1942 году Х. В. Клайнфельт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индром мужскогo гипогонадиз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озникают чаще в результате оплод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беррантной ХХ яйцеклет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рмием, имеющим Y-хромос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2-2,5 случая на 1000 новорожденных маль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оявляется синдромом полового недо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е X-Y полисомии у лиц мужского по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7 - XXY;        47 - XYY;        48 - XXXY;      48 - XYY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8 - XXYY;      49 - XXXXY;   49 - XXXY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683280" y="260280"/>
            <a:ext cx="80629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иническая выявляется в пубертатном период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ий рост, астеническая конституция (уз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ечи, широкий таз, слаборазвитая мускулатур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погенитализм (скудная растительность на лиц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некомастия). Хотя наружные половые орг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жского типа и половая функция у молод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дей сохраняется, продолжение рода ча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невозможно вследствие атрофии с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нальцев и аспермии. Около 20% муж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плодия имеют в основе синдром Клайнфел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1" descr="http://jeffline.tju.edu/Education/dl/PA570/cases/images/CASE3B-10.JPG"/>
          <p:cNvPicPr/>
          <p:nvPr/>
        </p:nvPicPr>
        <p:blipFill>
          <a:blip r:embed="rId1"/>
          <a:stretch/>
        </p:blipFill>
        <p:spPr>
          <a:xfrm>
            <a:off x="5143680" y="214200"/>
            <a:ext cx="2500200" cy="64137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"/>
          <p:cNvSpPr/>
          <p:nvPr/>
        </p:nvSpPr>
        <p:spPr>
          <a:xfrm>
            <a:off x="214920" y="214200"/>
            <a:ext cx="387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йнфельт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ГИНЕКОМАСТИЯ у пациента с синдромом Клайнфельтера"/>
          <p:cNvPicPr/>
          <p:nvPr/>
        </p:nvPicPr>
        <p:blipFill>
          <a:blip r:embed="rId2"/>
          <a:stretch/>
        </p:blipFill>
        <p:spPr>
          <a:xfrm>
            <a:off x="928800" y="2071800"/>
            <a:ext cx="2643120" cy="42926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735840" y="324000"/>
            <a:ext cx="69274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ндром Клайнфел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но имеется некоторая задерж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ственного развития, вялость, инерт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сивность, отсутствие должного интер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окружающему, склонность к аффек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яются и небольшие орга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я - частичный птоз, нистагмо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изорефлексия, миопия, астигматизм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573120" y="214200"/>
            <a:ext cx="826560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164520" y="142920"/>
            <a:ext cx="11728080" cy="89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бусловлен отсутствием или дефектом полов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-хромосомы, всего в наборе 45 хромос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(синдром женского гипогонадизм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писали Н.А.Шерешевский в 1925г., Turner в 1938г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Частота - 1:3000 живорожденных девоче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Моносомия по Х-хромосоме возникает чаще вс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результате оплодотворения аберрант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йцеклетки, лишенной Х-хромосом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ермием с Х-хромосом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Четкой связи возникновения синдрома 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возрастом и какими-либо заболевания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дителей не выявле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82520" y="260280"/>
            <a:ext cx="7534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СЛЕДСТВЕННО-ДЕГЕНЕР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ОЛЕВАНИЯ НЕРВ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омосомные болезни -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уна, Клайнфелте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ерешевского-Тернера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омные болезни - 3-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ессивная мышечная дистроф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ные атаксии, дрож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лич, миотония, хорея Гентингто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о-церебральная дистроф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тическая параплег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-2% всех заболеваний нервн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2"/>
          <p:cNvSpPr/>
          <p:nvPr/>
        </p:nvSpPr>
        <p:spPr>
          <a:xfrm>
            <a:off x="281160" y="142920"/>
            <a:ext cx="357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др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ерешевског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Девочка с синдромом Тёрнера"/>
          <p:cNvPicPr/>
          <p:nvPr/>
        </p:nvPicPr>
        <p:blipFill>
          <a:blip r:embed="rId1"/>
          <a:stretch/>
        </p:blipFill>
        <p:spPr>
          <a:xfrm>
            <a:off x="2333520" y="1619280"/>
            <a:ext cx="2238480" cy="5238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Новый рисунок (37)"/>
          <p:cNvPicPr/>
          <p:nvPr/>
        </p:nvPicPr>
        <p:blipFill>
          <a:blip r:embed="rId2"/>
          <a:stretch/>
        </p:blipFill>
        <p:spPr>
          <a:xfrm>
            <a:off x="5562720" y="533520"/>
            <a:ext cx="3057480" cy="45338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662040" y="271440"/>
            <a:ext cx="77565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та клинических проявл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орослость - 98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авильное телосложение - 92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чкообразная грудная клетка - 75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очение шеи - 63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ий рост волос на шее - 57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е «готическое» нёбо - 5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овидные складки кожи в области шеи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рмация ушных раковин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очение костей и аплазия фаланг - 4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формация локтевых суставов - 36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енные пигментные родинки - 35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мфостаз - 24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ки сердца и крупных сосудов - 22 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ное артериальное давление - 17 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271440" y="179280"/>
            <a:ext cx="81756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мосомных болезней начинаю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ском возрасте: общеукрепляющие (аминал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ребролизин, ноотропил), анаболические стеро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етаболил), в пубертатном возрасте – половые горм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синдроме Клайнфелтера - тестостерона пропион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1 мл 1% раствора 1 - 3 раза в неделю или тетрастер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устанон) по 1 мл в/м 1 раз в месяц. При синдро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ерешевского-Тернера - этинилэстрадиол, микрофолл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0,00015 г и прегнин по 0,03 r в день, циклами 16 и 7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уменьшает нервно-психические и вегетатив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рмональные расстр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ло благоприятен. Высока де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ертность. Рано наступает стар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олжительность жизни в целом сниж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тя отдельные больные и доживают до пожилог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же старческ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6"/>
          <p:cNvSpPr/>
          <p:nvPr/>
        </p:nvSpPr>
        <p:spPr>
          <a:xfrm>
            <a:off x="245880" y="214200"/>
            <a:ext cx="79516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Дауна – трисомия 21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Клайнфелтер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рисомия половых хромосом – (ХХ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Шерешевского-Тернер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моносомия половой хромосомы (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Эдвардса - трисомия 18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дром Патау - трисомия 13 хромосомы (ХХ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73880" y="214200"/>
            <a:ext cx="771372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омосомные боле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6 хромосом - 44 аутосомы и 2 половых хр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сомы: мужчины - ХУ, женщины - Х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 групп хромосом - А, В, С, D, F, 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е группы - более круп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ующие - более мелкие хромосо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ромосомах разное количество ген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Y-хромосоме несколько ген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вых хромосомах А и В – тысячи ге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 пара хромосом наиболее насыщ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ивными г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в хромосомах человека насчит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оло 100 000 генов. (По данным разных ав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00 до 140 000 генов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171720" y="214200"/>
            <a:ext cx="911124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рушения структуры хромо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ло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менные перестройки 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омологичными хромосом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тери участка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вер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вороты участка хромосомы на 180 граду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пл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двоения участка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хромосом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ромосомы с повторяющим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тическим материалом в обоих плеч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новение кольцевых хромо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еди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 концевых делеций в обоих плечах хромос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человека известно более 700 заболева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ванных изменением числа или структуры хромо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 25% приходится на аутосомные трисом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6% – на патологию половых хромо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ые перестройки составляют 10,4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хромосомных перестроек наиболее часто встреч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локации и дел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407520" y="515880"/>
            <a:ext cx="8044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развития хромосомных заболе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е значима патология яйцекле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нее значима патология сперматозои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роженицы старше 33-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овокупный возраст родителей более 80-8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лизкородственные брак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40480" y="285840"/>
            <a:ext cx="783396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олезнь Даун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исомия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рожденное слабоум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66 году Джон Даун описал этот синдром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59 году Джер Леже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етическую прир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акторы ри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матери старше 33-40 лет (9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частота - до 25 лет - 1/1400, до 30 - 1/100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35 - 1/350, 42 - 1/60, 49 - до 1/1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0% даунов рождены матерями до 30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 отца (10%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Близкородственные бр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ой возраст матери роженицы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амика к уменьшению - 1/700            1/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Прямая со стрелкой 6"/>
          <p:cNvCxnSpPr/>
          <p:nvPr/>
        </p:nvCxnSpPr>
        <p:spPr>
          <a:xfrm>
            <a:off x="5572080" y="6428880"/>
            <a:ext cx="572400" cy="2520"/>
          </a:xfrm>
          <a:prstGeom prst="straightConnector1">
            <a:avLst/>
          </a:prstGeom>
          <a:ln w="507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37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431280" y="7858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Графическое представление нормального человеческого кариотипа."/>
          <p:cNvPicPr/>
          <p:nvPr/>
        </p:nvPicPr>
        <p:blipFill>
          <a:blip r:embed="rId1"/>
          <a:stretch/>
        </p:blipFill>
        <p:spPr>
          <a:xfrm>
            <a:off x="214200" y="1357200"/>
            <a:ext cx="3929040" cy="42354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>
            <a:off x="4289040" y="16430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Изображение:Down Syndrome Karyotype.png"/>
          <p:cNvPicPr/>
          <p:nvPr/>
        </p:nvPicPr>
        <p:blipFill>
          <a:blip r:embed="rId2"/>
          <a:stretch/>
        </p:blipFill>
        <p:spPr>
          <a:xfrm>
            <a:off x="4572000" y="1357200"/>
            <a:ext cx="3968640" cy="42609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228240" y="142920"/>
            <a:ext cx="28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хромос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592160" y="142920"/>
            <a:ext cx="34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хромосом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езни Да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верх 11"/>
          <p:cNvSpPr/>
          <p:nvPr/>
        </p:nvSpPr>
        <p:spPr>
          <a:xfrm>
            <a:off x="5929200" y="571500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360000" y="17859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1" descr="Сегодня в мире каждый шестисотый ребенок рождается с синдромом Дауна (фото с сайта www.einstein-syndrome.com)"/>
          <p:cNvPicPr/>
          <p:nvPr/>
        </p:nvPicPr>
        <p:blipFill>
          <a:blip r:embed="rId1"/>
          <a:stretch/>
        </p:blipFill>
        <p:spPr>
          <a:xfrm>
            <a:off x="138240" y="1019160"/>
            <a:ext cx="2970000" cy="35193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3"/>
          <p:cNvSpPr/>
          <p:nvPr/>
        </p:nvSpPr>
        <p:spPr>
          <a:xfrm>
            <a:off x="155160" y="142920"/>
            <a:ext cx="393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дром Да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http://www.hram-st.obninsk.ru/arxiv/2006/sda.jpg"/>
          <p:cNvPicPr/>
          <p:nvPr/>
        </p:nvPicPr>
        <p:blipFill>
          <a:blip r:embed="rId2"/>
          <a:stretch/>
        </p:blipFill>
        <p:spPr>
          <a:xfrm>
            <a:off x="5442120" y="2514600"/>
            <a:ext cx="2786040" cy="3732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Новый рисунок (34)"/>
          <p:cNvPicPr/>
          <p:nvPr/>
        </p:nvPicPr>
        <p:blipFill>
          <a:blip r:embed="rId3"/>
          <a:stretch/>
        </p:blipFill>
        <p:spPr>
          <a:xfrm>
            <a:off x="4738680" y="142920"/>
            <a:ext cx="4191120" cy="2162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Новый рисунок (35)"/>
          <p:cNvPicPr/>
          <p:nvPr/>
        </p:nvPicPr>
        <p:blipFill>
          <a:blip r:embed="rId4"/>
          <a:stretch/>
        </p:blipFill>
        <p:spPr>
          <a:xfrm>
            <a:off x="138240" y="4559400"/>
            <a:ext cx="4038480" cy="20858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07T12:57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