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635D-86A9-460E-A875-D9F0EDB6D5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F94E-DE31-40D6-B9F4-D4FD6E9B58A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ЕЧНАЯ 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лнечной системе существует много планет и звёз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Знаете  ли  вы  ,что сам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шая звезда -это солнц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на каком месте наша земля от солнца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0C0D-74CA-4D28-A13C-A7083CBE8B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2017-905D-4609-B436-72EC2199E2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D28C-3119-443F-A564-87878F5F12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 АЛЕКСАН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9E7A-81D7-456E-B3FA-CCE5652F7A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16F-B34C-4E9D-A4FC-59D9D089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413-1509-48E6-8A74-9FBD8137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76C6-6514-480E-A6E2-75894EDB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840-6476-4739-9620-21A2A131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DC53-74DA-4E0A-8E06-E883E8D5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131A-ADA1-4692-991C-30A346E32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1AE3-1994-4310-8FBD-AC60CAFA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70AF-B906-4A6B-809F-3FED10EF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55A6-F743-49F2-BEA9-B7931591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2CBE-A5B0-4E5A-86A8-73EB55C0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1C3F-0DE6-46FA-8D31-64F35FE4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3BBD-E959-4CF8-B30D-D710AED8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2FB2-DAA0-4AEC-826C-BDBD1EEE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CAD8-C615-40D9-B2C9-27B34B51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A352-C8B0-4FE4-8AEF-D04C5C78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C46E-197A-4671-80ED-FA570FD2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8B31-1036-4878-9D3E-D4350275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87A-0EF7-47F4-A94A-A25CCAE6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5B52-9529-43A9-9FF8-123B9560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4EC-00DC-43B3-BCEC-353CB54A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3E2-32E3-46A7-A499-BE6E5991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965-FE97-47E9-BDEA-49575A7B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818-F040-4D44-AB06-0BFEE78B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AAD-6A9D-40F7-BA89-E5495287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9CDC-AEE6-41F8-AF7C-EBDE77354DA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D64D-31B3-4C79-B687-362B60E96FB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Созвездия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81952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94488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i"/>
          <p:cNvPicPr/>
          <p:nvPr/>
        </p:nvPicPr>
        <p:blipFill>
          <a:blip r:embed="rId1"/>
          <a:stretch/>
        </p:blipFill>
        <p:spPr>
          <a:xfrm>
            <a:off x="5257800" y="3733920"/>
            <a:ext cx="2287440" cy="1295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332364"/>
          <p:cNvPicPr/>
          <p:nvPr/>
        </p:nvPicPr>
        <p:blipFill>
          <a:blip r:embed="rId2"/>
          <a:stretch/>
        </p:blipFill>
        <p:spPr>
          <a:xfrm>
            <a:off x="457200" y="3048120"/>
            <a:ext cx="4002120" cy="32241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ОЛНЕЧНАЯ  СИСТЕМ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лнечной системе существует много планет и звёз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ете  ли  вы  ,что сам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болшая звезда -это солнц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на каком месте наша земля от солнца?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ЗЕМЛ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6" descr="р"/>
          <p:cNvPicPr/>
          <p:nvPr/>
        </p:nvPicPr>
        <p:blipFill>
          <a:blip r:embed="rId1"/>
          <a:stretch/>
        </p:blipFill>
        <p:spPr>
          <a:xfrm>
            <a:off x="3152880" y="2057400"/>
            <a:ext cx="316692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7" descr="ВКППППППППППППППППП"/>
          <p:cNvPicPr/>
          <p:nvPr/>
        </p:nvPicPr>
        <p:blipFill>
          <a:blip r:embed="rId1"/>
          <a:stretch/>
        </p:blipFill>
        <p:spPr>
          <a:xfrm>
            <a:off x="2819520" y="2235240"/>
            <a:ext cx="3809880" cy="301932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Picture 7" descr="РАВПЛГОФЯ"/>
          <p:cNvPicPr/>
          <p:nvPr/>
        </p:nvPicPr>
        <p:blipFill>
          <a:blip r:embed="rId1"/>
          <a:stretch/>
        </p:blipFill>
        <p:spPr>
          <a:xfrm>
            <a:off x="5257800" y="2209680"/>
            <a:ext cx="326700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ФЦВАПРКВП"/>
          <p:cNvPicPr/>
          <p:nvPr/>
        </p:nvPicPr>
        <p:blipFill>
          <a:blip r:embed="rId2"/>
          <a:stretch/>
        </p:blipFill>
        <p:spPr>
          <a:xfrm>
            <a:off x="838080" y="1676520"/>
            <a:ext cx="3733920" cy="2896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9" descr="ЦфФЦВВВВВВВВВВВВВВВВВВВВВ"/>
          <p:cNvPicPr/>
          <p:nvPr/>
        </p:nvPicPr>
        <p:blipFill>
          <a:blip r:embed="rId1"/>
          <a:stretch/>
        </p:blipFill>
        <p:spPr>
          <a:xfrm>
            <a:off x="2362320" y="1752480"/>
            <a:ext cx="4152960" cy="42292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ЛАК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7" descr="ФЫВ"/>
          <p:cNvPicPr/>
          <p:nvPr/>
        </p:nvPicPr>
        <p:blipFill>
          <a:blip r:embed="rId1"/>
          <a:stretch/>
        </p:blipFill>
        <p:spPr>
          <a:xfrm>
            <a:off x="4572000" y="2209680"/>
            <a:ext cx="441972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2b2b2"/>
                </a:solidFill>
                <a:latin typeface="Arial"/>
              </a:rPr>
              <a:t>КОНЕЦ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УР АЛЕКСАН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2:2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