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2049-79E1-480D-8EDE-AC4A7170D5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D196-185F-4C92-9B4D-3E6B05F079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АЯ 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лнечной системе существует много планет и звёз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наете  ли  вы  ,что сам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шая звезда -это солнц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 каком месте наша земля от солнца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2CC8-87D3-44C6-9FF6-45C0DEDD4B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C2E3-3BE6-421A-AD9D-AD46CD0302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4401-1F9B-4187-8F03-CFD7F2A3B2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 АЛЕКСА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7A81-A570-4500-8F70-3FD9C37D22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9B2-BDCC-4919-A453-FEABA707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4CF9-E921-4997-B5A2-A36E7CDC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EAD-3D16-4CF0-B56E-4DF16F1D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9CE-AE0B-445B-990D-EBB1CEAF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DE35-9423-4E6A-A099-3A0BD788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083E-B94B-4229-8210-EA848DEB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7239-152D-493D-ACF0-29D4FF7E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CF97-B27E-4C7A-A926-8FC3313F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4F6B-88A9-4E88-AD61-95676AA9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341D-426F-49C0-80BE-F2D75813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1131-3CB7-4232-A293-B37416CC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D0D1-D3F0-4F0D-B37A-0D0219E2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A6C7-C0F0-4C6B-AA1A-281D00CE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81AD-5CCA-42EB-ADCD-9D0D5D1B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EA66-FF34-4986-B626-ED307B8E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F516-C495-41BB-B83A-3493A9A0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F15C-FDFF-4CF3-A456-A617C1FA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3ED-09ED-412C-88B5-C006136F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846F-1DA2-4F2F-9AE5-E2D367D4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67C-7D57-4D8F-BF13-E689D78D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AF2-A387-4453-B88E-1E83FAC4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D9C-DE4E-4786-BFDB-DEF53337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A4B-ECEC-4BEB-BCEB-89C077B1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CE5-D36A-4239-98F5-064C59F7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1516-324C-45BE-816E-5611B24595F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2AFE-1A7D-4576-8B97-47762D60B49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Созвездия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ВКППППППППППППППППП"/>
          <p:cNvPicPr/>
          <p:nvPr/>
        </p:nvPicPr>
        <p:blipFill>
          <a:blip r:embed="rId1"/>
          <a:stretch/>
        </p:blipFill>
        <p:spPr>
          <a:xfrm>
            <a:off x="2819520" y="2819520"/>
            <a:ext cx="3809880" cy="30193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94488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i"/>
          <p:cNvPicPr/>
          <p:nvPr/>
        </p:nvPicPr>
        <p:blipFill>
          <a:blip r:embed="rId1"/>
          <a:stretch/>
        </p:blipFill>
        <p:spPr>
          <a:xfrm>
            <a:off x="5257800" y="3733920"/>
            <a:ext cx="228744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j0332364"/>
          <p:cNvPicPr/>
          <p:nvPr/>
        </p:nvPicPr>
        <p:blipFill>
          <a:blip r:embed="rId2"/>
          <a:stretch/>
        </p:blipFill>
        <p:spPr>
          <a:xfrm>
            <a:off x="457200" y="3048120"/>
            <a:ext cx="4002120" cy="32241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ОЛНЕЧНАЯ  СИСТЕМ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лнечной системе существует много планет и звёз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ете  ли  вы  ,что сам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болшая звезда -это солнц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на каком месте наша земля от солнца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ЗЕМЛ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р"/>
          <p:cNvPicPr/>
          <p:nvPr/>
        </p:nvPicPr>
        <p:blipFill>
          <a:blip r:embed="rId1"/>
          <a:stretch/>
        </p:blipFill>
        <p:spPr>
          <a:xfrm>
            <a:off x="3152880" y="2057400"/>
            <a:ext cx="316692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ВКППППППППППППППППП"/>
          <p:cNvPicPr/>
          <p:nvPr/>
        </p:nvPicPr>
        <p:blipFill>
          <a:blip r:embed="rId1"/>
          <a:stretch/>
        </p:blipFill>
        <p:spPr>
          <a:xfrm>
            <a:off x="2819520" y="2235240"/>
            <a:ext cx="3809880" cy="30193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Picture 7" descr="РАВПЛГОФЯ"/>
          <p:cNvPicPr/>
          <p:nvPr/>
        </p:nvPicPr>
        <p:blipFill>
          <a:blip r:embed="rId1"/>
          <a:stretch/>
        </p:blipFill>
        <p:spPr>
          <a:xfrm>
            <a:off x="5257800" y="2209680"/>
            <a:ext cx="326700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ФЦВАПРКВП"/>
          <p:cNvPicPr/>
          <p:nvPr/>
        </p:nvPicPr>
        <p:blipFill>
          <a:blip r:embed="rId2"/>
          <a:stretch/>
        </p:blipFill>
        <p:spPr>
          <a:xfrm>
            <a:off x="838080" y="1676520"/>
            <a:ext cx="3733920" cy="2896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9" descr="ЦфФЦВВВВВВВВВВВВВВВВВВВВВ"/>
          <p:cNvPicPr/>
          <p:nvPr/>
        </p:nvPicPr>
        <p:blipFill>
          <a:blip r:embed="rId1"/>
          <a:stretch/>
        </p:blipFill>
        <p:spPr>
          <a:xfrm>
            <a:off x="2362320" y="1752480"/>
            <a:ext cx="4152960" cy="4229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ЛАК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ФЫВ"/>
          <p:cNvPicPr/>
          <p:nvPr/>
        </p:nvPicPr>
        <p:blipFill>
          <a:blip r:embed="rId1"/>
          <a:stretch/>
        </p:blipFill>
        <p:spPr>
          <a:xfrm>
            <a:off x="4572000" y="2209680"/>
            <a:ext cx="441972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2b2b2"/>
                </a:solidFill>
                <a:latin typeface="Arial"/>
              </a:rPr>
              <a:t>КОНЕЦ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Р АЛЕКСАН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42:2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