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75CA-8E07-423C-92BD-91F8553D006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D776-7B70-44B2-B9D4-0D25F3D5B2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адь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85F3-471F-433A-88D4-D99F107CC1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123F-50F8-41F7-A061-274DD5C5CF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D8EA-642D-40A0-B07A-74EB4F1953C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особых комнатах курили, играли в карты, шахматы и ша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4C1-86F7-4B8F-A8ED-CC1E9A0A8E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780E-DDCC-4A2D-BFF1-9F58D9D5FC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2A7-D42E-46E1-B5D2-0104969792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6FEA-8C0F-4068-900F-DDFC89EE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FBD3C-0825-46C0-B422-D917CCE3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29D3-4B58-45ED-B874-710A911E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0FDD4-F0C5-4C11-8584-A36E4891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75DF-EDC5-4603-95FC-8DECFCC5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E1CA-9B4B-4DF2-9DAF-F3356CDC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EEE4-7480-495F-B895-DC8533F9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6F40-8CF2-4848-916B-3B0DDB14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794A-34E9-4E11-A8AA-013CF9E4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E5A-4EB8-4379-BEA9-A6368C6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5AFF-17F2-460A-A808-7D45ABD0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7630-8357-46E1-81E7-B91EF086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A3F3-33A3-4D37-B22B-1FA8489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0610-D15C-4AE0-84AD-06D51BE2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A1B0-D9B9-4563-BD63-43075F52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7AC-CAD4-4ADE-83C4-66F3A9AF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B8DA-CB75-4215-ABB3-0D3C05F0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292E6-C970-4885-AB4C-D6DCE72A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8F1B-F265-4B9F-A6BC-F50B602B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2981-E8B0-4082-9536-DDDB25E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4D29-EE4D-4890-A9BE-F0AAD0BE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F5D2-29CF-4306-8487-329D7F23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4970-3299-4D4F-A4C0-FF83D8EF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EA1A7-EF1D-43E3-A2E3-E1A6DB89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44CA-6D27-4D01-9E65-7FFDA804DDF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4819-9B15-44C0-B4E2-0791B1B7AEE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839080" cy="6351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f25a"/>
                </a:solidFill>
                <a:latin typeface="Tahoma"/>
              </a:rPr>
              <a:t>Бал - это торжественное мероприятие, которое, подобно обряду, имеет свой церемониал и правила поведения, что делает его таким величественным и роскошным. Поэтому, чтобы сохранить изысканность и восхитительность, необходимо соблюдать правила бального этикета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229600" cy="51051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086600" cy="6400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657600" cy="46483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800600" y="83808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2695680" cy="438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4800600" y="68580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24640" cy="6096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ahoma"/>
              </a:rPr>
              <a:t>Свадьб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6858000" cy="52578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1805040" y="304920"/>
            <a:ext cx="5533920" cy="6324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761976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6838920" cy="61722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6782040" cy="579132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848720" cy="54864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5848560" cy="6019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40080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391160" cy="56386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2485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9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На балах звучала духовая музыка, танцевали менуэт, контрдансы, русские потешные пляски, польские и английские танцы. В залах горели тысячи свечей. Лестницы были устланы дорогими коврами, теснились тропические растения в кадках, а из специально устроенных фонтанов струилась душистая вода.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К ужину подавали ананасы, экзотические персики, виноград, свежую клубнику, огромных рыб и дорогие вина со всего света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836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2aa68"/>
                </a:solidFill>
                <a:latin typeface="Tahoma"/>
              </a:rPr>
              <a:t>В особых комнатах курили, играли в карты, шахматы и шашки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bf25a"/>
                </a:solidFill>
                <a:latin typeface="Tahoma"/>
              </a:rPr>
              <a:t>На подобных же торжествах чаще всего проходили светские дебюты молодых людей и девушек, которых только начинали выводить в свет.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ahoma"/>
              </a:rPr>
              <a:t>В XIX веке бал превратился в образ жизни, сочетая в себе клуб, салон мод, брачную контору и игру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09:46:3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110000000000010250300207f7000400038000</vt:lpwstr>
  </property>
  <property fmtid="{D5CDD505-2E9C-101B-9397-08002B2CF9AE}" pid="3" name="Version">
    <vt:r8>1</vt:r8>
  </property>
</Properties>
</file>