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A7A3-AD34-4367-89AA-BF734B74A1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рьба Руси с западными завоев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ABFB-91DD-4529-9CAA-0943D0C0219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когда полчища Батыя начали громить русские земли, Тевтонский орден объединился с Ливон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3BD9-EE25-48A1-90DD-56C659BA39C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Александр Ярославич (Новгородский княз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E7E7-00D2-4331-918E-92EDA9D5562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 июля 1240 г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ская би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6463-F0F6-460F-BB09-23089962359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е войско, во главе с Александром (прозванным Невским), одержало на Неве блестящую побе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1679-5614-4E6A-B974-F7A3F6E7408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ом 1240г. датские и немецкие завоеватели возобновили поход на Новгородскую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FFBA-229A-4E98-BE59-4427F0ED7E8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довое побоище (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 апреля 1242 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4941-3DB6-457D-AFF4-236402DEA30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ександро-Невская Лавра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 г. Санкт-Петербурге.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десь похоронен князь Александр Н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6F71-332A-4EBD-900B-D5B5C10C48B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полководческому таланту Александра Невского Русь отстояла свою территорию и в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27BC-F72C-48C1-95A3-F3ABC8E5F1B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к нам с мечем придет, от меча и погибнет.</a:t>
            </a:r>
            <a:br>
              <a:rPr sz="1200"/>
            </a:br>
            <a:br>
              <a:rPr sz="12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лександр Невски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E1C4-C8AE-40F3-A312-9CD815B7CA8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188F-8B2A-4971-8EB4-2419BAFE3A8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164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40B2-EAFA-43B2-9B79-E5035771C6D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1BD7-7CE6-45B8-9107-0CC4D07F097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E8C2-8A33-4ACB-B0F1-D286D4F2632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19г на земле эстов высадились датские рыцари, которые построили крепость Рев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D913-0B94-49C9-BF2E-E9C4ED8517E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8EC3-CA3A-470F-A9C9-CF0FE7595D7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BDAFA-FF8A-42B2-ABC5-D6A47302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712D9-3C0A-4AD5-B783-9D9E7C97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746F9-71F7-4CB2-BB3E-B05FCE47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A260C-5348-4DB2-8673-D266751C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A982-33F0-43D2-A9B4-B1EA1A27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22C9-0734-4975-A725-9646A87D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49CD-C219-4DC8-826E-3EDB5CE0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EE39-5724-4460-93F2-AD2D4CB6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B97E-4FD7-4D9E-BDF1-DD3D4C93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C6D7-8504-40CA-A883-AEFF5D1C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C754-46DA-4D90-8F0A-B4ECF884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4432D-27A9-4F7F-B07B-62B3EE30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BB56-322A-4216-84B2-8FDB8212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F9EC-0E81-45A8-BED8-C58C1770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555B-0B46-4260-8126-0F79CDFE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2B81-DE70-4007-99E3-320ACCE3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EE36-4FD8-46D4-8932-A8633EAC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0A2FD-F957-45BE-986F-7D1D0CF7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C152-BB66-422B-998C-019D6839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CF00C-1020-404E-BF77-D287CD05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4F3FA-4DB6-4BB4-8B0B-F078123A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F0B72-E489-440E-A38B-D37920A8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06064-73A6-4A21-BC7F-BE643A2A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D60A3-5C9C-45DB-9977-6C6ED59C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6623-21DE-479C-9D05-84BC973AFE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4130-C220-444F-8DCB-CEFB81DF91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Garamond"/>
              </a:rPr>
              <a:t>Борьба Руси с западными завоевателями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о когда полчища Батыя начали громить русские земли, Тевтонский орден объединился с Ливонски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6551640" cy="36003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038480" cy="5318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Garamond"/>
              </a:rPr>
              <a:t>Александр Ярославич (Новгородский князь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435640" y="5950080"/>
            <a:ext cx="26654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читать на стр.108-10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15 июля 1240 г.</a:t>
            </a:r>
            <a:br>
              <a:rPr sz="4800"/>
            </a:b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Невская битв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3286080" cy="452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0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усское войско, во главе с Александром (прозванным Невским), одержало на Неве блестящую победу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8147160" cy="42926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Летом 1240г. датские и немецкие завоеватели возобновили поход на Новгородскую землю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2098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Ледовое побоище (</a:t>
            </a: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5 апреля 1242 г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битва на Чудском озере"/>
          <p:cNvPicPr/>
          <p:nvPr/>
        </p:nvPicPr>
        <p:blipFill>
          <a:blip r:embed="rId1"/>
          <a:stretch/>
        </p:blipFill>
        <p:spPr>
          <a:xfrm>
            <a:off x="133200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35280" y="274680"/>
            <a:ext cx="325116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Александро-Невская Лавра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в г. Санкт-Петербурге. 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Здесь похоронен князь Александр Невский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59120" cy="63356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Благодаря полководческому таланту Александра Невского Русь отстояла свою территорию и вер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75520" cy="45262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Кто к нам с мечем придет, от меча и погибнет.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Александр Невски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3827520" cy="626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480000" cy="3960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1164г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6048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994440" cy="424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7" descr="nevsk05"/>
          <p:cNvPicPr/>
          <p:nvPr/>
        </p:nvPicPr>
        <p:blipFill>
          <a:blip r:embed="rId1"/>
          <a:stretch/>
        </p:blipFill>
        <p:spPr>
          <a:xfrm>
            <a:off x="324000" y="3613320"/>
            <a:ext cx="3600360" cy="2925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nevsk04"/>
          <p:cNvPicPr/>
          <p:nvPr/>
        </p:nvPicPr>
        <p:blipFill>
          <a:blip r:embed="rId2"/>
          <a:stretch/>
        </p:blipFill>
        <p:spPr>
          <a:xfrm>
            <a:off x="5219640" y="3603600"/>
            <a:ext cx="3613320" cy="29354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191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 1219г на земле эстов высадились датские рыцари, которые построили крепость Ревель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AutoShape 5">
            <a:hlinkClick r:id="" action="ppaction://hlinkshowjump?jump=previous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5651640" cy="4292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6012000" y="2997360"/>
            <a:ext cx="2663640" cy="825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На помощь пришла Русь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0:35:59Z</dcterms:created>
  <dc:creator>Галкина</dc:creator>
  <dc:description/>
  <dc:language>en-US</dc:language>
  <cp:lastModifiedBy>LEGION</cp:lastModifiedBy>
  <dcterms:modified xsi:type="dcterms:W3CDTF">2015-01-14T09:47:23Z</dcterms:modified>
  <cp:revision>6</cp:revision>
  <dc:subject/>
  <dc:title>Борьба Руси с западными завоевател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f0000000000010250300207f7000400038000</vt:lpwstr>
  </property>
</Properties>
</file>