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453-862D-4A71-BA53-EFC2BDC4E9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рьба Руси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D5EA-1496-4D3E-B8AB-F827695BE2E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когда полчища Батыя начали громить русские земли, Тевтонский орден объединился с Ливонс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9D5F-3BD7-4B48-B2E5-212ABA7A0BE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Александр Ярославич (Новгородский княз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904-F52C-4E43-9C3A-835E7C99E05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июля 1240 г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ская би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F5C3-0C86-4A4B-A1D0-B727DF01BBC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е войско, во главе с Александром (прозванным Невским), одержало на Неве блестящую побед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ED13-34D4-4DA1-A4D9-C9AC446F4F3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м 1240г. датские и немецкие завоеватели возобновили поход на Новгородскую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B67-95D3-438B-989C-133EACFEEC3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довое побоище (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 апреля 1242 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4DE-C891-49D8-A605-9891702CA06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ександро-Невская Лав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г. Санкт-Петербурге.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десь похоронен князь Александр Н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DB81-FC04-4160-97C7-98377216043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я полководческому таланту Александра Невского Русь отстояла свою территорию и в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050D-6BD9-4147-9721-98E1B81921A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к нам с мечем придет, от меча и погибнет.</a:t>
            </a:r>
            <a:br>
              <a:rPr sz="1200"/>
            </a:br>
            <a:br>
              <a:rPr sz="12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лександр Невский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12B0-CAC1-4C75-9CD2-9752BBBCE15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BE42-19C9-49DB-8068-3B5971620FB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164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9A1B-98FE-4150-8BCC-25298A76BD7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9294-89A8-47F2-8680-0C6A87BBF7F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721B-D0F8-4775-A2B8-7A63B82E62E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19г на земле эстов высадились датские рыцари, которые построили крепость Рев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2A9B-FD40-40FD-B080-45142E15875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D77D-8043-4E5D-B80F-029590F34AD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A5CF-38B1-47E6-8E63-A799A4F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41D4-0786-4CBA-A546-91231FC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748E-3EDD-47A5-B9A8-51734A7D6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FD98-0D44-4AE9-A6DC-73D55C0E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0986-BF08-4A5C-BA9E-9728784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0630-E1C7-4A07-A256-27B477F6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607D-43B6-4BD5-9CC0-791C8A94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1977-554E-4FF3-9519-0BBCF14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9710-31C2-46C7-BCDF-151675C5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0CB1-0C29-4025-95DC-CDC261C4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9010-FD2C-4D87-B860-A42B66C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B378-E860-441C-B9AD-4D0B22E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14B60-3C46-4ACC-83A3-2656ADC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2EC1-8E8E-4DAF-9038-7D75EE3A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D81-E03F-4524-8D91-CE2AF162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476E-8CD9-4718-8049-009A387A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1755-E6A6-4332-9104-33B9B3B4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E70C-F692-47E3-B472-F2FF872C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3D4B-FA33-4BE5-BF65-EA41CEAB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E397-0374-418B-831E-C85382F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DAF5E-2E07-4987-AEB3-DAA315B0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EB365-A993-42A7-9DD1-42597C05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05C02-945C-439C-AA14-924F9B18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3E74-592E-4866-98EB-99D6332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EC2C-9682-4E96-BD68-36D64399E3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BBEC-828E-4DC9-B445-EF3E6F5093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0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битва на Чудском озере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7" descr="nevsk05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nevsk04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LEGION</cp:lastModifiedBy>
  <dcterms:modified xsi:type="dcterms:W3CDTF">2015-01-14T09:47:23Z</dcterms:modified>
  <cp:revision>6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