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41DF-C83C-4742-8056-AF20F49B9E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рьба Руси с западными завоев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80A1-041F-4A20-94D7-F7387BE273E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когда полчища Батыя начали громить русские земли, Тевтонский орден объединился с Ливон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9522-5595-4231-A061-3C67CC0487B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Александр Ярославич (Новгородский княз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3855-F161-4FD3-BCE3-74F92D7D19E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 июля 1240 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ская би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F268-41C3-43B1-8D93-CC25EAAA247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е войско, во главе с Александром (прозванным Невским), одержало на Неве блестящую побе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BAE6-2E37-4E3E-B026-457E4FF8993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ом 1240г. датские и немецкие завоеватели возобновили поход на Новгородскую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650B-AABB-40BB-86C4-ADDF7CBAA8E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довое побоище (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 апреля 1242 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3AA7-4332-4A76-91D9-117E84DDEC6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ександро-Невская Лавра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 г. Санкт-Петербурге.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десь похоронен князь Александр Н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691B-43A7-43C6-AFC3-3A39B80F1DC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полководческому таланту Александра Невского Русь отстояла свою территорию и в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6283-2447-4F6B-8BDA-AA88111BE01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к нам с мечем придет, от меча и погибнет.</a:t>
            </a:r>
            <a:br>
              <a:rPr sz="1200"/>
            </a:br>
            <a:br>
              <a:rPr sz="12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лександр Невски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9B05-EB0E-404B-872E-25C6F32B6A5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7B1D-C88B-47CF-8685-210A2077236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164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D04D-22EE-4C7C-AECC-C4A7E21FD81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60F2-BEEA-4965-94FC-97B6B4A1BAC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3BFE-A539-47BB-8886-08B3AB1A14B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19г на земле эстов высадились датские рыцари, которые построили крепость Рев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E2C6-D6F5-4566-9DE1-91CCD57F721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C92C-1DD0-485C-9D08-A835B1DED87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D834-3F8A-4A63-90C0-BF5406DD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22DC-BBF8-405A-8F54-01B00774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572B2-4C7B-41EC-8E08-7B639E0C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00AC1-0571-48BE-B102-02BFF3DC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205D-3923-48DA-9353-12514BAE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A6F7-5749-4DB1-A4C6-21E0AAAC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68BC-38B4-44D2-A072-9722078B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AD2D-740E-4521-B9CE-79A0C2CA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9462-F97C-437C-ADDA-4519A8D5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832B-92DC-418A-9486-51DDD670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CEA8-50B6-4DDC-A204-A421B950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B24EA-D803-4195-88DB-564BE105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08B9-DE5A-4BA6-BE8E-6484F005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3E66-0D69-4BAB-82AC-243F2AF8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BD53-2AC5-4446-B1F7-A08BC11A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BA82-CFC2-438C-B818-D76F1C75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ABD0-B91D-4E4B-8C26-93DDAB63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696F2-E2B1-4910-B45B-DB1E33D3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28C8F-5B69-4A1A-9C1D-F57DF96E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56179-85AA-4C37-8256-05C0FA15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FEFA-F0F1-4A8B-9E90-1F1BACBF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DD75-4621-4133-A4C3-A96290F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EBEE9-0EB6-4F0F-9FFC-97ACBF7B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C63F6-BEAD-418D-9860-9FDDF818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74F8-C110-4D6D-BE78-82CDDD47D5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C4B6-4DA8-4721-BDF5-36BCC396C8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0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битва на Чудском озере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7" descr="nevsk05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nevsk04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AutoShape 5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LEGION</cp:lastModifiedBy>
  <dcterms:modified xsi:type="dcterms:W3CDTF">2015-01-14T09:47:23Z</dcterms:modified>
  <cp:revision>6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