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6.png" ContentType="image/pn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25.png" ContentType="image/png"/>
  <Override PartName="/ppt/media/image19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9795-7BF4-4E0D-AF86-C580E62620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3300"/>
                </a:solidFill>
                <a:uFillTx/>
                <a:latin typeface="Tahoma"/>
              </a:rPr>
              <a:t>Сму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7222-084B-46B6-9A88-5B581F10C6D3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ff0000"/>
                </a:solidFill>
                <a:latin typeface="Arial Black"/>
              </a:rPr>
              <a:t>ВАСИЛИЙ  ШУЙСКИЙ</a:t>
            </a:r>
            <a:br>
              <a:rPr sz="14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Arial"/>
              </a:rPr>
              <a:t>ГЛАВА  ЗАГОВОРА  ПРОТИВ  ЛЖЕДМИТРИЯ </a:t>
            </a:r>
            <a:r>
              <a:rPr b="0" lang="en-US" sz="12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F498-CCC1-40F0-B3A3-D8457D655634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очь на 17мая 1606г был убит Лжедмитр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BE0D-8539-4AB2-B92E-2EAC22ED75E0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асилий IV Шуйский (1552-1612), русский царь в 1606-1610. Сын княз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. А. Шуйск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льшинство были недовольны приходом к власти «боярского» цар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чалось движение против нового цар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2A7D-272E-4B10-9242-F4556A6ED050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возглавил  Иван Болот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2081-54B8-42C2-BD7F-7ADD853735B7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силий Шуйский жестоко расправился с руководителями движения. Болотникова сослали в монастырь, ослепили и утопили. Остальных повеша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66BB-5A9C-4B86-B13D-953BF8158BA9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580000"/>
                </a:solidFill>
                <a:latin typeface="Arial"/>
              </a:rPr>
              <a:t>Лжедмитрий </a:t>
            </a:r>
            <a:r>
              <a:rPr b="0" lang="en-US" sz="1200" spc="-1" strike="noStrike">
                <a:solidFill>
                  <a:srgbClr val="580000"/>
                </a:solidFill>
                <a:latin typeface="Arial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самозванец, выдававший себя за спасшегося 17 мая 1606 г. Лжедмитрия I. Настоящее имя и происхождение не установлено, хотя существует множество верс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5BAD-3BA5-4B83-9298-8E86394EA656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том 1608г войска самозванца обосновались в подмосковном с.Туши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коре Тушино стало второй столицей  со своим царём, прозванным в народе «тушинским вором», боярской думой, патриархом(Филар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Тушинское войско постоянно пополнялось за счёт московских  бояр, крестьян. Численность достигла 100тыс.ч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Но вскоре в настроении крестьян и посадских людей произошёл резкий перел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82B3-5F8B-421B-877F-05FA7688CA3E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Смута, Смутное время, лихолетье – так называют начало 17века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E988-01EB-416E-AB38-E7BAAC7E5B6B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Тушинские поляки вели себя как завоеватели. Не отставали и русские тушин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1748-A766-4F30-8CF3-554332ABDBCE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ли создаваться народные ополчения (объединение патриотических сил России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0B59-F997-44C6-B3B7-E29D51817D78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феврале 1609г Шуйский заключил договор со Швецией об отправке в Россию наёмного войска в обмен на уступку Швеции крепости Коре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ABA1-F312-4C6A-8ABE-A8FDCE0E5E86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одержание наёмного войска необходимы средства и В.Шуйский обложил население тяжёлыми налогам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пин-Шуйский стал опираться на силы народного опол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5D13-214A-4356-8A1D-BFD426F1FA05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609 г Речь Посполитая объявила России вой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D034-E72A-4B27-BE27-31B5833C69A7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по карте стр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DFF4-439C-461D-8243-FC8F9965799A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дственным положением воспользовались и шведы. И в 1611г шведские отряды захватили Новгород и всё русское побережье Финского зали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FF87-E517-49EE-85A0-EDE35BE1790F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лабление центральной власти в России привело к Сму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75EA-A4B6-4971-BA58-246184F42945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80000"/>
                </a:solidFill>
                <a:latin typeface="Comic Sans MS"/>
              </a:rPr>
              <a:t>Что такое «смута»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580000"/>
                </a:solidFill>
                <a:uFillTx/>
                <a:latin typeface="Arial"/>
              </a:rPr>
              <a:t>Смута –</a:t>
            </a:r>
            <a:r>
              <a:rPr b="0" lang="ru-RU" sz="1200" spc="-1" strike="noStrike">
                <a:solidFill>
                  <a:srgbClr val="58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80000"/>
                </a:solidFill>
                <a:latin typeface="Arial"/>
              </a:rPr>
              <a:t>период борьбы за власть,       сопровождающийся сменой династий, интервенцией и другими потряс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12E1-6C30-4D80-98DD-7677456D56B1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580000"/>
                </a:solidFill>
                <a:latin typeface="Comic Sans MS"/>
              </a:rPr>
              <a:t>Причины Сму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42A9-39BD-48F3-9F06-BF0D70FB2672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9f9f9"/>
                </a:solidFill>
                <a:latin typeface="Arial"/>
              </a:rPr>
              <a:t>Периоды Смутного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C14E-AE20-42E2-B834-1EDCE08B7756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 Black"/>
              </a:rPr>
              <a:t>ЛЖЕДМИТРИЙ </a:t>
            </a:r>
            <a:r>
              <a:rPr b="0" lang="en-US" sz="1200" spc="-1" strike="noStrike">
                <a:solidFill>
                  <a:srgbClr val="ffff00"/>
                </a:solidFill>
                <a:latin typeface="Arial Black"/>
              </a:rPr>
              <a:t>I</a:t>
            </a:r>
            <a:r>
              <a:rPr b="0" lang="ru-RU" sz="1200" spc="-1" strike="noStrike">
                <a:solidFill>
                  <a:srgbClr val="ffff00"/>
                </a:solidFill>
                <a:latin typeface="Arial Black"/>
              </a:rPr>
              <a:t>  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(ГРИГОРИЙ  ОТРЕПЬЕВ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ЦАРЬ  С  1605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39F5-53C8-48D3-8122-13BB87864710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80000"/>
                </a:solidFill>
                <a:latin typeface="Arial"/>
              </a:rPr>
              <a:t>В июне 1605 г войско самозванца беспрепятственно вступило в Моск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285A-1887-4F67-9E2D-7294BCC36C69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скве произошла встреча «сына» и матер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80EC-2D1C-4A5C-956B-8ED4DA1843B3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авление Лжедмитрия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й царь раздал должности полякам, остальные обещания не выполнил. В мае состоялась его свадьба с Мариной Мнишек(дочерью польского воевод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дение царя породило слухи,что он-«ненастоящи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B9D0-1BF7-4BF4-9934-CA8D3A081318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AB7A-C50E-4960-90E9-14E87FD8A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866B-D75E-41A6-A9D6-C0F6CB67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B082-A957-46FA-9098-482B19769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1694-FC7B-4EE2-8045-EDACCBE9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0BA5-FC31-4E63-AC46-43FC1265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CC99-7971-4659-9130-92CF1269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A884-9E64-400E-8B04-42EB4162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78A1-1732-4568-851D-40554C20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5442-1176-4841-8D02-23B1EFA6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35AB-A398-4104-BAC4-53EAA19A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51A0-8E07-4C18-A629-76693BE6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9270-FC7A-4011-AAD2-E18F6883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42A3-3D55-4BB8-86D8-59A0AF5B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6A9F-3F7B-46AF-ADD0-F62CCE01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2468-4226-4F9D-AF60-BDA9F2A1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E21A-3A0D-481D-8254-14EB7ED6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9348-918E-4256-AB1C-77418ACC6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7F00-D619-4BFE-827E-5377729A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7B67-6FDB-48CD-90FD-6A3634F7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D58D-CA0A-4D9A-AEFA-57AEB424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A310-E573-45F4-929B-1F956A50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7F9B-A5B4-4F87-B720-BFCFE1F9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D227-37DD-4395-A3A4-F2CF5AF3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1F51-C868-4E0F-BCF7-55210BD6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1511-97BD-4F8B-A606-3DF69FD38C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D992-4D7E-450A-8FF1-F78DF2596F75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492000" y="836640"/>
            <a:ext cx="4138920" cy="23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 u="sng">
                <a:solidFill>
                  <a:srgbClr val="993300"/>
                </a:solidFill>
                <a:uFillTx/>
                <a:latin typeface="Tahoma"/>
              </a:rPr>
              <a:t>Смута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7280" y="404640"/>
            <a:ext cx="4751280" cy="115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ВАСИЛИЙ  ШУЙСКИЙ</a:t>
            </a: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63640" y="2349360"/>
            <a:ext cx="3970440" cy="450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ГЛАВА  ЗАГОВОРА  ПРОТИВ  ЛЖЕДМИТРИЯ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ночь на 17мая 1606г был убит Лжедмитр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1500120" y="1523880"/>
            <a:ext cx="6600960" cy="50738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2" descr=""/>
          <p:cNvPicPr/>
          <p:nvPr/>
        </p:nvPicPr>
        <p:blipFill>
          <a:blip r:embed="rId1"/>
          <a:stretch/>
        </p:blipFill>
        <p:spPr>
          <a:xfrm>
            <a:off x="-85680" y="146160"/>
            <a:ext cx="8937720" cy="123192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4"/>
          <p:cNvSpPr/>
          <p:nvPr/>
        </p:nvSpPr>
        <p:spPr>
          <a:xfrm>
            <a:off x="4500720" y="1785960"/>
            <a:ext cx="4071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Василий IV Шуйский (1552-1612), русский царь в 1606-1610. Сын князя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И. А. Шуйского.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Большинство были недовольны приходом к власти «боярского» царя.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Началось движение против нового царя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8" name="Picture 5" descr=""/>
          <p:cNvPicPr/>
          <p:nvPr/>
        </p:nvPicPr>
        <p:blipFill>
          <a:blip r:embed="rId2"/>
          <a:stretch/>
        </p:blipFill>
        <p:spPr>
          <a:xfrm>
            <a:off x="1042920" y="1484280"/>
            <a:ext cx="3333960" cy="519120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вижение возглавил  Иван Болот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7491240" cy="471492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4"/>
          <p:cNvSpPr/>
          <p:nvPr/>
        </p:nvSpPr>
        <p:spPr>
          <a:xfrm>
            <a:off x="1547640" y="638172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Войско Болотниково под Москвой.Художник Э.Лисснер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cxnSp>
        <p:nvCxnSpPr>
          <p:cNvPr id="225" name="Прямая со стрелкой 26"/>
          <p:cNvCxnSpPr/>
          <p:nvPr/>
        </p:nvCxnSpPr>
        <p:spPr>
          <a:xfrm flipV="1">
            <a:off x="-1080" y="6571800"/>
            <a:ext cx="214920" cy="286560"/>
          </a:xfrm>
          <a:prstGeom prst="straightConnector1">
            <a:avLst/>
          </a:prstGeom>
          <a:ln w="5724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26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1919 C -0.00416 0.02104 -0.00278 0.02035 0.00382 0.01711 C 0.00747 0.01249 0.01077 0.00994 0.01372 0.00416 C 0.01667 -0.00786 0.01615 -0.00809 0.02361 -0.01457 C 0.02674 -0.02775 0.03472 -0.03538 0.04202 -0.04463 C 0.04566 -0.05967 0.0441 -0.07401 0.05747 -0.0784 C 0.07136 -0.09112 0.08177 -0.09019 0.09965 -0.09158 C 0.10504 -0.09621 0.11094 -0.09736 0.1165 -0.10106 C 0.12222 -0.105 0.12743 -0.10962 0.13351 -0.11217 C 0.14601 -0.11101 0.15434 -0.10962 0.16563 -0.10661 C 0.17031 -0.09806 0.17031 -0.08788 0.1757 -0.08025 C 0.18368 -0.08233 0.18542 -0.08303 0.18281 -0.09343 C 0.18334 -0.10338 0.18351 -0.11355 0.1842 -0.1235 C 0.18438 -0.12535 0.18455 -0.12766 0.18559 -0.12905 C 0.18802 -0.13229 0.19132 -0.13414 0.1941 -0.13668 C 0.19636 -0.13853 0.1974 -0.14223 0.19965 -0.14408 C 0.204 -0.14778 0.21285 -0.14963 0.21806 -0.15171 C 0.22448 -0.15749 0.22275 -0.16027 0.23073 -0.16281 C 0.23837 -0.17322 0.24184 -0.18525 0.25035 -0.19288 C 0.25365 -0.19935 0.25799 -0.2019 0.26163 -0.20791 C 0.26372 -0.21161 0.26736 -0.21924 0.26736 -0.21901 C 0.27031 -0.23127 0.27014 -0.23612 0.27709 -0.24538 C 0.27865 -0.25555 0.28125 -0.25786 0.28281 -0.26804 C 0.28368 -0.30458 0.28247 -0.31938 0.28976 -0.34852 C 0.29028 -0.35615 0.29184 -0.36378 0.29115 -0.37118 C 0.29097 -0.37373 0.2882 -0.37465 0.28698 -0.37673 C 0.28663 -0.3772 0.28698 -0.37789 0.28698 -0.37859 E">
                                      <p:cBhvr>
                                        <p:cTn id="77" dur="3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0" y="1484280"/>
          <a:ext cx="9144000" cy="5518080"/>
        </p:xfrm>
        <a:graphic>
          <a:graphicData uri="http://schemas.openxmlformats.org/drawingml/2006/table">
            <a:tbl>
              <a:tblPr/>
              <a:tblGrid>
                <a:gridCol w="2362320"/>
                <a:gridCol w="6781680"/>
              </a:tblGrid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водитель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8720">
                      <a:solidFill>
                        <a:srgbClr val="333300"/>
                      </a:solidFill>
                    </a:lnB>
                    <a:solidFill>
                      <a:srgbClr val="e5d5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8720">
                      <a:solidFill>
                        <a:srgbClr val="333300"/>
                      </a:solidFill>
                    </a:lnB>
                    <a:solidFill>
                      <a:srgbClr val="e5d58a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ритория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872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872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ратники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ый состав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и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д военных действий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 поражения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  <p:sp>
        <p:nvSpPr>
          <p:cNvPr id="228" name="Прямоугольник 18"/>
          <p:cNvSpPr/>
          <p:nvPr/>
        </p:nvSpPr>
        <p:spPr>
          <a:xfrm>
            <a:off x="1187280" y="189000"/>
            <a:ext cx="7358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Century Gothic"/>
              </a:rPr>
              <a:t>Работа с учебником: составьте таблицу «Крестьянская война под предводительством  И.Болотникова»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3" descr=""/>
          <p:cNvPicPr/>
          <p:nvPr/>
        </p:nvPicPr>
        <p:blipFill>
          <a:blip r:embed="rId1"/>
          <a:stretch/>
        </p:blipFill>
        <p:spPr>
          <a:xfrm>
            <a:off x="357120" y="142920"/>
            <a:ext cx="8358120" cy="150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"/>
          <p:cNvGraphicFramePr/>
          <p:nvPr/>
        </p:nvGraphicFramePr>
        <p:xfrm>
          <a:off x="0" y="0"/>
          <a:ext cx="9144000" cy="7226280"/>
        </p:xfrm>
        <a:graphic>
          <a:graphicData uri="http://schemas.openxmlformats.org/drawingml/2006/table">
            <a:tbl>
              <a:tblPr/>
              <a:tblGrid>
                <a:gridCol w="2362320"/>
                <a:gridCol w="6781680"/>
              </a:tblGrid>
              <a:tr h="860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водитель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8720">
                      <a:solidFill>
                        <a:srgbClr val="333300"/>
                      </a:solidFill>
                    </a:lnB>
                    <a:solidFill>
                      <a:srgbClr val="e5d5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ван Исаевич Болотников, холоп князя Телятевского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8720">
                      <a:solidFill>
                        <a:srgbClr val="333300"/>
                      </a:solidFill>
                    </a:lnB>
                    <a:solidFill>
                      <a:srgbClr val="e5d58a"/>
                    </a:solidFill>
                  </a:tcPr>
                </a:tc>
              </a:tr>
              <a:tr h="860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ритория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872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го-западная Русь, Среднее и Нижнее Поволжье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872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09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ратники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. Ляпунов, Г. Сумбулов, И. Пашков, Г. Шаховский,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 Горчаков, «Илейка Муромец»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05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ый состав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стьяне,  казаки,  дворяне, служилые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ди, бояре – противники Шуйского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860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и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ргнуть власть бояр и посадить на престол настоящего царя Дмитрия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4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д военных действий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о 1606 г.- Елец – Калуга – Серпухов.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ябрь 1606 г. – осада Москвы.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ец 1606 -1607 гг. – отступление к Калуге , Туле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05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 поражения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ательство дворянских отрядов при осаде Москвы, наивный монархизм.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  <p:pic>
        <p:nvPicPr>
          <p:cNvPr id="232" name="Picture 4" descr=""/>
          <p:cNvPicPr/>
          <p:nvPr/>
        </p:nvPicPr>
        <p:blipFill>
          <a:blip r:embed="rId2"/>
          <a:stretch/>
        </p:blipFill>
        <p:spPr>
          <a:xfrm>
            <a:off x="7497720" y="2073240"/>
            <a:ext cx="1646280" cy="167652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5753160" cy="40669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1476360" y="5084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Василий Шуйский жестоко расправился с руководителями движения. Болотникова сослали в монастырь, ослепили и утопили. Остальных повешали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Текст 7" descr=""/>
          <p:cNvPicPr/>
          <p:nvPr/>
        </p:nvPicPr>
        <p:blipFill>
          <a:blip r:embed="rId1"/>
          <a:stretch/>
        </p:blipFill>
        <p:spPr>
          <a:xfrm>
            <a:off x="249120" y="103320"/>
            <a:ext cx="3969000" cy="950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284720" y="856800"/>
            <a:ext cx="43322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580000"/>
                </a:solidFill>
                <a:latin typeface="Arial"/>
              </a:rPr>
              <a:t>Лжедмитрий </a:t>
            </a:r>
            <a:r>
              <a:rPr b="1" lang="en-US" sz="2800" spc="-1" strike="noStrike">
                <a:solidFill>
                  <a:srgbClr val="580000"/>
                </a:solidFill>
                <a:latin typeface="Arial"/>
              </a:rPr>
              <a:t>II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-  самозванец, выдававший себя за спасшегося 17 мая 1606 г. Лжедмитрия I. Настоящее имя и происхождение не установлено, хотя существует множество версий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2"/>
          <a:stretch/>
        </p:blipFill>
        <p:spPr>
          <a:xfrm>
            <a:off x="826920" y="981000"/>
            <a:ext cx="3576960" cy="571500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250920" y="0"/>
            <a:ext cx="5715000" cy="40100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6084720" y="177840"/>
            <a:ext cx="2808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Лагерь Лжедмитрия 2 в Тушино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6084720" y="1413000"/>
            <a:ext cx="30592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Летом 1608г войска самозванца обосновались в подмосковном с.Тушино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Вскоре Тушино стало второй столицей  со своим царём, прозванным в народе «тушинским вором», боярской думой, патриархом(Филарет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395280" y="4437000"/>
            <a:ext cx="4897440" cy="1008720"/>
          </a:xfrm>
          <a:prstGeom prst="rect">
            <a:avLst/>
          </a:prstGeom>
          <a:solidFill>
            <a:srgbClr val="e5d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Тушинское войско постоянно пополнялось за счёт московских  бояр, крестьян. Численность достигла 100тыс.ч.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1835280" y="566100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Но вскоре в настроении крестьян и посадских людей произошёл резкий перелом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76360" y="228240"/>
            <a:ext cx="7515360" cy="154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Смута, Смутное время, лихолетье – так называют начало 17века в Росси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6167520" cy="47149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80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Times New Roman"/>
              </a:rPr>
              <a:t>Тушинские поляки вели себя как завоеватели. Не отставали и русские тушинц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ли создаваться народные ополчения (объединение патриотических сил России)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692360" y="2565360"/>
            <a:ext cx="7056360" cy="3959280"/>
          </a:xfrm>
          <a:prstGeom prst="rect">
            <a:avLst/>
          </a:prstGeom>
          <a:ln w="0">
            <a:noFill/>
          </a:ln>
        </p:spPr>
      </p:pic>
      <p:grpSp>
        <p:nvGrpSpPr>
          <p:cNvPr id="254" name="Прямоугольник 17"/>
          <p:cNvGrpSpPr/>
          <p:nvPr/>
        </p:nvGrpSpPr>
        <p:grpSpPr>
          <a:xfrm>
            <a:off x="1274760" y="255600"/>
            <a:ext cx="5265720" cy="2292480"/>
            <a:chOff x="1274760" y="255600"/>
            <a:chExt cx="5265720" cy="2292480"/>
          </a:xfrm>
        </p:grpSpPr>
        <p:pic>
          <p:nvPicPr>
            <p:cNvPr id="255" name="Прямоугольник 17" descr=""/>
            <p:cNvPicPr/>
            <p:nvPr/>
          </p:nvPicPr>
          <p:blipFill>
            <a:blip r:embed="rId2"/>
            <a:stretch/>
          </p:blipFill>
          <p:spPr>
            <a:xfrm>
              <a:off x="1274760" y="255600"/>
              <a:ext cx="5265720" cy="22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332000" y="284040"/>
              <a:ext cx="5113080" cy="21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entury Gothic"/>
                </a:rPr>
                <a:t>16 месяцев  защищали Троице-Сергиев  монастырь от 15-тысячной армии Лжедмитрия II.  2400 стрельцов, дворян их слуг и монахов. Все приступы были отбиты.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257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6888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феврале 1609г Шуйский заключил договор со Швецией об отправке в Россию наёмного войска в обмен на уступку Швеции крепости Коре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1500120" y="1523880"/>
            <a:ext cx="3503520" cy="4714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105000" cy="38098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5"/>
          <p:cNvSpPr/>
          <p:nvPr/>
        </p:nvSpPr>
        <p:spPr>
          <a:xfrm>
            <a:off x="5292720" y="537372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Шведские и русские войска под командованием М. Скопина-Шуйского освободили северо-восточную часть России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31640" y="24206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 содержание наёмного войска необходимы средства и В.Шуйский обложил население тяжёлыми налогами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копин-Шуйский стал опираться на силы народного ополчени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1609 г Речь Посполитая объявила России войн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7491240" cy="471492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4"/>
          <p:cNvSpPr/>
          <p:nvPr/>
        </p:nvSpPr>
        <p:spPr>
          <a:xfrm>
            <a:off x="2700360" y="59500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йско под предводительством Сигизмунда 3 осадило Смоленск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6096240" cy="1143000"/>
          </a:xfrm>
          <a:prstGeom prst="rect">
            <a:avLst/>
          </a:prstGeom>
          <a:noFill/>
          <a:ln w="9360">
            <a:solidFill>
              <a:srgbClr val="6666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бота по карте стр.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7200720" cy="482436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58560" y="184428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Бедственным положением воспользовались и шведы. И в 1611г шведские отряды захватили Новгород и всё русское побережье Финского залив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43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слабление центральной власти в России привело к Смуте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"/>
          <p:cNvGrpSpPr/>
          <p:nvPr/>
        </p:nvGrpSpPr>
        <p:grpSpPr>
          <a:xfrm>
            <a:off x="-36360" y="0"/>
            <a:ext cx="9180360" cy="6858000"/>
            <a:chOff x="-36360" y="0"/>
            <a:chExt cx="9180360" cy="6858000"/>
          </a:xfrm>
        </p:grpSpPr>
        <p:pic>
          <p:nvPicPr>
            <p:cNvPr id="175" name="Picture 5" descr="Рисунок1"/>
            <p:cNvPicPr/>
            <p:nvPr/>
          </p:nvPicPr>
          <p:blipFill>
            <a:blip r:embed="rId1"/>
            <a:srcRect l="0" t="0" r="-15" b="0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6" descr="gh"/>
            <p:cNvPicPr/>
            <p:nvPr/>
          </p:nvPicPr>
          <p:blipFill>
            <a:blip r:embed="rId2"/>
            <a:srcRect l="0" t="0" r="398" b="0"/>
            <a:stretch/>
          </p:blipFill>
          <p:spPr>
            <a:xfrm>
              <a:off x="-36360" y="0"/>
              <a:ext cx="1655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63640" y="620640"/>
            <a:ext cx="7129440" cy="5032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38160">
            <a:solidFill>
              <a:srgbClr val="9933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80000"/>
                </a:solidFill>
                <a:latin typeface="Comic Sans MS"/>
              </a:rPr>
              <a:t>Что такое «смута»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44640" y="1341000"/>
            <a:ext cx="7299360" cy="32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580000"/>
                </a:solidFill>
                <a:uFillTx/>
                <a:latin typeface="Arial"/>
              </a:rPr>
              <a:t>Смута –</a:t>
            </a:r>
            <a:r>
              <a:rPr b="1" lang="ru-RU" sz="4000" spc="-1" strike="noStrike">
                <a:solidFill>
                  <a:srgbClr val="58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80000"/>
                </a:solidFill>
                <a:latin typeface="Arial"/>
              </a:rPr>
              <a:t>период борьбы за власть,       сопровождающийся сменой династий, интервенцией и другими потрясениями.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5"/>
          <p:cNvGrpSpPr/>
          <p:nvPr/>
        </p:nvGrpSpPr>
        <p:grpSpPr>
          <a:xfrm>
            <a:off x="0" y="0"/>
            <a:ext cx="9180360" cy="6884640"/>
            <a:chOff x="0" y="0"/>
            <a:chExt cx="9180360" cy="6884640"/>
          </a:xfrm>
        </p:grpSpPr>
        <p:pic>
          <p:nvPicPr>
            <p:cNvPr id="181" name="Picture 26" descr="Рисунок1"/>
            <p:cNvPicPr/>
            <p:nvPr/>
          </p:nvPicPr>
          <p:blipFill>
            <a:blip r:embed="rId1"/>
            <a:srcRect l="0" t="0" r="-15" b="0"/>
            <a:stretch/>
          </p:blipFill>
          <p:spPr>
            <a:xfrm>
              <a:off x="36360" y="0"/>
              <a:ext cx="9144000" cy="688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27" descr="gh"/>
            <p:cNvPicPr/>
            <p:nvPr/>
          </p:nvPicPr>
          <p:blipFill>
            <a:blip r:embed="rId2"/>
            <a:srcRect l="0" t="0" r="398" b="0"/>
            <a:stretch/>
          </p:blipFill>
          <p:spPr>
            <a:xfrm>
              <a:off x="0" y="0"/>
              <a:ext cx="1655640" cy="68846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83" name=""/>
          <p:cNvGraphicFramePr/>
          <p:nvPr/>
        </p:nvGraphicFramePr>
        <p:xfrm>
          <a:off x="1835280" y="907920"/>
          <a:ext cx="7129440" cy="4608720"/>
        </p:xfrm>
        <a:graphic>
          <a:graphicData uri="http://schemas.openxmlformats.org/drawingml/2006/table">
            <a:tbl>
              <a:tblPr/>
              <a:tblGrid>
                <a:gridCol w="2376360"/>
                <a:gridCol w="2376360"/>
                <a:gridCol w="237672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Экономические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Политические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Социальные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35280" y="115920"/>
            <a:ext cx="7129440" cy="5032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38160">
            <a:solidFill>
              <a:srgbClr val="9933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580000"/>
                </a:solidFill>
                <a:latin typeface="Comic Sans MS"/>
              </a:rPr>
              <a:t>Причины Сму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4"/>
          <p:cNvSpPr/>
          <p:nvPr/>
        </p:nvSpPr>
        <p:spPr>
          <a:xfrm>
            <a:off x="1908000" y="5013360"/>
            <a:ext cx="22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Text Box 46"/>
          <p:cNvSpPr/>
          <p:nvPr/>
        </p:nvSpPr>
        <p:spPr>
          <a:xfrm>
            <a:off x="1908000" y="1844640"/>
            <a:ext cx="215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Comic Sans MS"/>
              </a:rPr>
              <a:t>Хозяйственное разорение страны в результате Ливонской войны и опричнины.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Comic Sans MS"/>
              </a:rPr>
              <a:t>- Голод 1601-1603 гг. (только в Москве от голода погибло 127 тыс. чел.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Text Box 47"/>
          <p:cNvSpPr/>
          <p:nvPr/>
        </p:nvSpPr>
        <p:spPr>
          <a:xfrm>
            <a:off x="4284720" y="1844640"/>
            <a:ext cx="223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Comic Sans MS"/>
              </a:rPr>
              <a:t>Династический кризис в связи с пресечением династии Рюриковичей и избранием Земским собором 1598 г. царем Бориса Годунова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8" name="Text Box 48"/>
          <p:cNvSpPr/>
          <p:nvPr/>
        </p:nvSpPr>
        <p:spPr>
          <a:xfrm>
            <a:off x="6659640" y="1844640"/>
            <a:ext cx="223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Comic Sans MS"/>
              </a:rPr>
              <a:t>Ухудшение положения крестьян: увеличение повинностей, отмена «заповедных лет» и введение «урочных лет»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Содержимое 3" descr=""/>
          <p:cNvPicPr/>
          <p:nvPr/>
        </p:nvPicPr>
        <p:blipFill>
          <a:blip r:embed="rId1"/>
          <a:stretch/>
        </p:blipFill>
        <p:spPr>
          <a:xfrm>
            <a:off x="1127160" y="1133640"/>
            <a:ext cx="7785000" cy="5286240"/>
          </a:xfrm>
          <a:prstGeom prst="rect">
            <a:avLst/>
          </a:prstGeom>
          <a:ln w="0">
            <a:noFill/>
          </a:ln>
        </p:spPr>
      </p:pic>
      <p:pic>
        <p:nvPicPr>
          <p:cNvPr id="191" name="Заголовок 1" descr=""/>
          <p:cNvPicPr/>
          <p:nvPr/>
        </p:nvPicPr>
        <p:blipFill>
          <a:blip r:embed="rId2"/>
          <a:stretch/>
        </p:blipFill>
        <p:spPr>
          <a:xfrm>
            <a:off x="212760" y="0"/>
            <a:ext cx="8474040" cy="137160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2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480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3"/>
          <p:cNvSpPr/>
          <p:nvPr/>
        </p:nvSpPr>
        <p:spPr>
          <a:xfrm>
            <a:off x="468360" y="3284640"/>
            <a:ext cx="7991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5157360"/>
            <a:ext cx="360036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Black"/>
              </a:rPr>
              <a:t>ЛЖЕДМИТРИЙ </a:t>
            </a: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I</a:t>
            </a:r>
            <a:r>
              <a:rPr b="0" lang="ru-RU" sz="2000" spc="-1" strike="noStrike">
                <a:solidFill>
                  <a:srgbClr val="ffff00"/>
                </a:solidFill>
                <a:latin typeface="Arial Black"/>
              </a:rPr>
              <a:t>  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(ГРИГОРИЙ  ОТРЕПЬЕВ)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ЦАРЬ  С  1605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86920" y="228600"/>
            <a:ext cx="7804440" cy="16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80000"/>
                </a:solidFill>
                <a:latin typeface="Times New Roman"/>
              </a:rPr>
              <a:t>В июне 1605 г войско самозванца беспрепятственно вступило в Москв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7659720" cy="482436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292360" y="228240"/>
            <a:ext cx="3699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оскве произошла встреча «сына» и матер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4367520" cy="550692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427640" y="476280"/>
            <a:ext cx="4559040" cy="63374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69696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Новый царь раздал должности полякам, остальные обещания не выполнил. В мае состоялась его свадьба с Мариной Мнишек(дочерью польского воеводы)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оведение царя породило слухи,что он-«ненастоящий»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304920" y="9360"/>
            <a:ext cx="8686800" cy="5400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авление Лжедмитри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227240" y="566100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69696"/>
                </a:solidFill>
                <a:uFillTx/>
                <a:latin typeface="Times New Roman"/>
              </a:rPr>
              <a:t>Марина Мнишек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3962160" cy="57150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207" name="Text Box 7"/>
          <p:cNvSpPr/>
          <p:nvPr/>
        </p:nvSpPr>
        <p:spPr>
          <a:xfrm>
            <a:off x="468360" y="630864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0000"/>
                </a:solidFill>
                <a:latin typeface="Times New Roman"/>
              </a:rPr>
              <a:t>Лжедмитрий I и </a:t>
            </a:r>
            <a:r>
              <a:rPr b="1" lang="ru-RU" sz="1800" spc="-1" strike="noStrike">
                <a:solidFill>
                  <a:srgbClr val="580000"/>
                </a:solidFill>
                <a:latin typeface="Times New Roman"/>
              </a:rPr>
              <a:t>Марина</a:t>
            </a:r>
            <a:r>
              <a:rPr b="0" lang="ru-RU" sz="1800" spc="-1" strike="noStrike">
                <a:solidFill>
                  <a:srgbClr val="58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580000"/>
                </a:solidFill>
                <a:latin typeface="Times New Roman"/>
              </a:rPr>
              <a:t>Мнишек</a:t>
            </a:r>
            <a:r>
              <a:rPr b="0" lang="ru-RU" sz="1800" spc="-1" strike="noStrike">
                <a:solidFill>
                  <a:srgbClr val="58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18:46:43Z</dcterms:created>
  <dc:creator>Галкина</dc:creator>
  <dc:description/>
  <dc:language>en-US</dc:language>
  <cp:lastModifiedBy>LEGION</cp:lastModifiedBy>
  <dcterms:modified xsi:type="dcterms:W3CDTF">2015-01-14T09:48:49Z</dcterms:modified>
  <cp:revision>84</cp:revision>
  <dc:subject/>
  <dc:title>Начало Сму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e370000000000010250300207f7000400038000</vt:lpwstr>
  </property>
</Properties>
</file>