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991B-77BE-4186-9F5A-49E0204F306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СЬ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ОЛОТАЯ ОР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7936-9AB5-4D0B-A4C8-43005E9A8FD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и всегда сопровождался насилием и грабежом, тех кто не платил обращали в раб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7816-9A7F-49E2-B4DA-AA1CBA0B8B4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 поставлять воинов в монголо-татарское войс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7378-4364-4B99-BACB-98D3FFCE1B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русского народа против ордынского влады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44D2-35A2-4F53-AEB0-0DE639D7573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следствия ордынского владыч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ушены го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становлено каменное строитель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ошла утрата многих ремес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становился процесс развития феодального землевла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кратилась численность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сская культура пришла в упадо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из-за пожаров погибло множ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едений искусств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ьменных источник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E1B9-970E-4659-AD42-02FCDD300C3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А с другой стороны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есть и полож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за долгие годы ордынское владычество привело к взаимному влиянию друг на друга в хозяйстве, быту, языке, власти.(в учеб.стр.119 най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1F7F-238C-4DD2-823C-DF6BFA928B1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голо-татарское иго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4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7F1E-7FA3-42A9-9527-21EE6566D68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85FC-F93F-460B-BB69-4367E48DD7C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разование Золотой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ый образовал собственное государство: земли Волжской Булгарии, Половецкая степь, Крым, Приуралье, Западная Сибирь, часть Средне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37C6-C506-493B-AA30-79B2A4852E6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ица Сарай –Бат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ереводе дворе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1C91-E5FB-4511-91A0-C4AB676EE0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усские земли не вошли в состав, но они попали в вассальную зависимость от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F5CD-EACD-4A72-B4E0-651A4492C45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Ярлык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ханская грамота, дававшая право русским князьям властвовать в своих зем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амым привлекательным был ярлык на владимирское княжество, т.к. теперь не киевский князь, а владимирский имел право на старши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B478-1F84-4260-A4CC-6C083DDBB83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ездки русских князей в Орду сопровождались унижениями и часто заканчивались их смер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429E-BB65-40DE-AD42-7C9670181C1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аскак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– представитель ордынского хана на Руси, который осуществлял контроль за действиями князей, ведал сборами д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44C4-E3B9-455E-98CA-3BF40C94115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«Ордынский выход»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– ежегодная дань, которую собирали на Руси для хана Золотой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C244-CCB6-4B45-B7C2-B98E98A56A0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7-1259 годах монгольские чиновники –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ислен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вели на Руси перепись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Численник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 – монгольский чиновник, проводивший перепись насел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жители были переписаны и обязаны были ежегодно платить большую да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ь не платило только духовенство, которое завоеватели стремились использовать для укрепления своей в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78DF-F04D-4853-B87E-D32A4821B6F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A58-8981-4A02-B860-055379E7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4ED-7C31-43B1-94C7-97B0FC50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CB03-B741-49F3-9C8D-A5F5B541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36EE-868A-4EAC-B573-AD5B4519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C6F7-49FE-447B-ACCF-71BC23CC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FF14-D4B4-46C9-8030-92DCA39D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859F-13F0-4AA3-8212-8C8B7947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39A0-D5AB-4F2C-A7A4-A7571CCE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7000-788A-4637-A9C1-C726B7B1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B981-72CE-490F-9C91-93CF142D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837C-3E29-499F-ADD7-36EF9363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B3A5-C6D0-4247-BA1D-B0079818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B57E-734B-4770-A007-20A67C7D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C38A-A8DF-44F7-8F27-C1FF38EA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4748-870B-4C10-B6B1-F90CA7D5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9AC9-A144-41AE-9915-EA46FF82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9D09-87E8-427D-8568-AE96EC8B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3008-7530-4140-A31B-91CC9EB4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2B1-54ED-43B3-8DD2-7217A48F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630A-3B5B-4A92-80DB-C085C8D9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C04-8AB9-4B1F-A537-892F3FBE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E23-1857-44C3-B654-BF255E70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D85-D462-4AB5-BF23-9F1575EC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1C9-053B-41E1-BED5-E9B813A2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5DFE-3925-40C6-B8F8-3F75C52949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463521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8FE6-F5FC-4AB8-8DAD-B659B6A0E91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8b274"/>
                </a:solidFill>
                <a:latin typeface="Tahoma"/>
              </a:rPr>
              <a:t>РУСЬ И </a:t>
            </a:r>
            <a:br>
              <a:rPr sz="6000"/>
            </a:br>
            <a:r>
              <a:rPr b="1" lang="ru-RU" sz="6000" spc="-1" strike="noStrike">
                <a:solidFill>
                  <a:srgbClr val="d8b274"/>
                </a:solidFill>
                <a:latin typeface="Tahoma"/>
              </a:rPr>
              <a:t>ЗОЛОТАЯ ОРДА</a:t>
            </a:r>
            <a:endParaRPr b="0" lang="en-US" sz="6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3066840" cy="380988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985080" cy="4541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95280" y="476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 дани всегда сопровождался насилием и грабежом, тех кто не платил обращали в раб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Обязанность поставлять воинов в монголо-татарское войско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Борьба русского народа против ордынского владычества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29600" cy="44960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2268360" y="630864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итать в учеб стр.118, в р/т №1стр.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b274"/>
                </a:solidFill>
                <a:latin typeface="Tahoma"/>
              </a:rPr>
              <a:t>Последствия ордынского владычества</a:t>
            </a:r>
            <a:endParaRPr b="0" lang="en-US" sz="32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181080" y="1125000"/>
            <a:ext cx="6840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рушены 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становлено каменное строитель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ошла утрата многих ремес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становился процесс развития феодального землевла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кратилась численность нас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сская культура пришла в упадо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из-за пожаров погибло множ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едений искусств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сьменных источников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3276720" cy="4249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826920" y="1073160"/>
            <a:ext cx="77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8b274"/>
                </a:solidFill>
                <a:latin typeface="Tahoma"/>
              </a:rPr>
              <a:t>А с другой стороны</a:t>
            </a:r>
            <a:r>
              <a:rPr b="0" lang="ru-RU" sz="2800" spc="-1" strike="noStrike">
                <a:solidFill>
                  <a:srgbClr val="d8b274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d8b274"/>
                </a:solidFill>
                <a:latin typeface="Tahoma"/>
              </a:rPr>
              <a:t>есть и положительно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за долгие годы ордынское владычество привело к взаимному влиянию друг на друга в хозяйстве, быту, языке, власти.(в учеб.стр.119 найт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Монголо-татарское иго:</a:t>
            </a:r>
            <a:br>
              <a:rPr sz="4000"/>
            </a:b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1242-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971640" y="173880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6320" indent="1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b274"/>
                </a:solidFill>
                <a:latin typeface="Tahoma"/>
              </a:rPr>
              <a:t>Домашнее зада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14 (п.1,2,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33f27"/>
                </a:solidFill>
                <a:latin typeface="Tahoma"/>
              </a:rPr>
              <a:t>Образование Золотой Орды.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тый образовал собственное государство: земли Волжской Булгарии, Половецкая степь, Крым, Приуралье, Западная Сибирь, часть Средней Аз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3284640"/>
            <a:ext cx="8281800" cy="792000"/>
          </a:xfrm>
          <a:custGeom>
            <a:avLst/>
            <a:gdLst>
              <a:gd name="textAreaLeft" fmla="*/ 1449360 w 8281800"/>
              <a:gd name="textAreaRight" fmla="*/ 6004440 w 828180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835280" y="4859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Золотая Ор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Столица Сарай –Бату </a:t>
            </a:r>
            <a:br>
              <a:rPr sz="4000"/>
            </a:b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(в переводе дворец)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Русские земли не вошли в состав, но они попали в вассальную зависимость от Орды.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744720" cy="43225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4859280" y="2554200"/>
            <a:ext cx="3168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 1242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 северо-восточные княжества были отправлены послы, с требованием явиться к Баты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2846520" cy="4392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611280" y="620640"/>
            <a:ext cx="76327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Ярлык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ханская грамота, дававшая право русским князьям властвовать в своих земл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572000" y="2349360"/>
            <a:ext cx="40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амым привлекательным был ярлык на владимирское княжество, т.к. теперь не киевский князь, а владимирский имел право на старши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019240" y="1530360"/>
            <a:ext cx="5216760" cy="4994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324000" y="449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ездки русских князей в Орду сопровождались унижениями и часто заканчивались их смерть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395280" y="189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8b274"/>
                </a:solidFill>
                <a:latin typeface="Tahoma"/>
              </a:rPr>
              <a:t>Баскак</a:t>
            </a:r>
            <a:r>
              <a:rPr b="0" lang="ru-RU" sz="2400" spc="-1" strike="noStrike">
                <a:solidFill>
                  <a:srgbClr val="d8b274"/>
                </a:solidFill>
                <a:latin typeface="Tahoma"/>
              </a:rPr>
              <a:t> – представитель ордынского хана на Руси, который осуществлял контроль за действиями князей, ведал сборами да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5749920" cy="4392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697800" cy="4733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324000" y="2602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b274"/>
                </a:solidFill>
                <a:latin typeface="Tahoma"/>
              </a:rPr>
              <a:t>«Ордынский выход»</a:t>
            </a:r>
            <a:r>
              <a:rPr b="0" lang="ru-RU" sz="3200" spc="-1" strike="noStrike">
                <a:solidFill>
                  <a:srgbClr val="d8b274"/>
                </a:solidFill>
                <a:latin typeface="Tahoma"/>
              </a:rPr>
              <a:t> – ежегодная дань, которую собирали на Руси для хана Золотой Ор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95280" y="25560"/>
            <a:ext cx="8199360" cy="65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257-1259 годах монгольские чиновники –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численник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провели на Руси перепись насе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b274"/>
                </a:solidFill>
                <a:latin typeface="Tahoma"/>
              </a:rPr>
              <a:t>Численник</a:t>
            </a:r>
            <a:r>
              <a:rPr b="0" lang="ru-RU" sz="3200" spc="-1" strike="noStrike">
                <a:solidFill>
                  <a:srgbClr val="d8b274"/>
                </a:solidFill>
                <a:latin typeface="Tahoma"/>
              </a:rPr>
              <a:t> – монгольский чиновник, проводивший перепись насе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жители были переписаны и обязаны были ежегодно платить большую дан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ь не платило только духовенство, которое завоеватели стремились использовать для укрепления своей вла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1:17:04Z</dcterms:created>
  <dc:creator>Галкина</dc:creator>
  <dc:description/>
  <dc:language>en-US</dc:language>
  <cp:lastModifiedBy>LEGION</cp:lastModifiedBy>
  <dcterms:modified xsi:type="dcterms:W3CDTF">2015-01-14T09:50:16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90000000000010250300207f7000400038000</vt:lpwstr>
  </property>
</Properties>
</file>