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5AD2-60CB-4D02-90A5-0D7B037CF28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 Главные политические центры Рус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4BDE-767E-4B37-B255-E6421899E75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Всевол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ладший брат Андрея Боголюб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нём выросло могущество Владимиро – Суздальской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ым присвоил титул Великого князя Владимир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олжить делить земли и раздавать их сыновь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ширил границы  на вост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1221 году совершил успешный поход на Волжскую Булгарию и основал Нижний Новгор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3076-7DF9-4531-BEBB-A00A4A4E73F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ская зем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077B-FF34-449B-A0A2-3C0430CA949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ская зем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никла в IX веке как объединение 3-х племенных посёл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полагалась на реке Волх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итория простиралась от Финского залива до Урала, от северного Ледовитого океана до верховья Вол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городцы развивали навыки ремесла и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рговали с немецкими купцами. Датскими и Византией, странами Восто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город был одним из крупнейших  и красивейших городов с высоким уровнем грамо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232B-C606-49A0-B655-FAD8C77E9AD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истема управления Новгородской респуб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497D-36FB-4DFE-BD62-65AB34F3627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цко – Волынское княж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38B7-241F-4ADF-8D1D-C6F09F26363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цко – Волынское княж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положилось у предгорий Карп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валось пашенное земледел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пешно развивалось многочисленные лесные и рыбные промыслы, ремесл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далённость от кочевников привлекала сюда нас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перничество между Галичем и Владимиром Волынск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99 году объединили Волынь и Гали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чало усоб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яжеская власть была ограничена боярской зна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B568-1615-4AFC-BE04-8913F49C800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ем с докумен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 95 и познакомьтесь с документ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F24A-03A8-49FE-B7E6-5E1F4CCB07F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95 и запишите слова в словар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226A-4FFD-432F-93EE-63E2420292B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ём итог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 на стр. 9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C292-4F03-4D1C-9FD5-51CB66F8092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князьями и их поли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главными политическими центрами Рус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особенности в их разви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умение анализировать. сравнивать, обобщать и 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9068-7EB0-4923-B95C-657711D13F6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ш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11, вопросы, записи, задания в рабочей тетрад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E025-C245-442B-A11D-F581F84D60B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жите о Любечском съезде князей и о принятых на нём  ре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е Владимира Монома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 последствия феодальной раздробленности на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31D9-AE2A-4582-A013-ABFE53E1C4A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Долгорук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DC81-71A6-4203-B83F-244EC08CE11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е Юрия Долгору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основателем княжеской динас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 в Ростово  - Суздальской зем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вище получил за стремление « протягивать руки», т.е. захватывать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 участвовал в княжеских усобиц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л многие города – Москву, Дмитров, Звенигор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ал походы на К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2228-DEFB-457F-9AE9-3857639B4E6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мятник Юрию Долгорукому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DB2B-5C45-4EB2-AAC9-A6926ED66DC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Боголюб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F489-2FEE-44C1-977A-5FD95F9A4C1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Андрея Боголюбс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157 году вступил на престо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резиденцию Боголюбо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1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году организовал поход на К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инил гордых Новгородц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во Владимире новую креп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Золотые ворота по образцу киевск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убит боярами во главе с кичкович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CE8B-3073-4587-BA65-EDB064EAEB0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волод « Большое Гнезд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975C-6CED-4882-9FFA-87D6C11AAF1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CE53-9BCC-4351-A1DD-2CA63E6A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0CA-2A10-48DE-8642-6B493BF1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34D-AA11-41B1-8C72-DFE8928B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526-062D-4463-BEAA-74D97257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8F54-D794-4624-BE52-CF491228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AF97-A536-402F-841A-898122E9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F443-D927-4200-A5FB-A38BE399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6F2A-9DE1-4FCC-BC75-92FB2582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2885-0E44-45B1-A371-A0178B3A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06C7-E0FB-410C-86BA-93760A52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348E-F2C4-467C-B97B-788FA6B4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DD0-A756-4C63-B2A3-10352A5C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B9EA-6ECF-4784-B340-41ECBCEF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8411-16F7-4A32-B005-467AD873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D868-7C67-4909-BBA3-5C925724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9E3B-0308-4288-916F-4D87B8ED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792A-C379-40AC-B0CE-979184E3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EAA-9004-4BC6-944D-51E0F870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DA1-16CE-439D-80F4-65895107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32B-1C3B-45B5-AEDE-66591DE9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EEB-E2FD-4FA5-8418-472C0F06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EFC-B525-4F0F-840D-BDCA8B1C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9A8-4A82-49D2-ABD2-7D4FE9C5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5FD2-39CE-4909-8550-44A9AE83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42DF-65B0-4327-803E-3C17DE3B65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8AD0-D966-45C9-8EC6-8657DA842557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ochka.gerodot.ru/rus-orda/img/02.gi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178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 Главные политические центры Рус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3357720" y="5357880"/>
            <a:ext cx="5286240" cy="1143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териал подготовлен учителем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итика Всеволод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ладший брат Андрея Боголюбск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нём выросло могущество Владимиро – Суздальской зем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м присвоил титул Великого князя Владимирск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олжить делить земли и раздавать их сыновь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ширил границы  на вост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221 году совершил успешный поход на Волжскую Булгарию и основал Нижний Новгоро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городская зем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70044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6" descr="http://im8-tub-ru.yandex.net/i?id=263405097-00-72"/>
          <p:cNvPicPr/>
          <p:nvPr/>
        </p:nvPicPr>
        <p:blipFill>
          <a:blip r:embed="rId1"/>
          <a:stretch/>
        </p:blipFill>
        <p:spPr>
          <a:xfrm>
            <a:off x="1000080" y="192888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im5-tub-ru.yandex.net/i?id=256084085-20-72"/>
          <p:cNvPicPr/>
          <p:nvPr/>
        </p:nvPicPr>
        <p:blipFill>
          <a:blip r:embed="rId2"/>
          <a:stretch/>
        </p:blipFill>
        <p:spPr>
          <a:xfrm>
            <a:off x="5357880" y="3571920"/>
            <a:ext cx="3071880" cy="30718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городская зем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никла в IX веке как объединение 3-х племенных посёлк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агалась на реке Волх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простиралась от Финского залива до Урала, от северного Ледовитого океана до верховья Волг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городцы развивали навыки ремесла и торгов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рговали с немецкими купцами. Датскими и Византией, странами Восто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город был одним из крупнейших  и красивейших городов с высоким уровнем грамотнос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Система управления Новгородской республик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1857240" y="1285920"/>
            <a:ext cx="5500800" cy="5713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 – Народное собр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40"/>
          <p:cNvSpPr/>
          <p:nvPr/>
        </p:nvSpPr>
        <p:spPr>
          <a:xfrm>
            <a:off x="539640" y="2781360"/>
            <a:ext cx="230364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Посадник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шее должност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о. Ведал суд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ых лиц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4"/>
          <p:cNvSpPr/>
          <p:nvPr/>
        </p:nvSpPr>
        <p:spPr>
          <a:xfrm>
            <a:off x="3348000" y="2781360"/>
            <a:ext cx="230364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Влады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рхиепископ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ал церковны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ми, казной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л внешне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к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45"/>
          <p:cNvSpPr/>
          <p:nvPr/>
        </p:nvSpPr>
        <p:spPr>
          <a:xfrm>
            <a:off x="6156360" y="2781360"/>
            <a:ext cx="230328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Княз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догов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л войск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оенное время. 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л права вмеши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ься в управ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6"/>
          <p:cNvSpPr/>
          <p:nvPr/>
        </p:nvSpPr>
        <p:spPr>
          <a:xfrm>
            <a:off x="468360" y="5084640"/>
            <a:ext cx="2449440" cy="1440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Тысяц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щник посадни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ил за сбор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ов, руководи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олчение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55"/>
          <p:cNvSpPr/>
          <p:nvPr/>
        </p:nvSpPr>
        <p:spPr>
          <a:xfrm>
            <a:off x="1692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57"/>
          <p:cNvSpPr/>
          <p:nvPr/>
        </p:nvSpPr>
        <p:spPr>
          <a:xfrm>
            <a:off x="457200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58"/>
          <p:cNvSpPr/>
          <p:nvPr/>
        </p:nvSpPr>
        <p:spPr>
          <a:xfrm>
            <a:off x="1619280" y="234936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59"/>
          <p:cNvSpPr/>
          <p:nvPr/>
        </p:nvSpPr>
        <p:spPr>
          <a:xfrm>
            <a:off x="161928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60"/>
          <p:cNvSpPr/>
          <p:nvPr/>
        </p:nvSpPr>
        <p:spPr>
          <a:xfrm>
            <a:off x="745164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61"/>
          <p:cNvSpPr/>
          <p:nvPr/>
        </p:nvSpPr>
        <p:spPr>
          <a:xfrm>
            <a:off x="4572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алицко – Волынское княжеств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3" name="Picture 3" descr="http://tsn.tikhomirov.org/Fotki/NY2005/IMG_3350L.jpg"/>
          <p:cNvPicPr/>
          <p:nvPr/>
        </p:nvPicPr>
        <p:blipFill>
          <a:blip r:embed="rId1"/>
          <a:stretch/>
        </p:blipFill>
        <p:spPr>
          <a:xfrm>
            <a:off x="428760" y="1857240"/>
            <a:ext cx="3765240" cy="292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http://im2-tub-ru.yandex.net/i?id=75083993-10-72"/>
          <p:cNvPicPr/>
          <p:nvPr/>
        </p:nvPicPr>
        <p:blipFill>
          <a:blip r:embed="rId2"/>
          <a:stretch/>
        </p:blipFill>
        <p:spPr>
          <a:xfrm>
            <a:off x="5214960" y="4000680"/>
            <a:ext cx="3357720" cy="25286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Picture 2" descr="Картинка 1 из 8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65240"/>
            <a:ext cx="9144000" cy="70232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алицко – Волынское княжеств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ожилось у предгорий Карпа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валось пашенное земледел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пешно развивалось многочисленные лесные и рыбные промыслы, ремесло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далённость от кочевников привлекала сюда населен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перничество между Галичем и Владимиром Волынски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199 году объединили Волынь и Галич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чало усобиц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няжеская власть была ограничена боярской знатью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работаем с документам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ойте учебник на стр. 95 и познакомьтесь с документа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рмин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ойте учебник на стр.95 и запишите слова в словар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дведём итог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тьте на вопросы на стр. 9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накомиться с князьями и их политико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накомиться с главными политическими центрами Рус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явить особенности в их развит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вать умение анализировать. сравнивать, обобщать и делать вы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ишем 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араграф 11, вопросы, записи, задания в рабочей тетрад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веряем 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кажите о Любечском съезде князей и о принятых на нём  решения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ление Владимира Мономах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чины и последствия феодальной раздробленности на Рус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Юрий Долгорукий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148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7" descr="http://im5-tub-ru.yandex.net/i?id=191187147-01-72"/>
          <p:cNvPicPr/>
          <p:nvPr/>
        </p:nvPicPr>
        <p:blipFill>
          <a:blip r:embed="rId1"/>
          <a:stretch/>
        </p:blipFill>
        <p:spPr>
          <a:xfrm>
            <a:off x="2928960" y="2000160"/>
            <a:ext cx="3143160" cy="4365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ление Юрия Долгоруког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 основателем княжеской династ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л в Ростово  - Суздальской земл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звище получил за стремление « протягивать руки», т.е. захватывать зем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о участвовал в княжеских усобиц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л многие города – Москву, Дмитров, Звенигоро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ал походы на Ки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Памятник Юрию Долгорукому в Москв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19572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3" descr="http://fotomoskva.net.ru/imgk/693gork.jpg"/>
          <p:cNvPicPr/>
          <p:nvPr/>
        </p:nvPicPr>
        <p:blipFill>
          <a:blip r:embed="rId1"/>
          <a:stretch/>
        </p:blipFill>
        <p:spPr>
          <a:xfrm>
            <a:off x="2514600" y="21337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дрей Боголюбск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85776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7" descr="http://chegepe.narod.ru/content2/grehopad/andr_bogo_sm.jpg"/>
          <p:cNvPicPr/>
          <p:nvPr/>
        </p:nvPicPr>
        <p:blipFill>
          <a:blip r:embed="rId1"/>
          <a:stretch/>
        </p:blipFill>
        <p:spPr>
          <a:xfrm>
            <a:off x="3122640" y="1981080"/>
            <a:ext cx="289728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итика Андрея Боголюбског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157 году вступил на пре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резиденцию Боголюбов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ду организовал поход на Ки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чинил гордых Новгородц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во Владимире новую креп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Золотые ворота по образцу киевски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 убит боярами во главе с кичкович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севолод « Большое Гнездо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38148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3" descr="http://www.grigorius.narod.ru/img/history/knyaz/12_biggnezdo_m.jpg"/>
          <p:cNvPicPr/>
          <p:nvPr/>
        </p:nvPicPr>
        <p:blipFill>
          <a:blip r:embed="rId1"/>
          <a:stretch/>
        </p:blipFill>
        <p:spPr>
          <a:xfrm>
            <a:off x="2666880" y="1905120"/>
            <a:ext cx="3353040" cy="4572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09:51:09Z</dcterms:modified>
  <cp:revision>9</cp:revision>
  <dc:subject/>
  <dc:title>PowerPoint Presentation</dc:title>
</cp:coreProperties>
</file>