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AF3C-FA66-43CD-BEEA-D5ACF26E0D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CBDD-0E8C-468E-84AA-9EEDDC6A888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севол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A6D2-2448-4B3F-8DFF-913E3246E57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2FFC-64ED-4F7E-857F-8B7136D162F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3583-73BD-49F8-BDAA-60157F9E803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AD01-0EF3-4FA5-8C16-9AB83231B59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D0A4-4D10-4E4E-8286-00FDCF64077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C907-5A15-472D-8228-661B3E6808D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ем с докумен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 95 и познакомьтесь с документ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8447-77A5-4021-A9F7-03D2574AE22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95 и запишите слова в словар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16E8-0DD2-41BE-A467-108D02CB36C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ём 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 на стр. 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F62A-0477-462B-A16C-0D7018B0DF8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князьями и их поли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главными политическими центрами Рус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особенности в их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е анализировать. сравнивать, обобщать и 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5F68-66C6-462B-8D48-C0F0B4043E6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ш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1, вопросы, записи, задания в рабочей тетра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BE03-BA68-4666-9E2C-C8BB439C1FB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 о Любечском съезде князей и о принятых на нём  ре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Владимира Моном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последствия феодальной раздробленност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3F78-94A2-42AA-866C-D53816BD296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Долгорук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E00E-1532-4D56-8E1E-67EFA25E2E3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Юрия Долгору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B166-77CC-4457-A943-425AE05E387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мятник Юрию Долгорукому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435E-2B64-424A-BC8A-BC50A779B46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Боголюб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E6CE-3952-40C8-9DF2-D278F8E2EDE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Андрея Боголюб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1FBE-534D-45EC-9022-9EC3B8981CB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волод « Большое Гнезд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CBA5-EE68-42F0-BA51-579C08E6461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ED9-0CF8-4B9D-BBE5-47AFBF6D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680-B147-48B2-8D27-8AD11A63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59B-805F-47A7-A9FC-C3C32A75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8CA-FC81-4EA6-AA3E-7E6751C5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3036-4FE5-45C4-9652-40BB7F88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A6D0-7F84-4A0D-80AB-224B1F8A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D89E-033C-4A59-BB7F-C131E3F5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A992-13AC-4C98-8E7F-DA76D4E8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640F-A6CB-468B-8F28-BD78BEEA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EEAD-FCC8-43DA-95AE-60B52941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3890-0C19-4ED1-9359-6997E8C1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499-7F9F-4B86-86AF-D0F4CBEF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3297-F2C8-48B4-9CA1-A8E21C38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64FA-357F-410C-B75E-4417F40C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BDF0-8C14-43F5-AB18-69BC26F0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3030-91B4-414A-9B14-187FC20A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C610-73E9-4209-B83A-6BF0C7A7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B00-C105-4A7B-826C-7E80D273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AD9-B788-476D-A834-85DDACE8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E08-68FC-46B7-9FD4-5ED996E4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29E-486F-4C23-B8E4-C717648F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192-F8E9-4738-9296-107A6E68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1A7-A0DA-4BB6-9CD9-217DA914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B4F-080D-4569-9F24-3A1E4E93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14C3-B211-4B4F-BC25-AFBF5F00EE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3110-8AC7-4195-A193-EFD443094408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ochka.gerodot.ru/rus-orda/img/02.gi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178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357720" y="5357880"/>
            <a:ext cx="5286240" cy="1143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Всеволод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70044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6" descr="http://im8-tub-ru.yandex.net/i?id=263405097-00-72"/>
          <p:cNvPicPr/>
          <p:nvPr/>
        </p:nvPicPr>
        <p:blipFill>
          <a:blip r:embed="rId1"/>
          <a:stretch/>
        </p:blipFill>
        <p:spPr>
          <a:xfrm>
            <a:off x="1000080" y="192888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im5-tub-ru.yandex.net/i?id=256084085-20-72"/>
          <p:cNvPicPr/>
          <p:nvPr/>
        </p:nvPicPr>
        <p:blipFill>
          <a:blip r:embed="rId2"/>
          <a:stretch/>
        </p:blipFill>
        <p:spPr>
          <a:xfrm>
            <a:off x="5357880" y="3571920"/>
            <a:ext cx="307188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1857240" y="1285920"/>
            <a:ext cx="5500800" cy="5713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 – Народное собр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53964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Посадник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е должност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о. Ведал су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4"/>
          <p:cNvSpPr/>
          <p:nvPr/>
        </p:nvSpPr>
        <p:spPr>
          <a:xfrm>
            <a:off x="334800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Влады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рхиепископ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ал церковны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ми, казной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нешне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к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45"/>
          <p:cNvSpPr/>
          <p:nvPr/>
        </p:nvSpPr>
        <p:spPr>
          <a:xfrm>
            <a:off x="6156360" y="2781360"/>
            <a:ext cx="230328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Княз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догов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ойск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енное время. 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л права вмеши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ься в управ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6"/>
          <p:cNvSpPr/>
          <p:nvPr/>
        </p:nvSpPr>
        <p:spPr>
          <a:xfrm>
            <a:off x="468360" y="5084640"/>
            <a:ext cx="2449440" cy="1440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Тысяц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щник посад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ил за сбор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ов, руководи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олчени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55"/>
          <p:cNvSpPr/>
          <p:nvPr/>
        </p:nvSpPr>
        <p:spPr>
          <a:xfrm>
            <a:off x="1692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457200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58"/>
          <p:cNvSpPr/>
          <p:nvPr/>
        </p:nvSpPr>
        <p:spPr>
          <a:xfrm>
            <a:off x="1619280" y="234936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59"/>
          <p:cNvSpPr/>
          <p:nvPr/>
        </p:nvSpPr>
        <p:spPr>
          <a:xfrm>
            <a:off x="161928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60"/>
          <p:cNvSpPr/>
          <p:nvPr/>
        </p:nvSpPr>
        <p:spPr>
          <a:xfrm>
            <a:off x="745164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61"/>
          <p:cNvSpPr/>
          <p:nvPr/>
        </p:nvSpPr>
        <p:spPr>
          <a:xfrm>
            <a:off x="4572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3" name="Picture 3" descr="http://tsn.tikhomirov.org/Fotki/NY2005/IMG_3350L.jpg"/>
          <p:cNvPicPr/>
          <p:nvPr/>
        </p:nvPicPr>
        <p:blipFill>
          <a:blip r:embed="rId1"/>
          <a:stretch/>
        </p:blipFill>
        <p:spPr>
          <a:xfrm>
            <a:off x="428760" y="1857240"/>
            <a:ext cx="3765240" cy="29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http://im2-tub-ru.yandex.net/i?id=75083993-10-72"/>
          <p:cNvPicPr/>
          <p:nvPr/>
        </p:nvPicPr>
        <p:blipFill>
          <a:blip r:embed="rId2"/>
          <a:stretch/>
        </p:blipFill>
        <p:spPr>
          <a:xfrm>
            <a:off x="5214960" y="4000680"/>
            <a:ext cx="3357720" cy="25286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Picture 2" descr="Картинка 1 из 8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524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работаем с документам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 95 и познакомьтесь с документ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рмин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95 и запишите слова в словар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ведём итог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ьте на вопросы на стр. 9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князьями и их политико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главными политическими центрами Рус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явить особенности в их развит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вать умение анализировать. сравнивать, обобщать и делать вы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иш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раграф 11, вопросы, записи, задания в рабочей тетрад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веря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кажите о Любечском съезде князей и о принятых на нём  решени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ление Владимира Мономах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чины и последствия феодальной раздробленности на Рус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Юрий Долгорукий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148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7" descr="http://im5-tub-ru.yandex.net/i?id=191187147-01-72"/>
          <p:cNvPicPr/>
          <p:nvPr/>
        </p:nvPicPr>
        <p:blipFill>
          <a:blip r:embed="rId1"/>
          <a:stretch/>
        </p:blipFill>
        <p:spPr>
          <a:xfrm>
            <a:off x="2928960" y="2000160"/>
            <a:ext cx="3143160" cy="4365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ление Юрия Долгору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Памятник Юрию Долгорукому в Москв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19572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3" descr="http://fotomoskva.net.ru/imgk/693gork.jpg"/>
          <p:cNvPicPr/>
          <p:nvPr/>
        </p:nvPicPr>
        <p:blipFill>
          <a:blip r:embed="rId1"/>
          <a:stretch/>
        </p:blipFill>
        <p:spPr>
          <a:xfrm>
            <a:off x="2514600" y="21337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дрей Боголюбск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85776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7" descr="http://chegepe.narod.ru/content2/grehopad/andr_bogo_sm.jpg"/>
          <p:cNvPicPr/>
          <p:nvPr/>
        </p:nvPicPr>
        <p:blipFill>
          <a:blip r:embed="rId1"/>
          <a:stretch/>
        </p:blipFill>
        <p:spPr>
          <a:xfrm>
            <a:off x="3122640" y="1981080"/>
            <a:ext cx="289728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Андрея Боголюбс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севолод « Большое Гнездо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3814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3" descr="http://www.grigorius.narod.ru/img/history/knyaz/12_biggnezdo_m.jpg"/>
          <p:cNvPicPr/>
          <p:nvPr/>
        </p:nvPicPr>
        <p:blipFill>
          <a:blip r:embed="rId1"/>
          <a:stretch/>
        </p:blipFill>
        <p:spPr>
          <a:xfrm>
            <a:off x="2666880" y="1905120"/>
            <a:ext cx="335304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51:09Z</dcterms:modified>
  <cp:revision>9</cp:revision>
  <dc:subject/>
  <dc:title>PowerPoint Presentation</dc:title>
</cp:coreProperties>
</file>