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E478-28AC-44C2-81EA-FA5864671B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рынка. 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52A3-B9B0-4132-8B9E-7BF921EA38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зерна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еремещение может быть связано, прежде всего, с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м производителям зерна налоговых льг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цен на топливо и удоб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числа хлебопекарных и кондитерск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ниями низкого урожая зер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998C-9A49-4A16-98B1-323DB7FA42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экзотических фрук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оличество товара). Это перемещение может быть связано, преждевсего, с (со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м урожаем экзотических фрук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доходов потребител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таможенных пошлин на импорт фрук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м тарифов на грузовые перево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BD84-776E-4445-9A87-AAB4957994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стационарных компьютеров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ъем спроса товара). Это перемещение может быть связано, преждевсего, с (с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м числа продавцов компьютеров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ходом многих пользователей на ноутбуки и нетбук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м пошл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вод комплектующих для стационарныхкомпьютер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ым удешевлением системных блоков и мони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C560-3815-4B7D-B06B-4A694FBC4F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телевиз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D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–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товар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Q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объём спроса товара). Это перемещение может быть вызвано в первую очер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нижением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налогов на производителей телевиз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дешевлением технологии производства телевиз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количества магазинов, торгующих телевиз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9931-F2AD-4676-9BAC-B02B4C24EF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производителей косметик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предлож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1 (P —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това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Q —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ём предложения товара). Это перемещение может быть связано в первую очередь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увеличением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окращением количества потреб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снижением налогов на производителей косме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закрытием ряда косметически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0F37-B2B3-48EA-8BFD-CBED768C24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озникнове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ое раздел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обособленность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сть производ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2B09-EE37-4077-9D00-4E9025F4DE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4225-0D54-4D44-B4A8-32A9AC8C2B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то количество товаров определённого вида, которое покупатель готов купить при определённом уровне ц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чи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от цены товара (услуги). Эту зависимость можно представить в виде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7B0A-204C-44C7-AFE6-45843A3BA2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ривая спроса даёт ответ на два вопро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будет величина спроса при различных уровнях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менится величина спроса при изменении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спроса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ышение цены обычно ведёт к уменьшению величины спроса и, наоборот, снижение цены ведёт к увеличению величины спро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0A4C-0EF2-4580-B06C-1E3B75CF38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лож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ыброс на рынок всё большего числа товаров или услуг, определяется, прежде всего, производственными факторами (количеством сырья, производительностью и т. 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объём (количество) товаров (услуг), который продавцы готовы (хотят и могут) предложить на рынок в течение определённого периода времени при определённом уровне рыночной цены на этот товар (услуг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D819-5F72-4E91-9014-7CC8272441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предложения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цены товара (услуги) обычно ведёт к росту величины предложения и, наоборот, снижение цены ведёт к уменьшению величины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4133-AFF6-457C-9550-B48A63F302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ечение кривых спроса и предложения даёт знач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вновесной ц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цена, при которой весь поставляемый на рынок товар покуп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цена товара на рынке выше равновесной, то спрос снижается, в результате на рынке возникает избыток товара, что в свою очередь приводит к снижению цены до уровня равновес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цена ниже равновесной, то предложение падает, а спрос растет. Такая ситуация на рынке приводит к дефициту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6620-8A59-4334-A7E0-2372420C1A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змы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льности на рынке формируется две ц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а спрос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а максимальная цена, по которой покупатель согласен купить това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а предлож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а минимальная цена, по которой производитель готов продать товар)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ночная цен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еблется в промежутке между этими двумя величинами. Таким образом, цена, спрос и предложение являются активными регуляторами рыночного механизма производства и обмена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A684-F39B-4E02-BECF-3515356B79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AA02-94F5-451D-8EF5-E2A51F3E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97B-0AE4-4B1D-8987-7DAFF10D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5AB-E2F0-47C8-BFE8-29C04BBB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766-5E86-4241-81A1-81E008D40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9593-0D2C-42CA-97FC-D67F7C06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10A3-2FCA-446C-B49B-358BA103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D45F-C86B-4DF8-A8EE-8A55374D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3295-A6FB-43D2-BCB3-218FDCB3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7646-EA46-46AD-8A25-2B1D2C89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F303-9898-456D-841D-77661266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2CE9-05E9-45F3-AC34-DE648D02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351-0A1A-41A8-BDF1-F16F1B8C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EE7F-EAF5-4992-A8AF-24D131B1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0DA2-22FC-4F90-9FB4-BD91CA9D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5707-70A3-4A18-A8F4-88E014A3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A0C6-F970-47B2-89F8-B5AACE56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F91C-30EE-4CC8-8E82-74F9B736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13C59-4B90-473E-8F99-74CB57B2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A49CF-45AE-4BBD-A1CA-EB984291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C5673-53E4-4732-8869-2C4EE1E6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38620-504B-47EA-9845-8E6E4E90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059A0-530D-484E-A587-5C69B106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23E7-9D73-436C-8152-EDF6F7B1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1B7E5-2E31-4A8B-A300-2D995F88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387B1-5E48-434F-B2D3-19A51231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1FF2E-B2AB-4333-BFDB-EA32346B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94B29-26D7-468F-BC7C-BF461290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68EA5-E8E9-4FA5-9465-40B08312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59263-FF0A-49E8-9353-CC3E990F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4C238-8751-4443-A0F6-667E63B4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12410-993F-4C3D-8F82-8034DE88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C91B1-0BF2-4A53-9196-A6F7992F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9B7BE-658C-47F1-A016-6568293D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B2D-296C-4C78-8D50-7EAC9930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59891-8659-4C68-8D5D-C9B98D2B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626E9-7618-44A9-8D67-73CCF2D3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AC0EA-2E39-49B9-A38D-CD52BA9A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0EE8F-90F8-4AC4-BA11-3BA90AF4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F4401-0D05-49BB-AB93-AB8C5BA4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C70DD-A8EA-45D6-8355-523DCFD8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45F09-0B61-4CCC-84C7-4DCC3190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A7616-521D-480C-8315-A262C30C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98E5A-FB5E-4F7F-9A6C-6DAB02C9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F9243-5EA8-45EE-B50E-B2C18B4B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880-76ED-4D0A-A071-394C65A6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0CB10-5018-4968-BAF2-3AEE71EC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DE501-0F01-4737-9CA8-33DED4F2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B5FC4-7B71-4DCF-864B-BBB09959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9C5D7-BC08-4D0C-8053-0246631D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EF033-097B-4AE3-BFFF-AEC117F7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04AE0-FE9B-405A-A3B3-38E24273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CBE89-1BC6-4997-9B39-A8276A4A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69CA1-CBB0-418C-97CA-B509926B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D8DBC-291D-4B1B-A19C-E1C99E84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D13B2-BA7D-4673-83BA-306BA6BF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7017-6C42-4A40-A178-5A7CBBBF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D1222-7377-46C4-8902-4D743586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A43F-9A75-4338-A612-D19D0B43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029-70C8-41F9-AE27-BD3E3653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CB0-D201-4CE9-AD43-2F6E4780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09B3-D9A4-4DC6-B7E2-4A5A76448E8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277A-D530-43F0-A8E3-53CADB6BF6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A02A-59A4-4909-BB27-FC9D3BDD4147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022C-EF38-4C5F-92B6-57CD21C7031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B988-F6C8-433B-9FD2-03F0A796C023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2A09-9610-4AD6-8A86-60658CEE108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AF29-6148-4D0D-8620-BEF01E3E1CC9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EC39-300F-4251-A9F0-8CFB07649C5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FBBD-CD30-4D53-B846-D386E1656C26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311C-0D17-413C-9A0D-E5EC0DA9D2C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852640"/>
            <a:ext cx="7772400" cy="1470240"/>
          </a:xfrm>
          <a:prstGeom prst="rect">
            <a:avLst/>
          </a:prstGeom>
          <a:solidFill>
            <a:srgbClr val="fcd5b5">
              <a:alpha val="5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ханизмы рынка. Спрос и Предлож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зерн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48320" y="1197000"/>
            <a:ext cx="4316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количество товар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еремещение может быть связано, прежде всего, с (с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оставлением производителям зерна налоговых льго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ижением цен на топливо и удобр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том числа хлебопекарных и кондитерских предприят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жиданиями низкого урожая зер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388800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экзотических фрукт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47960" y="1599840"/>
            <a:ext cx="42447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ния предложен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S1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количество товара). Это перемещение может быть связано, преждевсего, с (со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оким урожаем экзотических фрукт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нижением доходов потребителе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стом таможенных пошлин на импорт фруктов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м тарифов на грузовые перевоз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392720" cy="39607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стационарных компьютеров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P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цена товара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Q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объем спроса товара). Это перемещение может быть связано, преждевсего, с (с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том числа продавцов компьютеров на рынк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ходом многих пользователей на ноутбуки и нетбуки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ижением пошлин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ввод комплектующих для стационарныхкомпьютеров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щественным удешевлением системных блоков и монит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130640" cy="432108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телевизор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спроса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D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–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а товара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Q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объём спроса товара). Это перемещение может быть вызвано в первую очеред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нижением доходов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налогов на производителей телевиз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дешевлением технологии производства телевизо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количества магазинов, торгующих телевизор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4464000" cy="4392720"/>
          </a:xfrm>
          <a:prstGeom prst="rect">
            <a:avLst/>
          </a:prstGeom>
          <a:ln w="0">
            <a:noFill/>
          </a:ln>
        </p:spPr>
      </p:pic>
      <p:sp>
        <p:nvSpPr>
          <p:cNvPr id="2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рисунке отражена ситуация на рынке производителей косметик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ия предлож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S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местилась в новое положени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S1 (P —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на товар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Q —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ём предложения товара). Это перемещение может быть связано в первую очередь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увеличением доходов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окращением количества потребител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нижением налогов на производителей косме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закрытием ряда косметических фир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453708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ловия возникновения ры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99640" y="2276280"/>
            <a:ext cx="7488360" cy="24476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ственное разделение тру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номическая обособленность произв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стоятельность производ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4537080" cy="1143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знаки ры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628640"/>
          <a:ext cx="9144000" cy="3498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08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ое предло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ый спро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регулируемая це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9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 сам решает, что, как, сколько и для кого производи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 сам определяет, что, где, как и сколько покупа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ы определяются на рынке, зависят от спроса и предло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8360" y="1628280"/>
            <a:ext cx="40384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ПРОС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- это то количество товаров определённого вида, которое покупатель готов купить при определённом уровне цен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еличина спрос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висит от цены товара (услуги). Эту зависимость можно представить в виде граф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616280" y="1557360"/>
            <a:ext cx="4527720" cy="4392720"/>
          </a:xfrm>
          <a:prstGeom prst="rect">
            <a:avLst/>
          </a:prstGeom>
          <a:ln w="0">
            <a:noFill/>
          </a:ln>
        </p:spPr>
      </p:pic>
      <p:sp>
        <p:nvSpPr>
          <p:cNvPr id="254" name="TextBox 6"/>
          <p:cNvSpPr/>
          <p:nvPr/>
        </p:nvSpPr>
        <p:spPr>
          <a:xfrm>
            <a:off x="385200" y="6237360"/>
            <a:ext cx="845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ем выше цена товара (услуги), тем ниже величина спроса и наоб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Кривая спроса даёт ответ на два вопроса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ва будет величина спроса при различных уровнях цен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изменится величина спроса при изменении це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он спроса: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повышение цены обычно ведёт к уменьшению величины спроса и, наоборот, снижение цены ведёт к увеличению величины спрос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484280"/>
            <a:ext cx="4356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едложение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выброс на рынок всё большего числа товаров или услуг, определяется, прежде всего, производственными факторами (количеством сырья, производительностью и т. д.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еличина предложения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- это объём (количество) товаров (услуг), который продавцы готовы (хотят и могут) предложить на рынок в течение определённого периода времени при определённом уровне рыночной цены на этот товар (услугу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716360" cy="42814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6"/>
          <p:cNvSpPr/>
          <p:nvPr/>
        </p:nvSpPr>
        <p:spPr>
          <a:xfrm>
            <a:off x="250920" y="59500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ычно, чем выше цена товара (услуги), тем большее количество его производители и продавцы готовы предложить на рын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кон предложения: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вышение цены товара (услуги) обычно ведёт к росту величины предложения и, наоборот, снижение цены ведёт к уменьшению величины предложен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0" y="1628640"/>
            <a:ext cx="4797360" cy="4248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716000" y="1341360"/>
            <a:ext cx="4427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Пересечение кривых спроса и предложения даёт значение </a:t>
            </a:r>
            <a:r>
              <a:rPr b="1" lang="ru-RU" sz="2300" spc="-1" strike="noStrike">
                <a:solidFill>
                  <a:srgbClr val="000000"/>
                </a:solidFill>
                <a:latin typeface="Constantia"/>
              </a:rPr>
              <a:t>равновесной цены</a:t>
            </a: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 - это цена, при которой весь поставляемый на рынок товар покупается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Если цена товара на рынке выше равновесной, то спрос снижается, в результате на рынке возникает избыток товара, что в свою очередь приводит к снижению цены до уровня равновесия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onstantia"/>
              </a:rPr>
              <a:t>Если цена ниже равновесной, то предложение падает, а спрос растет. Такая ситуация на рынке приводит к дефициту товара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еханизмы рын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альности на рынке формируется две цен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на спрос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та максимальная цена, по которой покупатель согласен купить товар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на предложени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та минимальная цена, по которой производитель готов продать товар).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ыночная цен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леблется в промежутке между этими двумя величинами. Таким образом, цена, спрос и предложение являются активными регуляторами рыночного механизма производства и обмена товар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5:48:02Z</dcterms:created>
  <dc:creator>private</dc:creator>
  <dc:description/>
  <dc:language>en-US</dc:language>
  <cp:lastModifiedBy>LEGION</cp:lastModifiedBy>
  <dcterms:modified xsi:type="dcterms:W3CDTF">2014-11-07T13:17:30Z</dcterms:modified>
  <cp:revision>5</cp:revision>
  <dc:subject/>
  <dc:title>Слайд 1</dc:title>
</cp:coreProperties>
</file>