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67EC-CAAF-4D4F-87F5-A5DCEA9221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014B-B488-4C9E-9B25-80DDF95FD1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ты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. русск. монетная едини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атар. алты-ше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. считалось от 3-6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етра особой монеты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еканилось, лишь с 17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и чеканить серебр. А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были скоро изъя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же удержался в наро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ятиалтынны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4599-F50A-44C9-9A8A-A8FD4E16EC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разменная серебря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пробная монета в 10 ко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стала чекани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26, 72-ой пробы с 181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-ой пробы с 1867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-ой пробы с 18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88FB-82DF-444F-B0EB-7CC858EDCD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тина, полти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единица стоимости, выпускавшая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V-XV вв. только в виде слитков и ра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е рублевого слитка – рубля. Со в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ы XV в. и до 1656 г.- счетно-денеж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а в 50 копеек или 5 гривен. Полт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ная царем Алексеем Михайлович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645-1676) в 1654 г., весила 16-20 гр. ме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ла диаметр 45 мм. и следующее изображ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а коне и двуглавый ор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A597-C6B3-47C4-91B9-D10505B832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шка, полуде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ая русская монета равная полов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овки или четверти новгород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тречавшаяся в Древней Руси в XV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-XVII вв. (после реформ 1534 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денга = 1/4 копейки и весила около 0,17 г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00 по 1800 чеканились медные полу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39 г. им соответствовали монеты с надпис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1/4 копейк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D29E-7294-4C8B-B415-9BDDE07CBF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серебряная монета, чеканенная с 153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ес равнялся весу новгородской де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новгородки, которая после заво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а Иваном III (1462-1505) в 147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а использоваться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85E0-035C-445A-BDA0-1F16AC2FAB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е единиц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б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 полтин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иалты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= 15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день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2 копейк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6896-AA15-4238-A4AC-F63F07A2E7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b2386828.msk.ru/9/55-06.html - старинные русские деньги с изображ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tyagusheva.edurm.ru/doc/publikazia.htm- старинные русски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ro.yar.ru/resource/distant/math/metrol_10.htm 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EBF6-4741-4E01-9FAA-97FEDF36FF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A87-922C-4B90-A780-81EEDCA3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82F-161C-44CC-88C0-222A612A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E02-1988-490C-8952-4A520D53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0B7-F7D4-453B-97B1-4FA14AC9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3021-0A1B-429C-8545-E7915E01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093E-2CE6-437E-88BA-8C008DE5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9857-4EAC-49F7-9114-C87F5E2F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5FA1-7EF4-4EC2-BFBD-701004CF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6DE3-5FB9-47A2-9845-A7829B43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019F-453D-4010-A797-3C7A72D1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8879-CD74-4610-BF4B-3147C44F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380-F790-4203-8DD4-57585930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B2C8-B50B-456D-A39B-D189B7B9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4E60-A41E-4B1B-B34E-91B296F7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A9FE-48F3-4664-BA5D-D64B22A1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00F1-D436-48EE-8C81-7CD4FF0F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148A-C49E-4B7A-9C77-60DC02FA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747-781C-482B-82B8-0809C55F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D67-1293-4F5E-B31E-E1213F5B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815-385B-4F66-BF28-54A24E4F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1B9-7BB4-42F4-A357-27FA0CC4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817-D60E-4494-BCB5-4B242B5D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3E5-BFED-428D-BD96-B8498C9A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2C0-BEAF-4551-B161-876D5A49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orange_circl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8162-4DA9-4CDE-86DE-3FE4DDD2D426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F04C-9F68-441F-8D9A-2721FD58F6BB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b2386828.msk.ru/9/55-06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386064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Старинные русские деньг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515736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2" name="Picture 4" descr="orange_circle"/>
          <p:cNvPicPr/>
          <p:nvPr/>
        </p:nvPicPr>
        <p:blipFill>
          <a:blip r:embed="rId1"/>
          <a:stretch/>
        </p:blipFill>
        <p:spPr>
          <a:xfrm>
            <a:off x="755640" y="184464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enny_guy_walking_hg_clr"/>
          <p:cNvPicPr/>
          <p:nvPr/>
        </p:nvPicPr>
        <p:blipFill>
          <a:blip r:embed="rId2"/>
          <a:stretch/>
        </p:blipFill>
        <p:spPr>
          <a:xfrm>
            <a:off x="755640" y="206064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алтын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3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91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3925440" y="1553760"/>
            <a:ext cx="46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ин. русск. монетная едини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атар. алты-ше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. считалось от 3-6 дене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етра особой монеты 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чеканилось, лишь с 17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чеканить серебр. А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были скоро изъя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же удержался в нар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ятиалтынный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гривенник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0 копейкамЪ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2950920" cy="2911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358880" y="2133720"/>
            <a:ext cx="427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разменная серебря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опробная монета в 10 ко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стала чекан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26, 72-ой пробы с 18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8-ой пробы с 1867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-ой пробы с 18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тин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50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тина, полтинник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59280" y="4729320"/>
            <a:ext cx="3708360" cy="1877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92360" y="1413000"/>
            <a:ext cx="68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единица стоимости, выпускавшая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IV-XV вв. только в виде слитков и рав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е рублевого слитка – рубля. Со в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ы XV в. и до 1656 г.- счетно-дене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а в 50 копеек или 5 гривен. Полт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ная царем Алексеем Михайлов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45-1676) в 1654 г., весила 16-20 гр. мед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ла диаметр 45 мм. и следующее изображ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 на коне и двуглавый ор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ушк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/4 копейки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ушка, полуденг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11280" y="4299120"/>
            <a:ext cx="4064040" cy="2097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912320" y="1341360"/>
            <a:ext cx="663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бряная русская монета равная полови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ки или четверти новгород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стречавшаяся в Древней Руси в XV 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XVI-XVII вв. (после реформ 1534 г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денга = 1/4 копейки и весила около 0,17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00 по 1800 чеканились медные полуш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39 г. им соответствовали монеты с надпис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1/4 копейки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опейка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Копейк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545480" y="1484280"/>
            <a:ext cx="65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серебряная монета, чеканенная с 1534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е вес равнялся весу новгородской ден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овгородки, которая после завое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города Иваном III (1462-1505) в 1478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а использоваться в Моск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Денежные единицы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рубль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2 полтин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тин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5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ятиалтынный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= 15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3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2 деньг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2 копей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ушк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4 копейки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22" name="Picture 4" descr="penny_guy_walking_hg_clr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Heavy"/>
              </a:rPr>
              <a:t>Используемые источники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7921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Franklin Gothic Demi"/>
                <a:hlinkClick r:id="rId2"/>
              </a:rPr>
              <a:t>http://www.b2386828.msk.ru/9/55-06.html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 - старинные русские деньги с изображениями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tyagusheva.edurm.ru/doc/publikazia.htm- старинные русские деньги 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www.iro.yar.ru/resource/distant/math/metrol_10.htm старинные русские деньги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4:10Z</dcterms:created>
  <dc:creator>All Users</dc:creator>
  <dc:description/>
  <dc:language>en-US</dc:language>
  <cp:lastModifiedBy>LEGION</cp:lastModifiedBy>
  <dcterms:modified xsi:type="dcterms:W3CDTF">2015-01-14T09:53:56Z</dcterms:modified>
  <cp:revision>4</cp:revision>
  <dc:subject/>
  <dc:title>Старинные русские деньги</dc:title>
</cp:coreProperties>
</file>