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C1B2-833A-43EB-BAA7-1EB9A0EE56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47DD-C88C-458E-B3C5-1000E83427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ты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. русск. монетная едини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атар. алты-ше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. считалось от 3-6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етра особой монеты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еканилось, лишь с 17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и чеканить серебр. А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были скоро изъя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же удержался в наро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ятиалтынны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53E8-373E-418F-9CFD-EB2A143954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разменная серебря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пробная монета в 10 ко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стала чекани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26, 72-ой пробы с 181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-ой пробы с 1867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-ой пробы с 18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3C2A-E898-400F-849F-7CC6EBC80A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тина, полти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единица стоимости, выпускавшая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V-XV вв. только в виде слитков и ра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е рублевого слитка – рубля. Со в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ы XV в. и до 1656 г.- счетно-денеж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а в 50 копеек или 5 гривен. Полт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ная царем Алексеем Михайлович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645-1676) в 1654 г., весила 16-20 гр. ме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ла диаметр 45 мм. и следующее изображ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а коне и двуглавый ор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D243-C097-445B-B105-A40273EA57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шка, полуде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ая русская монета равная полов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овки или четверти новгород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тречавшаяся в Древней Руси в XV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-XVII вв. (после реформ 1534 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денга = 1/4 копейки и весила около 0,17 г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00 по 1800 чеканились медные полу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39 г. им соответствовали монеты с надпис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1/4 копейк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412F-FC53-43A7-BEB3-50244C499E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серебряная монета, чеканенная с 153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ес равнялся весу новгородской де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новгородки, которая после заво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а Иваном III (1462-1505) в 147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а использоваться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FCA6-28C7-477A-B695-A1271B9231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е единиц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б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 полтин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иалты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= 15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день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2 копейк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E7CF-BB1D-49E0-B439-EABE041D0F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b2386828.msk.ru/9/55-06.html - старинные русские деньги с изображ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tyagusheva.edurm.ru/doc/publikazia.htm- старинные русски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ro.yar.ru/resource/distant/math/metrol_10.htm 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7DDA-DB63-4470-B71C-518183F40B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39E-8D7C-4A90-B203-8A0E021F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E60-B375-4CF5-8C33-B0F9D167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93C-800A-46AB-BC87-9368CDEE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062-9A33-4878-AA21-4A741467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2E42-4214-482E-8045-5EFAE0EF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DC50-6E50-433E-87D7-14B5275B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7A61-7CAB-4959-B384-BA44B79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AD74-29DF-4AD2-B0FD-C62E87FF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26C2-8835-4220-8DD7-9B56A104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721D-6963-4924-A5A4-91C0CDD3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20B7-E132-4548-98BC-A66E7AA1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6BA-2A52-4239-A354-873B91F2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90EC-4E9F-4FDB-BE93-C3D84A3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5637-0C5D-4273-93E0-3B362B7F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FCF6-768D-4C6B-B81D-2D8C33D7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ACEC-FF42-4B8A-8469-5C117058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1AEC-75B1-4D3D-B766-F07F4E45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BC0-835D-4126-B34E-27EF6FE3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A42-13C3-44F2-8683-4231C984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4FC-206F-41DA-A73E-F21DF358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635-A782-45B6-ABC9-20F44086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817-78D8-429F-A56B-674FCF6F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DCE-DEB7-4A5E-8B55-64C78A17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432-069C-473A-837C-39C83079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orange_circl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AF11-7EFD-4499-9B54-BED1C628A49C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0652-C3A0-4A7C-9D13-0636E4238D0B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b2386828.msk.ru/9/55-06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386064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Старинные русские деньги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515736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2" name="Picture 4" descr="orange_circle"/>
          <p:cNvPicPr/>
          <p:nvPr/>
        </p:nvPicPr>
        <p:blipFill>
          <a:blip r:embed="rId1"/>
          <a:stretch/>
        </p:blipFill>
        <p:spPr>
          <a:xfrm>
            <a:off x="755640" y="184464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enny_guy_walking_hg_clr"/>
          <p:cNvPicPr/>
          <p:nvPr/>
        </p:nvPicPr>
        <p:blipFill>
          <a:blip r:embed="rId2"/>
          <a:stretch/>
        </p:blipFill>
        <p:spPr>
          <a:xfrm>
            <a:off x="755640" y="206064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алтын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3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91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7" name="Picture 27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3925440" y="1553760"/>
            <a:ext cx="461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ин. русск. монетная едини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атар. алты-ше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. считалось от 3-6 дене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етра особой монеты 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чеканилось, лишь с 17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чеканить серебр. А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были скоро изъя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же удержался в нар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ятиалтынный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гривенник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0 копейкамЪ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92360" y="3141720"/>
            <a:ext cx="2950920" cy="2911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358880" y="2133720"/>
            <a:ext cx="427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разменная серебря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опробная монета в 10 ко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стала чекан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26, 72-ой пробы с 18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8-ой пробы с 1867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-ой пробы с 188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тин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50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тина, полтинник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059280" y="4729320"/>
            <a:ext cx="3708360" cy="1877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92360" y="1413000"/>
            <a:ext cx="68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единица стоимости, выпускавшаяс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IV-XV вв. только в виде слитков и рав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е рублевого слитка – рубля. Со в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ы XV в. и до 1656 г.- счетно-дене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а в 50 копеек или 5 гривен. Полт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ная царем Алексеем Михайлов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45-1676) в 1654 г., весила 16-20 гр. мед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ла диаметр 45 мм. и следующее изображ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арь на коне и двуглавый ор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ушк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/4 копейки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ушка, полуденг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411280" y="4299120"/>
            <a:ext cx="4064040" cy="2097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912320" y="1341360"/>
            <a:ext cx="663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бряная русская монета равная полови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ки или четверти новгород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стречавшаяся в Древней Руси в XV 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XVI-XVII вв. (после реформ 1534 г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денга = 1/4 копейки и весила около 0,17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00 по 1800 чеканились медные полуш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39 г. им соответствовали монеты с надпис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1/4 копейки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Копейка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Копейк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545480" y="1484280"/>
            <a:ext cx="65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серебряная монета, чеканенная с 1534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е вес равнялся весу новгородской ден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овгородки, которая после завое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города Иваном III (1462-1505) в 1478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а использоваться в Моск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Денежные единицы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рубль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2 полтин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тин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5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ятиалтынный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= 15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3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2 деньг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2 копейк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ушк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4 копейки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22" name="Picture 4" descr="penny_guy_walking_hg_clr"/>
          <p:cNvPicPr/>
          <p:nvPr/>
        </p:nvPicPr>
        <p:blipFill>
          <a:blip r:embed="rId2"/>
          <a:stretch/>
        </p:blipFill>
        <p:spPr>
          <a:xfrm>
            <a:off x="716292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Heavy"/>
              </a:rPr>
              <a:t>Используемые источники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7921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Franklin Gothic Demi"/>
                <a:hlinkClick r:id="rId2"/>
              </a:rPr>
              <a:t>http://www.b2386828.msk.ru/9/55-06.html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 - старинные русские деньги с изображениями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tyagusheva.edurm.ru/doc/publikazia.htm- старинные русские деньги 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www.iro.yar.ru/resource/distant/math/metrol_10.htm старинные русские деньги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4:10Z</dcterms:created>
  <dc:creator>All Users</dc:creator>
  <dc:description/>
  <dc:language>en-US</dc:language>
  <cp:lastModifiedBy>LEGION</cp:lastModifiedBy>
  <dcterms:modified xsi:type="dcterms:W3CDTF">2015-01-14T09:53:56Z</dcterms:modified>
  <cp:revision>4</cp:revision>
  <dc:subject/>
  <dc:title>Старинные русские деньги</dc:title>
</cp:coreProperties>
</file>