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gif" ContentType="image/gif"/>
  <Override PartName="/ppt/media/image8.png" ContentType="image/png"/>
  <Override PartName="/ppt/media/image11.jpeg" ContentType="image/jpe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AB213-4569-4411-B679-8D4307B8777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ринные русские день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1F325-6B0E-48C5-9280-A9A4FDEF4D5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лты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3 копейк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лты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рин. русск. монетная единиц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татар. алты-шест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А. считалось от 3-6 дене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Петра особой монеты 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чеканилось, лишь с 170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ли чеканить серебр. А.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были скоро изъят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чет же удержался в народ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ятиалтынный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A9678-E069-4754-BF0F-AC0C5812179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гривенни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10 копейкамЪ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ривенни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сская разменная серебря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зкопробная монета в 10 коп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первые стала чеканить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726, 72-ой пробы с 1810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8-ой пробы с 1867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00-ой пробы с 1885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6DB02-E554-4B7D-8E77-8DE393158EA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лтин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50 копейк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тина, полтин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сская единица стоимости, выпускавшаяся 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XIV-XV вв. только в виде слитков и рав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вине рублевого слитка – рубля. Со втор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вины XV в. и до 1656 г.- счетно-денеж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ица в 50 копеек или 5 гривен. Полтин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ная царем Алексеем Михайлович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645-1676) в 1654 г., весила 16-20 гр. мед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ла диаметр 45 мм. и следующее изображени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арь на коне и двуглавый оре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E9651-2DC6-4543-A2A7-31EE65A75DA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луш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1/4 копей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шка, полуден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ебряная русская монета равная половин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сковки или четверти новгород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встречавшаяся в Древней Руси в XV 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XVI-XVII вв. (после реформ 1534 г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денга = 1/4 копейки и весила около 0,17 г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700 по 1800 чеканились медные полушк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839 г. им соответствовали монеты с надпись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1/4 копейки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4C9B1-035B-489F-BB40-37D2722DF1A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пей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пей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сская серебряная монета, чеканенная с 1534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е вес равнялся весу новгородской денг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новгородки, которая после завое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города Иваном III (1462-1505) в 1478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ла использоваться в Моск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69276-3D7D-47A9-9A0F-27CD88088FC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ежные единиц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убл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2 полтинам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лтин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50 копейкам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ятиалтынны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= 15 копейкам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лты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3 копейкам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гривенни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10 копейкам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2 день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1/2 копейки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луш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1/4 копей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BE41B-E08D-4E20-8112-ED9E0D7E0DC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спользуемые источники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b2386828.msk.ru/9/55-06.html - старинные русские деньги с изображения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tyagusheva.edurm.ru/doc/publikazia.htm- старинные русские деньги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iro.yar.ru/resource/distant/math/metrol_10.htm старинные русские день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D5D30-6258-4DC9-B0B0-20019D174F8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382D-D481-4B6F-91F7-4D48F2551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69343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3880" y="3816720"/>
            <a:ext cx="69343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EAC5-3608-412C-BCA8-E36CE75C3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77080" y="990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880" y="3816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77080" y="3816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9C1A-DBF2-4612-B43A-FBCF34B93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2232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68560" y="990720"/>
            <a:ext cx="2232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3240" y="990720"/>
            <a:ext cx="2232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3880" y="3816720"/>
            <a:ext cx="2232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68560" y="3816720"/>
            <a:ext cx="2232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3240" y="3816720"/>
            <a:ext cx="2232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A186-F136-4357-A845-BF4E37192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A99BE-FE46-4674-A952-AC4286BE4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523880" y="990720"/>
            <a:ext cx="69343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61026-3249-4E9B-AD7A-3E0D32D5D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69343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03D59-6A7B-470E-9624-74768B565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3383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77080" y="990720"/>
            <a:ext cx="3383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BBA14-3507-438F-81F0-38113F63E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57EC5-24B4-4877-B891-7C61BFF80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333BC-5053-46A3-83A8-E33475959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77080" y="990720"/>
            <a:ext cx="3383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523880" y="3816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5629E-41B9-4DC8-B6A2-E57698A54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3880" y="990720"/>
            <a:ext cx="69343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EC03-C7E2-4A44-B0F1-F232576CF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3383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77080" y="990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77080" y="3816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473F7-EEE3-471E-B813-B431276BB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77080" y="990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523880" y="3816720"/>
            <a:ext cx="69343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49EB5-2148-42BD-9148-073A4A0E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69343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523880" y="3816720"/>
            <a:ext cx="69343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DB237-061C-4F4D-81CE-8BFFE4AE0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77080" y="990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3816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77080" y="3816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A99EA-BF66-4D64-B936-E0CFC3EE5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2232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868560" y="990720"/>
            <a:ext cx="2232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13240" y="990720"/>
            <a:ext cx="2232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523880" y="3816720"/>
            <a:ext cx="2232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868560" y="3816720"/>
            <a:ext cx="2232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13240" y="3816720"/>
            <a:ext cx="2232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F87E5-7DCE-46D4-8948-4D605C53F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69343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1133-1818-4787-B8F2-2BC11C670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3383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77080" y="990720"/>
            <a:ext cx="3383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651B-C8FA-4C73-B84C-4F5D191BB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5FE0-29E9-428E-ABB4-09E07E73B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1D56-3199-4F1F-821D-F020DA94E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77080" y="990720"/>
            <a:ext cx="3383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3880" y="3816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FD8F-C7FF-4D11-8D9E-1E89A5F5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3383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77080" y="990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77080" y="3816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51AE-6558-4035-A4A8-08D86CF41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77080" y="990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3880" y="3816720"/>
            <a:ext cx="69343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CE1A-9895-43E6-9454-74F6C33D6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0" descr="orange_circle"/>
          <p:cNvPicPr/>
          <p:nvPr/>
        </p:nvPicPr>
        <p:blipFill>
          <a:blip r:embed="rId3"/>
          <a:stretch/>
        </p:blipFill>
        <p:spPr>
          <a:xfrm>
            <a:off x="7010280" y="472428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523880" y="990720"/>
            <a:ext cx="69343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Franklin Gothic Dem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Franklin Gothic Dem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Franklin Gothic Dem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Franklin Gothic Dem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Franklin Gothic Dem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Franklin Gothic Dem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Dem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Franklin Gothic Dem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CBED0-A08F-48C7-8734-C40AEDF477C8}" type="slidenum">
              <a:rPr b="0" lang="en-US" sz="1200" spc="-1" strike="noStrike">
                <a:solidFill>
                  <a:srgbClr val="ffffff"/>
                </a:solidFill>
                <a:latin typeface="Franklin Gothic Dem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1523880" y="990720"/>
            <a:ext cx="69343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Franklin Gothic Dem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Franklin Gothic Dem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Franklin Gothic Dem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Franklin Gothic Dem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Franklin Gothic Dem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Franklin Gothic Dem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Dem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Franklin Gothic Dem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F6A8E-4AA1-464E-B879-2A2C75C62EDA}" type="slidenum">
              <a:rPr b="0" lang="en-US" sz="1200" spc="-1" strike="noStrike">
                <a:solidFill>
                  <a:srgbClr val="ffffff"/>
                </a:solidFill>
                <a:latin typeface="Franklin Gothic Dem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b2386828.msk.ru/9/55-06.html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58920" y="3860640"/>
            <a:ext cx="73915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Heavy"/>
              </a:rPr>
              <a:t>Старинные русские деньги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752480" y="5157360"/>
            <a:ext cx="739152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Dem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92" name="Picture 4" descr="orange_circle"/>
          <p:cNvPicPr/>
          <p:nvPr/>
        </p:nvPicPr>
        <p:blipFill>
          <a:blip r:embed="rId1"/>
          <a:stretch/>
        </p:blipFill>
        <p:spPr>
          <a:xfrm>
            <a:off x="755640" y="1844640"/>
            <a:ext cx="3124080" cy="3124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penny_guy_walking_hg_clr"/>
          <p:cNvPicPr/>
          <p:nvPr/>
        </p:nvPicPr>
        <p:blipFill>
          <a:blip r:embed="rId2"/>
          <a:stretch/>
        </p:blipFill>
        <p:spPr>
          <a:xfrm>
            <a:off x="755640" y="2060640"/>
            <a:ext cx="2819520" cy="281916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Dem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Impact"/>
              </a:rPr>
              <a:t>алтын</a:t>
            </a:r>
            <a:r>
              <a:rPr b="0" lang="ru-RU" sz="3600" spc="-1" strike="noStrike">
                <a:solidFill>
                  <a:srgbClr val="000000"/>
                </a:solidFill>
                <a:latin typeface="Impact"/>
              </a:rPr>
              <a:t> = 3 копейкам</a:t>
            </a:r>
            <a:r>
              <a:rPr b="0" lang="ru-RU" sz="3600" spc="-1" strike="noStrike">
                <a:solidFill>
                  <a:srgbClr val="ffffff"/>
                </a:solidFill>
                <a:latin typeface="Impact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3391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Demi"/>
              </a:rPr>
              <a:t>Алтын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97" name="Picture 27" descr=""/>
          <p:cNvPicPr/>
          <p:nvPr/>
        </p:nvPicPr>
        <p:blipFill>
          <a:blip r:embed="rId2"/>
          <a:stretch/>
        </p:blipFill>
        <p:spPr>
          <a:xfrm>
            <a:off x="1835280" y="3789360"/>
            <a:ext cx="2428920" cy="24289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8"/>
          <p:cNvSpPr/>
          <p:nvPr/>
        </p:nvSpPr>
        <p:spPr>
          <a:xfrm>
            <a:off x="3925440" y="1553760"/>
            <a:ext cx="4615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арин. русск. монетная единица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 татар. алты-шесть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А. считалось от 3-6 денег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 Петра особой монеты 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чеканилось, лишь с 170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али чеканить серебр. А.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 были скоро изъяты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чет же удержался в народ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пятиалтынный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Dem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Impact"/>
              </a:rPr>
              <a:t>гривенник</a:t>
            </a:r>
            <a:r>
              <a:rPr b="0" lang="ru-RU" sz="3600" spc="-1" strike="noStrike">
                <a:solidFill>
                  <a:srgbClr val="000000"/>
                </a:solidFill>
                <a:latin typeface="Impact"/>
              </a:rPr>
              <a:t> = 10 копейкамЪ</a:t>
            </a:r>
            <a:r>
              <a:rPr b="0" lang="ru-RU" sz="3600" spc="-1" strike="noStrike">
                <a:solidFill>
                  <a:srgbClr val="ffffff"/>
                </a:solidFill>
                <a:latin typeface="Impact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69343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Demi"/>
              </a:rPr>
              <a:t>Гривенник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1692360" y="3141720"/>
            <a:ext cx="2950920" cy="29113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5"/>
          <p:cNvSpPr/>
          <p:nvPr/>
        </p:nvSpPr>
        <p:spPr>
          <a:xfrm>
            <a:off x="4358880" y="2133720"/>
            <a:ext cx="4271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усская разменная серебрян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изкопробная монета в 10 коп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первые стала чеканить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1726, 72-ой пробы с 1810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8-ой пробы с 1867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00-ой пробы с 1885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Dem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Impact"/>
              </a:rPr>
              <a:t>полтина</a:t>
            </a:r>
            <a:r>
              <a:rPr b="0" lang="ru-RU" sz="3600" spc="-1" strike="noStrike">
                <a:solidFill>
                  <a:srgbClr val="000000"/>
                </a:solidFill>
                <a:latin typeface="Impact"/>
              </a:rPr>
              <a:t> = 50 копейкам</a:t>
            </a:r>
            <a:r>
              <a:rPr b="0" lang="ru-RU" sz="3600" spc="-1" strike="noStrike">
                <a:solidFill>
                  <a:srgbClr val="ffffff"/>
                </a:solidFill>
                <a:latin typeface="Impact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69343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Demi"/>
              </a:rPr>
              <a:t>Полтина, полтинник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3059280" y="4729320"/>
            <a:ext cx="3708360" cy="187776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5"/>
          <p:cNvSpPr/>
          <p:nvPr/>
        </p:nvSpPr>
        <p:spPr>
          <a:xfrm>
            <a:off x="1692360" y="1413000"/>
            <a:ext cx="6807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усская единица стоимости, выпускавшаяся 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XIV-XV вв. только в виде слитков и равн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овине рублевого слитка – рубля. Со второ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овины XV в. и до 1656 г.- счетно-денежн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диница в 50 копеек или 5 гривен. Полтина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веденная царем Алексеем Михайловиче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1645-1676) в 1654 г., весила 16-20 гр. мед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мела диаметр 45 мм. и следующее изображение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арь на коне и двуглавый оре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Dem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Impact"/>
              </a:rPr>
              <a:t>полушка</a:t>
            </a:r>
            <a:r>
              <a:rPr b="0" lang="ru-RU" sz="3600" spc="-1" strike="noStrike">
                <a:solidFill>
                  <a:srgbClr val="000000"/>
                </a:solidFill>
                <a:latin typeface="Impact"/>
              </a:rPr>
              <a:t> = 1/4 копейки</a:t>
            </a:r>
            <a:r>
              <a:rPr b="0" lang="ru-RU" sz="3600" spc="-1" strike="noStrike">
                <a:solidFill>
                  <a:srgbClr val="ffffff"/>
                </a:solidFill>
                <a:latin typeface="Impact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69343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Demi"/>
              </a:rPr>
              <a:t>Полушка, полуденга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2411280" y="4299120"/>
            <a:ext cx="4064040" cy="20970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5"/>
          <p:cNvSpPr/>
          <p:nvPr/>
        </p:nvSpPr>
        <p:spPr>
          <a:xfrm>
            <a:off x="1912320" y="1341360"/>
            <a:ext cx="6634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ребряная русская монета равная половин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сковки или четверти новгородк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встречавшаяся в Древней Руси в XV 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XVI-XVII вв. (после реформ 1534 г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уденга = 1/4 копейки и весила около 0,17 гр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1700 по 1800 чеканились медные полушк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1839 г. им соответствовали монеты с надписью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"1/4 копейки"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Dem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Impact"/>
              </a:rPr>
              <a:t>Копейка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69343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Demi"/>
              </a:rPr>
              <a:t>Копейка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1835280" y="3357720"/>
            <a:ext cx="2952720" cy="295272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5"/>
          <p:cNvSpPr/>
          <p:nvPr/>
        </p:nvSpPr>
        <p:spPr>
          <a:xfrm>
            <a:off x="1545480" y="1484280"/>
            <a:ext cx="6569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усская серебряная монета, чеканенная с 1534 г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е вес равнялся весу новгородской денг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ли новгородки, которая после завоева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вгорода Иваном III (1462-1505) в 1478 г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ала использоваться в Москв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Dem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Impact"/>
              </a:rPr>
              <a:t>Денежные единицы: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69343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Franklin Gothic Demi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Franklin Gothic Demi"/>
              </a:rPr>
              <a:t>     </a:t>
            </a:r>
            <a:r>
              <a:rPr b="0" i="1" lang="ru-RU" sz="3200" spc="-1" strike="noStrike">
                <a:solidFill>
                  <a:srgbClr val="000000"/>
                </a:solidFill>
                <a:latin typeface="Franklin Gothic Demi"/>
              </a:rPr>
              <a:t>рубль</a:t>
            </a:r>
            <a:r>
              <a:rPr b="0" lang="ru-RU" sz="3200" spc="-1" strike="noStrike">
                <a:solidFill>
                  <a:srgbClr val="000000"/>
                </a:solidFill>
                <a:latin typeface="Franklin Gothic Demi"/>
              </a:rPr>
              <a:t> = 2 полтинам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Franklin Gothic Demi"/>
              </a:rPr>
              <a:t>полтина</a:t>
            </a:r>
            <a:r>
              <a:rPr b="0" lang="ru-RU" sz="3200" spc="-1" strike="noStrike">
                <a:solidFill>
                  <a:srgbClr val="000000"/>
                </a:solidFill>
                <a:latin typeface="Franklin Gothic Demi"/>
              </a:rPr>
              <a:t> = 50 копейкам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Franklin Gothic Demi"/>
              </a:rPr>
              <a:t>пятиалтынный</a:t>
            </a:r>
            <a:r>
              <a:rPr b="0" lang="ru-RU" sz="3200" spc="-1" strike="noStrike">
                <a:solidFill>
                  <a:srgbClr val="000000"/>
                </a:solidFill>
                <a:latin typeface="Franklin Gothic Demi"/>
              </a:rPr>
              <a:t> = = 15 копейкам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Franklin Gothic Demi"/>
              </a:rPr>
              <a:t>алтын</a:t>
            </a:r>
            <a:r>
              <a:rPr b="0" lang="ru-RU" sz="3200" spc="-1" strike="noStrike">
                <a:solidFill>
                  <a:srgbClr val="000000"/>
                </a:solidFill>
                <a:latin typeface="Franklin Gothic Demi"/>
              </a:rPr>
              <a:t> = 3 копейкам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Franklin Gothic Demi"/>
              </a:rPr>
              <a:t>гривенник</a:t>
            </a:r>
            <a:r>
              <a:rPr b="0" lang="ru-RU" sz="3200" spc="-1" strike="noStrike">
                <a:solidFill>
                  <a:srgbClr val="000000"/>
                </a:solidFill>
                <a:latin typeface="Franklin Gothic Demi"/>
              </a:rPr>
              <a:t> = 10 копейкам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Franklin Gothic Demi"/>
              </a:rPr>
              <a:t>2 деньги</a:t>
            </a:r>
            <a:r>
              <a:rPr b="0" lang="ru-RU" sz="3200" spc="-1" strike="noStrike">
                <a:solidFill>
                  <a:srgbClr val="000000"/>
                </a:solidFill>
                <a:latin typeface="Franklin Gothic Demi"/>
              </a:rPr>
              <a:t> = 1/2 копейки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Franklin Gothic Demi"/>
              </a:rPr>
              <a:t>полушка</a:t>
            </a:r>
            <a:r>
              <a:rPr b="0" lang="ru-RU" sz="3200" spc="-1" strike="noStrike">
                <a:solidFill>
                  <a:srgbClr val="000000"/>
                </a:solidFill>
                <a:latin typeface="Franklin Gothic Demi"/>
              </a:rPr>
              <a:t> = 1/4 копейки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122" name="Picture 4" descr="penny_guy_walking_hg_clr"/>
          <p:cNvPicPr/>
          <p:nvPr/>
        </p:nvPicPr>
        <p:blipFill>
          <a:blip r:embed="rId2"/>
          <a:stretch/>
        </p:blipFill>
        <p:spPr>
          <a:xfrm>
            <a:off x="7162920" y="50292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Dem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00000" y="907920"/>
            <a:ext cx="73915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Franklin Gothic Heavy"/>
              </a:rPr>
              <a:t>Используемые источники: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826560" y="1699920"/>
            <a:ext cx="7921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ccccff"/>
                </a:solidFill>
                <a:uFillTx/>
                <a:latin typeface="Franklin Gothic Demi"/>
                <a:hlinkClick r:id="rId2"/>
              </a:rPr>
              <a:t>http://www.b2386828.msk.ru/9/55-06.html</a:t>
            </a:r>
            <a:r>
              <a:rPr b="0" lang="ru-RU" sz="2800" spc="-1" strike="noStrike">
                <a:solidFill>
                  <a:srgbClr val="000000"/>
                </a:solidFill>
                <a:latin typeface="Franklin Gothic Demi"/>
              </a:rPr>
              <a:t> - старинные русские деньги с изображениями </a:t>
            </a:r>
            <a:endParaRPr b="0" lang="en-US" sz="2800" spc="-1" strike="noStrike">
              <a:solidFill>
                <a:srgbClr val="000000"/>
              </a:solidFill>
              <a:latin typeface="Franklin Gothic Dem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Demi"/>
              </a:rPr>
              <a:t>http://tyagusheva.edurm.ru/doc/publikazia.htm- старинные русские деньги  </a:t>
            </a:r>
            <a:endParaRPr b="0" lang="en-US" sz="2800" spc="-1" strike="noStrike">
              <a:solidFill>
                <a:srgbClr val="000000"/>
              </a:solidFill>
              <a:latin typeface="Franklin Gothic Dem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Demi"/>
              </a:rPr>
              <a:t>http://www.iro.yar.ru/resource/distant/math/metrol_10.htm старинные русские деньги</a:t>
            </a:r>
            <a:endParaRPr b="0" lang="en-US" sz="2800" spc="-1" strike="noStrike">
              <a:solidFill>
                <a:srgbClr val="000000"/>
              </a:solidFill>
              <a:latin typeface="Franklin Gothic Dem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Dem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16:34:10Z</dcterms:created>
  <dc:creator>All Users</dc:creator>
  <dc:description/>
  <dc:language>en-US</dc:language>
  <cp:lastModifiedBy>LEGION</cp:lastModifiedBy>
  <dcterms:modified xsi:type="dcterms:W3CDTF">2015-01-14T09:53:56Z</dcterms:modified>
  <cp:revision>4</cp:revision>
  <dc:subject/>
  <dc:title>Старинные русские деньги</dc:title>
</cp:coreProperties>
</file>