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D316-4A17-4FF9-9C8A-432B6BA0A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" Target="../slides/slide16.xml"/><Relationship Id="rId6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истории в 6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римова Галина Михайл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итель высшей категории МОУ СОШ № 11 г. Гремячинска Перм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1B11-E5CD-455F-B81C-329231404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8E4F-FDF2-4094-9C90-F7471D03F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1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ый крупный из них – Кие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A792-8F0B-432E-AD67-E35086B183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0832-52D3-460E-BD90-ACF8A5020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йский собор был построен по образцу византи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лане храма основу составлял крест, образованный основным и  боковыми неф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56E9-04D9-490C-8DAA-0733FBC4E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9637-7082-459B-88C8-30149C79B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4769-E21A-48A1-9063-3FBFEC253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оны, как правило писались на липовой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Специфика иконописного пись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изображались плоски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временное изображ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не отбрасывают те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чение вокруг головы в виде круга (нимб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FB47-77D6-47BF-AA10-8680688E4B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E1F6-CDD2-44C7-B14B-AF57DC69F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вгород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5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ро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в.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BA36-A46D-4CE9-BBEF-EC93B097E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4A09-46FC-48CC-BA9D-C0ADDC64B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02A7-AB3B-4234-B026-93CCC2BBA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81A6-1B60-4450-8868-D2961164B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B18-5F53-481C-A942-D7835B460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др.-рус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6745-C456-4DEA-A58B-32C2A699F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7191-022E-4CED-A090-D302924B37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01A3-D565-40BE-99C0-63E30E32B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expressiysv.kiev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eorgia"/>
              </a:rPr>
              <a:t>http://www.jewellerymuseum.ru/russia/rus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01CF-97E2-4A14-8139-77A1F496E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9D44-BFDB-41EC-B846-3AEBD1266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у древнерусской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ульту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ляло наследие восточных славя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CCB5-CB9C-4C23-B1AE-839EC7D9A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EC21-91E6-44FC-8E22-6BC16E524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 Устное народное твор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крупный город вел свою лет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естором,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«Повесть Временных ле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5B9E-ED8A-47EC-8908-D17A567AE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344-5F1D-4E58-B825-AF8EEA445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D014-6F4E-4C22-8FAC-A6D4D4E68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От Гостяты к Василю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то мне дал отец и родичи дали впридачу, то за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5924-4CDC-408D-90BB-D9F13F4CF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23E-5D47-41B3-A8A2-22D0C523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1FF-57A7-49DB-A434-22F470D8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695-EF33-4278-A30B-A9251918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A57-D3D6-4B7A-8B1E-1B0A52AD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2509-EA4F-47EB-9180-481164A0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86B7-77FF-466C-A7C5-047B9AE9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8296-EA55-4BA1-9474-9031EAA2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3AF6-CCBA-4E00-8412-17D08089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01C2-4498-409F-9FC6-62D5A2B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18CD-C84E-43A1-B158-C8600F7C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0C6F-D708-45D0-AA58-58D8DCE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8B9-4E71-4E8D-934B-92303517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0D06-4B88-4A49-83F6-B6FD22CC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9457-2EF8-40CC-A057-65505A6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09C9-5597-480C-892D-C72F57C4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5E66-5088-4EAA-BECF-6D08FA5C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F8AF-5ECC-4B3B-AD9E-70C71788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7A2-CE04-4D43-A861-4905FB74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CD9-5A6E-4B36-80C9-3042AA04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897-9E17-4B09-B543-63CA58F0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A1B-247A-4200-9CE6-56013A9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667-1144-42C8-844C-DDA0142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CC0-9E83-48DA-BDA3-55217A7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7E4-0348-431D-A66D-D48537DA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D6F1-5B91-4F3A-9D4A-7681A3059A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A2C4-DCA6-46DA-8725-BF55C9B1B0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Cathedral_of_St._Sophia%2C_the_Holy_Wisdom_of_God_in_Novgorod%2C_Russia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udetinteresno.narod.ru/images/zoloto_kubani_3_67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jewellerynews.ru/issue_7/hystory_7_3/pic1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t.1september.ru/2003/11/no11_4.gif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Klad_desyatinnaya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82;&#1088;&#1086;&#1089;&#1089;&#1074;&#1086;&#1088;&#1076;%20&#1082;%20&#1091;&#1088;&#1086;&#1082;&#1091;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hyperlink" Target="http://www.expressiysv.kiev.ua/" TargetMode="External"/><Relationship Id="rId5" Type="http://schemas.openxmlformats.org/officeDocument/2006/relationships/hyperlink" Target="http://ru.wikipedia.org/wiki" TargetMode="External"/><Relationship Id="rId6" Type="http://schemas.openxmlformats.org/officeDocument/2006/relationships/hyperlink" Target="http://www.jewellerymuseum.ru/russia/russia.htm?id=russia_hist_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5049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рок истории в 6 класс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Каримова Галина Михайловн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учитель высшей категории МОУ СОШ № 11 г. Гремячинска Пермского кр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Фото0014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9414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12" descr="Изображение:Cathedral of St. Sophia, the Holy Wisdom of God in Novgorod, 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6 из 160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Картинка 25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7" descr="Картинка 12 из 622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Колт. Серебро. Скань. XII в."/>
          <p:cNvPicPr/>
          <p:nvPr/>
        </p:nvPicPr>
        <p:blipFill>
          <a:blip r:embed="rId3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Файл:Klad desyatinn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8" name="Picture 3" descr="D:\Мои документы\Коллекция картинок (Microsoft)\j043316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4"/>
              </a:rPr>
              <a:t>http://www.expressiysv.kiev.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5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6"/>
              </a:rPr>
              <a:t>http://www.jewellerymuseum.ru/russia/russ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8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523880" y="4721400"/>
            <a:ext cx="6553440" cy="17002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LEGION</cp:lastModifiedBy>
  <dcterms:modified xsi:type="dcterms:W3CDTF">2015-01-14T10:01:52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