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0E2F-DD35-48B5-8B19-BB03E6E761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ый облик Древней Рус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-X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61B2-E9D5-4464-A188-476CF38D0A1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ргиевский собор, церковь Успения на Торгу(1135г.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61CD-EDE6-4B6D-B8F9-0963F9FA52F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ковь Покрова на Нерли(1165г.), Дмитриевский собор во Владимир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974B-C52B-427D-A0DE-3D19B05DFBA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ы сами обретаем вечность пред этой дивной красот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9FF6-3286-4813-8640-94ABB5F460F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Музыка, застывшая в камн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ЛИКА (от греч. basilike — царский дом), вытянутое, прямоугольное в плане здание, разделенное внутри продольными рядами колонн или столбов на 3 или 5 продольных прохода – «нефа» ( от греч. «несус» - «корабль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3F8E-6B1D-4337-9089-B62B93EF98E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4A2D-B49B-4A4F-9499-2E5DF7951BA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бази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в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Не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место для х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вход на х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алт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алтарь под балдахи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апс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EF5E-70A0-4732-8CF2-32D03914028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ройство крестово-купольного храм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 хр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ол храма (количество гла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ой бара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с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м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9BDB-9D5A-490D-B30F-7046D73DCF8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православные храмы.</a:t>
            </a: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сятинная церковь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1147-A4CF-46B2-88FC-23A58264708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асо-Преображенский собор в Черниг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2D05-CBAE-4C9D-AE22-B4DDFF4BF94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бор Святой Софии в Кие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, словно шлем, надвинул гла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ены выставил, как щ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есь – тугая соразмер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высо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метрия, тяжесть, 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водов медленный полё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А. Рождественский («Новгородская София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154D-1D84-43DD-AD85-BF856CB92E3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я Новгородская и София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5E5F-7016-42FD-BEFC-71754E23583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9D9-171D-43EE-B7C9-97E102DB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706-E060-4A22-ACB9-B6CE776D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FE87-E55D-4598-9DDA-4D8863B7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1C9-9023-4B61-AC48-E02B4620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4087-616F-46E1-BCB1-49339205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1D85-EE4B-412E-88B5-73F6820A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5690-2F40-4B03-8963-26C16951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CEA2-DD91-47D1-837C-59EE9242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B1A7-F7F5-4278-AEAA-27090F30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1D56-D1BD-46F5-B3F3-4C1CCA04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5D9D-66D3-4F65-88DE-0CE74407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DA5-E31D-480A-982C-DFF2B441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B880-ABEC-4AC9-9B88-EC1A1BE9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12E3-989F-42CA-958A-5C9E596D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F333-82AF-4AC3-8C6E-3B397DD4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2A70-8633-447A-A6A9-B0B22303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EF6B-5AE0-4159-9B22-1043F784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BCC-71C5-4D25-8FCA-7ED20906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999-03CF-4D55-8858-49D17FB4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C04-257C-4A0E-9F40-65242F66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2CB-7C74-48DE-89C7-3B71A95C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368-1057-4F24-8DA6-3F68F09A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CBF-4669-44E8-806B-56C11D40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81F9-437C-4549-9C58-91F02414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DC33-66E9-4CBD-A774-6EE40C0A98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FCBA-086B-4ECA-9A85-C0A0E0AFB8A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63128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Архитектурный облик Древней Руси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X-XII 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240" y="4292280"/>
            <a:ext cx="6224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Георгиевский собор, церковь Успения на Торгу(1135г.),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314360" y="1700280"/>
            <a:ext cx="3257640" cy="439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311640" cy="43927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Церковь Покрова на Нерли(1165г.), Дмитриевский собор во Владимире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XII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В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85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853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eec94"/>
                </a:solidFill>
                <a:latin typeface="Times New Roman"/>
              </a:rPr>
              <a:t>Мы сами обретаем вечность пред этой дивной красотой!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1371600" y="2565360"/>
            <a:ext cx="640080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«Музыка, застывшая в камн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075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ЗИЛИКА (от греч. basilike — царский дом), вытянутое, прямоугольное в плане здание, разделенное внутри продольными рядами колонн или столбов на 3 или 5 продольных прохода – «нефа» ( от греч. «несус» - «корабль»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зил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29600" cy="4962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лан базили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-вх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-Не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-место для х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-вход на хо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-алта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-алтарь под балдахин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-ап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780000" y="1268280"/>
            <a:ext cx="4906800" cy="5113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ройство крестово-купольного храма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6360" y="1628280"/>
            <a:ext cx="352764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ание хра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пол храма (количество гла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товой бараб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п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м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169920" y="1600200"/>
            <a:ext cx="4325760" cy="5068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ые православные храмы.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Десятинная церковь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075520" cy="44463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Спасо-Преображенский собор в Чернигов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6912000" cy="49244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Собор Святой Софии в Киеве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329080" cy="5183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80000" y="1699920"/>
            <a:ext cx="3106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, словно шлем, надвинул глав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тены выставил, как щи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 весь – тугая соразмернос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отношение высо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ссиметрия, тяжесть, ве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водов медленный полё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Рождественский («Новгородская София»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фия Новгородская и София Полоцка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36:17Z</dcterms:created>
  <dc:creator>Олег</dc:creator>
  <dc:description/>
  <dc:language>en-US</dc:language>
  <cp:lastModifiedBy>LEGION</cp:lastModifiedBy>
  <dcterms:modified xsi:type="dcterms:W3CDTF">2015-01-14T10:02:15Z</dcterms:modified>
  <cp:revision>4</cp:revision>
  <dc:subject/>
  <dc:title>Архитектурный облик Древней Руси IX-XII века</dc:title>
</cp:coreProperties>
</file>