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AAD08-A47B-4D6D-89E2-5D47395A245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хитектурный облик Древней Рус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X-XI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F9A15-4E92-4F69-8C65-DDF9A0BE8673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ргиевский собор, церковь Успения на Торгу(1135г.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EEF9C-3342-4626-8EEC-4D226A00FF33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рковь Покрова на Нерли(1165г.), Дмитриевский собор во Владимир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X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3F7A4-302D-43D4-8ADB-EFB8E63BD322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ы сами обретаем вечность пред этой дивной красотой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96127-1C56-429F-A4FC-979A9ABC0243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Музыка, застывшая в камн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ЗИЛИКА (от греч. basilike — царский дом), вытянутое, прямоугольное в плане здание, разделенное внутри продольными рядами колонн или столбов на 3 или 5 продольных прохода – «нефа» ( от греч. «несус» - «корабль»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AE9F1-5C4A-432E-9F3D-6584791CDA98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зил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87EFB-EFDA-4B99-A460-01BA3F8C2DFE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базил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-в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-Не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-место для х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-вход на х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-алтар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-алтарь под балдахи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-апси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EBC25-9C14-433A-B30C-E2C400282D16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тройство крестово-купольного храм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ие хра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пол храма (количество гла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товой бараб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пси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м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7C93D-E544-415E-BB25-B2086333D35E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православные храмы.</a:t>
            </a:r>
            <a:br>
              <a:rPr sz="1200"/>
            </a:b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Десятинная церковь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B1CBC-232F-4AEA-9346-FF63B4DC06A4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пасо-Преображенский собор в Черниго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4A917-5C7C-4CDC-80A2-608BB1C65A21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обор Святой Софии в Киев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, словно шлем, надвинул гла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стены выставил, как щи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весь – тугая соразмернос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ношение высо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ссиметрия, тяжесть, вер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сводов медленный полё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А. Рождественский («Новгородская София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3D6B9-BB20-4DAC-A3AA-781D03F95D6C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фия Новгородская и София Полоц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7CDC8-5B96-45DE-90F8-6A41A02787DD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CFF9-5D0F-4BD7-BBF3-C68A01919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A4CE-94DA-46C1-85B4-1F87E4B9F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C2C3-FD7B-4840-9D28-BABC585F3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491E-ED1D-453E-A7E1-6457F9F97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C34E2-9938-4A65-B4FE-80D555ABF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5932A-6CBC-4806-8203-722353080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E5A66-1E63-4AA9-BC35-DCB2EECF8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4FA01-3854-4FDD-AE46-6A19FD465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5CDE5-96F9-4664-A4D5-8EABEE373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5EAB1-8C3A-4F8E-BB30-499975C79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CE440-3AE1-4B00-A608-2C0064CF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F051-0C8B-4533-8EDF-2523A95C9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A5CAF-F5FD-4FC1-B64C-3D6E03C5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3BE0C-0B4F-4FBA-8122-023AA531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17817-9F0E-42AF-BB54-5F8C93C2D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086F4-6E95-41D7-93C5-8C839C357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88E22-33EB-40A5-B23F-3D5D4C2FA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B391-5570-4793-B5D3-02F841047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1594-7611-4883-9CA5-AD59AD2AA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6AF8-AF51-4B02-A381-26BCF59E5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D464-E8C0-4FB7-A38C-26194AFE3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026C-9FC1-4C27-9BF8-B981AC97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341B-1A93-4F4F-9185-A6763255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3B75-6823-4032-9486-E560495A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118C-B912-4C78-8F02-01224CA0A20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F1EA-4E29-463E-8209-CF490899695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631280" cy="23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Архитектурный облик Древней Руси </a:t>
            </a: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IX-XII </a:t>
            </a: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века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240" y="4292280"/>
            <a:ext cx="6224760" cy="13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Георгиевский собор, церковь Успения на Торгу(1135г.), 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1314360" y="1700280"/>
            <a:ext cx="3257640" cy="4392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"/>
          <p:cNvPicPr/>
          <p:nvPr/>
        </p:nvPicPr>
        <p:blipFill>
          <a:blip r:embed="rId2"/>
          <a:stretch/>
        </p:blipFill>
        <p:spPr>
          <a:xfrm>
            <a:off x="4932360" y="1700280"/>
            <a:ext cx="3311640" cy="439272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Церковь Покрова на Нерли(1165г.), Дмитриевский собор во Владимире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XII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 В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853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85316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eec94"/>
                </a:solidFill>
                <a:latin typeface="Times New Roman"/>
              </a:rPr>
              <a:t>Мы сами обретаем вечность пред этой дивной красотой!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7" name="Picture 9" descr=""/>
          <p:cNvPicPr/>
          <p:nvPr/>
        </p:nvPicPr>
        <p:blipFill>
          <a:blip r:embed="rId1"/>
          <a:stretch/>
        </p:blipFill>
        <p:spPr>
          <a:xfrm>
            <a:off x="1371600" y="2565360"/>
            <a:ext cx="6400800" cy="410364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«Музыка, застывшая в камне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07552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АЗИЛИКА (от греч. basilike — царский дом), вытянутое, прямоугольное в плане здание, разделенное внутри продольными рядами колонн или столбов на 3 или 5 продольных прохода – «нефа» ( от греч. «несус» - «корабль»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Базилик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8229600" cy="496260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лан базилик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-вхо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-Не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-место для хо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-вход на хор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-алтар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6-алтарь под балдахино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7-апсид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3780000" y="1268280"/>
            <a:ext cx="4906800" cy="511344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Устройство крестово-купольного храма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76360" y="1628280"/>
            <a:ext cx="3527640" cy="45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нование храм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упол храма (количество глав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ветовой бараба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псид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кома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8" descr=""/>
          <p:cNvPicPr/>
          <p:nvPr/>
        </p:nvPicPr>
        <p:blipFill>
          <a:blip r:embed="rId1"/>
          <a:stretch/>
        </p:blipFill>
        <p:spPr>
          <a:xfrm>
            <a:off x="169920" y="1600200"/>
            <a:ext cx="4325760" cy="506880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ервые православные храмы.</a:t>
            </a:r>
            <a:br>
              <a:rPr sz="4000"/>
            </a:b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Десятинная церковь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8075520" cy="444636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eec94"/>
                </a:solidFill>
                <a:latin typeface="Times New Roman"/>
              </a:rPr>
              <a:t>Спасо-Преображенский собор в Чернигове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1116000" y="1600200"/>
            <a:ext cx="6912000" cy="492444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Собор Святой Софии в Киеве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5329080" cy="51832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580000" y="1699920"/>
            <a:ext cx="310680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н, словно шлем, надвинул глав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 стены выставил, как щи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н весь – тугая соразмерность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отношение высот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ссиметрия, тяжесть, вернос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 сводов медленный полё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. А. Рождественский («Новгородская София»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офия Новгородская и София Полоцка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12:36:17Z</dcterms:created>
  <dc:creator>Олег</dc:creator>
  <dc:description/>
  <dc:language>en-US</dc:language>
  <cp:lastModifiedBy>LEGION</cp:lastModifiedBy>
  <dcterms:modified xsi:type="dcterms:W3CDTF">2015-01-14T10:02:15Z</dcterms:modified>
  <cp:revision>4</cp:revision>
  <dc:subject/>
  <dc:title>Архитектурный облик Древней Руси IX-XII века</dc:title>
</cp:coreProperties>
</file>