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D6E5-FFD6-4F95-9B4D-0BC46D3FD9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встро-Венгрия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1870-19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688B-93E8-41C2-AB01-0BF6671818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тнические и религиозные противореч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 возрастает численность еврейского населения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0 – Т. Герцль организовывает первый Всемирный еврейский конг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EA00-8C27-457F-93CF-8A4B7BA9DA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алистическ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-1868 – введение конституционного строя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рнаци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–под давлением пролетариата было завоева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встромаркс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A92B-DCCE-476B-BE62-C891D6F21E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зис дуа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7г – истек срок действия очередного экономического 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минационный момент кризиса дуализма – 1905 год, го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енгерского криз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06 – насильно разогнан пар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 – 1914  - основная ассимиляция населения 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D06-866F-4653-A3E1-8502D21D4B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F2F-7198-4BFF-AA84-6EEBCEED2C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ипломатию Австро-Венгрии сильно влияло ее внутреннее устрой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463D-3FE7-4498-90A7-E2B129D4A3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нгрия вступает в дуалистиче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 раза посещает Франца-Иосифа для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0 г. – франко-прус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3 г. – взаимное соглашение Франца-Иосифа и Александра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8 г . – Австро-Венгрия оккупирует Боснию и Герцегови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9 г . –заключена социальная конвенция  между Османской империей и Австро-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лючается союз Австро-Венгрии и Германии, направленный проти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табилизируется, когда в 1896 году Николай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ещает Вену, а позже Франц-Иосиф – Петер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6687-8F68-4284-97A7-0C3C5B6BE1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овторный визит Никола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стрию, в результате подписано Мюрцштегское соглашение по вопросу о Македо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. – иностранными делами Австро-Венгрии руководит теперь А. Эрент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5642-5190-4957-B833-E3590CAC84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 Боснии и Герцегов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о-Венгрия и Балк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чевой вопрос для Вены : о закреплении Бос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 г. – младотурец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 октября 1908 г. – Франц-Иосиф подписывает указ об аннексии Боснии и Герцег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ссия объявила протест в связи с изданным ука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B072-7AD1-4F4C-9002-0003D047D8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кончился – просьба выйти из сумра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0BDF-1CA8-43DD-944A-E404E5D210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Georgia"/>
              </a:rPr>
              <a:t>Франц - Иосиф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7B7D-C50C-4239-A067-A615F9C293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 – Иоси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имя: Франц – Иоси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: Эрцгерцог Австрии Франц Карл (брат Фердинан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королева Кар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жизни: 18 августа 1930 г – 21 ноября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коронации: 2 декабря 1848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к: 24 апреля 1854 года на графине Элизабет(С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2663-145F-4694-9556-E49E21F62A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у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 – заключено соглашение между Венгрией и Австрией (и династией Габсбур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F951-2147-4E20-BF88-7279ABD761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48 – 1873  -первый удачный этап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е позиции: у австро-чешского индустриального комплек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технический уровень промышленны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е развитие экономической мысли , развитие школы политэк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8F9A-FFAF-4F19-B267-32CF9EA0CE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10 большое количество самодеятельного населения было занято  в аграрных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7 городов населением выше, чем 100 тыс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CE64-E318-44B0-ABFD-BB526BA82D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витие науки, культуры,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ологи: К. Мангейм, К. Поппер, Ф. Хайек (теория либерального общ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оположник психоанализа, З. Фре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зыканты: Г. Малер, А. Брукнер, Х. Вольф, А. Шёнберг, А. Бе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удожники: Х. Макарт, Э. Шиле, г. Климт, О. Кокошка, В. Гроп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исатели: Х. фон Гофмансталь, Ст. Цвейг, Ф. Верфель, Р. Муз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явление классической и новой оперетты в Вене и 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еребряный век» - Ф. Легар, И. Кальман, К. Штоль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0- «Австрийское общество ми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6E2E-4016-4464-A3D1-1AA35B2957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18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 его решение Венгерским правительств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хи стали добиваться превращения дуализма в тр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-х: заключено венгеро-хорват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амый бесправный народ в империи: словаки и украин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1 г. –Национальная партия рум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4г.  – лидер Национальной партии румын приговорен к заклю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г. – созывается конгресс национальностей в Буда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310A-136F-4B4A-BF8A-8DAC3BD16F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его решение Австрийским правитель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астание национальных дв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– разделение по языковому признаку Праж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6827-2597-4680-A881-90B17477C9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F59-3442-4E43-A29D-1E2DB15C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F0E-8A9A-4608-A028-578FDFAB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CE9-EE78-4910-82BA-0926388E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F1A-9C25-43EB-85C0-2914DA68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AD9-A16D-48D0-825D-6CCCFA19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12C-69D2-4A88-BCF1-EF8B2F1F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B83-062E-4C5D-96C4-1402D895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CC7-E891-4C58-A315-8A64C801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41F-851D-4C16-A3F5-6BFAB2FE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006-A521-475C-BBE9-C208F193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D6F-4171-479F-8E11-70AF125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B2E-5FD5-45C0-8130-B13CDDD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00BB-5AEF-4E88-A900-43F39BEC1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89000"/>
            <a:ext cx="7632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стро-Венгр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708360" y="206064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70-1914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Kuk-doppeladler"/>
          <p:cNvPicPr/>
          <p:nvPr/>
        </p:nvPicPr>
        <p:blipFill>
          <a:blip r:embed="rId4"/>
          <a:stretch/>
        </p:blipFill>
        <p:spPr>
          <a:xfrm>
            <a:off x="3564000" y="3284640"/>
            <a:ext cx="2546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нические и религиозные противоре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84360" y="1700280"/>
            <a:ext cx="6275520" cy="4852800"/>
          </a:xfrm>
          <a:prstGeom prst="rect">
            <a:avLst/>
          </a:prstGeom>
          <a:solidFill>
            <a:srgbClr val="006699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ко возрастает численность еврейского населения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– Т. Герцль организовывает первый Всемирный еврейский конг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1101a"/>
          <p:cNvPicPr/>
          <p:nvPr/>
        </p:nvPicPr>
        <p:blipFill>
          <a:blip r:embed="rId2"/>
          <a:stretch/>
        </p:blipFill>
        <p:spPr>
          <a:xfrm>
            <a:off x="250920" y="1989000"/>
            <a:ext cx="209844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циалисти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-1868 – введение конституционного строя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аци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–под давлением пролетариата было завое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омарк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изис дуал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 – истек срок действия очередного экономического согл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минационный момент кризиса дуализма – 1905 год, г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венгерского кризи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феврале 1906 – насильно разогнан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 – 1914  - основная ассимиляция населения Венг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4000" y="4076640"/>
            <a:ext cx="8496000" cy="25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яя полит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дипломатию Австро-Венгрии сильно влияло ее внутреннее устрой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2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я вступает в дуалистическое со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раза посещает Франца-Иосифа для решения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0 г. – франко-прус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3 г. – взаимное соглашение Франца-Иосифа и Александ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8 г . – Австро-Венгрия оккупирует Боснию и Герцегов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9 г . –заключена социальная конвенция  между Османской империей и Австро-Венг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лючается союз Австро-Венгрии и Германии, направленный проти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табилизируется, когда в 1896 году Никол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ает Вену, а позже Франц-Иосиф – 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3 – повторный визит Никол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встрию, в результате подписано Мюрцштегское соглашение по вопросу о Макед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. – иностранными делами Австро-Венгрии руководит теперь А. Эрен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Боснии и Герцеговин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стро-Венгрия и Балк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9217080" cy="5516640"/>
          </a:xfrm>
          <a:prstGeom prst="rect">
            <a:avLst/>
          </a:prstGeom>
          <a:solidFill>
            <a:srgbClr val="0066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ючевой вопрос для Вены : о закреплении Бос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 г. – младотурецкая револю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октября 1908 г. – Франц-Иосиф подписывает указ об аннексии Боснии и Герцег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объявила протест в связи с изданным у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лад кончился – просьба выйти из сумра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468360" y="620640"/>
            <a:ext cx="8315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3300"/>
                    </a:gs>
                    <a:gs pos="100000">
                      <a:srgbClr val="ffcc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ранц - Иосиф I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cc99"/>
                  </a:gs>
                  <a:gs pos="50000">
                    <a:srgbClr val="993300"/>
                  </a:gs>
                  <a:gs pos="100000">
                    <a:srgbClr val="ffcc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" name="Picture 6" descr="200px-Francis_Joseph_I"/>
          <p:cNvPicPr/>
          <p:nvPr/>
        </p:nvPicPr>
        <p:blipFill>
          <a:blip r:embed="rId2"/>
          <a:stretch/>
        </p:blipFill>
        <p:spPr>
          <a:xfrm>
            <a:off x="3564000" y="2133720"/>
            <a:ext cx="208440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анц – Иоси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е имя: Франц – Иос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: Эрцгерцог Австрии Франц Карл (брат Фердинан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королева Кар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8 августа 1930 г – 21 ноября 19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оронации: 2 декабря 184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к: 24 апреля 1854 года на графине Элизабет(С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ranz_joseph_I_kaiser_oesterreich"/>
          <p:cNvPicPr/>
          <p:nvPr/>
        </p:nvPicPr>
        <p:blipFill>
          <a:blip r:embed="rId2"/>
          <a:stretch/>
        </p:blipFill>
        <p:spPr>
          <a:xfrm>
            <a:off x="7543800" y="333360"/>
            <a:ext cx="1600200" cy="23050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у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3300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 – заключено соглашение между Венгрией и Австрией (и династией Габсбур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48 – 1873  -первый удачный этап развит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зиции: у австро-чешского индустриального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технический уровень промышленн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щное развитие экономической мысли , развитие школы политэконо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1910 большое количество самодеятельного населения было занято  в аграрных и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7 городов населением выше, чем 100 тыс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4716360" y="692280"/>
          <a:ext cx="331308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692280"/>
                    <a:ext cx="33130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9"/>
          <p:cNvGraphicFramePr/>
          <p:nvPr/>
        </p:nvGraphicFramePr>
        <p:xfrm>
          <a:off x="4788000" y="2421000"/>
          <a:ext cx="338112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21000"/>
                    <a:ext cx="33811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1"/>
          <p:cNvGraphicFramePr/>
          <p:nvPr/>
        </p:nvGraphicFramePr>
        <p:xfrm>
          <a:off x="4716360" y="3933720"/>
          <a:ext cx="3686400" cy="262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933720"/>
                    <a:ext cx="36864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solidFill>
            <a:srgbClr val="333333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науки, культуры,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ологи: К. Мангейм, К. Поппер, Ф. Хайек (теория либерального об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оположник психоанализа, 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нты: Г. Малер, А. Брукнер, Х. Вольф, А. Шёнберг, А. 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дожники: Х. Макарт, Э. Шиле, г. Климт, О. Кокошка, В. Гроп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атели: Х. фон Гофмансталь, Ст. Цвейг, Ф. Верфель, Р. Муз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вление классической и новой оперетты в Вене и Пе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еребряный век» - Ф. Легар, И. Кальман, К. Штоль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0- «Австрийское общество м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80px-Johann_Strauss_II"/>
          <p:cNvPicPr/>
          <p:nvPr/>
        </p:nvPicPr>
        <p:blipFill>
          <a:blip r:embed="rId2"/>
          <a:srcRect l="0" t="0" r="0" b="23657"/>
          <a:stretch/>
        </p:blipFill>
        <p:spPr>
          <a:xfrm>
            <a:off x="6227640" y="189000"/>
            <a:ext cx="129852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"/>
          <p:cNvPicPr/>
          <p:nvPr/>
        </p:nvPicPr>
        <p:blipFill>
          <a:blip r:embed="rId3"/>
          <a:stretch/>
        </p:blipFill>
        <p:spPr>
          <a:xfrm>
            <a:off x="2050920" y="189000"/>
            <a:ext cx="1121040" cy="1146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его решение Венгерским прави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solidFill>
            <a:srgbClr val="00669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хи стали добиваться превращения дуализма в т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-х: заключено венгеро-хорватское 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бесправный народ в империи: словаки и украи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81 г. –Национальная партия рум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4г.  – лидер Национальной партии румын приговорен к заклю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г. – созывается конгресс национальностей в Будапеш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решение Австрийским правитель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астание национальных 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– разделение по языковому признаку Праж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8:48:25Z</dcterms:created>
  <dc:creator>Ann</dc:creator>
  <dc:description/>
  <dc:language>en-US</dc:language>
  <cp:lastModifiedBy>LEGION</cp:lastModifiedBy>
  <dcterms:modified xsi:type="dcterms:W3CDTF">2015-01-14T10:03:09Z</dcterms:modified>
  <cp:revision>10</cp:revision>
  <dc:subject/>
  <dc:title>Слайд 1</dc:title>
</cp:coreProperties>
</file>