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391-D91A-4724-8B99-5FB456AD5B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ие военача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гражданской 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38C-DB18-48FC-B2E4-1151AEC5FE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Федорович Федь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Янович Лап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3DC4-1C13-4B18-A51D-A57B51C433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Николаевич Тухаче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ан Сергеевич Востр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3D4A-4BC8-44BE-8EA2-0A41FBDBDB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Михайлович Буд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Иванович Чап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B112-9B0B-42E6-AAD1-0A3F2F3F40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Фрунз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ент Ефремович Вороши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4CB9-FCF3-41B6-BEA2-8221B44BBB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Константинович Блюхе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оним Петрович Убор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B37E-6600-4C08-BC79-4D1A710E85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Иванович Кото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а Эммануилович Як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9965-EA31-4899-B628-9FFEC004C9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льич Ег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 Фрицевич Фабриц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9E8A-70FA-499D-B9C4-FD4A96BA84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лександрович Щор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сиф Родионович Апанас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32DE-0E9B-4DC7-927A-8247017108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 Иванович Городов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Яковлевич Пархом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433C-1AF8-432E-8DB8-69F18102AE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Константинович  Тимошен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 Дмитриевич Гай (Бжишкя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BAAD-4D14-4BB7-9FC1-71E4BF20BD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Сергеевич Камене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лий Маркович Прим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247C-F77A-4024-8337-8B1BD7CD39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Мартинович (Михайлович) Ази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пифан Иович Ковтю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73BA-32EF-4135-A05C-2F4BC91E94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379-5976-4DD7-868F-36CAF4A8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D5C-CC30-4156-9AB0-6EA71CF1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777-5997-4CBE-B922-EAA61A2B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A5E-CD92-489F-B9FC-43D1A8FE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7982-1D5C-44E9-9955-C0AB2CE2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5773-443D-47BF-A0E9-7880BD53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BB03-1E51-4926-AD64-01F8FC14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E050-8C1E-4C51-BCE6-92786E12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D239-8CEF-4569-97BE-1C924BD7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CE6F-DA7D-4594-B488-1A6771A0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2140-A455-4DEC-9834-9BDE698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565-8B6B-41AA-AE45-426D70A6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10E7-622A-4C94-9214-41E0716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F80A-7AC9-4C4A-B927-192ED5D8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EAF7-BE88-4753-917E-5FE985E5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C7A4-44E2-4EA2-A048-2B7DF074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47BE-1363-498C-BFCC-F116E92F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AEC-36B7-4AFF-8489-15BD9D0A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128-F4D3-4C9F-9DE1-02F2508B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305-686A-4B25-91C8-380BEF29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F0A-3A95-4C0D-A7E1-10A6FED5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566-4BF2-4ED6-8F5C-29F93AE6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264-59C9-435B-97E8-0DE7D7D7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8C3-273A-4C98-B1BB-27B3A019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9F7E-FEF7-44A2-AE58-B8E9243DEE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1A8C-93E3-4E11-952C-F76A3D8DDC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ветские военачаль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рои гражданск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ван Федорович Федь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ьберт Янович Лапин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0564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29400" cy="41479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-69516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Николаевич Тухаче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тепан Сергеевич Вострец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734080" y="-10625040"/>
            <a:ext cx="3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-666720" y="-3713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Михайлович Буденны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Иванович Чапае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705640" y="-10769760"/>
            <a:ext cx="360" cy="69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34320" cy="424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695160" y="-3786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Васильевич Фрунзе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Климент Ефремович Ворошил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69592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-70488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Константинович Блюхер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ероним Петрович Уборевич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753160" y="-10696680"/>
            <a:ext cx="36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70572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-647640" y="-3749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ригорий Иванович Кото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на Эммануилович Якир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657760" y="-10841040"/>
            <a:ext cx="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3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-743040" y="-38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Ильич Егор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Ян Фрицевич Фабрициус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76840" y="-10915560"/>
            <a:ext cx="360" cy="70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705720" cy="4705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723960" y="-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Николай Александрович Щорс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сиф Родионович Апанас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73408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659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66672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Ока Иванович Городовик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Яковлевич Пархом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69592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-70488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Константинович  Тимошен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ай Дмитриевич Гай (Бжишкян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34080" y="-10659960"/>
            <a:ext cx="36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-666720" y="-3730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ргей Сергеевич Камене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италий Маркович Примак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68656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096240" cy="3848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-71424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ладимир Мартинович (Михайлович) Азин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Епифан Иович Ковтюх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2436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-67644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8:48:31Z</dcterms:created>
  <dc:creator>Наташа</dc:creator>
  <dc:description/>
  <dc:language>en-US</dc:language>
  <cp:lastModifiedBy>LEGION</cp:lastModifiedBy>
  <dcterms:modified xsi:type="dcterms:W3CDTF">2015-01-14T10:03:45Z</dcterms:modified>
  <cp:revision>3</cp:revision>
  <dc:subject/>
  <dc:title>Советские военачальники</dc:title>
</cp:coreProperties>
</file>