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4D7C-1BDA-47B4-9C13-6CCECCD9A21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ские военачаль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 гражданской во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1246-4A0E-4AEE-BB2C-A7DB4972428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Федорович Федьк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берт Янович Лап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D3CA-E32F-4E4C-A2DA-8DB5D11FA3D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Николаевич Тухачевск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ан Сергеевич Вострец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3391-E3BD-410E-82FC-E9A21A73327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 Михайлович Буде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Иванович Чап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1754-22BE-40B4-8830-547C4DF7DF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Васильевич Фрунз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ент Ефремович Вороши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237E-B439-4219-8EF9-24449BA037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Константинович Блюхер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ероним Петрович Убор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96C5-E3F4-4D65-B3CF-0C5B678E6B7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горий Иванович Котовск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а Эммануилович Як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6E94-428C-494F-9C24-40C83180073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Ильич Егор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 Фрицевич Фабриц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C916-8BC3-4077-8279-1E29120460E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Александрович Щор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сиф Родионович Апанас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A8E5-5605-4E29-A317-AFB2A47FF5B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 Иванович Городов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Яковлевич Пархом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D616-260A-40ED-9A7D-01E9BA34BAD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 Константинович  Тимошенк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й Дмитриевич Гай (Бжишкя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AD17-2E62-476B-ADF5-1893F4CC82D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Сергеевич Камене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лий Маркович Прим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DF9A-97E0-4376-8D81-DEBF2881538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имир Мартинович (Михайлович) Ази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пифан Иович Ковтю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F1C1-A9D0-4301-88D1-42F2A4ECD53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C5C-EEE8-4755-ACB9-96EB0E3A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BBD-6634-44AB-95CB-CBF0D371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2E5-B6A7-4D6F-AE32-12024224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9B4-0E6A-4443-9CE5-D9ADBEA9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73C1-D72A-48D7-82EC-F96966DA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F2BB-0A59-4766-A229-EF76553C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B613-C697-4B47-B7DE-263A69D9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D106-0438-47FD-9E1D-E01C6F72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DE60-F9BB-421D-896A-D1CCD31F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5B42-5910-4275-91FC-CC41727D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F3B7-37C6-4D1D-BD2B-63692EAB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2697-D116-49F0-8B02-F0633E7B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6937-6BF1-42A3-8DA3-3CBD3A24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57ED-794C-4DD8-9B6E-682759D6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8CF9-1302-4A0F-872E-714CD155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8995-78E4-49D1-950F-548EF554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073C-2560-431F-95E7-EA2D3511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F4B9-BCF7-4DC8-8204-007BDC88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D83E-F27B-483D-AB98-24CA6069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B08C-61AB-4390-9B1D-BE639998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C1C-5D4B-41E3-B181-BB0A83CE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9B8-BA0D-4AC3-9229-820E984D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A65-7D0A-4760-B41F-FBB223E1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3A4-1D08-4ECE-80C0-1ACEF11F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A646-19B0-48C4-B0BE-46EBEC79BC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D39B-1A70-4017-8373-B992A8F2DB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оветские военачальни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рои гражданской вой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ван Федорович Федько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Альберт Янович Лапин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705640" y="-10879200"/>
            <a:ext cx="360" cy="70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629400" cy="41479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-695160" y="-3841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Михаил Николаевич Тухачевский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тепан Сергеевич Вострецо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5734080" y="-10625040"/>
            <a:ext cx="3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662940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-666720" y="-3713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емен Михайлович Буденный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асилий Иванович Чапае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5705640" y="-10769760"/>
            <a:ext cx="360" cy="69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934320" cy="424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-695160" y="-3786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Михаил Васильевич Фрунзе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Климент Ефремович Ворошило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695920" y="-10806120"/>
            <a:ext cx="360" cy="70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7162920" cy="44960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-704880" y="-3805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асилий Константинович Блюхер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ероним Петрович Уборевич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753160" y="-10696680"/>
            <a:ext cx="360" cy="69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705720" cy="43434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-647640" y="-3749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Григорий Иванович Котовский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она Эммануилович Якир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5657760" y="-10841040"/>
            <a:ext cx="360" cy="70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705360" cy="4343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-743040" y="-382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Александр Ильич Егоров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Ян Фрицевич Фабрициус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676840" y="-10915560"/>
            <a:ext cx="360" cy="70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705720" cy="4705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-723960" y="-386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Николай Александрович Щорс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осиф Родионович Апанасенко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5734080" y="-10987200"/>
            <a:ext cx="360" cy="70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705360" cy="4659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-666720" y="-389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Ока Иванович Городовиков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Александр Яковлевич Пархоменко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695920" y="-10987200"/>
            <a:ext cx="360" cy="70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-704880" y="-389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емен Константинович  Тимошенко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Гай Дмитриевич Гай (Бжишкян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734080" y="-10659960"/>
            <a:ext cx="360" cy="69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248520" cy="40384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-666720" y="-3730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ергей Сергеевич Каменев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италий Маркович Примако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686560" y="-10879200"/>
            <a:ext cx="360" cy="70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096240" cy="38480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-714240" y="-3841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ладимир Мартинович (Михайлович) Азин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Епифан Иович Ковтюх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724360" y="-10806120"/>
            <a:ext cx="360" cy="70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705720" cy="46483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-676440" y="-3805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8:48:31Z</dcterms:created>
  <dc:creator>Наташа</dc:creator>
  <dc:description/>
  <dc:language>en-US</dc:language>
  <cp:lastModifiedBy>LEGION</cp:lastModifiedBy>
  <dcterms:modified xsi:type="dcterms:W3CDTF">2015-01-14T10:03:45Z</dcterms:modified>
  <cp:revision>3</cp:revision>
  <dc:subject/>
  <dc:title>Советские военачальники</dc:title>
</cp:coreProperties>
</file>