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8.gif" ContentType="image/gif"/>
  <Override PartName="/ppt/media/image18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B790-9CE9-4232-9451-225EE5CD677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AE10-F597-4A2C-ABAB-C9C0BB163E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31A4-0EDB-478E-9019-73FAFE1660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F00C-DA50-488C-89D3-E0161D4D09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759C-486A-45CE-93D3-3DDEE8CA4E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67D4-CB2E-43E6-A441-2628BFDDF5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504d"/>
                </a:solidFill>
                <a:latin typeface="Calibri"/>
              </a:rPr>
              <a:t>План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Значение реформ Рузвель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Усиление роли государства в эконом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E711-7C73-4124-8602-ED9BE428D6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c0504d"/>
                </a:solidFill>
                <a:latin typeface="Calibri"/>
              </a:rPr>
              <a:t>Задание на урок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ивело к «Великому кризису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акие меры способствовали выходу из н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F2DA-0224-4191-AFE1-A1B67BBF95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$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4080-99A2-46EB-939A-26CD8CEB32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Начало Великой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зрыв между произ-водством и потреб-лением и привел к кризису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AD70-B758-4B6E-BAF4-EBBDBC9F03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7922-5562-484A-9C76-090ABAE15E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Социальные последствия депресс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1F11-9E64-4294-B743-19B6339A5A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17 отраслях вводи-лись Администрации и правила «честной конкуренц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40B-49C8-4C64-A058-0281C42FD5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«Новый курс» Ф.Рузвель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ельском хозяйстве излишние посевные площади сокраща-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A6A4-0C9B-4716-8D6A-E1AD95C8F2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8C05-BFB1-4957-A475-AB591DDE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A6374-2058-458D-A5D6-E6C58078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DAE7-1ABA-4F36-9B76-B3FA1DB0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B77E-B3A1-432A-8587-E075C078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E8B7-C139-4575-80CD-912645E2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FCF8-9407-495E-93B4-D5681983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B143-7FF1-498E-B2AC-5128F500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E3D2-D0AE-4277-9FF7-233552F9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06EF-AD86-4993-AA2E-9216432E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4FC5-B797-43C1-8A3B-D74DC8F1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3F29-ACAF-4314-837D-B816F30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C3159-5FEA-4B24-8F44-865D982E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AB1EF-5EE0-45AC-9095-0945ECB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7B69-BC43-4502-AD57-0C265BE9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EDC5-A833-4A6F-8B35-BC193DA2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8392-6D8E-407B-96ED-BBFFF73A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3AFF-73F1-43BB-A7BA-E56EC89B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1C38-13CC-4025-AD51-C73A5F1B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ADA1-6F67-48E4-8B9A-A6BAA678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1D8C-FC6D-437B-B6C7-C516C89D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30A71-DF35-4C79-B6FB-8C59E22B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CC72-3D00-423C-A2CE-C393234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24FC-02BA-42C3-9396-750722D3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C6AD-7D2D-4A30-8B6E-0EC2DFC2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818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39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b8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646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8CB5-6858-45BD-A593-D926F620B8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00"/>
            </a:gs>
            <a:gs pos="100000">
              <a:srgbClr val="191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2e2e00"/>
                </a:gs>
                <a:gs pos="100000">
                  <a:srgbClr val="33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8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f0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20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02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9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a1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f1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222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a2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d2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b2b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82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d1d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c1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42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72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2e2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333300"/>
                </a:gs>
                <a:gs pos="100000">
                  <a:srgbClr val="1414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444B-94FB-4D26-9737-198AF7B69D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7"/>
          <p:cNvSpPr/>
          <p:nvPr/>
        </p:nvSpPr>
        <p:spPr>
          <a:xfrm>
            <a:off x="2061360" y="2844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рок №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7166880" y="302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WordArt 29"/>
          <p:cNvSpPr txBox="1"/>
          <p:nvPr/>
        </p:nvSpPr>
        <p:spPr>
          <a:xfrm>
            <a:off x="644364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Новейш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24" name="WordArt 30"/>
          <p:cNvSpPr txBox="1"/>
          <p:nvPr/>
        </p:nvSpPr>
        <p:spPr>
          <a:xfrm>
            <a:off x="175104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e6e6e6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525" name="Group 39"/>
          <p:cNvGrpSpPr/>
          <p:nvPr/>
        </p:nvGrpSpPr>
        <p:grpSpPr>
          <a:xfrm>
            <a:off x="0" y="0"/>
            <a:ext cx="8588520" cy="6858000"/>
            <a:chOff x="0" y="0"/>
            <a:chExt cx="8588520" cy="6858000"/>
          </a:xfrm>
        </p:grpSpPr>
        <p:grpSp>
          <p:nvGrpSpPr>
            <p:cNvPr id="526" name="Group 35"/>
            <p:cNvGrpSpPr/>
            <p:nvPr/>
          </p:nvGrpSpPr>
          <p:grpSpPr>
            <a:xfrm>
              <a:off x="0" y="0"/>
              <a:ext cx="8588520" cy="6858000"/>
              <a:chOff x="0" y="0"/>
              <a:chExt cx="8588520" cy="6858000"/>
            </a:xfrm>
          </p:grpSpPr>
          <p:pic>
            <p:nvPicPr>
              <p:cNvPr id="527" name="Picture 25" descr="MFSTRP06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35252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34" descr="1"/>
              <p:cNvPicPr/>
              <p:nvPr/>
            </p:nvPicPr>
            <p:blipFill>
              <a:blip r:embed="rId2"/>
              <a:stretch/>
            </p:blipFill>
            <p:spPr>
              <a:xfrm>
                <a:off x="7162920" y="3276720"/>
                <a:ext cx="1425600" cy="22334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29" name="Picture 36" descr="2"/>
            <p:cNvPicPr/>
            <p:nvPr/>
          </p:nvPicPr>
          <p:blipFill>
            <a:blip r:embed="rId3"/>
            <a:stretch/>
          </p:blipFill>
          <p:spPr>
            <a:xfrm>
              <a:off x="1716120" y="1736640"/>
              <a:ext cx="2049480" cy="232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0" name="WordArt 38"/>
          <p:cNvSpPr txBox="1"/>
          <p:nvPr/>
        </p:nvSpPr>
        <p:spPr>
          <a:xfrm>
            <a:off x="3506760" y="2187720"/>
            <a:ext cx="3589200" cy="21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Великая 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3240">
                  <a:solidFill>
                    <a:srgbClr val="ffcc66"/>
                  </a:solidFill>
                  <a:miter/>
                </a:ln>
                <a:gradFill rotWithShape="0">
                  <a:gsLst>
                    <a:gs pos="0">
                      <a:srgbClr val="d6b19c"/>
                    </a:gs>
                    <a:gs pos="100000">
                      <a:srgbClr val="d6b19c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997a3d"/>
                  </a:outerShdw>
                </a:effectLst>
                <a:latin typeface="Times New Roman"/>
              </a:rPr>
              <a:t>депрессия.</a:t>
            </a:r>
            <a:endParaRPr b="0" lang="en-US" sz="1800" spc="1" strike="noStrike">
              <a:ln cap="sq" w="3240">
                <a:solidFill>
                  <a:srgbClr val="ffcc66"/>
                </a:solidFill>
                <a:miter/>
              </a:ln>
              <a:gradFill rotWithShape="0">
                <a:gsLst>
                  <a:gs pos="0">
                    <a:srgbClr val="d6b19c"/>
                  </a:gs>
                  <a:gs pos="100000">
                    <a:srgbClr val="d6b19c"/>
                  </a:gs>
                </a:gsLst>
                <a:lin ang="0"/>
              </a:gradFill>
              <a:effectLst>
                <a:outerShdw dist="17819" dir="2700000" blurRad="0" rotWithShape="0">
                  <a:srgbClr val="997a3d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787640" y="692280"/>
            <a:ext cx="4203720" cy="6013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ый курс» обеспечил Рузвельту поддержку всего населения. Про-тив выступили монопо листы. В 1936г.Верхов-ный суд США даже от-менил ряд законов. Но на выборах 1936 г. Руз-вельт вновь одержал победу. Он смог под-нять уровень жизни, ра сширил рынки, норма-лизовал отношения с СССР.В ходе реформ капиталистическое об-щество изменило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586160" y="5626080"/>
            <a:ext cx="29422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отина в дол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ннесс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9" descr="Рисунок4"/>
          <p:cNvPicPr/>
          <p:nvPr/>
        </p:nvPicPr>
        <p:blipFill>
          <a:blip r:embed="rId3"/>
          <a:stretch/>
        </p:blipFill>
        <p:spPr>
          <a:xfrm>
            <a:off x="1476360" y="907920"/>
            <a:ext cx="312120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7" descr="Рисунок3"/>
          <p:cNvPicPr/>
          <p:nvPr/>
        </p:nvPicPr>
        <p:blipFill>
          <a:blip r:embed="rId1"/>
          <a:stretch/>
        </p:blipFill>
        <p:spPr>
          <a:xfrm>
            <a:off x="4859280" y="655560"/>
            <a:ext cx="3816360" cy="29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85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547640" y="3645000"/>
            <a:ext cx="744408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питализм был ограничен и подчинился го-сударству.Запад вступил в стадию индуст-риального общества.Были расширены пра-ва профсоюзов.Но монополизм экономики только усилился.В итоге сложился государ-ственно-монополистический капитализм.Го-сударство ограничивало монополии и про-водило сильную социальную полити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33040" y="1444680"/>
            <a:ext cx="26190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Рузвель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Уоллес 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борах 194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е регули рование ранее прово-дилось в СССР в го-ды НЭПа и оно стало образцом для стран Запада.В 1933 г. по пу-ти регулирования по-шли Италия и Герма-ния, но они свернули на путь тоталитариз-ма.Демократический вариант был осущес-твлен в Швеции и Да-нии.Во Франции пра-вительство «Народно го фронта» провело реформы в духе «Но-вого курса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1921680" y="4508640"/>
            <a:ext cx="2466720" cy="192276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ля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Герм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нкнот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50 млрд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00 млн мар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4" name="Picture 8" descr="Рисунок2"/>
          <p:cNvPicPr/>
          <p:nvPr/>
        </p:nvPicPr>
        <p:blipFill>
          <a:blip r:embed="rId3"/>
          <a:stretch/>
        </p:blipFill>
        <p:spPr>
          <a:xfrm>
            <a:off x="1476360" y="836640"/>
            <a:ext cx="3311640" cy="322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925040" cy="53316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еликобритании 2-ы к власти приходили лейбористы,но прео-долеть трудности они не смогли и в сер. 30-х гг.к власти возврати лись консерва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мократические вари-анты реформ прошли и в Латинской Амери-ке.В 1934-40 гг в Мек-сике Л.Карденас наци-онализировал нефтя-ную промышленность железные дороги и передал часть земли  крестьян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1600200" y="5589720"/>
            <a:ext cx="314784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асаро Кардена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идент Мек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8" descr="Рисунок1"/>
          <p:cNvPicPr/>
          <p:nvPr/>
        </p:nvPicPr>
        <p:blipFill>
          <a:blip r:embed="rId3"/>
          <a:stretch/>
        </p:blipFill>
        <p:spPr>
          <a:xfrm>
            <a:off x="1476360" y="765000"/>
            <a:ext cx="3319560" cy="4627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0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8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лан урока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467840" cy="4114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Значение реформ Рузвель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Усиление роли государства в экономи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14" descr="ag00029_"/>
          <p:cNvPicPr/>
          <p:nvPr/>
        </p:nvPicPr>
        <p:blipFill>
          <a:blip r:embed="rId3"/>
          <a:stretch/>
        </p:blipFill>
        <p:spPr>
          <a:xfrm>
            <a:off x="76320" y="5562720"/>
            <a:ext cx="1295280" cy="102852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467840" cy="76212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Задание на урок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467840" cy="53341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то привело к «Великому кризису»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Какие меры способствовали выходу из нег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5" descr="ag00317_"/>
          <p:cNvPicPr/>
          <p:nvPr/>
        </p:nvPicPr>
        <p:blipFill>
          <a:blip r:embed="rId3"/>
          <a:stretch/>
        </p:blipFill>
        <p:spPr>
          <a:xfrm>
            <a:off x="0" y="5105520"/>
            <a:ext cx="1246320" cy="1600200"/>
          </a:xfrm>
          <a:prstGeom prst="rect">
            <a:avLst/>
          </a:prstGeom>
          <a:ln w="0">
            <a:noFill/>
          </a:ln>
        </p:spPr>
      </p:pic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Рисунок10"/>
          <p:cNvPicPr/>
          <p:nvPr/>
        </p:nvPicPr>
        <p:blipFill>
          <a:blip r:embed="rId1"/>
          <a:stretch/>
        </p:blipFill>
        <p:spPr>
          <a:xfrm>
            <a:off x="4140360" y="399960"/>
            <a:ext cx="4535280" cy="3102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4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76360" y="3500280"/>
            <a:ext cx="751536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октябре 1929 г. рухнул финансовый рынок США.Закрылось 5 тыс. банков, вкладчики по теряли 10-и ты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Вслед за США кризис пора зил Европу.Промышленное производство упало в 2-5 раз.Начался Великий кризис. Его причины крылись в нерегулируемости эко-номики Запада.Банки активно занимались биржевыми спекуляциями и не вкладывали капиталы в реальное производ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658520" y="1593720"/>
            <a:ext cx="194868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зис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ью-Йор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Начало Великой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219640" y="620280"/>
            <a:ext cx="3772080" cy="60850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ровой рынок сбыта оказался перенасы-щен товарами, а по-купательная спосо-бность населения была низкой.Биржи этих тенденций не учитывали и занима лись спекуляцией ценных бума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азрыв между произ-водством и потреб-лением и привел к кризису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933 г. в США банки не рабо-тали,люди не могли покупать товары, свободных капита-лов не бы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761480" y="5300640"/>
            <a:ext cx="296820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Белл- «Ко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ампанског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ргует ябло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8" descr="Рисунок9"/>
          <p:cNvPicPr/>
          <p:nvPr/>
        </p:nvPicPr>
        <p:blipFill>
          <a:blip r:embed="rId3"/>
          <a:stretch/>
        </p:blipFill>
        <p:spPr>
          <a:xfrm>
            <a:off x="1835280" y="765000"/>
            <a:ext cx="2860560" cy="434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8" descr="Рисунок8"/>
          <p:cNvPicPr/>
          <p:nvPr/>
        </p:nvPicPr>
        <p:blipFill>
          <a:blip r:embed="rId1"/>
          <a:stretch/>
        </p:blipFill>
        <p:spPr>
          <a:xfrm>
            <a:off x="4211640" y="512640"/>
            <a:ext cx="4537080" cy="2916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55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18920" y="3500280"/>
            <a:ext cx="7372440" cy="32054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овень жизни миллионов людей упал.Фер-меры продав товар не могли рассчитаться с долгами.Горожане не могли покупать про-довольствие.В США расцвела мафия,полу-чавшая прибыли от нелегального производ ства и продажи алког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бочие,безработные,разорившиеся предпри  нимателиначали борьбу за свои права.Бо-льшое влияние получили коммунисты и фашис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56024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гент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8" descr="Рисунок7"/>
          <p:cNvPicPr/>
          <p:nvPr/>
        </p:nvPicPr>
        <p:blipFill>
          <a:blip r:embed="rId1"/>
          <a:stretch/>
        </p:blipFill>
        <p:spPr>
          <a:xfrm>
            <a:off x="4140360" y="620640"/>
            <a:ext cx="4676760" cy="3089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61" name="Picture 3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Социальные последствия депрессии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618920" y="3645000"/>
            <a:ext cx="7372440" cy="30607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и требовали изменения экономической сис темы.Фермеры блокировали дороги.В 1932-33 г. страну охватили «Марши голодных». Во время одного из них во главе колонн шли ветераны 1 мировой воны.Они блоки-ровали Белый дом и президент Гувер от-дал приказ разгромить безработных. Это только обострило ситуацию в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1515600" y="1444680"/>
            <a:ext cx="2324880" cy="119124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сплат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дача с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работ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MFSTRP06"/>
          <p:cNvPicPr/>
          <p:nvPr/>
        </p:nvPicPr>
        <p:blipFill>
          <a:blip r:embed="rId1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2520" y="609480"/>
            <a:ext cx="4038840" cy="6096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ход из ситуации был или в установлении диктатуры,или в огра-ничении свободного предпринимательства В 1932 г. президентом США стал Ф.Рузвельт предложивший вто-рой вариа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го «Новый курс» преду сматривал банкротст-во несостоятельных банков,страхование вкладов,государственное регулиро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7 отраслях вводи-лись Администрации и правила «честной конкуренц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993320" y="5877000"/>
            <a:ext cx="2323440" cy="45972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.Д.Рузвель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0" name="Picture 9" descr="Рисунок6"/>
          <p:cNvPicPr/>
          <p:nvPr/>
        </p:nvPicPr>
        <p:blipFill>
          <a:blip r:embed="rId3"/>
          <a:stretch/>
        </p:blipFill>
        <p:spPr>
          <a:xfrm>
            <a:off x="1547640" y="1125360"/>
            <a:ext cx="3133800" cy="4237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952520" y="549360"/>
            <a:ext cx="4038840" cy="62481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водились единые це-ны,распределялся ры нок сбыта,ограничива лся рабочий день,вво дилась минимальная зарпла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льском хозяйстве излишние посевные площади сокраща-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отменен «сухой за- кон».В 1935 г. были подписаны коллектив ные договоры между предпринимателями и профсоюзами. Паде-ние производства пос тепенно прекратилось но подъем не насту-пи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Picture 2" descr="MFSTRP06"/>
          <p:cNvPicPr/>
          <p:nvPr/>
        </p:nvPicPr>
        <p:blipFill>
          <a:blip r:embed="rId2"/>
          <a:stretch/>
        </p:blipFill>
        <p:spPr>
          <a:xfrm>
            <a:off x="0" y="0"/>
            <a:ext cx="135252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620120" cy="457200"/>
          </a:xfrm>
          <a:prstGeom prst="rect">
            <a:avLst/>
          </a:prstGeom>
          <a:gradFill rotWithShape="0">
            <a:gsLst>
              <a:gs pos="0">
                <a:srgbClr val="333300"/>
              </a:gs>
              <a:gs pos="50000">
                <a:srgbClr val="eaeaea"/>
              </a:gs>
              <a:gs pos="100000">
                <a:srgbClr val="333300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«Новый курс» Ф.Рузвельта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617120" y="5626080"/>
            <a:ext cx="2986560" cy="825480"/>
          </a:xfrm>
          <a:prstGeom prst="rect">
            <a:avLst/>
          </a:prstGeom>
          <a:solidFill>
            <a:srgbClr val="c0c0c0"/>
          </a:solidFill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Дейли миррор» 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Новом курсе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Picture 7" descr="Рисунок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835280" y="765000"/>
            <a:ext cx="2525760" cy="4667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0T09:36:38Z</dcterms:created>
  <dc:creator>Чернов Алексей</dc:creator>
  <dc:description/>
  <dc:language>en-US</dc:language>
  <cp:lastModifiedBy>LEGION</cp:lastModifiedBy>
  <dcterms:modified xsi:type="dcterms:W3CDTF">2015-01-14T10:04:59Z</dcterms:modified>
  <cp:revision>47</cp:revision>
  <dc:subject/>
  <dc:title>Слайд 1</dc:title>
</cp:coreProperties>
</file>