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002A-7253-4027-B2E8-E8EFD3AA08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D429-C822-4F13-8928-DD8A8E299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диции, подписанные Анной Иоановн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объявлять войны и не заключать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икаких не налагать поборов и нал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о за преступления не осуждать и ни у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го  дворянина не конфисковать им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рекословно  довольств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мым на  содержание ее особ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ворного штата годовым дох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зенных вотчин никому не да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вступать в брак и не назначать наслед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E359-9BC3-4F1B-8C13-0131414AB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FC6C-5090-4B49-8B60-868204028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E8D8-6CA1-4E6F-AC0B-092233CA8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C487-AB06-4621-A665-AB1EF30D6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42D6-FEEC-4D09-A5F6-DB058A2A3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D163-9262-4414-88F4-4D143F1CB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6F79-9C81-4FAE-910B-9D9982B75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BD53-5AFA-400B-99C4-0A877271C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D65D-C821-42A2-94F0-28154F393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A93-8CF5-4D58-89F6-03F9EA70A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нваре 1725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ирает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е успел назначить наследника 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80F7-1E76-4778-AEC5-14C144248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с ошибк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писала кондиции, после этого она стала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EABF-123D-457F-A71D-38CE2496D1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5369-2725-4109-A669-8DB248400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тенденты на  тр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4FE2-1052-469A-BBDD-1494525F8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A3C8-56DA-4EF8-8BFC-222F5AD9C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39B2-F42D-4194-9242-1C9751E74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3AE7-6DF2-4074-AC5A-B116A0671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9F1D-A2FC-4416-ACEC-D6EC42E7B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Анны Ивановны, дочери старшего брат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5EE0-854D-4368-A5C5-29578111B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EBA-5A98-4847-BC38-DF5A33E9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AD2-BDCB-498E-9FF2-FC716985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D36-63EC-448B-B2F8-54B3D0B6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53B-331C-42CE-A3F7-D8FD37CF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663-ED60-4804-88DD-B57CB2FC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C3B-090B-4D29-B407-DF3403CF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60F-C369-4C47-BE25-FF89212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47A-D62C-4FD8-9DA2-84DD6DC7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F62-1BB0-465A-BFDD-18759A80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55A-3C64-4BD2-9BD4-C8BFF20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D8A-57E0-4BE3-9998-4F4C73BE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D09-C7E7-4AB4-91FF-8FB44F03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831F-7656-4D3D-B866-A6C0F06BBE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F31C-410C-4537-9534-291F66750C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357120"/>
            <a:ext cx="8572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диции, подписанные Анной Иоа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объявлять войны и не заключать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никаких не налагать поборов и на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икого за преступления не осуждать и ни 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ого  дворянина не конфисковать и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еспрекословно  довольств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мым на  содержание ее особ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ворного штата годовым дохо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зенных вотчин никому не да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вступать в брак и не назначать наслед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720" y="285480"/>
            <a:ext cx="36432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71320"/>
            <a:ext cx="3543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Рисунок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071960" y="2174760"/>
            <a:ext cx="4614840" cy="3397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9120" y="285480"/>
            <a:ext cx="35006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84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Рисунок8"/>
          <p:cNvPicPr/>
          <p:nvPr/>
        </p:nvPicPr>
        <p:blipFill>
          <a:blip r:embed="rId1"/>
          <a:stretch/>
        </p:blipFill>
        <p:spPr>
          <a:xfrm>
            <a:off x="5143680" y="1857240"/>
            <a:ext cx="3584520" cy="4748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2040" y="3571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Рисунок7"/>
          <p:cNvPicPr/>
          <p:nvPr/>
        </p:nvPicPr>
        <p:blipFill>
          <a:blip r:embed="rId1"/>
          <a:stretch/>
        </p:blipFill>
        <p:spPr>
          <a:xfrm>
            <a:off x="5143680" y="2714760"/>
            <a:ext cx="3649320" cy="37144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85840" y="285840"/>
            <a:ext cx="3643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42600"/>
            <a:ext cx="36147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31" descr="Рисунок5"/>
          <p:cNvPicPr/>
          <p:nvPr/>
        </p:nvPicPr>
        <p:blipFill>
          <a:blip r:embed="rId1"/>
          <a:stretch/>
        </p:blipFill>
        <p:spPr>
          <a:xfrm>
            <a:off x="4405320" y="1571760"/>
            <a:ext cx="4122720" cy="4964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0360" y="285840"/>
            <a:ext cx="41432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4286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Рисунок3"/>
          <p:cNvPicPr/>
          <p:nvPr/>
        </p:nvPicPr>
        <p:blipFill>
          <a:blip r:embed="rId1"/>
          <a:stretch/>
        </p:blipFill>
        <p:spPr>
          <a:xfrm>
            <a:off x="4857840" y="1714680"/>
            <a:ext cx="3665520" cy="4808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28800" y="42876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Рисунок1"/>
          <p:cNvPicPr/>
          <p:nvPr/>
        </p:nvPicPr>
        <p:blipFill>
          <a:blip r:embed="rId1"/>
          <a:stretch/>
        </p:blipFill>
        <p:spPr>
          <a:xfrm>
            <a:off x="5143680" y="2143080"/>
            <a:ext cx="3555720" cy="4410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76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Рисунок2"/>
          <p:cNvPicPr/>
          <p:nvPr/>
        </p:nvPicPr>
        <p:blipFill>
          <a:blip r:embed="rId1"/>
          <a:stretch/>
        </p:blipFill>
        <p:spPr>
          <a:xfrm>
            <a:off x="4857840" y="1714680"/>
            <a:ext cx="3568680" cy="4719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3680" y="5000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4" descr="аргунов и. портрет ек2.jpg"/>
          <p:cNvPicPr/>
          <p:nvPr/>
        </p:nvPicPr>
        <p:blipFill>
          <a:blip r:embed="rId1"/>
          <a:stretch/>
        </p:blipFill>
        <p:spPr>
          <a:xfrm>
            <a:off x="4929120" y="2000160"/>
            <a:ext cx="3540240" cy="4415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186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5840" y="428760"/>
          <a:ext cx="8572320" cy="4279680"/>
        </p:xfrm>
        <a:graphic>
          <a:graphicData uri="http://schemas.openxmlformats.org/drawingml/2006/table">
            <a:tbl>
              <a:tblPr/>
              <a:tblGrid>
                <a:gridCol w="2773440"/>
                <a:gridCol w="2233440"/>
                <a:gridCol w="3565440"/>
              </a:tblGrid>
              <a:tr h="12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а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5 - 17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шиков и другие приближенные Петра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10" descr="EK1"/>
          <p:cNvPicPr/>
          <p:nvPr/>
        </p:nvPicPr>
        <p:blipFill>
          <a:blip r:embed="rId1"/>
          <a:stretch/>
        </p:blipFill>
        <p:spPr>
          <a:xfrm>
            <a:off x="324000" y="3500280"/>
            <a:ext cx="2357280" cy="3268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ETR1"/>
          <p:cNvPicPr/>
          <p:nvPr/>
        </p:nvPicPr>
        <p:blipFill>
          <a:blip r:embed="rId1"/>
          <a:stretch/>
        </p:blipFill>
        <p:spPr>
          <a:xfrm>
            <a:off x="4857840" y="714240"/>
            <a:ext cx="3619440" cy="504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2" name="TextBox 2"/>
          <p:cNvSpPr/>
          <p:nvPr/>
        </p:nvSpPr>
        <p:spPr>
          <a:xfrm>
            <a:off x="714240" y="2000160"/>
            <a:ext cx="392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нваре 172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ирает Пет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ь не успел назначить наследника прест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5840" y="428760"/>
          <a:ext cx="8572320" cy="3605040"/>
        </p:xfrm>
        <a:graphic>
          <a:graphicData uri="http://schemas.openxmlformats.org/drawingml/2006/table">
            <a:tbl>
              <a:tblPr/>
              <a:tblGrid>
                <a:gridCol w="2485800"/>
                <a:gridCol w="2119320"/>
                <a:gridCol w="3967200"/>
              </a:tblGrid>
              <a:tr h="107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3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7 - 17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ировка князей Долгоруких и Голицыных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9" descr="PETR2"/>
          <p:cNvPicPr/>
          <p:nvPr/>
        </p:nvPicPr>
        <p:blipFill>
          <a:blip r:embed="rId1"/>
          <a:stretch/>
        </p:blipFill>
        <p:spPr>
          <a:xfrm>
            <a:off x="428760" y="3071880"/>
            <a:ext cx="250488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85840" y="357120"/>
          <a:ext cx="8572320" cy="6143760"/>
        </p:xfrm>
        <a:graphic>
          <a:graphicData uri="http://schemas.openxmlformats.org/drawingml/2006/table">
            <a:tbl>
              <a:tblPr/>
              <a:tblGrid>
                <a:gridCol w="3062160"/>
                <a:gridCol w="2795760"/>
                <a:gridCol w="27144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0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 Иоанновна, племян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0 – 1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роновщ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оддержке гвардии, немецкое дворянство во главе с Бироно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6" descr="ANNA"/>
          <p:cNvPicPr/>
          <p:nvPr/>
        </p:nvPicPr>
        <p:blipFill>
          <a:blip r:embed="rId1"/>
          <a:stretch/>
        </p:blipFill>
        <p:spPr>
          <a:xfrm>
            <a:off x="684360" y="3429000"/>
            <a:ext cx="2322360" cy="32464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428760"/>
          <a:ext cx="8501040" cy="4214520"/>
        </p:xfrm>
        <a:graphic>
          <a:graphicData uri="http://schemas.openxmlformats.org/drawingml/2006/table">
            <a:tbl>
              <a:tblPr/>
              <a:tblGrid>
                <a:gridCol w="2389320"/>
                <a:gridCol w="2176560"/>
                <a:gridCol w="3935160"/>
              </a:tblGrid>
              <a:tr h="12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онов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е меся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ент (правитель) со всей полнотой власти - Би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57120" y="357120"/>
          <a:ext cx="8501040" cy="4643640"/>
        </p:xfrm>
        <a:graphic>
          <a:graphicData uri="http://schemas.openxmlformats.org/drawingml/2006/table">
            <a:tbl>
              <a:tblPr/>
              <a:tblGrid>
                <a:gridCol w="2621160"/>
                <a:gridCol w="2125440"/>
                <a:gridCol w="3754440"/>
              </a:tblGrid>
              <a:tr h="139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4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завета Петровна, дочь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1- 17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,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4" descr="ELSA"/>
          <p:cNvPicPr/>
          <p:nvPr/>
        </p:nvPicPr>
        <p:blipFill>
          <a:blip r:embed="rId1"/>
          <a:stretch/>
        </p:blipFill>
        <p:spPr>
          <a:xfrm>
            <a:off x="785880" y="3357720"/>
            <a:ext cx="2357280" cy="3209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57120" y="1357200"/>
          <a:ext cx="8501040" cy="4214880"/>
        </p:xfrm>
        <a:graphic>
          <a:graphicData uri="http://schemas.openxmlformats.org/drawingml/2006/table">
            <a:tbl>
              <a:tblPr/>
              <a:tblGrid>
                <a:gridCol w="2486160"/>
                <a:gridCol w="2305080"/>
                <a:gridCol w="3709800"/>
              </a:tblGrid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г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поддерж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85840" y="1428840"/>
          <a:ext cx="8501040" cy="4214880"/>
        </p:xfrm>
        <a:graphic>
          <a:graphicData uri="http://schemas.openxmlformats.org/drawingml/2006/table">
            <a:tbl>
              <a:tblPr/>
              <a:tblGrid>
                <a:gridCol w="2773440"/>
                <a:gridCol w="2304720"/>
                <a:gridCol w="3422880"/>
              </a:tblGrid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ж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2 -17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 и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1"/>
          <p:cNvGrpSpPr/>
          <p:nvPr/>
        </p:nvGrpSpPr>
        <p:grpSpPr>
          <a:xfrm>
            <a:off x="571680" y="1143000"/>
            <a:ext cx="7786080" cy="5428800"/>
            <a:chOff x="571680" y="1143000"/>
            <a:chExt cx="7786080" cy="5428800"/>
          </a:xfrm>
        </p:grpSpPr>
        <p:pic>
          <p:nvPicPr>
            <p:cNvPr id="139" name="Picture 5" descr="trrom#02"/>
            <p:cNvPicPr/>
            <p:nvPr/>
          </p:nvPicPr>
          <p:blipFill>
            <a:blip r:embed="rId1"/>
            <a:stretch/>
          </p:blipFill>
          <p:spPr>
            <a:xfrm>
              <a:off x="571680" y="1143000"/>
              <a:ext cx="7779960" cy="17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trrom#03"/>
            <p:cNvPicPr/>
            <p:nvPr/>
          </p:nvPicPr>
          <p:blipFill>
            <a:blip r:embed="rId2"/>
            <a:stretch/>
          </p:blipFill>
          <p:spPr>
            <a:xfrm>
              <a:off x="571680" y="2842920"/>
              <a:ext cx="777996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trrom#04"/>
            <p:cNvPicPr/>
            <p:nvPr/>
          </p:nvPicPr>
          <p:blipFill>
            <a:blip r:embed="rId3"/>
            <a:stretch/>
          </p:blipFill>
          <p:spPr>
            <a:xfrm>
              <a:off x="577800" y="4564440"/>
              <a:ext cx="7779960" cy="200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Прямоугольник 5" descr=""/>
          <p:cNvPicPr/>
          <p:nvPr/>
        </p:nvPicPr>
        <p:blipFill>
          <a:blip r:embed="rId4"/>
          <a:stretch/>
        </p:blipFill>
        <p:spPr>
          <a:xfrm>
            <a:off x="1566720" y="274680"/>
            <a:ext cx="5510520" cy="676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1857240" y="5786280"/>
            <a:ext cx="49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последовательность правления монар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85840" y="500040"/>
            <a:ext cx="85723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с ошиб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писала кондиции, после этого она стала императр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500200"/>
          <a:ext cx="9144000" cy="4356360"/>
        </p:xfrm>
        <a:graphic>
          <a:graphicData uri="http://schemas.openxmlformats.org/drawingml/2006/table">
            <a:tbl>
              <a:tblPr/>
              <a:tblGrid>
                <a:gridCol w="2428920"/>
                <a:gridCol w="2381040"/>
                <a:gridCol w="4334040"/>
              </a:tblGrid>
              <a:tr h="20415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онархи России эпохи дворцовых переворотов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 кого  опирал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1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PETR2"/>
          <p:cNvPicPr/>
          <p:nvPr/>
        </p:nvPicPr>
        <p:blipFill>
          <a:blip r:embed="rId1"/>
          <a:stretch/>
        </p:blipFill>
        <p:spPr>
          <a:xfrm>
            <a:off x="357120" y="928800"/>
            <a:ext cx="2143080" cy="2955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8" name="TextBox 2"/>
          <p:cNvSpPr/>
          <p:nvPr/>
        </p:nvSpPr>
        <p:spPr>
          <a:xfrm>
            <a:off x="2357280" y="35712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тенденты на  тр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EK1"/>
          <p:cNvPicPr/>
          <p:nvPr/>
        </p:nvPicPr>
        <p:blipFill>
          <a:blip r:embed="rId2"/>
          <a:stretch/>
        </p:blipFill>
        <p:spPr>
          <a:xfrm>
            <a:off x="6572160" y="1071720"/>
            <a:ext cx="2259000" cy="31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0" name="Picture 13" descr="SV52_7"/>
          <p:cNvPicPr/>
          <p:nvPr/>
        </p:nvPicPr>
        <p:blipFill>
          <a:blip r:embed="rId3"/>
          <a:stretch/>
        </p:blipFill>
        <p:spPr>
          <a:xfrm>
            <a:off x="2714760" y="3357720"/>
            <a:ext cx="1606320" cy="2050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1" name="Picture 14" descr="ELSA"/>
          <p:cNvPicPr/>
          <p:nvPr/>
        </p:nvPicPr>
        <p:blipFill>
          <a:blip r:embed="rId4"/>
          <a:stretch/>
        </p:blipFill>
        <p:spPr>
          <a:xfrm>
            <a:off x="4357800" y="3357720"/>
            <a:ext cx="1535040" cy="208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2" name="TextBox 10"/>
          <p:cNvSpPr/>
          <p:nvPr/>
        </p:nvSpPr>
        <p:spPr>
          <a:xfrm>
            <a:off x="2500200" y="92880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ын царе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286680" y="421488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ена Пет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143080" y="550080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на и Ели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чери П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760" y="356760"/>
            <a:ext cx="3643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428760"/>
            <a:ext cx="4143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Рисунок14"/>
          <p:cNvPicPr/>
          <p:nvPr/>
        </p:nvPicPr>
        <p:blipFill>
          <a:blip r:embed="rId1"/>
          <a:stretch/>
        </p:blipFill>
        <p:spPr>
          <a:xfrm>
            <a:off x="4786200" y="1521000"/>
            <a:ext cx="3989520" cy="4979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3320" y="356760"/>
            <a:ext cx="32144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428400"/>
            <a:ext cx="43574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Рисунок13"/>
          <p:cNvPicPr/>
          <p:nvPr/>
        </p:nvPicPr>
        <p:blipFill>
          <a:blip r:embed="rId1"/>
          <a:stretch/>
        </p:blipFill>
        <p:spPr>
          <a:xfrm>
            <a:off x="4786200" y="1428840"/>
            <a:ext cx="4000680" cy="5156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28760" y="428760"/>
            <a:ext cx="30718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428760"/>
            <a:ext cx="4143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101" descr="Рисунок12"/>
          <p:cNvPicPr/>
          <p:nvPr/>
        </p:nvPicPr>
        <p:blipFill>
          <a:blip r:embed="rId1"/>
          <a:stretch/>
        </p:blipFill>
        <p:spPr>
          <a:xfrm>
            <a:off x="4857840" y="1550880"/>
            <a:ext cx="3768480" cy="487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292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3857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Рисунок11"/>
          <p:cNvPicPr/>
          <p:nvPr/>
        </p:nvPicPr>
        <p:blipFill>
          <a:blip r:embed="rId1"/>
          <a:stretch/>
        </p:blipFill>
        <p:spPr>
          <a:xfrm>
            <a:off x="4143240" y="2000160"/>
            <a:ext cx="4581720" cy="3971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507204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ны Иванов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очери старшего брата Пет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90372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5" descr="ANNA"/>
          <p:cNvPicPr/>
          <p:nvPr/>
        </p:nvPicPr>
        <p:blipFill>
          <a:blip r:embed="rId1"/>
          <a:stretch/>
        </p:blipFill>
        <p:spPr>
          <a:xfrm>
            <a:off x="5929200" y="1214280"/>
            <a:ext cx="2791080" cy="3900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8:44:10Z</dcterms:created>
  <dc:creator>ВСШ №2</dc:creator>
  <dc:description/>
  <dc:language>en-US</dc:language>
  <cp:lastModifiedBy>LEGION</cp:lastModifiedBy>
  <dcterms:modified xsi:type="dcterms:W3CDTF">2015-01-14T10:06:10Z</dcterms:modified>
  <cp:revision>57</cp:revision>
  <dc:subject/>
  <dc:title>Дворцовые перевор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c000000000001023620</vt:lpwstr>
  </property>
</Properties>
</file>