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B95A-40B7-42E2-BEAC-123818333B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E186-7EFE-4917-8EAD-D8FEF097D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диции, подписанные Анной Иоанов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объявлять войны и не заключать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икаких не налагать поборов и нал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о за преступления не осуждать и ни у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го  дворянина не конфисковать им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рекословно  довольств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мым на  содержание ее особ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ворного штата годовым дох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зенных вотчин никому не да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вступать в брак и не назначать наслед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6F64-9A54-426E-8F11-991FC27047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B635-D96C-4D6A-9B4D-B10EB1459E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94C4-A18E-425C-85CF-BACAFDD16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CF4-A9F0-4996-BDC5-C33B34B02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445-6AF4-4097-BC1C-8EC921ED2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0E4D-1B35-4229-9B93-9C48A045BD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84A1-2DC9-49F6-AE17-B135B174F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457B-2762-49D8-B816-A0A3EDFACB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FEBE-E5CC-4F98-A437-43317770E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B342-7C70-403E-B609-86E25E309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нваре 172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ирает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е успел назначить наследника 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B478-8ABB-47D5-AA32-036D7CE77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с ошиб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писала кондиции, после этого она стала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04DB-BF0F-488D-8D05-8DBED21FF6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AAE-5940-492F-A34E-4941A2A4F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тенденты на  тр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2E62-43DA-479B-98E4-52910FFF8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7924-5157-4815-82F9-641A67DFE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F9BA-F3B2-46BB-AF6C-46B9C5582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152-A342-42AA-9987-4F1122A0A8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6869-3587-4857-97BB-36A0405B01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Анны Ивановны, дочери старшего брат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D508-80AF-4CBA-927C-DAF9036820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0FF-1018-40F0-9247-C259E2DA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757-3188-4ED0-8FEF-C6EE9574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E3F0-9B1E-4BEA-AC03-3DD34229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412-C0ED-4467-8E44-93C52119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79A-509B-4178-8B29-C7089DA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446-DBD9-40E6-A203-794B5EC6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8F2C-B19F-48BD-8DA2-3846CA3B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0CA-BEEC-4E1C-AC80-DDD15D80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E9D-53DD-4289-87E7-BDE0B1C2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C1E-10F5-4D53-9100-9F84E5EA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F62-A000-4BE0-A9A0-AC4B7F93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883-2E50-4BC7-BA65-CCB323F9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8C00-2916-42AC-81B6-A79F558AA84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AC0B-635A-4DF8-8D6E-426E57F646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72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диции, подписанные Анной Иоа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объявлять войны и не заключать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никаких не налагать поборов и на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икого за преступления не осуждать и ни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го  дворянина не конфисковать и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прекословно  довольств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мым на  содержание ее ос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ворного штата годовым дох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зенных вотчин никому не да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вступать в брак и не назначать наслед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285480"/>
            <a:ext cx="36432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Рисунок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71960" y="2174760"/>
            <a:ext cx="4614840" cy="3397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9120" y="285480"/>
            <a:ext cx="35006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Рисунок8"/>
          <p:cNvPicPr/>
          <p:nvPr/>
        </p:nvPicPr>
        <p:blipFill>
          <a:blip r:embed="rId1"/>
          <a:stretch/>
        </p:blipFill>
        <p:spPr>
          <a:xfrm>
            <a:off x="5143680" y="1857240"/>
            <a:ext cx="3584520" cy="474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2040" y="3571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Рисунок7"/>
          <p:cNvPicPr/>
          <p:nvPr/>
        </p:nvPicPr>
        <p:blipFill>
          <a:blip r:embed="rId1"/>
          <a:stretch/>
        </p:blipFill>
        <p:spPr>
          <a:xfrm>
            <a:off x="5143680" y="2714760"/>
            <a:ext cx="3649320" cy="3714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3643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3614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31" descr="Рисунок5"/>
          <p:cNvPicPr/>
          <p:nvPr/>
        </p:nvPicPr>
        <p:blipFill>
          <a:blip r:embed="rId1"/>
          <a:stretch/>
        </p:blipFill>
        <p:spPr>
          <a:xfrm>
            <a:off x="4405320" y="1571760"/>
            <a:ext cx="4122720" cy="4964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360" y="285840"/>
            <a:ext cx="41432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4286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Рисунок3"/>
          <p:cNvPicPr/>
          <p:nvPr/>
        </p:nvPicPr>
        <p:blipFill>
          <a:blip r:embed="rId1"/>
          <a:stretch/>
        </p:blipFill>
        <p:spPr>
          <a:xfrm>
            <a:off x="4857840" y="1714680"/>
            <a:ext cx="3665520" cy="4808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5143680" y="2143080"/>
            <a:ext cx="3555720" cy="441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Рисунок2"/>
          <p:cNvPicPr/>
          <p:nvPr/>
        </p:nvPicPr>
        <p:blipFill>
          <a:blip r:embed="rId1"/>
          <a:stretch/>
        </p:blipFill>
        <p:spPr>
          <a:xfrm>
            <a:off x="4857840" y="1714680"/>
            <a:ext cx="3568680" cy="4719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3680" y="5000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4" descr="аргунов и. портрет ек2.jpg"/>
          <p:cNvPicPr/>
          <p:nvPr/>
        </p:nvPicPr>
        <p:blipFill>
          <a:blip r:embed="rId1"/>
          <a:stretch/>
        </p:blipFill>
        <p:spPr>
          <a:xfrm>
            <a:off x="4929120" y="2000160"/>
            <a:ext cx="3540240" cy="4415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186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5840" y="428760"/>
          <a:ext cx="8572320" cy="4279680"/>
        </p:xfrm>
        <a:graphic>
          <a:graphicData uri="http://schemas.openxmlformats.org/drawingml/2006/table">
            <a:tbl>
              <a:tblPr/>
              <a:tblGrid>
                <a:gridCol w="2773440"/>
                <a:gridCol w="2233440"/>
                <a:gridCol w="3565440"/>
              </a:tblGrid>
              <a:tr h="12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а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 - 17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шиков и другие приближенные Петра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0" descr="EK1"/>
          <p:cNvPicPr/>
          <p:nvPr/>
        </p:nvPicPr>
        <p:blipFill>
          <a:blip r:embed="rId1"/>
          <a:stretch/>
        </p:blipFill>
        <p:spPr>
          <a:xfrm>
            <a:off x="324000" y="3500280"/>
            <a:ext cx="235728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ETR1"/>
          <p:cNvPicPr/>
          <p:nvPr/>
        </p:nvPicPr>
        <p:blipFill>
          <a:blip r:embed="rId1"/>
          <a:stretch/>
        </p:blipFill>
        <p:spPr>
          <a:xfrm>
            <a:off x="4857840" y="714240"/>
            <a:ext cx="361944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714240" y="200016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нваре 17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ет 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не успел назначить наследника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428760"/>
          <a:ext cx="8572320" cy="3605040"/>
        </p:xfrm>
        <a:graphic>
          <a:graphicData uri="http://schemas.openxmlformats.org/drawingml/2006/table">
            <a:tbl>
              <a:tblPr/>
              <a:tblGrid>
                <a:gridCol w="2485800"/>
                <a:gridCol w="2119320"/>
                <a:gridCol w="3967200"/>
              </a:tblGrid>
              <a:tr h="107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7 - 17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ировка князей Долгоруких и Голицыных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9" descr="PETR2"/>
          <p:cNvPicPr/>
          <p:nvPr/>
        </p:nvPicPr>
        <p:blipFill>
          <a:blip r:embed="rId1"/>
          <a:stretch/>
        </p:blipFill>
        <p:spPr>
          <a:xfrm>
            <a:off x="428760" y="3071880"/>
            <a:ext cx="250488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85840" y="357120"/>
          <a:ext cx="8572320" cy="6143760"/>
        </p:xfrm>
        <a:graphic>
          <a:graphicData uri="http://schemas.openxmlformats.org/drawingml/2006/table">
            <a:tbl>
              <a:tblPr/>
              <a:tblGrid>
                <a:gridCol w="3062160"/>
                <a:gridCol w="2795760"/>
                <a:gridCol w="27144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 Иоанновна, племян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0 – 1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роновщ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держке гвардии, немецкое дворянство во главе с Бирон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6" descr="ANNA"/>
          <p:cNvPicPr/>
          <p:nvPr/>
        </p:nvPicPr>
        <p:blipFill>
          <a:blip r:embed="rId1"/>
          <a:stretch/>
        </p:blipFill>
        <p:spPr>
          <a:xfrm>
            <a:off x="684360" y="3429000"/>
            <a:ext cx="2322360" cy="32464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428760"/>
          <a:ext cx="8501040" cy="4214520"/>
        </p:xfrm>
        <a:graphic>
          <a:graphicData uri="http://schemas.openxmlformats.org/drawingml/2006/table">
            <a:tbl>
              <a:tblPr/>
              <a:tblGrid>
                <a:gridCol w="2389320"/>
                <a:gridCol w="2176560"/>
                <a:gridCol w="3935160"/>
              </a:tblGrid>
              <a:tr h="12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он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меся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ент (правитель) со всей полнотой власти - Би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7120" y="357120"/>
          <a:ext cx="8501040" cy="4643640"/>
        </p:xfrm>
        <a:graphic>
          <a:graphicData uri="http://schemas.openxmlformats.org/drawingml/2006/table">
            <a:tbl>
              <a:tblPr/>
              <a:tblGrid>
                <a:gridCol w="2621160"/>
                <a:gridCol w="2125440"/>
                <a:gridCol w="3754440"/>
              </a:tblGrid>
              <a:tr h="139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завета Петровна, дочь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- 17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,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" descr="ELSA"/>
          <p:cNvPicPr/>
          <p:nvPr/>
        </p:nvPicPr>
        <p:blipFill>
          <a:blip r:embed="rId1"/>
          <a:stretch/>
        </p:blipFill>
        <p:spPr>
          <a:xfrm>
            <a:off x="785880" y="3357720"/>
            <a:ext cx="2357280" cy="3209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7120" y="1357200"/>
          <a:ext cx="8501040" cy="4214880"/>
        </p:xfrm>
        <a:graphic>
          <a:graphicData uri="http://schemas.openxmlformats.org/drawingml/2006/table">
            <a:tbl>
              <a:tblPr/>
              <a:tblGrid>
                <a:gridCol w="2486160"/>
                <a:gridCol w="2305080"/>
                <a:gridCol w="370980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г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оддерж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85840" y="1428840"/>
          <a:ext cx="8501040" cy="4214880"/>
        </p:xfrm>
        <a:graphic>
          <a:graphicData uri="http://schemas.openxmlformats.org/drawingml/2006/table">
            <a:tbl>
              <a:tblPr/>
              <a:tblGrid>
                <a:gridCol w="2773440"/>
                <a:gridCol w="2304720"/>
                <a:gridCol w="342288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ж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2 -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 и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"/>
          <p:cNvGrpSpPr/>
          <p:nvPr/>
        </p:nvGrpSpPr>
        <p:grpSpPr>
          <a:xfrm>
            <a:off x="571680" y="1143000"/>
            <a:ext cx="7786080" cy="5428800"/>
            <a:chOff x="571680" y="1143000"/>
            <a:chExt cx="7786080" cy="5428800"/>
          </a:xfrm>
        </p:grpSpPr>
        <p:pic>
          <p:nvPicPr>
            <p:cNvPr id="139" name="Picture 5" descr="trrom#02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777996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trrom#03"/>
            <p:cNvPicPr/>
            <p:nvPr/>
          </p:nvPicPr>
          <p:blipFill>
            <a:blip r:embed="rId2"/>
            <a:stretch/>
          </p:blipFill>
          <p:spPr>
            <a:xfrm>
              <a:off x="571680" y="2842920"/>
              <a:ext cx="777996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trrom#04"/>
            <p:cNvPicPr/>
            <p:nvPr/>
          </p:nvPicPr>
          <p:blipFill>
            <a:blip r:embed="rId3"/>
            <a:stretch/>
          </p:blipFill>
          <p:spPr>
            <a:xfrm>
              <a:off x="577800" y="4564440"/>
              <a:ext cx="7779960" cy="20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1566720" y="274680"/>
            <a:ext cx="551052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57240" y="5786280"/>
            <a:ext cx="49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последовательность правления монар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85840" y="500040"/>
            <a:ext cx="8572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 ошиб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а кондиции, после этого она стала императр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0200"/>
          <a:ext cx="9144000" cy="4356360"/>
        </p:xfrm>
        <a:graphic>
          <a:graphicData uri="http://schemas.openxmlformats.org/drawingml/2006/table">
            <a:tbl>
              <a:tblPr/>
              <a:tblGrid>
                <a:gridCol w="2428920"/>
                <a:gridCol w="2381040"/>
                <a:gridCol w="4334040"/>
              </a:tblGrid>
              <a:tr h="2041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нархи России эпохи дворцовых переворотов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 кого  опир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PETR2"/>
          <p:cNvPicPr/>
          <p:nvPr/>
        </p:nvPicPr>
        <p:blipFill>
          <a:blip r:embed="rId1"/>
          <a:stretch/>
        </p:blipFill>
        <p:spPr>
          <a:xfrm>
            <a:off x="357120" y="928800"/>
            <a:ext cx="2143080" cy="295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357280" y="3571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тенденты на  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EK1"/>
          <p:cNvPicPr/>
          <p:nvPr/>
        </p:nvPicPr>
        <p:blipFill>
          <a:blip r:embed="rId2"/>
          <a:stretch/>
        </p:blipFill>
        <p:spPr>
          <a:xfrm>
            <a:off x="6572160" y="1071720"/>
            <a:ext cx="2259000" cy="31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0" name="Picture 13" descr="SV52_7"/>
          <p:cNvPicPr/>
          <p:nvPr/>
        </p:nvPicPr>
        <p:blipFill>
          <a:blip r:embed="rId3"/>
          <a:stretch/>
        </p:blipFill>
        <p:spPr>
          <a:xfrm>
            <a:off x="2714760" y="3357720"/>
            <a:ext cx="1606320" cy="2050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1" name="Picture 14" descr="ELSA"/>
          <p:cNvPicPr/>
          <p:nvPr/>
        </p:nvPicPr>
        <p:blipFill>
          <a:blip r:embed="rId4"/>
          <a:stretch/>
        </p:blipFill>
        <p:spPr>
          <a:xfrm>
            <a:off x="4357800" y="3357720"/>
            <a:ext cx="1535040" cy="208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2" name="TextBox 10"/>
          <p:cNvSpPr/>
          <p:nvPr/>
        </p:nvSpPr>
        <p:spPr>
          <a:xfrm>
            <a:off x="2500200" y="92880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ын царе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286680" y="421488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ена Пе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143080" y="550080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а и Ели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ери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760" y="35676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4143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Рисунок14"/>
          <p:cNvPicPr/>
          <p:nvPr/>
        </p:nvPicPr>
        <p:blipFill>
          <a:blip r:embed="rId1"/>
          <a:stretch/>
        </p:blipFill>
        <p:spPr>
          <a:xfrm>
            <a:off x="4786200" y="1521000"/>
            <a:ext cx="3989520" cy="4979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3320" y="356760"/>
            <a:ext cx="3214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428400"/>
            <a:ext cx="43574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Рисунок13"/>
          <p:cNvPicPr/>
          <p:nvPr/>
        </p:nvPicPr>
        <p:blipFill>
          <a:blip r:embed="rId1"/>
          <a:stretch/>
        </p:blipFill>
        <p:spPr>
          <a:xfrm>
            <a:off x="4786200" y="1428840"/>
            <a:ext cx="4000680" cy="5156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428760"/>
            <a:ext cx="30718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4143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101" descr="Рисунок12"/>
          <p:cNvPicPr/>
          <p:nvPr/>
        </p:nvPicPr>
        <p:blipFill>
          <a:blip r:embed="rId1"/>
          <a:stretch/>
        </p:blipFill>
        <p:spPr>
          <a:xfrm>
            <a:off x="4857840" y="1550880"/>
            <a:ext cx="3768480" cy="487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292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3857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Рисунок11"/>
          <p:cNvPicPr/>
          <p:nvPr/>
        </p:nvPicPr>
        <p:blipFill>
          <a:blip r:embed="rId1"/>
          <a:stretch/>
        </p:blipFill>
        <p:spPr>
          <a:xfrm>
            <a:off x="4143240" y="2000160"/>
            <a:ext cx="4581720" cy="3971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50720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ы Иван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очери старшего брата П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9037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ANNA"/>
          <p:cNvPicPr/>
          <p:nvPr/>
        </p:nvPicPr>
        <p:blipFill>
          <a:blip r:embed="rId1"/>
          <a:stretch/>
        </p:blipFill>
        <p:spPr>
          <a:xfrm>
            <a:off x="5929200" y="1214280"/>
            <a:ext cx="2791080" cy="3900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44:10Z</dcterms:created>
  <dc:creator>ВСШ №2</dc:creator>
  <dc:description/>
  <dc:language>en-US</dc:language>
  <cp:lastModifiedBy>LEGION</cp:lastModifiedBy>
  <dcterms:modified xsi:type="dcterms:W3CDTF">2015-01-14T10:06:10Z</dcterms:modified>
  <cp:revision>57</cp:revision>
  <dc:subject/>
  <dc:title>Дворцовые перево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c000000000001023620</vt:lpwstr>
  </property>
</Properties>
</file>