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8B5B-DD52-4022-85E0-6BD1DA25B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 1991 – 1998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к рыночн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ризиса в нашем реги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 в кризис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рыбопромышленного 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ран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420B-D4D6-4D06-A01F-DDFCBD2B0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8655-5695-4A9E-9670-9DD36D966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финансирование оборонных заказов практически прекрати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воения гражданской продукции необходимо оборудование и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843F-EEB7-4460-9FFF-296CF11C9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промышленный комплек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ов рыбы сократился в 4,5 раза по сравнению с 1980-ми г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не закупались рыболовные 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лась научно-исследовательская база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ся набор абитуриентов в учебные заведения рыбохозяйственного профи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9DDF-FBCE-4BCC-B915-0D56FE07A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сельско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учебником: с. 215-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коренные изменения происходили с сельском хозяйстве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фермерски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коллективны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была государственная политика по отношению к сельскому хозяй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4EB0-31CD-4A28-9591-942522F3CC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роль играет развитие транспорта для нашего региона? 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транспортное сообщение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ешний» 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утренний»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виды транспор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исчез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FD2D-5309-427A-ABCE-3A5BBAE1B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значение имеет туристическая отрасль для нашего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туристические объекты есть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зменения произошли в отечественном туризме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менился иностранный туризм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FAD6-5B68-4D36-BEEF-9FB031B6D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7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ворческие работы на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Промышленные предприятия Багратион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Развитие сельского хозяйства в Багратионов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уристические объекты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История какого-нибудь крупного завода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739A-6266-47B7-A80D-BB673373B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6E4C-1C3A-4084-93A8-118D3C744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0CE0-93BB-4A06-B430-606ABE494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771C-BBC6-4A02-B625-489CD20D8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тип  экономики был в  СССР? Чем он характеризу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эти события отразились на геополитическом положении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7546-12AD-4646-ACCF-A5373A474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E7DE-7EF2-4A2B-900A-CA9429CD6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4E12-D941-4C3D-A84D-4B090CCFE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в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CC50-0B5D-44F5-A501-8750242DB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экономического кризиса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0328-4EE8-4CC5-AE30-253525617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экономического кризиса в наше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клавное положение усиливало 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региона зависит от внешних связей с Россией и зарубежны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C6C-4AAE-470D-BAA7-195B42633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к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диаграмму в учебнике на с.213 Какие выводы можно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34C3-6EA2-4B7C-9578-FF61FE1A18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стоительный завод «Янтарь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Завод «Квар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Систе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Фак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люлозо - бумаж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Янтарный комби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5B86-373F-48B1-AB74-7F3A1783D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4EC-A81D-4264-ACB7-1725479E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3DB-9A2F-43BD-B0B6-734C1DEC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7E6-616B-47A2-8BBE-61C192D2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D28-1D0A-42C2-86AB-3EAABE90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1C48-924D-4D86-85A2-9B02B6C0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552A-C336-4C70-8EFD-87F9A769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DB06-99A8-4E42-84C5-0F8955A9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459F-3188-4315-BD00-97ED7E0B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CDAA-F8EA-49C7-8B1E-092C8BA8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9989-B1AD-435E-88C9-356A6688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C088-1ECD-491F-AA8D-C516CF73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FB4-F5B2-40D8-8D05-E2E11C07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6B67-7164-4C60-8B52-D3CED4F0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B496-A43F-4AC4-90C2-7D043277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219B-A1C8-4B2E-A368-AD61E89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1755-6B94-4B07-9C1E-31F44B87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4DB9-8535-492D-9677-DCCE9E80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9E2-83B2-4905-AD7E-7B8920C9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63E-0067-46F6-8EB4-413E264D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B56-AD27-461C-A358-4DD42964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160-E490-4DA7-8218-C00A636A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409-3E50-49ED-A808-0343CBB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4AA-4CBF-4144-889D-57ED3213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F2B-1AFE-4CB3-9F76-35D37CE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95F1-DF23-4F50-A115-A2F2522DBC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2663-D107-45CF-9968-E28D36131B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72,15,&#1057;&#1083;&#1072;&#1081;&#1076; 1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5,13,&#1055;&#1088;&#1077;&#1076;&#1087;&#1088;&#1080;&#1103;&#1090;&#1080;&#1103; &#1088;&#1077;&#1075;&#1080;&#1086;&#1085;&#1072;" TargetMode="External"/><Relationship Id="rId2" Type="http://schemas.openxmlformats.org/officeDocument/2006/relationships/hyperlink" Target="264,12,&#1055;&#1088;&#1077;&#1076;&#1087;&#1088;&#1080;&#1103;&#1090;&#1080;&#1103; &#1088;&#1077;&#1075;&#1080;&#1086;&#1085;&#1072;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Экономический кризис 1991 – 1998 г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292428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ли перехода к рыночной экономи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Шоковая терап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кризиса в нашем регио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промышленности в кризисный пери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ельского хозяйства и рыбопромышленного  комплек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ранспор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781280" y="476280"/>
            <a:ext cx="55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западной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4140360" y="2492280"/>
            <a:ext cx="260496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Кварц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539640" y="177336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-15 тыс. 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708360" y="1413000"/>
            <a:ext cx="34718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остроительны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Янтар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3" name="AutoShape 8"/>
          <p:cNvCxnSpPr>
            <a:stCxn id="151" idx="3"/>
            <a:endCxn id="152" idx="0"/>
          </p:cNvCxnSpPr>
          <p:nvPr/>
        </p:nvCxnSpPr>
        <p:spPr>
          <a:xfrm flipV="1">
            <a:off x="1644120" y="1402560"/>
            <a:ext cx="3801240" cy="731160"/>
          </a:xfrm>
          <a:prstGeom prst="bentConnector4">
            <a:avLst>
              <a:gd name="adj1" fmla="val 41390"/>
              <a:gd name="adj2" fmla="val 13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9"/>
          <p:cNvCxnSpPr>
            <a:stCxn id="151" idx="1"/>
            <a:endCxn id="150" idx="2"/>
          </p:cNvCxnSpPr>
          <p:nvPr/>
        </p:nvCxnSpPr>
        <p:spPr>
          <a:xfrm>
            <a:off x="1624680" y="2132640"/>
            <a:ext cx="3818520" cy="641880"/>
          </a:xfrm>
          <a:prstGeom prst="bentConnector4">
            <a:avLst>
              <a:gd name="adj1" fmla="val 41363"/>
              <a:gd name="adj2" fmla="val 134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WordArt 10"/>
          <p:cNvSpPr txBox="1"/>
          <p:nvPr/>
        </p:nvSpPr>
        <p:spPr>
          <a:xfrm>
            <a:off x="539640" y="415908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- 5 тыс.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708360" y="4014720"/>
            <a:ext cx="4476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Систем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780000" y="479736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Факел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8" name="AutoShape 13"/>
          <p:cNvCxnSpPr>
            <a:stCxn id="155" idx="1"/>
            <a:endCxn id="156" idx="0"/>
          </p:cNvCxnSpPr>
          <p:nvPr/>
        </p:nvCxnSpPr>
        <p:spPr>
          <a:xfrm flipV="1">
            <a:off x="1624680" y="4005360"/>
            <a:ext cx="4321800" cy="514440"/>
          </a:xfrm>
          <a:prstGeom prst="bentConnector4">
            <a:avLst>
              <a:gd name="adj1" fmla="val 37020"/>
              <a:gd name="adj2" fmla="val 1426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15"/>
          <p:cNvCxnSpPr>
            <a:stCxn id="155" idx="3"/>
            <a:endCxn id="157" idx="2"/>
          </p:cNvCxnSpPr>
          <p:nvPr/>
        </p:nvCxnSpPr>
        <p:spPr>
          <a:xfrm>
            <a:off x="1644120" y="4519440"/>
            <a:ext cx="4188600" cy="648360"/>
          </a:xfrm>
          <a:prstGeom prst="bentConnector4">
            <a:avLst>
              <a:gd name="adj1" fmla="val 38396"/>
              <a:gd name="adj2" fmla="val 133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WordArt 16"/>
          <p:cNvSpPr txBox="1"/>
          <p:nvPr/>
        </p:nvSpPr>
        <p:spPr>
          <a:xfrm>
            <a:off x="1116000" y="5516640"/>
            <a:ext cx="6505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пуском какой продукц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имались эти предприят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промышленных предприят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8598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ое финансирование оборонных заказов практически прекратило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освоения гражданской продукции необходимо оборудование и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042920" y="4869000"/>
            <a:ext cx="741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читайте  учебник на с.214-215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611280" y="5661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предприятия регио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рались выйти из кризис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ыбопромышленный комплек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лов рыбы сократился в 4,5 раза по сравнению с 1980-ми год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ти не закупались рыболовные 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алась научно-исследовательская база от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тился набор абитуриентов в учебные заведения рыбохозяйственного профи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3200" y="5810400"/>
            <a:ext cx="9010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меры, на ваш взгляд, могли спаст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бопромышленный комплекс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сельского хозяй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с учебником: с. 215-2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коренные изменения происходили с сельском хозяйстве реги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фермерски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коллективны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ва была государственная политика по отношению к сельскому хозяйств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транспор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ую роль играет развитие транспорта для нашего региона? Почему вы так думает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кие группы можно разделить транспортное сообщение нашей обла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ешний» 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утренний»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виды транспор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ктически исчезл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е значение имеет туристическая отрасль для нашего регио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туристические объекты есть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изменения произошли в отечественном туризме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зменился иностранный туризм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7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ворческие работы на те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мышленные предприятия Багратионов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льского хозяйства в Багратионовском рай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уристические объекты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какого-нибудь крупного завода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95640" y="233280"/>
            <a:ext cx="5148360" cy="6624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администрация Калининграда проводит политику ликвидации трамвайных маршрутов в связи с тем, что лоббируются интересы маршрутных такси и депутатов-владельцев автобусных фирм, а ликвидированные линии в перспективе планируется заменить троллейбусами. Но на практике была замена лишь на улице Горького. Во всех остальных случаях (улица Суворова, Невского, Киевская, Гагарина, Маршала Борзова и др.) планы замены так и остались только пла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38140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611280" y="471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previousslide"/>
          </p:cNvPr>
          <p:cNvSpPr/>
          <p:nvPr/>
        </p:nvSpPr>
        <p:spPr>
          <a:xfrm>
            <a:off x="0" y="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493"/>
                </a:moveTo>
                <a:lnTo>
                  <a:pt x="7745" y="7493"/>
                </a:lnTo>
                <a:lnTo>
                  <a:pt x="7745" y="12828"/>
                </a:lnTo>
                <a:cubicBezTo>
                  <a:pt x="7745" y="13751"/>
                  <a:pt x="8545" y="14482"/>
                  <a:pt x="9581" y="14482"/>
                </a:cubicBezTo>
                <a:lnTo>
                  <a:pt x="11243" y="14482"/>
                </a:lnTo>
                <a:cubicBezTo>
                  <a:pt x="12279" y="14482"/>
                  <a:pt x="13080" y="13751"/>
                  <a:pt x="13080" y="12828"/>
                </a:cubicBezTo>
                <a:lnTo>
                  <a:pt x="13080" y="7493"/>
                </a:lnTo>
                <a:lnTo>
                  <a:pt x="11243" y="7493"/>
                </a:lnTo>
                <a:lnTo>
                  <a:pt x="14751" y="3985"/>
                </a:lnTo>
                <a:lnTo>
                  <a:pt x="18424" y="7493"/>
                </a:lnTo>
                <a:lnTo>
                  <a:pt x="16588" y="7493"/>
                </a:lnTo>
                <a:lnTo>
                  <a:pt x="16588" y="12828"/>
                </a:lnTo>
                <a:cubicBezTo>
                  <a:pt x="16588" y="15596"/>
                  <a:pt x="14011" y="18155"/>
                  <a:pt x="11243" y="18155"/>
                </a:cubicBezTo>
                <a:lnTo>
                  <a:pt x="9581" y="18155"/>
                </a:lnTo>
                <a:cubicBezTo>
                  <a:pt x="6813" y="18155"/>
                  <a:pt x="4237" y="15596"/>
                  <a:pt x="423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51640" y="1600200"/>
            <a:ext cx="324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771640" cy="18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53836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655720" cy="1765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previousslide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327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313080" cy="21524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вторим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тип  экономики был в  СССР? Чем он характери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эти события отразились на геополитическом положении нашей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684360" y="3068640"/>
            <a:ext cx="2087280" cy="1800360"/>
            <a:chOff x="684360" y="3068640"/>
            <a:chExt cx="2087280" cy="1800360"/>
          </a:xfrm>
        </p:grpSpPr>
        <p:grpSp>
          <p:nvGrpSpPr>
            <p:cNvPr id="105" name="Group 4"/>
            <p:cNvGrpSpPr/>
            <p:nvPr/>
          </p:nvGrpSpPr>
          <p:grpSpPr>
            <a:xfrm>
              <a:off x="1044360" y="3429000"/>
              <a:ext cx="1191960" cy="1166400"/>
              <a:chOff x="1044360" y="3429000"/>
              <a:chExt cx="1191960" cy="1166400"/>
            </a:xfrm>
          </p:grpSpPr>
          <p:sp>
            <p:nvSpPr>
              <p:cNvPr id="106" name="Gear"/>
              <p:cNvSpPr/>
              <p:nvPr/>
            </p:nvSpPr>
            <p:spPr>
              <a:xfrm>
                <a:off x="1705320" y="3429000"/>
                <a:ext cx="531000" cy="534960"/>
              </a:xfrm>
              <a:custGeom>
                <a:avLst/>
                <a:gdLst>
                  <a:gd name="textAreaLeft" fmla="*/ 107280 w 531000"/>
                  <a:gd name="textAreaRight" fmla="*/ 438840 w 531000"/>
                  <a:gd name="textAreaTop" fmla="*/ 97920 h 534960"/>
                  <a:gd name="textAreaBottom" fmla="*/ 437040 h 53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044360" y="364932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AutoShape 7"/>
              <p:cNvSpPr/>
              <p:nvPr/>
            </p:nvSpPr>
            <p:spPr>
              <a:xfrm>
                <a:off x="1456200" y="3885120"/>
                <a:ext cx="705600" cy="710280"/>
              </a:xfrm>
              <a:custGeom>
                <a:avLst/>
                <a:gdLst>
                  <a:gd name="textAreaLeft" fmla="*/ 142920 w 705600"/>
                  <a:gd name="textAreaRight" fmla="*/ 583200 w 70560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9" name="WordArt 8"/>
            <p:cNvSpPr txBox="1"/>
            <p:nvPr/>
          </p:nvSpPr>
          <p:spPr>
            <a:xfrm>
              <a:off x="684360" y="3068640"/>
              <a:ext cx="2087280" cy="180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6300720" y="2924280"/>
            <a:ext cx="2087640" cy="1800000"/>
            <a:chOff x="6300720" y="2924280"/>
            <a:chExt cx="2087640" cy="1800000"/>
          </a:xfrm>
        </p:grpSpPr>
        <p:grpSp>
          <p:nvGrpSpPr>
            <p:cNvPr id="111" name="Group 11"/>
            <p:cNvGrpSpPr/>
            <p:nvPr/>
          </p:nvGrpSpPr>
          <p:grpSpPr>
            <a:xfrm>
              <a:off x="6661080" y="3284280"/>
              <a:ext cx="1192320" cy="1166400"/>
              <a:chOff x="6661080" y="3284280"/>
              <a:chExt cx="1192320" cy="116640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7322040" y="3284280"/>
                <a:ext cx="531360" cy="534600"/>
              </a:xfrm>
              <a:custGeom>
                <a:avLst/>
                <a:gdLst>
                  <a:gd name="textAreaLeft" fmla="*/ 107640 w 531360"/>
                  <a:gd name="textAreaRight" fmla="*/ 438840 w 531360"/>
                  <a:gd name="textAreaTop" fmla="*/ 97920 h 534600"/>
                  <a:gd name="textAreaBottom" fmla="*/ 436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AutoShape 13"/>
              <p:cNvSpPr/>
              <p:nvPr/>
            </p:nvSpPr>
            <p:spPr>
              <a:xfrm>
                <a:off x="6661080" y="350460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7072920" y="3740400"/>
                <a:ext cx="705960" cy="710280"/>
              </a:xfrm>
              <a:custGeom>
                <a:avLst/>
                <a:gdLst>
                  <a:gd name="textAreaLeft" fmla="*/ 142920 w 705960"/>
                  <a:gd name="textAreaRight" fmla="*/ 583560 w 70596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5" name="WordArt 15"/>
            <p:cNvSpPr txBox="1"/>
            <p:nvPr/>
          </p:nvSpPr>
          <p:spPr>
            <a:xfrm>
              <a:off x="6300720" y="2924280"/>
              <a:ext cx="2087640" cy="18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03640" y="3645000"/>
            <a:ext cx="2879640" cy="1079280"/>
          </a:xfrm>
          <a:custGeom>
            <a:avLst/>
            <a:gdLst>
              <a:gd name="textAreaLeft" fmla="*/ 450000 w 2879640"/>
              <a:gd name="textAreaRight" fmla="*/ 2684880 w 2879640"/>
              <a:gd name="textAreaTop" fmla="*/ 399960 h 1079280"/>
              <a:gd name="textAreaBottom" fmla="*/ 679320 h 1079280"/>
            </a:gdLst>
            <a:ahLst/>
            <a:rect l="textAreaLeft" t="textAreaTop" r="textAreaRight" b="textAreaBottom"/>
            <a:pathLst>
              <a:path w="21600" h="21600">
                <a:moveTo>
                  <a:pt x="15949" y="0"/>
                </a:moveTo>
                <a:lnTo>
                  <a:pt x="15949" y="8008"/>
                </a:lnTo>
                <a:lnTo>
                  <a:pt x="3375" y="8008"/>
                </a:lnTo>
                <a:lnTo>
                  <a:pt x="3375" y="13592"/>
                </a:lnTo>
                <a:lnTo>
                  <a:pt x="15949" y="13592"/>
                </a:lnTo>
                <a:lnTo>
                  <a:pt x="15949" y="21600"/>
                </a:lnTo>
                <a:lnTo>
                  <a:pt x="21600" y="10800"/>
                </a:lnTo>
                <a:lnTo>
                  <a:pt x="15949" y="0"/>
                </a:lnTo>
                <a:close/>
              </a:path>
              <a:path w="21600" h="21600">
                <a:moveTo>
                  <a:pt x="1350" y="8008"/>
                </a:moveTo>
                <a:lnTo>
                  <a:pt x="1350" y="13592"/>
                </a:lnTo>
                <a:lnTo>
                  <a:pt x="2700" y="13592"/>
                </a:lnTo>
                <a:lnTo>
                  <a:pt x="2700" y="8008"/>
                </a:lnTo>
                <a:lnTo>
                  <a:pt x="1350" y="8008"/>
                </a:lnTo>
                <a:close/>
              </a:path>
              <a:path w="21600" h="21600">
                <a:moveTo>
                  <a:pt x="0" y="8008"/>
                </a:moveTo>
                <a:lnTo>
                  <a:pt x="0" y="13592"/>
                </a:lnTo>
                <a:lnTo>
                  <a:pt x="675" y="13592"/>
                </a:lnTo>
                <a:lnTo>
                  <a:pt x="675" y="8008"/>
                </a:lnTo>
                <a:lnTo>
                  <a:pt x="0" y="8008"/>
                </a:lnTo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116000" y="1773360"/>
            <a:ext cx="7777080" cy="936360"/>
          </a:xfrm>
          <a:custGeom>
            <a:avLst/>
            <a:gdLst>
              <a:gd name="textAreaLeft" fmla="*/ 1470240 w 7777080"/>
              <a:gd name="textAreaRight" fmla="*/ 5529240 w 777708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8" hR="21600" stAng="10800000" swAng="5400000"/>
                <a:lnTo>
                  <a:pt x="11273" y="0"/>
                </a:lnTo>
                <a:arcTo wR="8168" hR="21600" stAng="-5400000" swAng="2815405"/>
                <a:lnTo>
                  <a:pt x="21133" y="14400"/>
                </a:lnTo>
                <a:lnTo>
                  <a:pt x="17888" y="21600"/>
                </a:lnTo>
                <a:lnTo>
                  <a:pt x="13708" y="14400"/>
                </a:lnTo>
                <a:lnTo>
                  <a:pt x="15868" y="14400"/>
                </a:lnTo>
                <a:arcTo wR="8168" hR="21600" stAng="-2584595" swAng="-2564176"/>
                <a:lnTo>
                  <a:pt x="9720" y="394"/>
                </a:lnTo>
                <a:arcTo wR="8168" hR="21600" stAng="-5651228" swAng="-5148772"/>
                <a:close/>
              </a:path>
              <a:path fill="darkenLess" w="21600" h="21600">
                <a:moveTo>
                  <a:pt x="0" y="21600"/>
                </a:moveTo>
                <a:arcTo wR="8168" hR="21600" stAng="10800000" swAng="5400000"/>
                <a:lnTo>
                  <a:pt x="8168" y="0"/>
                </a:lnTo>
                <a:arcTo wR="8168" hR="21600" stAng="-5400000" swAng="251228"/>
                <a:lnTo>
                  <a:pt x="9720" y="394"/>
                </a:lnTo>
                <a:arcTo wR="8168" hR="21600" stAng="-5651228" swAng="-5148772"/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21"/>
          <p:cNvSpPr txBox="1"/>
          <p:nvPr/>
        </p:nvSpPr>
        <p:spPr>
          <a:xfrm>
            <a:off x="0" y="48690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андно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дминистратив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6443640" y="4869000"/>
            <a:ext cx="21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ч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149360"/>
            <a:ext cx="7991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4221000"/>
            <a:ext cx="8569080" cy="2376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36007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52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0920" y="1197000"/>
            <a:ext cx="417816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оковая терап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74508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1682640" cy="24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124000" y="1484280"/>
            <a:ext cx="223992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4572000" y="1047600"/>
            <a:ext cx="4572000" cy="650376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радикальной модели реформ обусловлен, как правило, крайне тяжелым состоянием эконом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начительный удельный вес тяжелой «промышленности и военного производст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стрый товарный дефицит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критическое финансовое положение.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арактер экономического кризиса в Р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54"/>
          <p:cNvPicPr/>
          <p:nvPr/>
        </p:nvPicPr>
        <p:blipFill>
          <a:blip r:embed="rId1"/>
          <a:srcRect l="35658" t="10906" r="35546" b="47050"/>
          <a:stretch/>
        </p:blipFill>
        <p:spPr>
          <a:xfrm>
            <a:off x="6227640" y="1052640"/>
            <a:ext cx="2578320" cy="54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собенности экономического кризиса в нашей обла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лавное положение усиливало экономический криз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региона зависит от внешних связей с Россией и зарубежными стран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варь к урок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мотрите диаграмму в учебнике на с.213 Какие выводы можно сдел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стоительный завод «Янтарь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нинградский вагоностроитель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Завод «Кварц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Систем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Факе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люлозо - бумаж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Янтарный комбин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40:49Z</dcterms:created>
  <dc:creator>Света</dc:creator>
  <dc:description/>
  <dc:language>en-US</dc:language>
  <cp:lastModifiedBy>LEGION</cp:lastModifiedBy>
  <dcterms:modified xsi:type="dcterms:W3CDTF">2014-11-07T13:33:32Z</dcterms:modified>
  <cp:revision>5</cp:revision>
  <dc:subject/>
  <dc:title>Экономический кризис 1991 – 1998 гг.</dc:title>
</cp:coreProperties>
</file>