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633C-D1B0-4C01-BF29-F1DC251053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номическое развит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F23C-141F-4FDF-B7C0-13812D446D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D6B7-0B7F-4170-8157-66E161152E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D9B0-F88C-4366-935B-069D49FFCE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C4AB-EDA4-4334-B12F-A6D4E50B8B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F114-556A-429A-AFD0-26B6F4022D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B349-25B2-4979-A5C9-E21D62EE6C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4FC1-37E8-485C-BB95-8DE8BB6C03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B9F4-42E7-4C15-9103-FA224C6597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ADAD-3D4D-4227-9852-6B95F40BD0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7B22-CF73-4453-B9B2-6732BA0488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F58C-C4B3-4E89-853E-2A65FF616C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84DB-90F8-43A4-877F-66FB48B588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4BB6-E4E6-4836-AC82-4F53326473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22C6-3214-425D-8B92-C4AF637726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887-C740-4B3F-A68E-231B397D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686-2650-439C-82C6-89DF1ADE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BBD-DEE6-46AA-9A0C-A3D139B4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103-D64B-474E-BC6E-8D459CA1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576-5606-467A-BE82-EF6BD491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2EE-702A-4EE8-A5C8-5B3F773A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B7C-DE3D-468B-8227-B2A6999C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9BD-2C96-4B98-AEB2-C9E98652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A22-E5DE-451F-ABD3-E3F219C9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BE4-91DE-44BC-B2C1-85381E81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DC1-6AAA-4083-A0A4-58B81EA9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3B4-CF1C-46FD-870D-3402DA5A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0B2F-1163-4739-9918-C5888A6D347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41AD-EC11-493C-8387-F29A38B24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991bee8417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9" name="Рисунок 2" descr="1225098567_180px-nicholas_ii_of_russia_photograph.jpg"/>
          <p:cNvPicPr/>
          <p:nvPr/>
        </p:nvPicPr>
        <p:blipFill>
          <a:blip r:embed="rId2"/>
          <a:stretch/>
        </p:blipFill>
        <p:spPr>
          <a:xfrm>
            <a:off x="285840" y="1139760"/>
            <a:ext cx="1469880" cy="2041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счмсчмчс.jpg"/>
          <p:cNvPicPr/>
          <p:nvPr/>
        </p:nvPicPr>
        <p:blipFill>
          <a:blip r:embed="rId3"/>
          <a:stretch/>
        </p:blipFill>
        <p:spPr>
          <a:xfrm>
            <a:off x="6997680" y="1359000"/>
            <a:ext cx="182880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_a853_228ad20f_L.jpeg"/>
          <p:cNvPicPr/>
          <p:nvPr/>
        </p:nvPicPr>
        <p:blipFill>
          <a:blip r:embed="rId4"/>
          <a:stretch/>
        </p:blipFill>
        <p:spPr>
          <a:xfrm>
            <a:off x="6218280" y="3713040"/>
            <a:ext cx="2681280" cy="1955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Витте.jpeg"/>
          <p:cNvPicPr/>
          <p:nvPr/>
        </p:nvPicPr>
        <p:blipFill>
          <a:blip r:embed="rId5"/>
          <a:stretch/>
        </p:blipFill>
        <p:spPr>
          <a:xfrm>
            <a:off x="927000" y="3645000"/>
            <a:ext cx="1279800" cy="1896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6"/>
          <a:stretch/>
        </p:blipFill>
        <p:spPr>
          <a:xfrm>
            <a:off x="438120" y="1596960"/>
            <a:ext cx="8199360" cy="3114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kontora164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img4173_15390.jpg"/>
          <p:cNvPicPr/>
          <p:nvPr/>
        </p:nvPicPr>
        <p:blipFill>
          <a:blip r:embed="rId1"/>
          <a:stretch/>
        </p:blipFill>
        <p:spPr>
          <a:xfrm>
            <a:off x="0" y="0"/>
            <a:ext cx="5075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TextBox 2"/>
          <p:cNvSpPr/>
          <p:nvPr/>
        </p:nvSpPr>
        <p:spPr>
          <a:xfrm>
            <a:off x="6143760" y="5643720"/>
            <a:ext cx="2000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лигация компании братьев Ноб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0r1899.jpg"/>
          <p:cNvPicPr/>
          <p:nvPr/>
        </p:nvPicPr>
        <p:blipFill>
          <a:blip r:embed="rId2"/>
          <a:stretch/>
        </p:blipFill>
        <p:spPr>
          <a:xfrm>
            <a:off x="5357880" y="357120"/>
            <a:ext cx="3429000" cy="1720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500800" y="2357280"/>
            <a:ext cx="314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иколаевский» золотой рубль- имп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14200" y="214200"/>
            <a:ext cx="8643960" cy="2014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Нобель.jpg"/>
          <p:cNvPicPr/>
          <p:nvPr/>
        </p:nvPicPr>
        <p:blipFill>
          <a:blip r:embed="rId1"/>
          <a:stretch/>
        </p:blipFill>
        <p:spPr>
          <a:xfrm>
            <a:off x="285840" y="2357280"/>
            <a:ext cx="628308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858000" y="5286240"/>
            <a:ext cx="2000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пуса монополии «Нобель-Мазут» в Б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Комплекс построек товарищества Невской бумагопрядильной мануфактуры.jpeg"/>
          <p:cNvPicPr/>
          <p:nvPr/>
        </p:nvPicPr>
        <p:blipFill>
          <a:blip r:embed="rId1"/>
          <a:stretch/>
        </p:blipFill>
        <p:spPr>
          <a:xfrm>
            <a:off x="1071720" y="285840"/>
            <a:ext cx="6972120" cy="25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TextBox 2"/>
          <p:cNvSpPr/>
          <p:nvPr/>
        </p:nvSpPr>
        <p:spPr>
          <a:xfrm>
            <a:off x="1071720" y="2928960"/>
            <a:ext cx="6929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Работы по постройке шлюза. Кузминского, 1912.jpg"/>
          <p:cNvPicPr/>
          <p:nvPr/>
        </p:nvPicPr>
        <p:blipFill>
          <a:blip r:embed="rId2"/>
          <a:stretch/>
        </p:blipFill>
        <p:spPr>
          <a:xfrm>
            <a:off x="428760" y="3429000"/>
            <a:ext cx="3500280" cy="31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TextBox 4"/>
          <p:cNvSpPr/>
          <p:nvPr/>
        </p:nvSpPr>
        <p:spPr>
          <a:xfrm>
            <a:off x="4286160" y="5786280"/>
            <a:ext cx="2000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о постройке Кузьминского шлюза. 19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Работа на Бакальском руднике, 19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TextBox 2"/>
          <p:cNvSpPr/>
          <p:nvPr/>
        </p:nvSpPr>
        <p:spPr>
          <a:xfrm>
            <a:off x="500040" y="6215040"/>
            <a:ext cx="82868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бота на Бакальском руднике. 19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russian_adv_056.jpg"/>
          <p:cNvPicPr/>
          <p:nvPr/>
        </p:nvPicPr>
        <p:blipFill>
          <a:blip r:embed="rId1"/>
          <a:stretch/>
        </p:blipFill>
        <p:spPr>
          <a:xfrm>
            <a:off x="4929120" y="3357720"/>
            <a:ext cx="4214880" cy="28382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3" name="Рисунок 2" descr="Русская реклама начала века.jp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3139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4" name="Рисунок 3" descr="russian_adv_045.jpg"/>
          <p:cNvPicPr/>
          <p:nvPr/>
        </p:nvPicPr>
        <p:blipFill>
          <a:blip r:embed="rId3"/>
          <a:stretch/>
        </p:blipFill>
        <p:spPr>
          <a:xfrm>
            <a:off x="0" y="0"/>
            <a:ext cx="407052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5" name="TextBox 4"/>
          <p:cNvSpPr/>
          <p:nvPr/>
        </p:nvSpPr>
        <p:spPr>
          <a:xfrm>
            <a:off x="457200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клама начала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4572000" y="214200"/>
            <a:ext cx="4286160" cy="5882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793_5.jpg"/>
          <p:cNvPicPr/>
          <p:nvPr/>
        </p:nvPicPr>
        <p:blipFill>
          <a:blip r:embed="rId1"/>
          <a:stretch/>
        </p:blipFill>
        <p:spPr>
          <a:xfrm>
            <a:off x="285840" y="214200"/>
            <a:ext cx="4071960" cy="2940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9" name="TextBox 3"/>
          <p:cNvSpPr/>
          <p:nvPr/>
        </p:nvSpPr>
        <p:spPr>
          <a:xfrm>
            <a:off x="285840" y="328608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работка земли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skala3_0.jpg"/>
          <p:cNvPicPr/>
          <p:nvPr/>
        </p:nvPicPr>
        <p:blipFill>
          <a:blip r:embed="rId2"/>
          <a:stretch/>
        </p:blipFill>
        <p:spPr>
          <a:xfrm>
            <a:off x="285840" y="3714840"/>
            <a:ext cx="4071960" cy="2500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51" name="TextBox 5"/>
          <p:cNvSpPr/>
          <p:nvPr/>
        </p:nvSpPr>
        <p:spPr>
          <a:xfrm>
            <a:off x="28584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естьянская семья на отдыхе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285840" y="214200"/>
            <a:ext cx="8572320" cy="398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ширяем словарный запа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85840" y="785880"/>
            <a:ext cx="8572320" cy="5031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85840" y="138132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5"/>
          <p:cNvSpPr/>
          <p:nvPr/>
        </p:nvSpPr>
        <p:spPr>
          <a:xfrm>
            <a:off x="3500280" y="0"/>
            <a:ext cx="1571760" cy="13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214200"/>
            <a:ext cx="857232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85840" y="1214280"/>
            <a:ext cx="8572320" cy="301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Korona_1.gif"/>
          <p:cNvPicPr/>
          <p:nvPr/>
        </p:nvPicPr>
        <p:blipFill>
          <a:blip r:embed="rId3"/>
          <a:stretch/>
        </p:blipFill>
        <p:spPr>
          <a:xfrm>
            <a:off x="3786120" y="4857840"/>
            <a:ext cx="1635120" cy="18572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age001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Рисунок 2" descr="Витте.jpeg"/>
          <p:cNvPicPr/>
          <p:nvPr/>
        </p:nvPicPr>
        <p:blipFill>
          <a:blip r:embed="rId2"/>
          <a:stretch/>
        </p:blipFill>
        <p:spPr>
          <a:xfrm>
            <a:off x="714240" y="3214800"/>
            <a:ext cx="1785960" cy="264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TextBox 3"/>
          <p:cNvSpPr/>
          <p:nvPr/>
        </p:nvSpPr>
        <p:spPr>
          <a:xfrm>
            <a:off x="714240" y="6000840"/>
            <a:ext cx="3500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.Витте. Министр финансов империи в 1892—190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14200" y="214200"/>
            <a:ext cx="8643960" cy="673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агетная рамка 2"/>
          <p:cNvSpPr/>
          <p:nvPr/>
        </p:nvSpPr>
        <p:spPr>
          <a:xfrm>
            <a:off x="285840" y="1071720"/>
            <a:ext cx="2357280" cy="1214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железных до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3"/>
          <p:cNvSpPr/>
          <p:nvPr/>
        </p:nvSpPr>
        <p:spPr>
          <a:xfrm>
            <a:off x="2786040" y="1214280"/>
            <a:ext cx="1428840" cy="10004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лужило толч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блако 7"/>
          <p:cNvSpPr/>
          <p:nvPr/>
        </p:nvSpPr>
        <p:spPr>
          <a:xfrm>
            <a:off x="5786280" y="2714760"/>
            <a:ext cx="3071880" cy="185724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ашиностр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блако 11"/>
          <p:cNvSpPr/>
          <p:nvPr/>
        </p:nvSpPr>
        <p:spPr>
          <a:xfrm>
            <a:off x="4572000" y="1000080"/>
            <a:ext cx="3071880" cy="185760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еталлу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блако 12"/>
          <p:cNvSpPr/>
          <p:nvPr/>
        </p:nvSpPr>
        <p:spPr>
          <a:xfrm>
            <a:off x="2714760" y="3286080"/>
            <a:ext cx="264312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Л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блако 13"/>
          <p:cNvSpPr/>
          <p:nvPr/>
        </p:nvSpPr>
        <p:spPr>
          <a:xfrm>
            <a:off x="0" y="2428920"/>
            <a:ext cx="250020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СО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лако 14"/>
          <p:cNvSpPr/>
          <p:nvPr/>
        </p:nvSpPr>
        <p:spPr>
          <a:xfrm>
            <a:off x="428760" y="4786200"/>
            <a:ext cx="2571480" cy="150048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фт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16"/>
          <p:cNvCxnSpPr/>
          <p:nvPr/>
        </p:nvCxnSpPr>
        <p:spPr>
          <a:xfrm>
            <a:off x="7642800" y="2214720"/>
            <a:ext cx="143640" cy="3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7"/>
          <p:cNvCxnSpPr/>
          <p:nvPr/>
        </p:nvCxnSpPr>
        <p:spPr>
          <a:xfrm flipH="1">
            <a:off x="5285520" y="3785040"/>
            <a:ext cx="500760" cy="72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19"/>
          <p:cNvCxnSpPr/>
          <p:nvPr/>
        </p:nvCxnSpPr>
        <p:spPr>
          <a:xfrm flipH="1">
            <a:off x="2642400" y="2499120"/>
            <a:ext cx="178668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22"/>
          <p:cNvCxnSpPr/>
          <p:nvPr/>
        </p:nvCxnSpPr>
        <p:spPr>
          <a:xfrm flipH="1">
            <a:off x="3142800" y="4500720"/>
            <a:ext cx="314424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24"/>
          <p:cNvCxnSpPr/>
          <p:nvPr/>
        </p:nvCxnSpPr>
        <p:spPr>
          <a:xfrm flipV="1">
            <a:off x="1499760" y="4071960"/>
            <a:ext cx="10724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Равно 26"/>
          <p:cNvSpPr/>
          <p:nvPr/>
        </p:nvSpPr>
        <p:spPr>
          <a:xfrm>
            <a:off x="3857760" y="5429160"/>
            <a:ext cx="1571400" cy="642960"/>
          </a:xfrm>
          <a:custGeom>
            <a:avLst/>
            <a:gdLst/>
            <a:ahLst/>
            <a:rect l="l" t="t" r="r" b="b"/>
            <a:pathLst>
              <a:path w="1571625" h="642938">
                <a:moveTo>
                  <a:pt x="208319" y="132445"/>
                </a:moveTo>
                <a:lnTo>
                  <a:pt x="1363306" y="132445"/>
                </a:lnTo>
                <a:lnTo>
                  <a:pt x="1363306" y="283664"/>
                </a:lnTo>
                <a:lnTo>
                  <a:pt x="208319" y="283664"/>
                </a:lnTo>
                <a:lnTo>
                  <a:pt x="208319" y="132445"/>
                </a:lnTo>
                <a:close/>
                <a:moveTo>
                  <a:pt x="208319" y="359274"/>
                </a:moveTo>
                <a:lnTo>
                  <a:pt x="1363306" y="359274"/>
                </a:lnTo>
                <a:lnTo>
                  <a:pt x="1363306" y="510493"/>
                </a:lnTo>
                <a:lnTo>
                  <a:pt x="208319" y="510493"/>
                </a:lnTo>
                <a:lnTo>
                  <a:pt x="208319" y="35927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5786280" y="4929120"/>
            <a:ext cx="264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8,1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3714840" y="6215040"/>
            <a:ext cx="507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мый высокий промышленный рост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1" descr="3243169_1_23566.jpg"/>
          <p:cNvPicPr/>
          <p:nvPr/>
        </p:nvPicPr>
        <p:blipFill>
          <a:blip r:embed="rId1"/>
          <a:stretch/>
        </p:blipFill>
        <p:spPr>
          <a:xfrm>
            <a:off x="7785000" y="1000080"/>
            <a:ext cx="1073160" cy="1036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old-05.jpg"/>
          <p:cNvPicPr/>
          <p:nvPr/>
        </p:nvPicPr>
        <p:blipFill>
          <a:blip r:embed="rId1"/>
          <a:stretch/>
        </p:blipFill>
        <p:spPr>
          <a:xfrm>
            <a:off x="285840" y="642960"/>
            <a:ext cx="4043160" cy="25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Рисунок 2" descr="Великий Сибирский путь (транссибирская железнодорожная магистраль..jpg"/>
          <p:cNvPicPr/>
          <p:nvPr/>
        </p:nvPicPr>
        <p:blipFill>
          <a:blip r:embed="rId2"/>
          <a:stretch/>
        </p:blipFill>
        <p:spPr>
          <a:xfrm>
            <a:off x="285840" y="3251160"/>
            <a:ext cx="5286240" cy="32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Рисунок 3" descr="Транссиб. Мост через Обь..jpg"/>
          <p:cNvPicPr/>
          <p:nvPr/>
        </p:nvPicPr>
        <p:blipFill>
          <a:blip r:embed="rId3"/>
          <a:stretch/>
        </p:blipFill>
        <p:spPr>
          <a:xfrm>
            <a:off x="4786200" y="642960"/>
            <a:ext cx="3857760" cy="24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TextBox 4"/>
          <p:cNvSpPr/>
          <p:nvPr/>
        </p:nvSpPr>
        <p:spPr>
          <a:xfrm>
            <a:off x="6072120" y="4786200"/>
            <a:ext cx="26431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анссиб, укладка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ст через Об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ркутск, прибытие первого поезда по Трансси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85840" y="142920"/>
            <a:ext cx="8572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2"/>
          <p:cNvSpPr/>
          <p:nvPr/>
        </p:nvSpPr>
        <p:spPr>
          <a:xfrm>
            <a:off x="4357800" y="1214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857680" y="185724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ству промышленности на душу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857680" y="314316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857680" y="421488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ической оснащенности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7800" y="257184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8"/>
          <p:cNvSpPr/>
          <p:nvPr/>
        </p:nvSpPr>
        <p:spPr>
          <a:xfrm>
            <a:off x="4357800" y="357192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 9"/>
          <p:cNvSpPr/>
          <p:nvPr/>
        </p:nvSpPr>
        <p:spPr>
          <a:xfrm>
            <a:off x="3929040" y="4929120"/>
            <a:ext cx="1428840" cy="857160"/>
          </a:xfrm>
          <a:custGeom>
            <a:avLst/>
            <a:gdLst/>
            <a:ahLst/>
            <a:rect l="l" t="t" r="r" b="b"/>
            <a:pathLst>
              <a:path w="1428750" h="857250">
                <a:moveTo>
                  <a:pt x="189381" y="176594"/>
                </a:moveTo>
                <a:lnTo>
                  <a:pt x="1239369" y="176594"/>
                </a:lnTo>
                <a:lnTo>
                  <a:pt x="1239369" y="378219"/>
                </a:lnTo>
                <a:lnTo>
                  <a:pt x="189381" y="378219"/>
                </a:lnTo>
                <a:lnTo>
                  <a:pt x="189381" y="176594"/>
                </a:lnTo>
                <a:close/>
                <a:moveTo>
                  <a:pt x="189381" y="479031"/>
                </a:moveTo>
                <a:lnTo>
                  <a:pt x="1239369" y="479031"/>
                </a:lnTo>
                <a:lnTo>
                  <a:pt x="1239369" y="680657"/>
                </a:lnTo>
                <a:lnTo>
                  <a:pt x="189381" y="680657"/>
                </a:lnTo>
                <a:lnTo>
                  <a:pt x="189381" y="47903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785880" y="5857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ывая это, Россия являлась среднеразвитой аграрно-индустриальной страной, со значительны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2" descr="3243169_1_23566.jpg"/>
          <p:cNvPicPr/>
          <p:nvPr/>
        </p:nvPicPr>
        <p:blipFill>
          <a:blip r:embed="rId1"/>
          <a:stretch/>
        </p:blipFill>
        <p:spPr>
          <a:xfrm>
            <a:off x="6718320" y="2286000"/>
            <a:ext cx="1949400" cy="1884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3243169_1_23566.jpg"/>
          <p:cNvPicPr/>
          <p:nvPr/>
        </p:nvPicPr>
        <p:blipFill>
          <a:blip r:embed="rId2"/>
          <a:stretch/>
        </p:blipFill>
        <p:spPr>
          <a:xfrm>
            <a:off x="500040" y="2286000"/>
            <a:ext cx="1951200" cy="18842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Горизонтальный свиток 2"/>
          <p:cNvSpPr/>
          <p:nvPr/>
        </p:nvSpPr>
        <p:spPr>
          <a:xfrm>
            <a:off x="357120" y="1285920"/>
            <a:ext cx="2928960" cy="78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 ТАКЖ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357720" y="221472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гулировало 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857840" y="278604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водило таможенные пош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429160" y="3357720"/>
            <a:ext cx="3500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авало казенные заказы частным компаниям и фир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00760" y="428616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оставляло кредиты через Гос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Красный выбуржец.jpg"/>
          <p:cNvPicPr/>
          <p:nvPr/>
        </p:nvPicPr>
        <p:blipFill>
          <a:blip r:embed="rId1"/>
          <a:stretch/>
        </p:blipFill>
        <p:spPr>
          <a:xfrm>
            <a:off x="285840" y="2857680"/>
            <a:ext cx="428616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TextBox 8"/>
          <p:cNvSpPr/>
          <p:nvPr/>
        </p:nvSpPr>
        <p:spPr>
          <a:xfrm>
            <a:off x="714240" y="5786280"/>
            <a:ext cx="3500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вый русский меднопрокатный завод. /Красный выборжец/.  Санкт-Петербур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14200" y="214200"/>
            <a:ext cx="8643960" cy="7038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Горизонтальный свиток 2"/>
          <p:cNvSpPr/>
          <p:nvPr/>
        </p:nvSpPr>
        <p:spPr>
          <a:xfrm>
            <a:off x="3143160" y="1071720"/>
            <a:ext cx="2928960" cy="7855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ФОРМА ВИТ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786040" y="2071800"/>
            <a:ext cx="3714840" cy="3682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риток иностранных инвест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5712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мец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5002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анцуз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65008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глий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14200" y="3500280"/>
            <a:ext cx="25718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ротехника, химическое производство, металлургия, металлообработка, торгов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000240" y="3500280"/>
            <a:ext cx="32148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ьная, металлургия, металлообработка, машиностроение, нефтедобы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6357960" y="3500280"/>
            <a:ext cx="2571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фтяная, цветные метал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214200" y="5072040"/>
            <a:ext cx="8643960" cy="1008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остранцы не имели самостоятельной экономической политики и зависели от государства сливаясь с русской экономикой, но львиная доля доходов от их компаний утекала за гра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3:02:36Z</dcterms:created>
  <dc:creator>1</dc:creator>
  <dc:description/>
  <dc:language>en-US</dc:language>
  <cp:lastModifiedBy>LEGION</cp:lastModifiedBy>
  <dcterms:modified xsi:type="dcterms:W3CDTF">2015-01-14T10:07:58Z</dcterms:modified>
  <cp:revision>19</cp:revision>
  <dc:subject/>
  <dc:title>Слайд 1</dc:title>
</cp:coreProperties>
</file>