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A5D1-71E5-4FC3-8665-E77C391E3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номическое развит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2B7-D0DD-41D4-810A-A18AABC39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DF06-6F06-46D1-B4B5-EA0287632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CD5-4AD3-47D0-AE06-89C5370E3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CAA-745F-44A8-9132-57F7526365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0DC-4DD0-446B-921E-9D47ABE2E4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D8D5-EFBA-4646-965F-FC6149683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F9F7-BCED-4DA4-ABD7-E757F3CCF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100F-801F-436D-BDE6-86388BB7C7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5F4-47E3-42B4-9973-39D06975D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BE8-FA44-48D1-95EC-7C140B113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C45-B170-4C0F-9CCD-95F820397F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03E-C5B0-4697-92C9-6A65FECB8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1A8-344F-409F-8BAC-3B9351B9A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CFE-4ED9-4912-9D80-8A616CDE2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F3F-E137-4999-A125-FEB488BB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613-9CB5-46EC-879E-460DE4E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16E-C38A-45CF-BCFC-73CA9104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CAD-26DE-4E3A-8E70-A7B8B542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55A-56BE-4BF9-B38A-78A4BDF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7C2-09EA-4E31-AAD2-2805F17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E58-76D1-4CF1-AD11-AF753A5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0EF-E3BB-4DC3-AA38-92CB92AA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E80-98D4-4FC2-9598-BC97E12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C8C-30C6-4DBA-ACEC-36EB357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028-B671-472F-9C38-7296C66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2FD-DC6B-4FCC-87FD-6DD16E2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A0D-71D8-4438-B895-33D31EAA49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82E-2CB4-46C8-8765-6BE1A327D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991bee8417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9" name="Рисунок 2" descr="1225098567_180px-nicholas_ii_of_russia_photograph.jpg"/>
          <p:cNvPicPr/>
          <p:nvPr/>
        </p:nvPicPr>
        <p:blipFill>
          <a:blip r:embed="rId2"/>
          <a:stretch/>
        </p:blipFill>
        <p:spPr>
          <a:xfrm>
            <a:off x="285840" y="1139760"/>
            <a:ext cx="146988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счмсчмчс.jpg"/>
          <p:cNvPicPr/>
          <p:nvPr/>
        </p:nvPicPr>
        <p:blipFill>
          <a:blip r:embed="rId3"/>
          <a:stretch/>
        </p:blipFill>
        <p:spPr>
          <a:xfrm>
            <a:off x="6997680" y="1359000"/>
            <a:ext cx="182880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a853_228ad20f_L.jpeg"/>
          <p:cNvPicPr/>
          <p:nvPr/>
        </p:nvPicPr>
        <p:blipFill>
          <a:blip r:embed="rId4"/>
          <a:stretch/>
        </p:blipFill>
        <p:spPr>
          <a:xfrm>
            <a:off x="6218280" y="3713040"/>
            <a:ext cx="2681280" cy="195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Витте.jpeg"/>
          <p:cNvPicPr/>
          <p:nvPr/>
        </p:nvPicPr>
        <p:blipFill>
          <a:blip r:embed="rId5"/>
          <a:stretch/>
        </p:blipFill>
        <p:spPr>
          <a:xfrm>
            <a:off x="927000" y="3645000"/>
            <a:ext cx="1279800" cy="1896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6"/>
          <a:stretch/>
        </p:blipFill>
        <p:spPr>
          <a:xfrm>
            <a:off x="438120" y="1596960"/>
            <a:ext cx="8199360" cy="3114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kontora164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g4173_15390.jpg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Box 2"/>
          <p:cNvSpPr/>
          <p:nvPr/>
        </p:nvSpPr>
        <p:spPr>
          <a:xfrm>
            <a:off x="6143760" y="5643720"/>
            <a:ext cx="2000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лигация компании братьев Ноб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0r1899.jpg"/>
          <p:cNvPicPr/>
          <p:nvPr/>
        </p:nvPicPr>
        <p:blipFill>
          <a:blip r:embed="rId2"/>
          <a:stretch/>
        </p:blipFill>
        <p:spPr>
          <a:xfrm>
            <a:off x="5357880" y="357120"/>
            <a:ext cx="3429000" cy="1720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500800" y="235728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14200" y="214200"/>
            <a:ext cx="8643960" cy="2014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На волне мировог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экономического кризиса 1900-1903 гг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в России пострадали предприятия тяжелой промышленности, погибли слабые, малые предприятия, отстающие в финансовом и техническом оснащении. Закрылось свыш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тыс. предприят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которых работ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12 тыс. рабочих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тветом капитализма стало создание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монопол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Крупнейшими был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ПРОДАМЕТА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901), «Продуголь», «Продвагон», «Гвоздь», объединивших под своим началом десятки круп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Нобель.jpg"/>
          <p:cNvPicPr/>
          <p:nvPr/>
        </p:nvPicPr>
        <p:blipFill>
          <a:blip r:embed="rId1"/>
          <a:stretch/>
        </p:blipFill>
        <p:spPr>
          <a:xfrm>
            <a:off x="285840" y="2357280"/>
            <a:ext cx="628308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858000" y="5286240"/>
            <a:ext cx="2000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пуса монополии «Нобель-Мазут» в Б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Комплекс построек товарищества Невской бумагопрядильной мануфактуры.jpeg"/>
          <p:cNvPicPr/>
          <p:nvPr/>
        </p:nvPicPr>
        <p:blipFill>
          <a:blip r:embed="rId1"/>
          <a:stretch/>
        </p:blipFill>
        <p:spPr>
          <a:xfrm>
            <a:off x="1071720" y="285840"/>
            <a:ext cx="697212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TextBox 2"/>
          <p:cNvSpPr/>
          <p:nvPr/>
        </p:nvSpPr>
        <p:spPr>
          <a:xfrm>
            <a:off x="1071720" y="2928960"/>
            <a:ext cx="692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построек товарищества Невской бумагопрядильной мануфа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Работы по постройке шлюза. Кузминского, 1912.jpg"/>
          <p:cNvPicPr/>
          <p:nvPr/>
        </p:nvPicPr>
        <p:blipFill>
          <a:blip r:embed="rId2"/>
          <a:stretch/>
        </p:blipFill>
        <p:spPr>
          <a:xfrm>
            <a:off x="428760" y="3429000"/>
            <a:ext cx="3500280" cy="31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TextBox 4"/>
          <p:cNvSpPr/>
          <p:nvPr/>
        </p:nvSpPr>
        <p:spPr>
          <a:xfrm>
            <a:off x="4286160" y="5786280"/>
            <a:ext cx="20005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о постройке Кузьминского шлюза. 19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Работа на Бакальском руднике, 1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TextBox 2"/>
          <p:cNvSpPr/>
          <p:nvPr/>
        </p:nvSpPr>
        <p:spPr>
          <a:xfrm>
            <a:off x="500040" y="6215040"/>
            <a:ext cx="82868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а на Бакальском руднике. 19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929120" y="3357720"/>
            <a:ext cx="4214880" cy="2838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3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39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0" y="0"/>
            <a:ext cx="407052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457200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4572000" y="214200"/>
            <a:ext cx="4286160" cy="5882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5. В начале ХХ в. Россия-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первая в мире по объему сельхозпродукции.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а долю России приходилось 50% мирового сбора ржи, 20% пшеницы, 25% экспорта зерна. Несмотря на это С/Х развивалось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самотеком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Поля обрабатывались вручную сохой и бороной, не было удобрений, урожайность низкая. В деревне часто 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голод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. Тормозило развитие С/Х сохранение </a:t>
            </a:r>
            <a:r>
              <a:rPr b="1" i="1" lang="ru-RU" sz="1900" spc="-1" strike="noStrike">
                <a:solidFill>
                  <a:srgbClr val="ff0000"/>
                </a:solidFill>
                <a:latin typeface="Calibri"/>
              </a:rPr>
              <a:t>общины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и помещичьих хозяйств. На 20 млн. крестьянских хозяйств приходилось 130 тыс. помещичьих. У общины было 4/5 всей крестьянской земли. Также проблемой были «лишние рты» в деревне. Земли всем не хватало, а продуманной переселенческой политикой государство не занималос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793_5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294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49" name="TextBox 3"/>
          <p:cNvSpPr/>
          <p:nvPr/>
        </p:nvSpPr>
        <p:spPr>
          <a:xfrm>
            <a:off x="285840" y="328608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ботка земли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kala3_0.jpg"/>
          <p:cNvPicPr/>
          <p:nvPr/>
        </p:nvPicPr>
        <p:blipFill>
          <a:blip r:embed="rId2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285840" y="6357960"/>
            <a:ext cx="4071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естьянская семья на отдыхе. Начало ХХ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фиксиров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85840" y="214200"/>
            <a:ext cx="8572320" cy="398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ем словарный запа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785880"/>
            <a:ext cx="8572320" cy="5031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нве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олгосрочные вложения капитала с целью получения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р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стейшая форма монополистического объединения. Каждое предприятие, вошедшее в картель, сохраняет финансовую и производственн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нцер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форма объединений предприятий, сохраняющих финансовую самостоятельность, но подчиненных финансовому контролю руко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нопол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рупнейшие предприятия поглотившие более мелкие, с целью избавления от конкуренции в выпуске какого-либо определенн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индика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компания в которой сбыт продукции, распределение заказов осуществляется централизов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е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— одна из форм монополистических объединений, в рамках которой участники теряют производственную, коммерческую, а порой даже юридическую самосто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85840" y="138132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ую роль играло государство в экономике России начала XX в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ем объяснялся интерес России к привлечению иностранных капита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отрасли экономики страны были монополизированы государством? Почему именно э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грарный вопрос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рвоочередной в проведении экономической модернизации России. Так ли это? Докаж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3500280" y="0"/>
            <a:ext cx="1571760" cy="1357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214200"/>
            <a:ext cx="85723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85840" y="1214280"/>
            <a:ext cx="8572320" cy="301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экономика на рубеж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ль государства в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остранный кап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ий монополистический капитал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Korona_1.gif"/>
          <p:cNvPicPr/>
          <p:nvPr/>
        </p:nvPicPr>
        <p:blipFill>
          <a:blip r:embed="rId3"/>
          <a:stretch/>
        </p:blipFill>
        <p:spPr>
          <a:xfrm>
            <a:off x="3786120" y="4857840"/>
            <a:ext cx="16351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214200"/>
            <a:ext cx="86439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На уро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928800"/>
            <a:ext cx="8572680" cy="32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акими сложностями сталкивалось развитие капитализма в России? Что тормозило развитие экономики в ст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тетр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в параграфе определения и записать в тетради  следующие понятия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вестиции, картель, концерн, монополии, синдикат, тр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Korona_1.gif"/>
          <p:cNvPicPr/>
          <p:nvPr/>
        </p:nvPicPr>
        <p:blipFill>
          <a:blip r:embed="rId3"/>
          <a:stretch/>
        </p:blipFill>
        <p:spPr>
          <a:xfrm>
            <a:off x="3357720" y="4214880"/>
            <a:ext cx="220176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age00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Рисунок 2" descr="Витте.jpeg"/>
          <p:cNvPicPr/>
          <p:nvPr/>
        </p:nvPicPr>
        <p:blipFill>
          <a:blip r:embed="rId2"/>
          <a:stretch/>
        </p:blipFill>
        <p:spPr>
          <a:xfrm>
            <a:off x="714240" y="3214800"/>
            <a:ext cx="1785960" cy="264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Box 3"/>
          <p:cNvSpPr/>
          <p:nvPr/>
        </p:nvSpPr>
        <p:spPr>
          <a:xfrm>
            <a:off x="714240" y="6000840"/>
            <a:ext cx="350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.Витте. Министр финансов империи в 1892—190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14200" y="214200"/>
            <a:ext cx="8643960" cy="673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начале ХХ века, Россия оставалась отсталой страной, переживавшей бурный промышленный подъем. Толчком ее развития оставалось Ж/Д строи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агетная рамка 2"/>
          <p:cNvSpPr/>
          <p:nvPr/>
        </p:nvSpPr>
        <p:spPr>
          <a:xfrm>
            <a:off x="285840" y="1071720"/>
            <a:ext cx="2357280" cy="1214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1214280"/>
            <a:ext cx="1428840" cy="1000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лужило тол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7"/>
          <p:cNvSpPr/>
          <p:nvPr/>
        </p:nvSpPr>
        <p:spPr>
          <a:xfrm>
            <a:off x="5786280" y="2714760"/>
            <a:ext cx="3071880" cy="185724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11"/>
          <p:cNvSpPr/>
          <p:nvPr/>
        </p:nvSpPr>
        <p:spPr>
          <a:xfrm>
            <a:off x="4572000" y="1000080"/>
            <a:ext cx="3071880" cy="185760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ю металл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лако 12"/>
          <p:cNvSpPr/>
          <p:nvPr/>
        </p:nvSpPr>
        <p:spPr>
          <a:xfrm>
            <a:off x="2714760" y="3286080"/>
            <a:ext cx="264312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3"/>
          <p:cNvSpPr/>
          <p:nvPr/>
        </p:nvSpPr>
        <p:spPr>
          <a:xfrm>
            <a:off x="0" y="2428920"/>
            <a:ext cx="2500200" cy="1500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4"/>
          <p:cNvSpPr/>
          <p:nvPr/>
        </p:nvSpPr>
        <p:spPr>
          <a:xfrm>
            <a:off x="428760" y="4786200"/>
            <a:ext cx="2571480" cy="150048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16"/>
          <p:cNvCxnSpPr/>
          <p:nvPr/>
        </p:nvCxnSpPr>
        <p:spPr>
          <a:xfrm>
            <a:off x="7642800" y="2214720"/>
            <a:ext cx="1436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7"/>
          <p:cNvCxnSpPr/>
          <p:nvPr/>
        </p:nvCxnSpPr>
        <p:spPr>
          <a:xfrm flipH="1">
            <a:off x="5285520" y="3785040"/>
            <a:ext cx="500760" cy="72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19"/>
          <p:cNvCxnSpPr/>
          <p:nvPr/>
        </p:nvCxnSpPr>
        <p:spPr>
          <a:xfrm flipH="1">
            <a:off x="2642400" y="24991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22"/>
          <p:cNvCxnSpPr/>
          <p:nvPr/>
        </p:nvCxnSpPr>
        <p:spPr>
          <a:xfrm flipH="1">
            <a:off x="3142800" y="4500720"/>
            <a:ext cx="314424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24"/>
          <p:cNvCxnSpPr/>
          <p:nvPr/>
        </p:nvCxnSpPr>
        <p:spPr>
          <a:xfrm flipV="1">
            <a:off x="1499760" y="4071960"/>
            <a:ext cx="10724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Равно 26"/>
          <p:cNvSpPr/>
          <p:nvPr/>
        </p:nvSpPr>
        <p:spPr>
          <a:xfrm>
            <a:off x="3857760" y="5429160"/>
            <a:ext cx="157140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5786280" y="4929120"/>
            <a:ext cx="26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3714840" y="6215040"/>
            <a:ext cx="507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1" descr="3243169_1_23566.jpg"/>
          <p:cNvPicPr/>
          <p:nvPr/>
        </p:nvPicPr>
        <p:blipFill>
          <a:blip r:embed="rId1"/>
          <a:stretch/>
        </p:blipFill>
        <p:spPr>
          <a:xfrm>
            <a:off x="7785000" y="1000080"/>
            <a:ext cx="1073160" cy="1036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old-05.jpg"/>
          <p:cNvPicPr/>
          <p:nvPr/>
        </p:nvPicPr>
        <p:blipFill>
          <a:blip r:embed="rId1"/>
          <a:stretch/>
        </p:blipFill>
        <p:spPr>
          <a:xfrm>
            <a:off x="285840" y="642960"/>
            <a:ext cx="404316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Рисунок 2" descr="Великий Сибирский путь (транссибирская железнодорожная магистраль..jpg"/>
          <p:cNvPicPr/>
          <p:nvPr/>
        </p:nvPicPr>
        <p:blipFill>
          <a:blip r:embed="rId2"/>
          <a:stretch/>
        </p:blipFill>
        <p:spPr>
          <a:xfrm>
            <a:off x="285840" y="3251160"/>
            <a:ext cx="528624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Рисунок 3" descr="Транссиб. Мост через Обь..jpg"/>
          <p:cNvPicPr/>
          <p:nvPr/>
        </p:nvPicPr>
        <p:blipFill>
          <a:blip r:embed="rId3"/>
          <a:stretch/>
        </p:blipFill>
        <p:spPr>
          <a:xfrm>
            <a:off x="4786200" y="642960"/>
            <a:ext cx="38577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072120" y="4786200"/>
            <a:ext cx="2643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анссиб, укладка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ст через 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ркутск, прибытие первого поезда по Трансси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5840" y="142920"/>
            <a:ext cx="857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ЛИКАЯ СИБИРСКАЯ ЖЕЛЕЗНОДОРОЖНАЯ 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ачественны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казателям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2"/>
          <p:cNvSpPr/>
          <p:nvPr/>
        </p:nvSpPr>
        <p:spPr>
          <a:xfrm>
            <a:off x="4357800" y="121428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857680" y="185724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ству промышленности на душу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314316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857680" y="421488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ой оснащенности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7800" y="257184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низ 8"/>
          <p:cNvSpPr/>
          <p:nvPr/>
        </p:nvSpPr>
        <p:spPr>
          <a:xfrm>
            <a:off x="4357800" y="357192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 9"/>
          <p:cNvSpPr/>
          <p:nvPr/>
        </p:nvSpPr>
        <p:spPr>
          <a:xfrm>
            <a:off x="3929040" y="4929120"/>
            <a:ext cx="1428840" cy="857160"/>
          </a:xfrm>
          <a:custGeom>
            <a:avLst/>
            <a:gdLst/>
            <a:ahLst/>
            <a:rect l="l" t="t" r="r" b="b"/>
            <a:pathLst>
              <a:path w="1428750" h="857250">
                <a:moveTo>
                  <a:pt x="189381" y="176594"/>
                </a:moveTo>
                <a:lnTo>
                  <a:pt x="1239369" y="176594"/>
                </a:lnTo>
                <a:lnTo>
                  <a:pt x="1239369" y="378219"/>
                </a:lnTo>
                <a:lnTo>
                  <a:pt x="189381" y="378219"/>
                </a:lnTo>
                <a:lnTo>
                  <a:pt x="189381" y="176594"/>
                </a:lnTo>
                <a:close/>
                <a:moveTo>
                  <a:pt x="189381" y="479031"/>
                </a:moveTo>
                <a:lnTo>
                  <a:pt x="1239369" y="479031"/>
                </a:lnTo>
                <a:lnTo>
                  <a:pt x="1239369" y="680657"/>
                </a:lnTo>
                <a:lnTo>
                  <a:pt x="189381" y="680657"/>
                </a:lnTo>
                <a:lnTo>
                  <a:pt x="189381" y="47903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785880" y="5857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ывая это, Россия являлась среднеразвитой аграрно-индустриальной страной, со значительны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2" descr="3243169_1_23566.jpg"/>
          <p:cNvPicPr/>
          <p:nvPr/>
        </p:nvPicPr>
        <p:blipFill>
          <a:blip r:embed="rId1"/>
          <a:stretch/>
        </p:blipFill>
        <p:spPr>
          <a:xfrm>
            <a:off x="6718320" y="2286000"/>
            <a:ext cx="194940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3243169_1_23566.jpg"/>
          <p:cNvPicPr/>
          <p:nvPr/>
        </p:nvPicPr>
        <p:blipFill>
          <a:blip r:embed="rId2"/>
          <a:stretch/>
        </p:blipFill>
        <p:spPr>
          <a:xfrm>
            <a:off x="500040" y="2286000"/>
            <a:ext cx="1951200" cy="18842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4200" y="214200"/>
            <a:ext cx="8643960" cy="9475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ительным было присутствие государства в экономике. Государство контролировало в основном предприятия, удовлетворявшие военные нужды страны. В начале ХХ в. Таких заводов бы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Горизонтальный свиток 2"/>
          <p:cNvSpPr/>
          <p:nvPr/>
        </p:nvSpPr>
        <p:spPr>
          <a:xfrm>
            <a:off x="357120" y="1285920"/>
            <a:ext cx="2928960" cy="78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357720" y="221472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857840" y="2786040"/>
            <a:ext cx="3500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429160" y="3357720"/>
            <a:ext cx="3500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00760" y="4286160"/>
            <a:ext cx="3500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Красный выбуржец.jpg"/>
          <p:cNvPicPr/>
          <p:nvPr/>
        </p:nvPicPr>
        <p:blipFill>
          <a:blip r:embed="rId1"/>
          <a:stretch/>
        </p:blipFill>
        <p:spPr>
          <a:xfrm>
            <a:off x="285840" y="2857680"/>
            <a:ext cx="4286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14200" y="214200"/>
            <a:ext cx="8643960" cy="7038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Значителен был и иностранный капитал в экономике империи. Толчок к иностранным инвестициям положила денежная реформа С.Витте в 189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Горизонтальный свиток 2"/>
          <p:cNvSpPr/>
          <p:nvPr/>
        </p:nvSpPr>
        <p:spPr>
          <a:xfrm>
            <a:off x="3143160" y="1071720"/>
            <a:ext cx="2928960" cy="7855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ФОРМА ВИТ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786040" y="2071800"/>
            <a:ext cx="3714840" cy="3682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5712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мец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5002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цуз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500880" y="2714760"/>
            <a:ext cx="22860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нгл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4200" y="3500280"/>
            <a:ext cx="25718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000240" y="3500280"/>
            <a:ext cx="3214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ьная, металлургия, металлообработка, машиностроение, нефтедобы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357960" y="3500280"/>
            <a:ext cx="2571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фтяная, цветные метал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214200" y="5072040"/>
            <a:ext cx="8643960" cy="1008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остранцы не имели самостоятельной экономической политики и зависели от государства сливаясь с русской экономикой, но львиная доля доходов от их компаний утекал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3:02:36Z</dcterms:created>
  <dc:creator>1</dc:creator>
  <dc:description/>
  <dc:language>en-US</dc:language>
  <cp:lastModifiedBy>LEGION</cp:lastModifiedBy>
  <dcterms:modified xsi:type="dcterms:W3CDTF">2015-01-14T10:07:58Z</dcterms:modified>
  <cp:revision>19</cp:revision>
  <dc:subject/>
  <dc:title>Слайд 1</dc:title>
</cp:coreProperties>
</file>