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7F86-6BC9-4029-9692-C65E884AD8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номическое развит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1EF7-0B6D-4998-991B-6BFC293B13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4FA7-3047-48F1-83AC-BCFD4F25D6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913E-F22A-44DB-AEE7-646D85857C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5C43-2D66-4510-A7C3-84F69CB368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E423-19E7-4452-AEC8-8F8663F831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F878-7C5C-4616-87BD-73D81DE64D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578B-2968-4028-822E-BC77AC89C3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FBB2-A7C4-4510-9712-B1C8CBE114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BE9A-8787-4F88-A385-2640DE687D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D013-2016-47BB-9A93-C87105C23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62C0-3A4E-4228-82FF-96CC52F75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11B-194C-4681-A4A6-8159794C5B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1E14-B2AF-4B8D-93D7-1046CA201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F69F-7783-4584-8BDE-41E16D2269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7D4-94CD-45FE-AC91-F330909B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E8D-535D-4B0B-A201-C775A66F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0A3-4DDD-41E9-8415-6CC78CD2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61B-6935-4D96-9F81-27E59505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090-A6C9-4445-8E3E-808D4E02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ACF-1C71-46F2-BA83-F6E3BB99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48B-E941-4B44-85FF-E0842B0E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C5E-B9FC-4338-A9AA-AD415973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7F5-8B46-47F9-8754-F541DE55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FD9-3785-4E48-A7E0-BE936E55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CCC-E8AB-4F6B-B840-ED685B2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EA7-59E1-43E9-90E2-4600D090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4032-2C2F-40F2-B732-73B624CE8A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05FD-6407-4574-8739-DEA51E95B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991bee841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9" name="Рисунок 2" descr="1225098567_180px-nicholas_ii_of_russia_photograph.jpg"/>
          <p:cNvPicPr/>
          <p:nvPr/>
        </p:nvPicPr>
        <p:blipFill>
          <a:blip r:embed="rId2"/>
          <a:stretch/>
        </p:blipFill>
        <p:spPr>
          <a:xfrm>
            <a:off x="285840" y="1139760"/>
            <a:ext cx="146988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счмсчмчс.jpg"/>
          <p:cNvPicPr/>
          <p:nvPr/>
        </p:nvPicPr>
        <p:blipFill>
          <a:blip r:embed="rId3"/>
          <a:stretch/>
        </p:blipFill>
        <p:spPr>
          <a:xfrm>
            <a:off x="6997680" y="1359000"/>
            <a:ext cx="182880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a853_228ad20f_L.jpeg"/>
          <p:cNvPicPr/>
          <p:nvPr/>
        </p:nvPicPr>
        <p:blipFill>
          <a:blip r:embed="rId4"/>
          <a:stretch/>
        </p:blipFill>
        <p:spPr>
          <a:xfrm>
            <a:off x="6218280" y="3713040"/>
            <a:ext cx="2681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итте.jpeg"/>
          <p:cNvPicPr/>
          <p:nvPr/>
        </p:nvPicPr>
        <p:blipFill>
          <a:blip r:embed="rId5"/>
          <a:stretch/>
        </p:blipFill>
        <p:spPr>
          <a:xfrm>
            <a:off x="927000" y="3645000"/>
            <a:ext cx="1279800" cy="1896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6"/>
          <a:stretch/>
        </p:blipFill>
        <p:spPr>
          <a:xfrm>
            <a:off x="438120" y="1596960"/>
            <a:ext cx="8199360" cy="3114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kontora164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g4173_15390.jpg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Box 2"/>
          <p:cNvSpPr/>
          <p:nvPr/>
        </p:nvSpPr>
        <p:spPr>
          <a:xfrm>
            <a:off x="6143760" y="5643720"/>
            <a:ext cx="2000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лигация компании братьев Но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0r1899.jpg"/>
          <p:cNvPicPr/>
          <p:nvPr/>
        </p:nvPicPr>
        <p:blipFill>
          <a:blip r:embed="rId2"/>
          <a:stretch/>
        </p:blipFill>
        <p:spPr>
          <a:xfrm>
            <a:off x="5357880" y="357120"/>
            <a:ext cx="3429000" cy="1720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500800" y="235728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Нобель.jpg"/>
          <p:cNvPicPr/>
          <p:nvPr/>
        </p:nvPicPr>
        <p:blipFill>
          <a:blip r:embed="rId1"/>
          <a:stretch/>
        </p:blipFill>
        <p:spPr>
          <a:xfrm>
            <a:off x="285840" y="2357280"/>
            <a:ext cx="628308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858000" y="5286240"/>
            <a:ext cx="2000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пуса монополии «Нобель-Мазут» в Б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Комплекс построек товарищества Невской бумагопрядильной мануфактуры.jpeg"/>
          <p:cNvPicPr/>
          <p:nvPr/>
        </p:nvPicPr>
        <p:blipFill>
          <a:blip r:embed="rId1"/>
          <a:stretch/>
        </p:blipFill>
        <p:spPr>
          <a:xfrm>
            <a:off x="1071720" y="285840"/>
            <a:ext cx="697212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Box 2"/>
          <p:cNvSpPr/>
          <p:nvPr/>
        </p:nvSpPr>
        <p:spPr>
          <a:xfrm>
            <a:off x="1071720" y="2928960"/>
            <a:ext cx="692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Работы по постройке шлюза. Кузминского, 1912.jpg"/>
          <p:cNvPicPr/>
          <p:nvPr/>
        </p:nvPicPr>
        <p:blipFill>
          <a:blip r:embed="rId2"/>
          <a:stretch/>
        </p:blipFill>
        <p:spPr>
          <a:xfrm>
            <a:off x="428760" y="3429000"/>
            <a:ext cx="3500280" cy="31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TextBox 4"/>
          <p:cNvSpPr/>
          <p:nvPr/>
        </p:nvSpPr>
        <p:spPr>
          <a:xfrm>
            <a:off x="4286160" y="5786280"/>
            <a:ext cx="2000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о постройке Кузьминского шлюза. 19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Работа на Бакальском руднике, 1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TextBox 2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а на Бакальском руднике. 19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929120" y="3357720"/>
            <a:ext cx="4214880" cy="2838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3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39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0" y="0"/>
            <a:ext cx="407052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457200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4572000" y="214200"/>
            <a:ext cx="4286160" cy="5882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93_5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294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285840" y="328608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ботка земли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kala3_0.jpg"/>
          <p:cNvPicPr/>
          <p:nvPr/>
        </p:nvPicPr>
        <p:blipFill>
          <a:blip r:embed="rId2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28584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естьянская семья на отдыхе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85840" y="214200"/>
            <a:ext cx="8572320" cy="398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ем словарный зап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785880"/>
            <a:ext cx="8572320" cy="5031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85840" y="13813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3500280" y="0"/>
            <a:ext cx="157176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214200"/>
            <a:ext cx="85723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5840" y="1214280"/>
            <a:ext cx="8572320" cy="301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Korona_1.gif"/>
          <p:cNvPicPr/>
          <p:nvPr/>
        </p:nvPicPr>
        <p:blipFill>
          <a:blip r:embed="rId3"/>
          <a:stretch/>
        </p:blipFill>
        <p:spPr>
          <a:xfrm>
            <a:off x="3786120" y="4857840"/>
            <a:ext cx="16351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age00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Рисунок 2" descr="Витте.jpeg"/>
          <p:cNvPicPr/>
          <p:nvPr/>
        </p:nvPicPr>
        <p:blipFill>
          <a:blip r:embed="rId2"/>
          <a:stretch/>
        </p:blipFill>
        <p:spPr>
          <a:xfrm>
            <a:off x="714240" y="3214800"/>
            <a:ext cx="1785960" cy="26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714240" y="6000840"/>
            <a:ext cx="350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.Витте. Министр финансов империи в 1892—190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4200" y="214200"/>
            <a:ext cx="8643960" cy="673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агетная рамка 2"/>
          <p:cNvSpPr/>
          <p:nvPr/>
        </p:nvSpPr>
        <p:spPr>
          <a:xfrm>
            <a:off x="285840" y="1071720"/>
            <a:ext cx="2357280" cy="1214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1214280"/>
            <a:ext cx="1428840" cy="1000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лужило тол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7"/>
          <p:cNvSpPr/>
          <p:nvPr/>
        </p:nvSpPr>
        <p:spPr>
          <a:xfrm>
            <a:off x="5786280" y="2714760"/>
            <a:ext cx="3071880" cy="185724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11"/>
          <p:cNvSpPr/>
          <p:nvPr/>
        </p:nvSpPr>
        <p:spPr>
          <a:xfrm>
            <a:off x="4572000" y="1000080"/>
            <a:ext cx="3071880" cy="185760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еталл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лако 12"/>
          <p:cNvSpPr/>
          <p:nvPr/>
        </p:nvSpPr>
        <p:spPr>
          <a:xfrm>
            <a:off x="2714760" y="3286080"/>
            <a:ext cx="264312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3"/>
          <p:cNvSpPr/>
          <p:nvPr/>
        </p:nvSpPr>
        <p:spPr>
          <a:xfrm>
            <a:off x="0" y="2428920"/>
            <a:ext cx="250020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4"/>
          <p:cNvSpPr/>
          <p:nvPr/>
        </p:nvSpPr>
        <p:spPr>
          <a:xfrm>
            <a:off x="428760" y="4786200"/>
            <a:ext cx="257148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6"/>
          <p:cNvCxnSpPr/>
          <p:nvPr/>
        </p:nvCxnSpPr>
        <p:spPr>
          <a:xfrm>
            <a:off x="7642800" y="2214720"/>
            <a:ext cx="1436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285520" y="3785040"/>
            <a:ext cx="500760" cy="72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9"/>
          <p:cNvCxnSpPr/>
          <p:nvPr/>
        </p:nvCxnSpPr>
        <p:spPr>
          <a:xfrm flipH="1">
            <a:off x="2642400" y="24991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/>
          <p:nvPr/>
        </p:nvCxnSpPr>
        <p:spPr>
          <a:xfrm flipH="1">
            <a:off x="3142800" y="4500720"/>
            <a:ext cx="314424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4"/>
          <p:cNvCxnSpPr/>
          <p:nvPr/>
        </p:nvCxnSpPr>
        <p:spPr>
          <a:xfrm flipV="1">
            <a:off x="1499760" y="4071960"/>
            <a:ext cx="10724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Равно 26"/>
          <p:cNvSpPr/>
          <p:nvPr/>
        </p:nvSpPr>
        <p:spPr>
          <a:xfrm>
            <a:off x="3857760" y="5429160"/>
            <a:ext cx="157140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5786280" y="4929120"/>
            <a:ext cx="26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714840" y="6215040"/>
            <a:ext cx="507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1" descr="3243169_1_23566.jpg"/>
          <p:cNvPicPr/>
          <p:nvPr/>
        </p:nvPicPr>
        <p:blipFill>
          <a:blip r:embed="rId1"/>
          <a:stretch/>
        </p:blipFill>
        <p:spPr>
          <a:xfrm>
            <a:off x="7785000" y="1000080"/>
            <a:ext cx="1073160" cy="1036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old-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4316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Рисунок 2" descr="Великий Сибирский путь (транссибирская железнодорожная магистраль..jpg"/>
          <p:cNvPicPr/>
          <p:nvPr/>
        </p:nvPicPr>
        <p:blipFill>
          <a:blip r:embed="rId2"/>
          <a:stretch/>
        </p:blipFill>
        <p:spPr>
          <a:xfrm>
            <a:off x="285840" y="3251160"/>
            <a:ext cx="528624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Рисунок 3" descr="Транссиб. Мост через Обь..jpg"/>
          <p:cNvPicPr/>
          <p:nvPr/>
        </p:nvPicPr>
        <p:blipFill>
          <a:blip r:embed="rId3"/>
          <a:stretch/>
        </p:blipFill>
        <p:spPr>
          <a:xfrm>
            <a:off x="4786200" y="642960"/>
            <a:ext cx="38577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072120" y="4786200"/>
            <a:ext cx="2643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анссиб, укладка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ст через 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ркутск, прибытие первого поезда по Трансси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5840" y="142920"/>
            <a:ext cx="857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2"/>
          <p:cNvSpPr/>
          <p:nvPr/>
        </p:nvSpPr>
        <p:spPr>
          <a:xfrm>
            <a:off x="4357800" y="1214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7680" y="185724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ству промышленности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314316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857680" y="421488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ой оснащенности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7800" y="257184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4357800" y="357192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 9"/>
          <p:cNvSpPr/>
          <p:nvPr/>
        </p:nvSpPr>
        <p:spPr>
          <a:xfrm>
            <a:off x="3929040" y="4929120"/>
            <a:ext cx="1428840" cy="857160"/>
          </a:xfrm>
          <a:custGeom>
            <a:avLst/>
            <a:gdLst/>
            <a:ahLst/>
            <a:rect l="l" t="t" r="r" b="b"/>
            <a:pathLst>
              <a:path w="1428750" h="857250">
                <a:moveTo>
                  <a:pt x="189381" y="176594"/>
                </a:moveTo>
                <a:lnTo>
                  <a:pt x="1239369" y="176594"/>
                </a:lnTo>
                <a:lnTo>
                  <a:pt x="1239369" y="378219"/>
                </a:lnTo>
                <a:lnTo>
                  <a:pt x="189381" y="378219"/>
                </a:lnTo>
                <a:lnTo>
                  <a:pt x="189381" y="176594"/>
                </a:lnTo>
                <a:close/>
                <a:moveTo>
                  <a:pt x="189381" y="479031"/>
                </a:moveTo>
                <a:lnTo>
                  <a:pt x="1239369" y="479031"/>
                </a:lnTo>
                <a:lnTo>
                  <a:pt x="1239369" y="680657"/>
                </a:lnTo>
                <a:lnTo>
                  <a:pt x="189381" y="680657"/>
                </a:lnTo>
                <a:lnTo>
                  <a:pt x="189381" y="479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785880" y="5857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ывая это, Россия являлась среднеразвитой аграрно-индустриальной страной, со значительны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2" descr="3243169_1_23566.jpg"/>
          <p:cNvPicPr/>
          <p:nvPr/>
        </p:nvPicPr>
        <p:blipFill>
          <a:blip r:embed="rId1"/>
          <a:stretch/>
        </p:blipFill>
        <p:spPr>
          <a:xfrm>
            <a:off x="6718320" y="2286000"/>
            <a:ext cx="194940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3243169_1_23566.jpg"/>
          <p:cNvPicPr/>
          <p:nvPr/>
        </p:nvPicPr>
        <p:blipFill>
          <a:blip r:embed="rId2"/>
          <a:stretch/>
        </p:blipFill>
        <p:spPr>
          <a:xfrm>
            <a:off x="500040" y="2286000"/>
            <a:ext cx="1951200" cy="18842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Горизонтальный свиток 2"/>
          <p:cNvSpPr/>
          <p:nvPr/>
        </p:nvSpPr>
        <p:spPr>
          <a:xfrm>
            <a:off x="357120" y="128592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357720" y="221472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857840" y="278604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429160" y="3357720"/>
            <a:ext cx="350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00760" y="428616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Красный выбуржец.jpg"/>
          <p:cNvPicPr/>
          <p:nvPr/>
        </p:nvPicPr>
        <p:blipFill>
          <a:blip r:embed="rId1"/>
          <a:stretch/>
        </p:blipFill>
        <p:spPr>
          <a:xfrm>
            <a:off x="285840" y="2857680"/>
            <a:ext cx="4286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4200" y="214200"/>
            <a:ext cx="8643960" cy="703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2"/>
          <p:cNvSpPr/>
          <p:nvPr/>
        </p:nvSpPr>
        <p:spPr>
          <a:xfrm>
            <a:off x="3143160" y="1071720"/>
            <a:ext cx="2928960" cy="7855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ОРМА ВИТ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786040" y="2071800"/>
            <a:ext cx="3714840" cy="3682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ц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002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5008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4200" y="3500280"/>
            <a:ext cx="25718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000240" y="3500280"/>
            <a:ext cx="3214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ьная, металлургия, металлообработка, машиностроение, нефтедобы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357960" y="3500280"/>
            <a:ext cx="2571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фтяная, цветные метал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14200" y="5072040"/>
            <a:ext cx="8643960" cy="1008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остранцы не имели самостоятельной экономической политики и зависели от государства сливаясь с русской экономикой, но львиная доля доходов от их компаний утекал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3:02:36Z</dcterms:created>
  <dc:creator>1</dc:creator>
  <dc:description/>
  <dc:language>en-US</dc:language>
  <cp:lastModifiedBy>LEGION</cp:lastModifiedBy>
  <dcterms:modified xsi:type="dcterms:W3CDTF">2015-01-14T10:07:58Z</dcterms:modified>
  <cp:revision>19</cp:revision>
  <dc:subject/>
  <dc:title>Слайд 1</dc:title>
</cp:coreProperties>
</file>