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9467-D60E-4664-9AB0-059CD360B8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77;&#1088;&#1072;&#1090;&#1086;&#1088;_&#1042;&#1089;&#1077;&#1088;&#1086;&#1089;&#1089;&#1080;&#1081;&#1089;&#1082;&#1080;&#1081;" TargetMode="External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81" TargetMode="External"/><Relationship Id="rId4" Type="http://schemas.openxmlformats.org/officeDocument/2006/relationships/hyperlink" Target="http://ru.wikipedia.org/wiki/&#1056;&#1086;&#1084;&#1072;&#1085;&#1086;&#1074;&#1099;" TargetMode="External"/><Relationship Id="rId5" Type="http://schemas.openxmlformats.org/officeDocument/2006/relationships/hyperlink" Target="http://ru.wikipedia.org/wiki/&#1053;&#1080;&#1082;&#1086;&#1083;&#1072;&#1081;_I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крепостного права в России в 186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ие ре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тель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«Гимназия №1», г.Новомосков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нова Ия Юр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3009-7033-44D8-A232-779E7885F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ременнообязанный крестьян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лично свободный крестьянин, вынужденный выполнять все свои повинности перед помещиком до перехода на выкуп. 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ременнообязанное по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хранялось до тех пор, пока крестьянин не начинал процедуру выкуп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выкупа начиналась с 19февраля 1863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1г. «Положение» об обязательном переводе оставшихся крестьян на выку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7604-EC77-4BD6-8EE0-C9431F8434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мер участка, меньше которого помещик не должен был предлагать крестьяни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Ma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частка, больше которого крестьянин не должен требовать у поме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«отрезки»;    «прирез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ставная грамота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говор помещика и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Дарственный надел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¼ часть от высшей нормы земельного надела, которую крестьянин мог получить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ировые посредники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лжностное лицо из дворян, назначался для составления и утверждения уставных грамот и разбора споров между крестьянами и помещиками. Обладал судебно-административной вла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ADAB-F335-4C65-AB47-BED0DCC9FF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Г.Г.Мясоедов «Чтение Манифеста 19 февраля 1861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1861г.- 1959крестьянских вол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стания в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езд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во главе Антон Петров)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ндеевк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закончились расстр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0C85-C1B7-48B6-AE33-14EA48CF7D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Значение и итоги крестьянской реформ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а необходимые условия для утверждения капитал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а росту темпов экономическ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а складыванию новой социальной структуры, появлению новых социальных слоев – пролетариата и промышленной буржуазии; изменению самого кресть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отменой крепостного права последовали и другие реформы 60-70-х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5D8F-6430-4597-9FF5-9FDABA80DC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Реформа была крайне непоследовательной и противоречиво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ущемила экономические интересы помещиков, ликвидировала их монополию на эксплуатацию крестьянского труда, являясь сильнейшим нравственным потрясением для помещ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носила грабительский характер по отношению к крестьянам, в ряде случаев способствовала ухудшению их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59AC-EDAF-49C4-9D48-636E0AC973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Имущественный цен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бирательное право предоставляется только гражданам, имеющим имущество определе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Многостепенные выб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избирательная система, при которой депутаты представительного органа избираются нижестоящими выборными органами или избирательными коллегиями, в состав которых входят избранные населением выборщики или депутаты нижестоящих представитель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Прямые выборы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ядок проведения выборов, при котором избиратели прямо и непосредственно избирают депутатов в представ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323B-4A9A-49DB-B364-80699AAF38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́ндр II Никола́е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мператор Всероссий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Польский и великий князь Финляндский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85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88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 династ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манов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 императорской чет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Николая Павл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Александры Фёдоро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шёл в русскую историю как проводник широкомасштаб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ен особого эпитета в русской дореволюционной историографии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ободи́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связи с отменой крепостного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иб в результате террористического акта, организованного партией «Народная воля» 1марта 1881г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71B-9F03-459B-A123-DDBB304A86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есмотря на всю прогрессивность реформа имела 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сословных судов ( волостные- мелкие споры между крестьянами; дворянские- исключительно сословные вопро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 праве быть присяжными заседателями (имущественный ценз, должны занимать государственную или общественную должность). Не могли быть присяжными священники, монахи, военнослужащие, рабо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ернатор имел право исключать из списков присяжных заседателей неугод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C0AB-376D-4516-B514-69734B6922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се мужское население подлежит воинской повинности, </a:t>
            </a:r>
            <a:r>
              <a:rPr b="0" lang="ru-RU" sz="1200" spc="-1" strike="noStrike" u="sng">
                <a:solidFill>
                  <a:srgbClr val="663300"/>
                </a:solidFill>
                <a:uFillTx/>
                <a:latin typeface="Calibri"/>
              </a:rPr>
              <a:t>денежный выкуп не допуск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енные силы состоят из постоянных войск и ополчения ( решает жребий – с 1 октября, 21 г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с образованием право выбора без жреб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льноопределя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роки служ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ухопутные в-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5 лет ( 6-дествительной; 9- в запа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л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лет ( 7действительной; 3 в запас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енных условиях остаются на службе по необходимости, призывной возраст до 4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BF9C-11A8-41B1-884F-112F72DA0E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олнитель-ные орг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ородской голова и Городские упра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дстави-тельные (распоряди-тельные) органы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одская Д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Функци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озяйственные, благо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4EA0-C01F-45C9-93F1-8262299CA1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орма провозглашала принцип общечеловеческого образования и всесослов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о перестройка школы не привела к полной демократизации 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упна классическая школа для низших слоев ( высокая пла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ое образование имело ограниченный уровень и не получило статуса бесплатного 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образования мог назначать и увольнять преподавателей, утверждать инструкции и правила, существовало сословное деление студентов факультетов (юридический - дворяне, медицинский – разночин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4723-D257-4964-AEFF-209C08C1E0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репостное право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зависимости крестьян, при которой они наделяются землей, неся за пользование ею различные повинности (барщину и оброк) и подчиняются судебной и административной власти помещика. Крестьянин – собственность поме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чины отмены крепо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низкая производительность крепостного труда, нерентабельность хозя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ие личной свободы у крестьян препятствовало развитию промышленности, нет наемных рабоч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.п.- угроза общественного спокойствия (рост крестьянских волне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Крымская война наглядно показала экономическую и военно-техническую отсталость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C1C6-C686-423E-81B3-12D5A87A29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крипт генерал-губернатору В.И.Назимову о разрешении создать в каждой губернии комитеты для обсуждения вопроса отмены крепост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крипт – письмо монарха к под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F80-C6BB-490A-AE62-06DF0AA2FB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Calibri"/>
              </a:rPr>
              <a:t>Проекты освобождения крестьян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черноземных губер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вобождение крестьян без земли или с очень маленьким наделом за большой выку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нечерноземных губер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вобождение с землей, но выкуп не только за землю, но и за личность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90ED-FB12-4691-9BB9-BC34338EAC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19 февраля 1861г.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«Манифест об освобождении помещичьих крестьян из крепостной зависим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Положения о крестьянах, вышедших из крепостной зависим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лась личная своб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за выкуп- Земля предоставлялась не отдельному крестьянину, а общине (она становилась собственником зем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0298-B554-4CE7-ADD5-B5D347BEC7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Гражданские пра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 производить сделки с движимым и недвижимым имуществом (покупка, продаж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) открывать торговые и промышленные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) выступать от своего имени в су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4) не могут подвергаться телесному наказанию иначе как по приговору суда или законному распоряжению поставленныз над ними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) переходить в другие со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4A29-8636-4717-AB38-9447535190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упная опе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693C-D84C-4999-A631-A175DC7F0E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082-A166-4000-AA53-4EA39706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076-5009-4FA9-9B2E-D1613875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141-BE9F-4F91-B2CA-0B070D92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866-5492-4879-A99E-1790D06F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53DA-E94A-4C6F-A577-2DC5B785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3356-DFB0-46F2-AAAE-088C79D2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D11F-6F29-476E-869E-BFDF3D00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617B-4EC0-46F2-BE1A-CF696FD6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81E6-AAB6-4963-8333-46E08436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A56D-9E82-4FFE-A9B7-75CCBE5E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3D1C-3BA4-406B-B1B6-507293D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D07-DBFF-4925-AB84-602187EF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8B7C-DC5D-4FC5-8510-725939A8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A6CE-2629-4826-8EC2-6D995AB1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3291-F0A0-4147-A58C-288F47C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DD8F-9151-4840-A801-E5633E32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87BE-4C5E-4E7D-81E7-26D575BF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E82-90AB-489D-A5CF-18F8148E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685-FD92-454C-B837-35AB62C2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404-4B90-4658-92C3-D11F4AA2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2C6-D2C1-4F49-88EB-9A9B7C90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ED5-4A4A-4602-8DEA-0574F48E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813-57DF-4B2F-A135-FE486C39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9F4-AC9E-4820-B731-871CA704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DAF0-C5C4-4FD3-B43A-5B14491C47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6CF2-E18C-448B-82D2-2CB877344D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rt11.ru/mjasoedov_grigorii_grigorevich/5b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art11.ru/mjasoedov_grigorii_grigorevich/5b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inakoteka.ru/blog/wp-content/uploads/2009/11/dhoenynfdhdhudhdhdh-dhdh-dhndhudhdhdhu-dhdhdhdhndhunfndh-19-ndhudhndhdhny-1861-dhdhdhdh-1873-dh-dhndhnnndhdh-1960-dh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77;&#1088;&#1072;&#1090;&#1086;&#1088;_&#1042;&#1089;&#1077;&#1088;&#1086;&#1089;&#1089;&#1080;&#1081;&#1089;&#1082;&#1080;&#1081;" TargetMode="External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81" TargetMode="External"/><Relationship Id="rId4" Type="http://schemas.openxmlformats.org/officeDocument/2006/relationships/hyperlink" Target="http://ru.wikipedia.org/wiki/&#1056;&#1086;&#1084;&#1072;&#1085;&#1086;&#1074;&#1099;" TargetMode="External"/><Relationship Id="rId5" Type="http://schemas.openxmlformats.org/officeDocument/2006/relationships/hyperlink" Target="http://ru.wikipedia.org/wiki/&#1053;&#1080;&#1082;&#1086;&#1083;&#1072;&#1081;_I" TargetMode="External"/><Relationship Id="rId6" Type="http://schemas.openxmlformats.org/officeDocument/2006/relationships/hyperlink" Target="http://ru.wikipedia.org/wiki/&#1040;&#1083;&#1077;&#1082;&#1089;&#1072;&#1085;&#1076;&#1088;&#1072;_&#1060;&#1105;&#1076;&#1086;&#1088;&#1086;&#1074;&#1085;&#1072;_(&#1078;&#1077;&#1085;&#1072;_&#1053;&#1080;&#1082;&#1086;&#1083;&#1072;&#1103;_I)" TargetMode="External"/><Relationship Id="rId7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8" Type="http://schemas.openxmlformats.org/officeDocument/2006/relationships/hyperlink" Target="http://ru.wikipedia.org/wiki/&#1048;&#1089;&#1090;&#1086;&#1088;&#1080;&#1086;&#1075;&#1088;&#1072;&#1092;&#1080;&#1103;" TargetMode="External"/><Relationship Id="rId9" Type="http://schemas.openxmlformats.org/officeDocument/2006/relationships/hyperlink" Target="http://ru.wikipedia.org/wiki/&#1058;&#1077;&#1088;&#1088;&#1086;&#1088;&#1080;&#1079;&#1084;" TargetMode="External"/><Relationship Id="rId10" Type="http://schemas.openxmlformats.org/officeDocument/2006/relationships/hyperlink" Target="http://ru.wikipedia.org/wiki/&#1053;&#1072;&#1088;&#1086;&#1076;&#1085;&#1072;&#1103;_&#1074;&#1086;&#1083;&#1103;" TargetMode="External"/><Relationship Id="rId11" Type="http://schemas.openxmlformats.org/officeDocument/2006/relationships/hyperlink" Target="http://ru.wikipedia.org/wiki/&#1060;&#1072;&#1081;&#1083;:Alexander_II_of_Russia_(Nikolay_Lavrov_01).jpg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Отмена крепостного права в России в 1861г.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ие ре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Гимназия №1», г.Новомосков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а Ия Юр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Picture 4" descr="image001"/>
          <p:cNvPicPr/>
          <p:nvPr/>
        </p:nvPicPr>
        <p:blipFill>
          <a:blip r:embed="rId1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560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Arial"/>
              </a:rPr>
              <a:t>Временнообязанный крестьян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лично свободный крестьянин, вынужденный выполнять все свои повинности перед помещиком до перехода на выкуп.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Временнообязанное полож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охранялось до тех пор, пока крестьянин не начинал процедуру выкуп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выкупа начиналась с 19февраля 1863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1881г. «Положение» об обязательном переводе оставшихся крестьян на выку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403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М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мер участка, меньше которого помещик не должен был предлагать крестьянин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Ma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мер участка, больше которого крестьянин не должен требовать у помещ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«отрезки»;    «прирез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Уставная грамота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говор помещика и крестьяни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«Дарственный надел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¼ часть от высшей нормы земельного надела, которую крестьянин мог получить бесплат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Мировые посредники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лжностное лицо из дворян, назначался для составления и утверждения уставных грамот и разбора споров между крестьянами и помещиками. Обладал судебно-административной вл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5013000"/>
            <a:ext cx="8964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33"/>
                </a:solidFill>
                <a:latin typeface="Arial"/>
              </a:rPr>
              <a:t>Г.Г.Мясоедов «Чтение Манифеста 19 февраля 1861г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а 1861г.- 1959крестьянских вол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осстания в </a:t>
            </a: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Бездн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(во главе Антон Петров) и </a:t>
            </a: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Кандеевк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закончились расстрел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5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20" y="23211000"/>
            <a:ext cx="14849640" cy="9677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5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20" y="23211000"/>
            <a:ext cx="14849640" cy="9677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Чтение манифеста 19 февраля 1861 год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0"/>
            <a:ext cx="7885080" cy="5021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Значение и итоги крестьянской реформы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ла необходимые условия для утверждения капитализ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ствовала росту темпов экономического развит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ствовала складыванию новой социальной структуры, появлению новых социальных слоев – пролетариата и промышленной буржуазии; изменению самого крестьян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отменой крепостного права последовали и другие реформы 60-70-х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Реформа была крайне непоследовательной и противоречивой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а ущемила экономические интересы помещиков, ликвидировала их монополию на эксплуатацию крестьянского труда, являясь сильнейшим нравственным потрясением для помещик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форма носила грабительский характер по отношению к крестьянам, в ряде случаев способствовала ухудшению их по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6443640" y="6093000"/>
            <a:ext cx="1441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686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Имущественный цен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избирательное право предоставляется только гражданам, имеющим имущество определенной стоим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Многостепенные выбо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избирательная система, при которой депутаты представительного органа избираются нижестоящими выборными органами или избирательными коллегиями, в состав которых входят избранные населением выборщики или депутаты нижестоящих представительных орган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Прямые выборы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рядок проведения выборов, при котором избиратели прямо и непосредственно избирают депутатов в представительные орга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4" descr="image001"/>
          <p:cNvPicPr/>
          <p:nvPr/>
        </p:nvPicPr>
        <p:blipFill>
          <a:blip r:embed="rId1"/>
          <a:stretch/>
        </p:blipFill>
        <p:spPr>
          <a:xfrm>
            <a:off x="111600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258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4720" y="333000"/>
            <a:ext cx="468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екса́ндр II Никола́еви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Император Всероссийск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арь Польский и великий князь Финляндский (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185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188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з династии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Роман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рший сын императорской четы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Николая Павлович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Александры Фёдоров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шёл в русскую историю как проводник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широкомасштабных рефор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остоен особого эпитета в русской дореволюционной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историограф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вободи́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 связи с отменой крепостного прав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гиб в результате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террористическ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кта, организованного партией «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Народная вол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1марта 1881г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Александр II Николаевич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1197000"/>
            <a:ext cx="3871800" cy="4535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4" descr="image001"/>
          <p:cNvPicPr/>
          <p:nvPr/>
        </p:nvPicPr>
        <p:blipFill>
          <a:blip r:embed="rId1"/>
          <a:stretch/>
        </p:blipFill>
        <p:spPr>
          <a:xfrm>
            <a:off x="1187280" y="0"/>
            <a:ext cx="6193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смотря на всю прогрессивность реформа имела недоста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хранение сословных судов ( волостные- мелкие споры между крестьянами; дворянские- исключительно сословные вопросы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граничение в праве быть присяжными заседателями (имущественный ценз, должны занимать государственную или общественную должность). Не могли быть присяжными священники, монахи, военнослужащие, рабоч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бернатор имел право исключать из списков присяжных заседателей неугодных ли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0" name="Picture 4" descr="image001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Все мужское население подлежит воинской повинности, </a:t>
            </a:r>
            <a:r>
              <a:rPr b="0" lang="ru-RU" sz="3000" spc="-1" strike="noStrike" u="sng">
                <a:solidFill>
                  <a:srgbClr val="663300"/>
                </a:solidFill>
                <a:uFillTx/>
                <a:latin typeface="Arial"/>
              </a:rPr>
              <a:t>денежный выкуп не допускает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оруженные силы состоят из постоянных войск и ополчения ( решает жребий – с 1 октября, 21 год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цам с образованием право выбора без жребия – </a:t>
            </a: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вольноопределяющие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роки службы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Сухопутные в-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15 лет ( 6-дествительной; 9- в запас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Фло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10лет ( 7действительной; 3 в запас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оенных условиях остаются на службе по необходимости, призывной возраст до 43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Image1"/>
          <p:cNvPicPr/>
          <p:nvPr/>
        </p:nvPicPr>
        <p:blipFill>
          <a:blip r:embed="rId1"/>
          <a:stretch/>
        </p:blipFill>
        <p:spPr>
          <a:xfrm>
            <a:off x="324000" y="58680"/>
            <a:ext cx="8064360" cy="6680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12000" y="1719360"/>
            <a:ext cx="29527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Исполнитель-ные орган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Городской голова и Городские управ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Представи-тельные (распоряди-тельные) органы-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Городская Ду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Функции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хозяйственные, благоустрой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6040440" cy="6669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Picture 4" descr="image001"/>
          <p:cNvPicPr/>
          <p:nvPr/>
        </p:nvPicPr>
        <p:blipFill>
          <a:blip r:embed="rId1"/>
          <a:stretch/>
        </p:blipFill>
        <p:spPr>
          <a:xfrm>
            <a:off x="250920" y="0"/>
            <a:ext cx="785016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-222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форма провозглашала принцип общечеловеческого образования и всесословной шко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о перестройка школы не привела к полной демократизации образ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упна классическая школа для низших слоев ( высокая плат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чальное образование имело ограниченный уровень и не получило статуса бесплатного и обязательног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нистр образования мог назначать и увольнять преподавателей, утверждать инструкции и правила, существовало сословное деление студентов факультетов (юридический - дворяне, медицинский – разночинц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-403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3322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репостное право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орма зависимости крестьян, при которой они наделяются землей, неся за пользование ею различные повинности (барщину и оброк) и подчиняются судебной и административной власти помещика. Крестьянин – собственность помещ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780000" y="404640"/>
            <a:ext cx="4906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ичины отмены крепостного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низкая производительность крепостного труда, нерентабельность хозяй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Отсутствие личной свободы у крестьян препятствовало развитию промышленности, нет наемных рабоч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К.п.- угроза общественного спокойствия (рост крестьянских волнени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Крымская война наглядно показала экономическую и военно-техническую отсталость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крипт генерал-губернатору В.И.Назимову о разрешении создать в каждой губернии комитеты для обсуждения вопроса отмены крепостного пра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крипт – письмо монарха к подданно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274680"/>
          <a:ext cx="8229600" cy="5954760"/>
        </p:xfrm>
        <a:graphic>
          <a:graphicData uri="http://schemas.openxmlformats.org/drawingml/2006/table">
            <a:tbl>
              <a:tblPr/>
              <a:tblGrid>
                <a:gridCol w="4402080"/>
                <a:gridCol w="3827520"/>
              </a:tblGrid>
              <a:tr h="11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Учреждения,       занимавшиеся подготовкой рефор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бязанност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Совет, Секретный комитет с 1858г. Главный комитет по крестьянскому дел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ение обсуждения проекта зако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ционные комиссии (председатель Я.Ростовцев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ение поправок и изменений в проек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бернские дворянские комитеты об улучшении быта помещичьих крестьян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мотрение материалов,представленных губернскими комитетами составление единого проекта зак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3300"/>
                </a:solidFill>
                <a:latin typeface="Arial"/>
              </a:rPr>
              <a:t>Проекты освобождения крестьян: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В черноземных губерния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вобождение крестьян без земли или с очень маленьким наделом за большой выкуп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e9ce8"/>
                </a:solidFill>
                <a:latin typeface="Arial"/>
              </a:rPr>
              <a:t>В нечерноземных губерния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вобождение с землей, но выкуп не только за землю, но и за личность крестьян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40000" y="476280"/>
            <a:ext cx="4824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19 февраля 1861г.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«Манифест об освобождении помещичьих крестьян из крепостной зависим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«Положения о крестьянах, вышедших из крепостной зависим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лялась личная своб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емля за выкуп- Земля предоставлялась не отдельному крестьянину, а общине (она становилась собственником земл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aldr2"/>
          <p:cNvPicPr/>
          <p:nvPr/>
        </p:nvPicPr>
        <p:blipFill>
          <a:blip r:embed="rId1"/>
          <a:stretch/>
        </p:blipFill>
        <p:spPr>
          <a:xfrm>
            <a:off x="468360" y="765000"/>
            <a:ext cx="3524040" cy="51832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Гражданские права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 производить сделки с движимым и недвижимым имуществом (покупка, продаж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 открывать торговые и промышленные предприят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3) выступать от своего имени в су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4) не могут подвергаться телесному наказанию иначе как по приговору суда или законному распоряжению поставленныз над ними вла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5) переходить в другие сослов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1720" y="122040"/>
            <a:ext cx="746928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Выкупная операция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5:28:40Z</dcterms:created>
  <dc:creator>Админ</dc:creator>
  <dc:description/>
  <dc:language>en-US</dc:language>
  <cp:lastModifiedBy>LEGION</cp:lastModifiedBy>
  <dcterms:modified xsi:type="dcterms:W3CDTF">2015-01-14T10:10:40Z</dcterms:modified>
  <cp:revision>21</cp:revision>
  <dc:subject/>
  <dc:title>Слайд 1</dc:title>
</cp:coreProperties>
</file>