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C7AC-28F2-4A2F-9598-881F8A7A3CF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4;&#1087;&#1077;&#1088;&#1072;&#1090;&#1086;&#1088;_&#1042;&#1089;&#1077;&#1088;&#1086;&#1089;&#1089;&#1080;&#1081;&#1089;&#1082;&#1080;&#1081;" TargetMode="External"/><Relationship Id="rId2" Type="http://schemas.openxmlformats.org/officeDocument/2006/relationships/hyperlink" Target="http://ru.wikipedia.org/wiki/1855" TargetMode="External"/><Relationship Id="rId3" Type="http://schemas.openxmlformats.org/officeDocument/2006/relationships/hyperlink" Target="http://ru.wikipedia.org/wiki/1881" TargetMode="External"/><Relationship Id="rId4" Type="http://schemas.openxmlformats.org/officeDocument/2006/relationships/hyperlink" Target="http://ru.wikipedia.org/wiki/&#1056;&#1086;&#1084;&#1072;&#1085;&#1086;&#1074;&#1099;" TargetMode="External"/><Relationship Id="rId5" Type="http://schemas.openxmlformats.org/officeDocument/2006/relationships/hyperlink" Target="http://ru.wikipedia.org/wiki/&#1053;&#1080;&#1082;&#1086;&#1083;&#1072;&#1081;_I" TargetMode="External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на крепостного права в России в 1861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кие реф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подаватель ис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У «Гимназия №1», г.Новомосковс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нова Ия Юрье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AE12-64AA-45D7-975A-DB2BEF1EE3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ременнообязанный крестьян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лично свободный крестьянин, вынужденный выполнять все свои повинности перед помещиком до перехода на выкуп. </a:t>
            </a: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Временнообязанное по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хранялось до тех пор, пока крестьянин не начинал процедуру выкупа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выкупа начиналась с 19февраля 1863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1г. «Положение» об обязательном переводе оставшихся крестьян на выку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C0C3-D026-4B60-8578-5D6956EDD3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мер участка, меньше которого помещик не должен был предлагать крестьяни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Max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участка, больше которого крестьянин не должен требовать у поме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«отрезки»;    «прирез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Уставная грамота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говор помещика и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«Дарственный надел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¼ часть от высшей нормы земельного надела, которую крестьянин мог получить беспл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ировые посредники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лжностное лицо из дворян, назначался для составления и утверждения уставных грамот и разбора споров между крестьянами и помещиками. Обладал судебно-административной вла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BB57-9446-4B27-B43C-9CEEE507A5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Г.Г.Мясоедов «Чтение Манифеста 19 февраля 1861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1861г.- 1959крестьянских вол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сстания в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ездн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во главе Антон Петров) 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ндеевк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закончились расстр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E4B5-A148-41F7-BAEB-8B0E39A42E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Значение и итоги крестьянской реформ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ла необходимые условия для утверждения капитал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а росту темпов экономического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а складыванию новой социальной структуры, появлению новых социальных слоев – пролетариата и промышленной буржуазии; изменению самого крестья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отменой крепостного права последовали и другие реформы 60-70-х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3AB9-E949-4F9D-8A63-AA280DCC9B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Реформа была крайне непоследовательной и противоречиво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ущемила экономические интересы помещиков, ликвидировала их монополию на эксплуатацию крестьянского труда, являясь сильнейшим нравственным потрясением для помещ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а носила грабительский характер по отношению к крестьянам, в ряде случаев способствовала ухудшению их по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2D05-8542-4490-9EB9-5CD153AE87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0033"/>
                </a:solidFill>
                <a:uFillTx/>
                <a:latin typeface="Calibri"/>
              </a:rPr>
              <a:t>Имущественный цен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збирательное право предоставляется только гражданам, имеющим имущество определен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0033"/>
                </a:solidFill>
                <a:uFillTx/>
                <a:latin typeface="Calibri"/>
              </a:rPr>
              <a:t>Многостепенные выб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избирательная система, при которой депутаты представительного органа избираются нижестоящими выборными органами или избирательными коллегиями, в состав которых входят избранные населением выборщики или депутаты нижестоящих представитель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0033"/>
                </a:solidFill>
                <a:uFillTx/>
                <a:latin typeface="Calibri"/>
              </a:rPr>
              <a:t>Прямые выборы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рядок проведения выборов, при котором избиратели прямо и непосредственно избирают депутатов в представ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6651-1300-4813-A0A5-D40685D7F6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́ндр II Никола́е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мператор Всероссий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Польский и великий князь Финляндский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85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188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з династ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оманов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й сын императорской четы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Николая Павло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Александры Фёдоро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шёл в русскую историю как проводник широкомасштабных рефо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стоен особого эпитета в русской дореволюционной историографии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вободи́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связи с отменой крепостного пра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иб в результате террористического акта, организованного партией «Народная воля» 1марта 1881г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39C7-29FA-455D-86CE-D9F42A9928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есмотря на всю прогрессивность реформа имела недоста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сословных судов ( волостные- мелкие споры между крестьянами; дворянские- исключительно сословные вопро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в праве быть присяжными заседателями (имущественный ценз, должны занимать государственную или общественную должность). Не могли быть присяжными священники, монахи, военнослужащие, рабо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бернатор имел право исключать из списков присяжных заседателей неугодны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E94C-30E1-4043-B5E4-6888715CEF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Все мужское население подлежит воинской повинности, </a:t>
            </a:r>
            <a:r>
              <a:rPr b="0" lang="ru-RU" sz="1200" spc="-1" strike="noStrike" u="sng">
                <a:solidFill>
                  <a:srgbClr val="663300"/>
                </a:solidFill>
                <a:uFillTx/>
                <a:latin typeface="Calibri"/>
              </a:rPr>
              <a:t>денежный выкуп не допуск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оруженные силы состоят из постоянных войск и ополчения ( решает жребий – с 1 октября, 21 г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 с образованием право выбора без жребия –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ольноопределяющие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роки служб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ухопутные в-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5 лет ( 6-дествительной; 9- в запас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Фло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лет ( 7действительной; 3 в запас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енных условиях остаются на службе по необходимости, призывной возраст до 43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399A-BDA5-45F8-B9C6-60B260D6E7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сполнитель-ные орга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ородской голова и Городские упра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едстави-тельные (распоряди-тельные) органы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родская Д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Функци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озяйственные, благо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4AF9-50A9-4C7D-8189-8E34B578FC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форма провозглашала принцип общечеловеческого образования и всесослов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о перестройка школы не привела к полной демократизации образ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упна классическая школа для низших слоев ( высокая пла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ое образование имело ограниченный уровень и не получило статуса бесплатного и обязатель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образования мог назначать и увольнять преподавателей, утверждать инструкции и правила, существовало сословное деление студентов факультетов (юридический - дворяне, медицинский – разночинц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3D0F-8DA7-4E4C-909A-D84C3F1754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репостное право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орма зависимости крестьян, при которой они наделяются землей, неся за пользование ею различные повинности (барщину и оброк) и подчиняются судебной и административной власти помещика. Крестьянин – собственность поме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чины отмены крепостного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низкая производительность крепостного труда, нерентабельность хозяй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тсутствие личной свободы у крестьян препятствовало развитию промышленности, нет наемных рабоч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.п.- угроза общественного спокойствия (рост крестьянских волнен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Крымская война наглядно показала экономическую и военно-техническую отсталость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1D38-E94C-477C-A6DF-915DB2274A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крипт генерал-губернатору В.И.Назимову о разрешении создать в каждой губернии комитеты для обсуждения вопроса отмены крепост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крипт – письмо монарха к подд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7BE0-FE86-4EB9-876E-B71BCB0F98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Calibri"/>
              </a:rPr>
              <a:t>Проекты освобождения крестьян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черноземных губер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вобождение крестьян без земли или с очень маленьким наделом за большой выку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нечерноземных губер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вобождение с землей, но выкуп не только за землю, но и за личность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1FE4-89C7-47BC-B2B6-5CD862EED9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19 февраля 1861г.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«Манифест об освобождении помещичьих крестьян из крепостной зависим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«Положения о крестьянах, вышедших из крепостной зависим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лась личная своб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за выкуп- Земля предоставлялась не отдельному крестьянину, а общине (она становилась собственником зем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C3E9-13B9-4ADD-BA10-9FE4227B12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Гражданские прав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) производить сделки с движимым и недвижимым имуществом (покупка, продаж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) открывать торговые и промышленные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) выступать от своего имени в су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4) не могут подвергаться телесному наказанию иначе как по приговору суда или законному распоряжению поставленныз над ними вла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5) переходить в другие сосло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36F6-59B7-47F3-8F7E-91225538C0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купная опе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423C-792E-436F-A65B-67F1629873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126-CEA7-45D3-8017-A21C6544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AD4-4980-4B04-9C80-ECECB8FF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5E3-63B4-44F2-9ABA-C6FEF210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C19-07DF-4974-A289-6419CDD6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A030-DEE4-42B0-8BE8-5338E2BD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4371-C38B-4DF4-95D4-CDA515D4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FEA1-5E8C-4457-8EB6-6288771F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E7FF-8785-4E1A-9FD3-2A581633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AD57-DC63-4078-83C9-CA963970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8F42-4860-40D8-8C38-B04E7B7F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A0A1-36A3-4431-B5D7-0D34D9A3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4E0-01B9-403E-9107-80EF3347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507D-CC7B-40D0-9280-8FE7AE40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E356-4F87-4F25-9386-519EBA4F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E779-5F96-48A0-819F-20FB5FB2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FE0C-D836-4FE2-A242-840EEBB5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AB96-2B0A-41A5-BDC5-BD3749A0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9C0-0B34-41DE-B1CE-D6A710CF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3AE-50AD-4BC5-8A88-C6B9B2AB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A04-C09E-4195-8EAA-A94872BB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046-1692-4FA8-90EE-98D1D479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AD7-2CB0-4680-887A-5D288103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557-9533-40CF-AEE5-87837C82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A0A-0CCC-4B54-AD8F-1DA1C489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2AAB-3A0D-4F8B-82E5-55495BCAE5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2669-8722-497A-B9AA-8F9DBDCA6B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rt11.ru/mjasoedov_grigorii_grigorevich/5b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art11.ru/mjasoedov_grigorii_grigorevich/5b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pinakoteka.ru/blog/wp-content/uploads/2009/11/dhoenynfdhdhudhdhdh-dhdh-dhndhudhdhdhu-dhdhdhdhndhunfndh-19-ndhudhndhdhny-1861-dhdhdhdh-1873-dh-dhndhnnndhdh-1960-dh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4;&#1087;&#1077;&#1088;&#1072;&#1090;&#1086;&#1088;_&#1042;&#1089;&#1077;&#1088;&#1086;&#1089;&#1089;&#1080;&#1081;&#1089;&#1082;&#1080;&#1081;" TargetMode="External"/><Relationship Id="rId2" Type="http://schemas.openxmlformats.org/officeDocument/2006/relationships/hyperlink" Target="http://ru.wikipedia.org/wiki/1855" TargetMode="External"/><Relationship Id="rId3" Type="http://schemas.openxmlformats.org/officeDocument/2006/relationships/hyperlink" Target="http://ru.wikipedia.org/wiki/1881" TargetMode="External"/><Relationship Id="rId4" Type="http://schemas.openxmlformats.org/officeDocument/2006/relationships/hyperlink" Target="http://ru.wikipedia.org/wiki/&#1056;&#1086;&#1084;&#1072;&#1085;&#1086;&#1074;&#1099;" TargetMode="External"/><Relationship Id="rId5" Type="http://schemas.openxmlformats.org/officeDocument/2006/relationships/hyperlink" Target="http://ru.wikipedia.org/wiki/&#1053;&#1080;&#1082;&#1086;&#1083;&#1072;&#1081;_I" TargetMode="External"/><Relationship Id="rId6" Type="http://schemas.openxmlformats.org/officeDocument/2006/relationships/hyperlink" Target="http://ru.wikipedia.org/wiki/&#1040;&#1083;&#1077;&#1082;&#1089;&#1072;&#1085;&#1076;&#1088;&#1072;_&#1060;&#1105;&#1076;&#1086;&#1088;&#1086;&#1074;&#1085;&#1072;_(&#1078;&#1077;&#1085;&#1072;_&#1053;&#1080;&#1082;&#1086;&#1083;&#1072;&#1103;_I)" TargetMode="External"/><Relationship Id="rId7" Type="http://schemas.openxmlformats.org/officeDocument/2006/relationships/hyperlink" Target="http://ru.wikipedia.org/wiki/&#1056;&#1077;&#1092;&#1086;&#1088;&#1084;&#1099;_&#1040;&#1083;&#1077;&#1082;&#1089;&#1072;&#1085;&#1076;&#1088;&#1072;_II" TargetMode="External"/><Relationship Id="rId8" Type="http://schemas.openxmlformats.org/officeDocument/2006/relationships/hyperlink" Target="http://ru.wikipedia.org/wiki/&#1048;&#1089;&#1090;&#1086;&#1088;&#1080;&#1086;&#1075;&#1088;&#1072;&#1092;&#1080;&#1103;" TargetMode="External"/><Relationship Id="rId9" Type="http://schemas.openxmlformats.org/officeDocument/2006/relationships/hyperlink" Target="http://ru.wikipedia.org/wiki/&#1058;&#1077;&#1088;&#1088;&#1086;&#1088;&#1080;&#1079;&#1084;" TargetMode="External"/><Relationship Id="rId10" Type="http://schemas.openxmlformats.org/officeDocument/2006/relationships/hyperlink" Target="http://ru.wikipedia.org/wiki/&#1053;&#1072;&#1088;&#1086;&#1076;&#1085;&#1072;&#1103;_&#1074;&#1086;&#1083;&#1103;" TargetMode="External"/><Relationship Id="rId11" Type="http://schemas.openxmlformats.org/officeDocument/2006/relationships/hyperlink" Target="http://ru.wikipedia.org/wiki/&#1060;&#1072;&#1081;&#1083;:Alexander_II_of_Russia_(Nikolay_Lavrov_01).jpg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Отмена крепостного права в России в 1861г.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кие ре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ксанд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подаватель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Гимназия №1», г.Новомосков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ва Ия Юр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Picture 4" descr="image001"/>
          <p:cNvPicPr/>
          <p:nvPr/>
        </p:nvPicPr>
        <p:blipFill>
          <a:blip r:embed="rId1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-3560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80"/>
                </a:solidFill>
                <a:latin typeface="Arial"/>
              </a:rPr>
              <a:t>Временнообязанный крестьяни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лично свободный крестьянин, вынужденный выполнять все свои повинности перед помещиком до перехода на выкуп.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Временнообязанное полож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охранялось до тех пор, пока крестьянин не начинал процедуру выкупа зем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дура выкупа начиналась с 19февраля 1863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1881г. «Положение» об обязательном переводе оставшихся крестьян на выку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-403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М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змер участка, меньше которого помещик не должен был предлагать крестьянин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Ma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мер участка, больше которого крестьянин не должен требовать у помещ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«отрезки»;    «прирезк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Уставная грамота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оговор помещика и крестьяни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«Дарственный надел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¼ часть от высшей нормы земельного надела, которую крестьянин мог получить бесплат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Мировые посредники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олжностное лицо из дворян, назначался для составления и утверждения уставных грамот и разбора споров между крестьянами и помещиками. Обладал судебно-административной власт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5013000"/>
            <a:ext cx="8964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33"/>
                </a:solidFill>
                <a:latin typeface="Arial"/>
              </a:rPr>
              <a:t>Г.Г.Мясоедов «Чтение Манифеста 19 февраля 1861г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а 1861г.- 1959крестьянских волн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осстания в </a:t>
            </a: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Бездн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(во главе Антон Петров) и </a:t>
            </a: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Кандеевк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закончились расстрел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5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320" y="23211000"/>
            <a:ext cx="14849640" cy="9677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5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320" y="23211000"/>
            <a:ext cx="14849640" cy="9677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Чтение манифеста 19 февраля 1861 год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0"/>
            <a:ext cx="7885080" cy="50212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Значение и итоги крестьянской реформы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ла необходимые условия для утверждения капитализ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ствовала росту темпов экономического развит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ствовала складыванию новой социальной структуры, появлению новых социальных слоев – пролетариата и промышленной буржуазии; изменению самого крестьян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 отменой крепостного права последовали и другие реформы 60-70-хг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Реформа была крайне непоследовательной и противоречивой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а ущемила экономические интересы помещиков, ликвидировала их монополию на эксплуатацию крестьянского труда, являясь сильнейшим нравственным потрясением для помещик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форма носила грабительский характер по отношению к крестьянам, в ряде случаев способствовала ухудшению их поло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Picture 4" descr="imag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>
            <a:off x="6443640" y="6093000"/>
            <a:ext cx="1441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imag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686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0033"/>
                </a:solidFill>
                <a:uFillTx/>
                <a:latin typeface="Arial"/>
              </a:rPr>
              <a:t>Имущественный цен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избирательное право предоставляется только гражданам, имеющим имущество определенной стоим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0033"/>
                </a:solidFill>
                <a:uFillTx/>
                <a:latin typeface="Arial"/>
              </a:rPr>
              <a:t>Многостепенные выбо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избирательная система, при которой депутаты представительного органа избираются нижестоящими выборными органами или избирательными коллегиями, в состав которых входят избранные населением выборщики или депутаты нижестоящих представительных орган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0033"/>
                </a:solidFill>
                <a:uFillTx/>
                <a:latin typeface="Arial"/>
              </a:rPr>
              <a:t>Прямые выборы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рядок проведения выборов, при котором избиратели прямо и непосредственно избирают депутатов в представительные орга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Picture 4" descr="image001"/>
          <p:cNvPicPr/>
          <p:nvPr/>
        </p:nvPicPr>
        <p:blipFill>
          <a:blip r:embed="rId1"/>
          <a:stretch/>
        </p:blipFill>
        <p:spPr>
          <a:xfrm>
            <a:off x="1116000" y="0"/>
            <a:ext cx="640872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42588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84720" y="333000"/>
            <a:ext cx="468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лекса́ндр II Никола́еви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—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Император Всероссийск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арь Польский и великий князь Финляндский (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185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188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из династии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Романов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рший сын императорской четы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Николая Павлович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Александры Фёдоров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шёл в русскую историю как проводник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широкомасштабных рефор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достоен особого эпитета в русской дореволюционной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историограф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вободи́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в связи с отменой крепостного прав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гиб в результате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террористическог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кта, организованного партией «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Народная вол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 1марта 1881г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Александр II Николаевич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1197000"/>
            <a:ext cx="3871800" cy="45356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Picture 4" descr="image001"/>
          <p:cNvPicPr/>
          <p:nvPr/>
        </p:nvPicPr>
        <p:blipFill>
          <a:blip r:embed="rId1"/>
          <a:stretch/>
        </p:blipFill>
        <p:spPr>
          <a:xfrm>
            <a:off x="1187280" y="0"/>
            <a:ext cx="61930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смотря на всю прогрессивность реформа имела недостат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хранение сословных судов ( волостные- мелкие споры между крестьянами; дворянские- исключительно сословные вопросы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граничение в праве быть присяжными заседателями (имущественный ценз, должны занимать государственную или общественную должность). Не могли быть присяжными священники, монахи, военнослужащие, рабоч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убернатор имел право исключать из списков присяжных заседателей неугодных ли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0" name="Picture 4" descr="image001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Все мужское население подлежит воинской повинности, </a:t>
            </a:r>
            <a:r>
              <a:rPr b="0" lang="ru-RU" sz="3000" spc="-1" strike="noStrike" u="sng">
                <a:solidFill>
                  <a:srgbClr val="663300"/>
                </a:solidFill>
                <a:uFillTx/>
                <a:latin typeface="Arial"/>
              </a:rPr>
              <a:t>денежный выкуп не допускает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оруженные силы состоят из постоянных войск и ополчения ( решает жребий – с 1 октября, 21 год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цам с образованием право выбора без жребия – </a:t>
            </a: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вольноопределяющие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роки службы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Сухопутные в-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= 15 лет ( 6-дествительной; 9- в запас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Фло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= 10лет ( 7действительной; 3 в запасе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оенных условиях остаются на службе по необходимости, призывной возраст до 43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Image1"/>
          <p:cNvPicPr/>
          <p:nvPr/>
        </p:nvPicPr>
        <p:blipFill>
          <a:blip r:embed="rId1"/>
          <a:stretch/>
        </p:blipFill>
        <p:spPr>
          <a:xfrm>
            <a:off x="324000" y="58680"/>
            <a:ext cx="8064360" cy="66801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12000" y="1719360"/>
            <a:ext cx="29527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Arial"/>
              </a:rPr>
              <a:t>Исполнитель-ные орган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Городской голова и Городские управ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Arial"/>
              </a:rPr>
              <a:t>Представи-тельные (распоряди-тельные) органы-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Городская Ду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Arial"/>
              </a:rPr>
              <a:t>Функции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хозяйственные, благоустройст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image001"/>
          <p:cNvPicPr/>
          <p:nvPr/>
        </p:nvPicPr>
        <p:blipFill>
          <a:blip r:embed="rId1"/>
          <a:stretch/>
        </p:blipFill>
        <p:spPr>
          <a:xfrm>
            <a:off x="0" y="0"/>
            <a:ext cx="6040440" cy="66690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Picture 4" descr="image001"/>
          <p:cNvPicPr/>
          <p:nvPr/>
        </p:nvPicPr>
        <p:blipFill>
          <a:blip r:embed="rId1"/>
          <a:stretch/>
        </p:blipFill>
        <p:spPr>
          <a:xfrm>
            <a:off x="250920" y="0"/>
            <a:ext cx="785016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-2228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форма провозглашала принцип общечеловеческого образования и всесословной школ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Но перестройка школы не привела к полной демократизации образо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упна классическая школа для низших слоев ( высокая плат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чальное образование имело ограниченный уровень и не получило статуса бесплатного и обязательного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нистр образования мог назначать и увольнять преподавателей, утверждать инструкции и правила, существовало сословное деление студентов факультетов (юридический - дворяне, медицинский – разночинцы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-403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33228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репостное право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орма зависимости крестьян, при которой они наделяются землей, неся за пользование ею различные повинности (барщину и оброк) и подчиняются судебной и административной власти помещика. Крестьянин – собственность помещ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780000" y="404640"/>
            <a:ext cx="49068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ричины отмены крепостного пра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низкая производительность крепостного труда, нерентабельность хозяйст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Отсутствие личной свободы у крестьян препятствовало развитию промышленности, нет наемных рабочи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К.п.- угроза общественного спокойствия (рост крестьянских волнений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Крымская война наглядно показала экономическую и военно-техническую отсталость стр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скрипт генерал-губернатору В.И.Назимову о разрешении создать в каждой губернии комитеты для обсуждения вопроса отмены крепостного пра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скрипт – письмо монарха к подданном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274680"/>
          <a:ext cx="8229600" cy="5954760"/>
        </p:xfrm>
        <a:graphic>
          <a:graphicData uri="http://schemas.openxmlformats.org/drawingml/2006/table">
            <a:tbl>
              <a:tblPr/>
              <a:tblGrid>
                <a:gridCol w="4402080"/>
                <a:gridCol w="3827520"/>
              </a:tblGrid>
              <a:tr h="11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Учреждения,       занимавшиеся подготовкой рефор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бязанност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Совет, Секретный комитет с 1858г. Главный комитет по крестьянскому дел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ршение обсуждения проекта зако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акционные комиссии (председатель Я.Ростовцев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ение поправок и изменений в проек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бернские дворянские комитеты об улучшении быта помещичьих крестьян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мотрение материалов,представленных губернскими комитетами составление единого проекта зак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3300"/>
                </a:solidFill>
                <a:latin typeface="Arial"/>
              </a:rPr>
              <a:t>Проекты освобождения крестьян: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В черноземных губерния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вобождение крестьян без земли или с очень маленьким наделом за большой выкуп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e9ce8"/>
                </a:solidFill>
                <a:latin typeface="Arial"/>
              </a:rPr>
              <a:t>В нечерноземных губерния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вобождение с землей, но выкуп не только за землю, но и за личность крестьян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140000" y="476280"/>
            <a:ext cx="4824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19 февраля 1861г.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«Манифест об освобождении помещичьих крестьян из крепостной зависимост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«Положения о крестьянах, вышедших из крепостной зависимост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оставлялась личная своб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емля за выкуп- Земля предоставлялась не отдельному крестьянину, а общине (она становилась собственником земл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aldr2"/>
          <p:cNvPicPr/>
          <p:nvPr/>
        </p:nvPicPr>
        <p:blipFill>
          <a:blip r:embed="rId1"/>
          <a:stretch/>
        </p:blipFill>
        <p:spPr>
          <a:xfrm>
            <a:off x="468360" y="765000"/>
            <a:ext cx="3524040" cy="518328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Гражданские права: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1) производить сделки с движимым и недвижимым имуществом (покупка, продаж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2) открывать торговые и промышленные предприят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3) выступать от своего имени в суд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4) не могут подвергаться телесному наказанию иначе как по приговору суда или законному распоряжению поставленныз над ними власт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5) переходить в другие сослов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1720" y="122040"/>
            <a:ext cx="7469280" cy="71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Выкупная операция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5:28:40Z</dcterms:created>
  <dc:creator>Админ</dc:creator>
  <dc:description/>
  <dc:language>en-US</dc:language>
  <cp:lastModifiedBy>LEGION</cp:lastModifiedBy>
  <dcterms:modified xsi:type="dcterms:W3CDTF">2015-01-14T10:10:40Z</dcterms:modified>
  <cp:revision>21</cp:revision>
  <dc:subject/>
  <dc:title>Слайд 1</dc:title>
</cp:coreProperties>
</file>