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50.jpeg" ContentType="image/jpeg"/>
  <Override PartName="/ppt/media/image25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1.png" ContentType="image/png"/>
  <Override PartName="/ppt/media/image16.gif" ContentType="image/gif"/>
  <Override PartName="/ppt/media/image51.png" ContentType="image/png"/>
  <Override PartName="/ppt/media/image15.gif" ContentType="image/gif"/>
  <Override PartName="/ppt/media/image5.jpeg" ContentType="image/jpeg"/>
  <Override PartName="/ppt/media/image14.gif" ContentType="image/gif"/>
  <Override PartName="/ppt/media/image3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4.jpeg" ContentType="image/jpeg"/>
  <Override PartName="/ppt/media/image41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33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32.jpeg" ContentType="image/jpeg"/>
  <Override PartName="/ppt/media/image26.jpeg" ContentType="image/jpeg"/>
  <Override PartName="/ppt/media/image49.jpeg" ContentType="image/jpeg"/>
  <Override PartName="/ppt/media/image10.gif" ContentType="image/gif"/>
  <Override PartName="/ppt/media/image4.png" ContentType="image/png"/>
  <Override PartName="/ppt/media/image1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52.jpeg" ContentType="image/jpeg"/>
  <Override PartName="/ppt/media/image7.gif" ContentType="image/gif"/>
  <Override PartName="/ppt/media/image29.jpeg" ContentType="image/jpeg"/>
  <Override PartName="/ppt/media/image3.jpeg" ContentType="image/jpeg"/>
  <Override PartName="/ppt/media/image37.jpeg" ContentType="image/jpeg"/>
  <Override PartName="/ppt/media/image3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D660-BC3C-4DD5-B043-CBE3E8817D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лавянские б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6029-C31A-44B7-9C53-5DE1E9C260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видетельству Дитмара (умер в 1018), языческие славяне чтили Сварога более других богов; некоторые признавали его за одно существо с Редигастом и представляли его распорядителем войн. В мифах белых народов бог молотом кует - творит мир, высекая молнии и искры, у всех он имеет то или иное отношение к ог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D1F1-7C1A-4A3D-8DDF-3FB2838608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балтийских славян Сварожич (иначе называвшийся Радгостом) почитался в культовом центре редариев Ретре-Радгосте как один из главных богов, атрибутами которого были конь и копья, а также огромный вепрь, согласно легенде, выходивший из моря. У чехов, словаков и украинцев со Сварогом можно связать огненного духа Рар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58D6-E52B-46FE-AA55-8B38905DA4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арог - старое солнце, едущее в колеснице, холодное и тем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8012-1DEE-4AF2-B268-92277B5677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с – бог солнца. Хорс, хорост, хворост, хрест, крест, кресало, искра, хоровод, хоро, коло, колесо, коловорот, кол, колядки, круг, кровь, красный - все эти слова родственны между собой и обозначают понятия, связанные с огнем, кругом, красным цветом. Если слить их в одно, перед нами появится образ солнца, описанный иносказ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436B-992E-43FE-B72D-9B8B437DD6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нового года славяне отмечали 22 декабря - в день зимнего солнцестояния. Считалось, что в этот день рождается маленькое ярое солнце в образе мальчика - Хорса. Новое солнце завершало ход старого солнца (старого года) и открывало ход следующего года. Пока солнце еще слабое, на земле господствуют ночь и холод, доставшиеся от старого года, но с каждым днем Великий Хорс (как упоминается в 'Слове о полку Игореве') растет, и солнце креп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189E-9EAE-4D5A-8DFB-84E5F2151C9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предки встречали солнцестояние колядками, носили на шесте коловрат (восьмиконечную звезду) - солнце, надевали на себя личины тотемных зверей, которые связывались в сознании людей с образами древних богов: медведь - Велес, корова - Макошь, козел - веселая и одновременно злая ипостась Велеса, конь - солнце, лебедь - Лада, утка - Рожаница (прародительница мира), петух - символ времени, восхода и захода солнца, и так дал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F994-A4A8-4340-834B-8F142ABD11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горе жгли колесо, обвязанное соломой, как бы помогая солнышку светить, потом начинались катания на санках, коньках, лыжах, игра в снежки, кулачки и бои стенка на стенку, песни, пляски, состязания, игрища. Люди ходили друг к другу в гости, каждый старался получше угостить пришедших, чтоб в новом году было в доме изобил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7855-5F7E-41A4-9534-CA8B244C38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ровая северная Русь любила молодецкие потехи. Вынужденные жить и работать в тяжелых условиях, наши пращуры вплоть до ХХ века слыли народом веселым и гостеприимным, умевшим отдыхать. Хорс - мужское божество, воплощающее стремление мальчиков и взрослых мужей к знанию, духовному росту, самосовершенствованию, к преодолению встречающихся в жизни трудностей и нахождению верн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3CFB-7974-4657-BA17-6D57844066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дьбог– бог плодоро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CAE9-62E1-4E4B-8835-47A59CF7D6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дьбог, дать, дождь - слова однокоренные, имеющие значение 'делиться, раздавать'. Даждьбог посылал людям не только дождь, но и солнце, напитывающее землю светом и теплом. Даждьбог – это осеннее небо с облаками, дождями, грозами, а подчас и градом. 22 сентября - осеннее равноденствие, праздник Рода и Рожаниц, день Даждьбога и Мако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2AC2-6CCB-42DE-B6F2-8EB821E1F9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ский бог – Яри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зерна, умирающего в земле, чтобы возродиться колосом, - был одновременно и прекрасным, и жесто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A9A9-8AD7-487D-9A05-95A2EF40F3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урожай снят, ведутся последние сборы в садах и огородах. Все жители деревни или города выходят на природу, зажигают огонь, вкатывают на гору горящее колесо - солнце, водят хороводы с песнями, играют в предсвадебные и ритуальные игры. Потом выносят на главную улицу столы, ставят на них лучшую еду и начинают общий родовой пир. Соседи и родичи пробуют пищу, свою приготовленную другими, хвалят, все вместе славят Солнце, землю и Русь - матуш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E0C0-63D6-48F7-AA26-3731457C0D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дьбожьи (солнечные) внуки - так называли себя Русичи. Символические знаки солнца (солнечные розетки, солнцевороты) у наших предков присутствовали везде - на одежде, посуде, в украшении домов. Всякий русский мужчина обязан создать большую семью - род, накормить, вырастить, воспитать детей и стать Даждьбогом. В этом - его долг, слав, правда. За каждым из нас стоят бесчисленные предки - наши корни, и каждый должен дать жизнь ветвям - потом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CC59-72EB-4D6D-B13B-D0E4B10236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ес - хозяин Дикой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A81B-2D1C-4ED5-A346-F3E0CBC3F4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овитель домашнего скота и богатства, воплощением золота, попечитель торговцев, скотоводов, охотников и землепашцев, хозяин магии и сокровенного, властитель перекрестков, навий бог. Ему подчинялись все низшие духи. Волшебной обителью Велеса стал остров Буян. В основном Велес занимался земными делами ведь его почитали как владыку лесов, животных, богом поэзии и доста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B44D-1F80-44B3-843C-B04C054E3E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ес - хранитель седой старины и безмолвных костей предков. Последняя ночь октября - день поминовения дедов (на Западе - Хелловин). В этот день русы провожали с кострами и музыкой волынок и дудок духов природы и умерших за год родичей под с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70B4-0A73-46E8-907E-8AFE420985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 — бог грома и мол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86F7-E131-448D-BCFC-E21756EE9E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 — бог грома и молнии, покровитель воинов. По воззрению славян, Перун в теплые дни весны являлся со своими молниями, оплодотворял землю дождями и выводил из-за рассеянных туч ясное солнце. Его творческою силою пробуждалась природа к жизни, и он как бы вновь созидал Мир. Отсюда Перун производитель, творец. В то же время Перун — божество грозное и карающее; его явление возбуждает страх и трепет. Перун являлся верховным божеством пантеона князя Владимира как покровитель правящей военной элиты, князя и дружины, карающий за несоблюдение 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4E25-5493-4B2A-86FE-B4AE0B6E75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ерун имел отношение к холоду (он рождался в первый месяц зимы), но Дни Перуна - его пора - начинались 20 июня и заканчивались в начале августа. В это время Русичи справляли тризны по павшим в боях воинам - собирались на курганах и красных горах, устраивали пиры, ратные потехи, мерялись силой между собой в беге, метании оружия, плавании, скачках на конях. Убивали купленного вскладчину быка, жарили и ели его, пили меды и квасы. Проводили посвящения молодых парней, которые должны были пройти серьезные испытания, в воины и опоясать себя оружием 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92EC-5D13-42F5-ACD1-B709694C35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наших предков всегда было много внешних врагов, велись постоянные войны. Щит и меч почитались как символ Перуна, его подарок мужчине. Оружию поклонялись и его боготворили. Но в смертельный бой шли не только мужчины. Часто среди убитых русичей на поле боя враги с удивлением находили женщин, сражавшихся со своими мужьями плечом к плечу. Им тоже покровительствовал златоусый Перу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CAD5-BBD8-43D7-A858-8724DEF0C4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AA7D-433D-4D3A-B8D7-3FBC103368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нь «яр» присутствует в таких чисто женских сочетаниях: яровая корова — ярка, ярмо, яровая пшеница, яровые хлеба. А вот в чисто женском роде: ярость, доярка, ярь, ярина (овечья шерсть), яра (весна). Ярило — сын или явья ипостась Велеса, который зимой выступает как Мороз, а по весне — Яр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CEF8-CE14-4BA2-8249-E8C865EB5D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ило, ярость, яровые, Яр (у северян в древности означало 'село'), т.к. раньше жили в избах с очагом; яркость, - эти слова объединены понятием усиления яркости, света. Действительно, после приходи весны идет быстрое прибавление дня и усиление тепла. Все оживает, растет, тянется к солнцу. Природа воскресает в образе прекрасной Лады. Ярило, растопляя снега, живит матушку – землю талой водой. Ярило - солнце в образе молодого, полного сил жениха скачет на коне к своей Ладе. Спешит создать семью и народить детей (урожай, детенышей зверей, птиц, рыб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A701-119A-4FFC-AF8D-C9575A584F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етнему солнцестоянию Ярило набирает полную силу. Он живет в правде и любви с землею, рождая летом новые жизни. К 22 июня Ярило превращается в Белбога, день самый длинный, природа обласкана им и любит его. Состояние Ярилы - состояние всех молодых парней. В четвертый месяц года (ныне апрель) русичи начинали самые важные для всего славянского рода сельскохозяйственные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A2C2-FEA3-4278-A172-180B9BF73C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рень его имени – «яр» - встречается в слов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овая 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очка – молодая ов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ос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ый – сердитый или пыл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79D4-3758-41FD-B87E-42BCE9DA9D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риле как богу смерти и воскре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осились  в жертву  молодая овца, кровью которой окропляли пашню, дабы сделать урожай оби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6363-7656-4719-A537-55952F6BE1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ский бог Свар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главных богов в славянском пантео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арог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ог ог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28C1-9F7B-4712-B033-2FD0062F9C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главных богов в славянском пантеоне. «Svarga» на санскрите — небо, небесный свод, «var» — огонь, жар. Отсюда идут и все славянские производные — варить, сварганить, верх и т. п. Сварог считался богом Неба, матерью жизни («Сва» — у индоевропейцев мать-прародительница). В уже более позднее время Сварог переменил свой п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D81B-58BD-4436-9C56-D86A9ADCFB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031-0072-47F4-83C6-ACC74DED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AA16-51DC-4FFE-BEC0-E23F08DF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656-AE36-4F04-BB88-361FBF33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840F-9764-4C67-8333-AE5524F9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25200-6E60-43AE-ACAD-85BFF294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AF783-A99D-4C6B-9CE1-5D0B4BC7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774BA-C7B1-46DD-97F5-788F5947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D8E2B-BABB-4BD0-BC95-28EC82BD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84156-1984-4D19-828C-CDC2FA08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AB235-23E5-4DEC-8912-C0DF441D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48033-5E62-4ACD-BFA2-D9662FC1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58DF-2E90-45C2-932C-A8088FF5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5C2F3-BD79-4E57-B647-DE20E0C6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4A842-F499-453F-B235-DD6D3C48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6948D-0ABF-4FC1-B2E1-603A6621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0959D-D173-4CAC-B04E-03F30AA9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39626-C719-44A2-90A6-C8A74584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4D6-48CF-4091-854F-FCE0376C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C5EC-DD23-471F-AEFA-F52463A8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F5BD-F564-4C9A-8E92-1CEE4912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CA3-ACC9-4CF9-8DEE-D104C9B2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EFD3-A1B5-4418-ACFE-8D6B67F6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F925-2990-4955-B779-EC9D6953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F4E-CE61-4611-A582-C97B7F33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A272-C652-4783-B525-FE4EBF7A33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FD7C-2180-46C1-B39A-D77322CEEA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1071720" y="2071800"/>
            <a:ext cx="6913440" cy="275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авянские бо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0" name="Picture 5" descr="кк"/>
          <p:cNvPicPr/>
          <p:nvPr/>
        </p:nvPicPr>
        <p:blipFill>
          <a:blip r:embed="rId1"/>
          <a:stretch/>
        </p:blipFill>
        <p:spPr>
          <a:xfrm>
            <a:off x="0" y="3789360"/>
            <a:ext cx="2100240" cy="289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svaroвg"/>
          <p:cNvPicPr/>
          <p:nvPr/>
        </p:nvPicPr>
        <p:blipFill>
          <a:blip r:embed="rId2"/>
          <a:stretch/>
        </p:blipFill>
        <p:spPr>
          <a:xfrm>
            <a:off x="4572000" y="3789360"/>
            <a:ext cx="3174840" cy="287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koni"/>
          <p:cNvPicPr/>
          <p:nvPr/>
        </p:nvPicPr>
        <p:blipFill>
          <a:blip r:embed="rId3"/>
          <a:stretch/>
        </p:blipFill>
        <p:spPr>
          <a:xfrm>
            <a:off x="0" y="0"/>
            <a:ext cx="2595600" cy="1773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tks_ip_scr_npc_iggeld"/>
          <p:cNvPicPr/>
          <p:nvPr/>
        </p:nvPicPr>
        <p:blipFill>
          <a:blip r:embed="rId4"/>
          <a:stretch/>
        </p:blipFill>
        <p:spPr>
          <a:xfrm>
            <a:off x="7124760" y="0"/>
            <a:ext cx="2019240" cy="1844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post-59366-1231089916"/>
          <p:cNvPicPr/>
          <p:nvPr/>
        </p:nvPicPr>
        <p:blipFill>
          <a:blip r:embed="rId5"/>
          <a:stretch/>
        </p:blipFill>
        <p:spPr>
          <a:xfrm>
            <a:off x="2050920" y="3789360"/>
            <a:ext cx="2560680" cy="2908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051"/>
          <p:cNvPicPr/>
          <p:nvPr/>
        </p:nvPicPr>
        <p:blipFill>
          <a:blip r:embed="rId6"/>
          <a:stretch/>
        </p:blipFill>
        <p:spPr>
          <a:xfrm>
            <a:off x="7770960" y="3716280"/>
            <a:ext cx="1373040" cy="28814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18440" cy="25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По свидетельству Дитмара (умер в 1018), языческие славяне чтили Сварога более других богов; некоторые признавали его за одно существо с Редигастом и представляли его распорядителем войн. В мифах белых народов бог молотом кует - творит мир, высекая молнии и искры, у всех он имеет то или иное отношение к огню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8" name="Picture 6" descr="svaroвg"/>
          <p:cNvPicPr/>
          <p:nvPr/>
        </p:nvPicPr>
        <p:blipFill>
          <a:blip r:embed="rId1"/>
          <a:stretch/>
        </p:blipFill>
        <p:spPr>
          <a:xfrm>
            <a:off x="0" y="3068640"/>
            <a:ext cx="3276720" cy="2924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svarыog"/>
          <p:cNvPicPr/>
          <p:nvPr/>
        </p:nvPicPr>
        <p:blipFill>
          <a:blip r:embed="rId2"/>
          <a:stretch/>
        </p:blipFill>
        <p:spPr>
          <a:xfrm>
            <a:off x="6300720" y="3068640"/>
            <a:ext cx="2843280" cy="295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37097"/>
          <p:cNvPicPr/>
          <p:nvPr/>
        </p:nvPicPr>
        <p:blipFill>
          <a:blip r:embed="rId3"/>
          <a:stretch/>
        </p:blipFill>
        <p:spPr>
          <a:xfrm>
            <a:off x="3276720" y="3068640"/>
            <a:ext cx="3043080" cy="295272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54644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У балтийских славян Сварожич (иначе называвшийся Радгостом) почитался в культовом центре редариев Ретре-Радгосте как один из главных богов, атрибутами которого были конь и копья, а также огромный вепрь, согласно легенде, выходивший из моря. У чехов, словаков и украинцев со Сварогом можно связать огненного духа Рарога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3" name="Picture 5" descr="с"/>
          <p:cNvPicPr/>
          <p:nvPr/>
        </p:nvPicPr>
        <p:blipFill>
          <a:blip r:embed="rId1"/>
          <a:stretch/>
        </p:blipFill>
        <p:spPr>
          <a:xfrm>
            <a:off x="5003640" y="765000"/>
            <a:ext cx="3727440" cy="50198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4720" y="692280"/>
            <a:ext cx="468000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варог - старое солнце, едущее в колеснице, холодное и темно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6" name="Picture 5" descr="ыы"/>
          <p:cNvPicPr/>
          <p:nvPr/>
        </p:nvPicPr>
        <p:blipFill>
          <a:blip r:embed="rId1"/>
          <a:stretch/>
        </p:blipFill>
        <p:spPr>
          <a:xfrm>
            <a:off x="468360" y="476280"/>
            <a:ext cx="4105080" cy="5905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25185 L 0.00382 -0.03148 E">
                                      <p:cBhvr>
                                        <p:cTn id="18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708000" y="1844640"/>
            <a:ext cx="20876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e3e3ff"/>
                </a:solidFill>
                <a:uFillTx/>
                <a:latin typeface="Arial"/>
              </a:rPr>
              <a:t>Хорс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03280" y="3141360"/>
            <a:ext cx="6400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орс – бог солнца. Хорс, хорост, хворост, хрест, крест, кресало, искра, хоровод, хоро, коло, колесо, коловорот, кол, колядки, круг, кровь, красный - все эти слова родственны между собой и обозначают понятия, связанные с огнем, кругом, красным цветом. Если слить их в одно, перед нами появится образ солнца, описанный иносказа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6" descr="1215798830_velikiy_hors"/>
          <p:cNvPicPr/>
          <p:nvPr/>
        </p:nvPicPr>
        <p:blipFill>
          <a:blip r:embed="rId1"/>
          <a:stretch/>
        </p:blipFill>
        <p:spPr>
          <a:xfrm>
            <a:off x="468360" y="189000"/>
            <a:ext cx="3240000" cy="2957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hors"/>
          <p:cNvPicPr/>
          <p:nvPr/>
        </p:nvPicPr>
        <p:blipFill>
          <a:blip r:embed="rId2"/>
          <a:stretch/>
        </p:blipFill>
        <p:spPr>
          <a:xfrm>
            <a:off x="5364000" y="836640"/>
            <a:ext cx="3333960" cy="192420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978440" cy="62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Начало нового года славяне отмечали 22 декабря - в день зимнего солнцестояния. Считалось, что в этот день рождается маленькое ярое солнце в образе мальчика - Хорса. Новое солнце завершало ход старого солнца (старого года) и открывало ход следующего года. Пока солнце еще слабое, на земле господствуют ночь и холод, доставшиеся от старого года, но с каждым днем Великий Хорс (как упоминается в 'Слове о полку Игореве') растет, и солнце крепнет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Picture 5" descr="45336372_Hors"/>
          <p:cNvPicPr/>
          <p:nvPr/>
        </p:nvPicPr>
        <p:blipFill>
          <a:blip r:embed="rId1"/>
          <a:stretch/>
        </p:blipFill>
        <p:spPr>
          <a:xfrm>
            <a:off x="5867280" y="260280"/>
            <a:ext cx="2791080" cy="3810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post-59366-1231089916"/>
          <p:cNvPicPr/>
          <p:nvPr/>
        </p:nvPicPr>
        <p:blipFill>
          <a:blip r:embed="rId2"/>
          <a:stretch/>
        </p:blipFill>
        <p:spPr>
          <a:xfrm>
            <a:off x="5867280" y="4076640"/>
            <a:ext cx="2808360" cy="25653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91520" cy="24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Наши предки встречали солнцестояние колядками, носили на шесте коловрат (восьмиконечную звезду) - солнце, надевали на себя личины тотемных зверей, которые связывались в сознании людей с образами древних богов: медведь - Велес, корова - Макошь, козел - веселая и одновременно злая ипостась Велеса, конь - солнце, лебедь - Лада, утка - Рожаница (прародительница мира), петух - символ времени, восхода и захода солнца, и так далее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8" name="Picture 5" descr="hors"/>
          <p:cNvPicPr/>
          <p:nvPr/>
        </p:nvPicPr>
        <p:blipFill>
          <a:blip r:embed="rId1"/>
          <a:stretch/>
        </p:blipFill>
        <p:spPr>
          <a:xfrm>
            <a:off x="324000" y="2852640"/>
            <a:ext cx="3960720" cy="3611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nov-47"/>
          <p:cNvPicPr/>
          <p:nvPr/>
        </p:nvPicPr>
        <p:blipFill>
          <a:blip r:embed="rId2"/>
          <a:stretch/>
        </p:blipFill>
        <p:spPr>
          <a:xfrm>
            <a:off x="5148360" y="3357720"/>
            <a:ext cx="3456000" cy="313992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970440" cy="54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На горе жгли колесо, обвязанное соломой, как бы помогая солнышку светить, потом начинались катания на санках, коньках, лыжах, игра в снежки, кулачки и бои стенка на стенку, песни, пляски, состязания, игрища. Люди ходили друг к другу в гости, каждый старался получше угостить пришедших, чтоб в новом году было в доме изобилие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2" name="Picture 5" descr="tks_ip_scr_npc_iggeld"/>
          <p:cNvPicPr/>
          <p:nvPr/>
        </p:nvPicPr>
        <p:blipFill>
          <a:blip r:embed="rId1"/>
          <a:stretch/>
        </p:blipFill>
        <p:spPr>
          <a:xfrm>
            <a:off x="4284720" y="189000"/>
            <a:ext cx="2955960" cy="3998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62"/>
          <p:cNvPicPr/>
          <p:nvPr/>
        </p:nvPicPr>
        <p:blipFill>
          <a:blip r:embed="rId2"/>
          <a:stretch/>
        </p:blipFill>
        <p:spPr>
          <a:xfrm>
            <a:off x="6056280" y="2349360"/>
            <a:ext cx="2411280" cy="392904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3044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Суровая северная Русь любила молодецкие потехи. Вынужденные жить и работать в тяжелых условиях, наши пращуры вплоть до ХХ века слыли народом веселым и гостеприимным, умевшим отдыхать. Хорс - мужское божество, воплощающее стремление мальчиков и взрослых мужей к знанию, духовному росту, самосовершенствованию, к преодолению встречающихся в жизни трудностей и нахождению верных решений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6" name="Picture 5" descr="с"/>
          <p:cNvPicPr/>
          <p:nvPr/>
        </p:nvPicPr>
        <p:blipFill>
          <a:blip r:embed="rId1"/>
          <a:stretch/>
        </p:blipFill>
        <p:spPr>
          <a:xfrm>
            <a:off x="324000" y="1268280"/>
            <a:ext cx="3913200" cy="40420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27280" y="1628280"/>
            <a:ext cx="3456000" cy="18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Даждьбог– бог плодород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9" name="Picture 5" descr="2-189"/>
          <p:cNvPicPr/>
          <p:nvPr/>
        </p:nvPicPr>
        <p:blipFill>
          <a:blip r:embed="rId1"/>
          <a:stretch/>
        </p:blipFill>
        <p:spPr>
          <a:xfrm>
            <a:off x="611280" y="3645000"/>
            <a:ext cx="3456000" cy="2712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11_tn"/>
          <p:cNvPicPr/>
          <p:nvPr/>
        </p:nvPicPr>
        <p:blipFill>
          <a:blip r:embed="rId2"/>
          <a:stretch/>
        </p:blipFill>
        <p:spPr>
          <a:xfrm>
            <a:off x="5940360" y="836640"/>
            <a:ext cx="2981520" cy="38098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970440" cy="536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Даждьбог, дать, дождь - слова однокоренные, имеющие значение 'делиться, раздавать'. Даждьбог посылал людям не только дождь, но и солнце, напитывающее землю светом и теплом. Даждьбог – это осеннее небо с облаками, дождями, грозами, а подчас и градом. 22 сентября - осеннее равноденствие, праздник Рода и Рожаниц, день Даждьбога и Макоши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3" name="Picture 5" descr="051"/>
          <p:cNvPicPr/>
          <p:nvPr/>
        </p:nvPicPr>
        <p:blipFill>
          <a:blip r:embed="rId1"/>
          <a:stretch/>
        </p:blipFill>
        <p:spPr>
          <a:xfrm>
            <a:off x="5129280" y="1628640"/>
            <a:ext cx="3093840" cy="4176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4000" y="1773360"/>
            <a:ext cx="62024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Славянский бог – Ярило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г зерна, умирающего в земле, чтобы возродиться колосом, - был одновременно и прекрасным, и жесток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Копия 37r3"/>
          <p:cNvPicPr/>
          <p:nvPr/>
        </p:nvPicPr>
        <p:blipFill>
          <a:blip r:embed="rId1"/>
          <a:stretch/>
        </p:blipFill>
        <p:spPr>
          <a:xfrm>
            <a:off x="3419640" y="0"/>
            <a:ext cx="2520720" cy="2133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i"/>
          <p:cNvPicPr/>
          <p:nvPr/>
        </p:nvPicPr>
        <p:blipFill>
          <a:blip r:embed="rId2"/>
          <a:stretch/>
        </p:blipFill>
        <p:spPr>
          <a:xfrm>
            <a:off x="395280" y="4653000"/>
            <a:ext cx="2303640" cy="2011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iк"/>
          <p:cNvPicPr/>
          <p:nvPr/>
        </p:nvPicPr>
        <p:blipFill>
          <a:blip r:embed="rId3"/>
          <a:stretch/>
        </p:blipFill>
        <p:spPr>
          <a:xfrm>
            <a:off x="179280" y="189000"/>
            <a:ext cx="2178000" cy="31176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075520" cy="29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Весь урожай снят, ведутся последние сборы в садах и огородах. Все жители деревни или города выходят на природу, зажигают огонь, вкатывают на гору горящее колесо - солнце, водят хороводы с песнями, играют в предсвадебные и ритуальные игры. Потом выносят на главную улицу столы, ставят на них лучшую еду и начинают общий родовой пир. Соседи и родичи пробуют пищу, свою приготовленную другими, хвалят, все вместе славят Солнце, землю и Русь - матушку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6" name="Picture 5" descr="2006-33-18"/>
          <p:cNvPicPr/>
          <p:nvPr/>
        </p:nvPicPr>
        <p:blipFill>
          <a:blip r:embed="rId1"/>
          <a:stretch/>
        </p:blipFill>
        <p:spPr>
          <a:xfrm>
            <a:off x="1979640" y="3573360"/>
            <a:ext cx="2360520" cy="214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1235670653_dazhbog"/>
          <p:cNvPicPr/>
          <p:nvPr/>
        </p:nvPicPr>
        <p:blipFill>
          <a:blip r:embed="rId2"/>
          <a:stretch/>
        </p:blipFill>
        <p:spPr>
          <a:xfrm>
            <a:off x="5364000" y="3357720"/>
            <a:ext cx="2081520" cy="26366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42920" y="333360"/>
            <a:ext cx="3899160" cy="586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Даждьбожьи (солнечные) внуки - так называли себя Русичи. Символические знаки солнца (солнечные розетки, солнцевороты) у наших предков присутствовали везде - на одежде, посуде, в украшении домов. Всякий русский мужчина обязан создать большую семью - род, накормить, вырастить, воспитать детей и стать Даждьбогом. В этом - его долг, слав, правда. За каждым из нас стоят бесчисленные предки - наши корни, и каждый должен дать жизнь ветвям - потомкам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0" name="Picture 5" descr="dagbog"/>
          <p:cNvPicPr/>
          <p:nvPr/>
        </p:nvPicPr>
        <p:blipFill>
          <a:blip r:embed="rId1"/>
          <a:stretch/>
        </p:blipFill>
        <p:spPr>
          <a:xfrm>
            <a:off x="684360" y="476280"/>
            <a:ext cx="3228840" cy="2533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photo05"/>
          <p:cNvPicPr/>
          <p:nvPr/>
        </p:nvPicPr>
        <p:blipFill>
          <a:blip r:embed="rId2"/>
          <a:stretch/>
        </p:blipFill>
        <p:spPr>
          <a:xfrm>
            <a:off x="1042920" y="3645000"/>
            <a:ext cx="2411640" cy="239868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00360" y="1483920"/>
            <a:ext cx="326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елес - хозяин Дикой Природ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4" name="Picture 5" descr="b14642da42fb"/>
          <p:cNvPicPr/>
          <p:nvPr/>
        </p:nvPicPr>
        <p:blipFill>
          <a:blip r:embed="rId1"/>
          <a:stretch/>
        </p:blipFill>
        <p:spPr>
          <a:xfrm>
            <a:off x="250920" y="836640"/>
            <a:ext cx="3809880" cy="5143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375376906"/>
          <p:cNvPicPr/>
          <p:nvPr/>
        </p:nvPicPr>
        <p:blipFill>
          <a:blip r:embed="rId2"/>
          <a:stretch/>
        </p:blipFill>
        <p:spPr>
          <a:xfrm>
            <a:off x="4859280" y="3357720"/>
            <a:ext cx="3073320" cy="335736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178080" cy="57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Покровитель домашнего скота и богатства, воплощением золота, попечитель торговцев, скотоводов, охотников и землепашцев, хозяин магии и сокровенного, властитель перекрестков, навий бог. Ему подчинялись все низшие духи. Волшебной обителью Велеса стал остров Буян. В основном Велес занимался земными делами ведь его почитали как владыку лесов, животных, богом поэзии и достатка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8" name="Picture 5" descr="1241089854_veles"/>
          <p:cNvPicPr/>
          <p:nvPr/>
        </p:nvPicPr>
        <p:blipFill>
          <a:blip r:embed="rId1"/>
          <a:stretch/>
        </p:blipFill>
        <p:spPr>
          <a:xfrm>
            <a:off x="4211640" y="476280"/>
            <a:ext cx="4027320" cy="3124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veles"/>
          <p:cNvPicPr/>
          <p:nvPr/>
        </p:nvPicPr>
        <p:blipFill>
          <a:blip r:embed="rId2"/>
          <a:stretch/>
        </p:blipFill>
        <p:spPr>
          <a:xfrm>
            <a:off x="4211640" y="3573360"/>
            <a:ext cx="4032360" cy="269568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035160" cy="586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Велес - хранитель седой старины и безмолвных костей предков. Последняя ночь октября - день поминовения дедов (на Западе - Хелловин). В этот день русы провожали с кострами и музыкой волынок и дудок духов природы и умерших за год родичей под снег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2" name="Picture 5" descr="Veles"/>
          <p:cNvPicPr/>
          <p:nvPr/>
        </p:nvPicPr>
        <p:blipFill>
          <a:blip r:embed="rId1"/>
          <a:stretch/>
        </p:blipFill>
        <p:spPr>
          <a:xfrm>
            <a:off x="4067280" y="333360"/>
            <a:ext cx="4584600" cy="63500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4076280"/>
            <a:ext cx="41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ерун — бог грома и молн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5" name="Picture 5" descr="15d36c30c8b9"/>
          <p:cNvPicPr/>
          <p:nvPr/>
        </p:nvPicPr>
        <p:blipFill>
          <a:blip r:embed="rId1"/>
          <a:stretch/>
        </p:blipFill>
        <p:spPr>
          <a:xfrm>
            <a:off x="179280" y="0"/>
            <a:ext cx="3191040" cy="2637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82978-5330d-21110712-m549x500"/>
          <p:cNvPicPr/>
          <p:nvPr/>
        </p:nvPicPr>
        <p:blipFill>
          <a:blip r:embed="rId2"/>
          <a:stretch/>
        </p:blipFill>
        <p:spPr>
          <a:xfrm>
            <a:off x="5867280" y="1989000"/>
            <a:ext cx="2783160" cy="3822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941610026"/>
          <p:cNvPicPr/>
          <p:nvPr/>
        </p:nvPicPr>
        <p:blipFill>
          <a:blip r:embed="rId3"/>
          <a:stretch/>
        </p:blipFill>
        <p:spPr>
          <a:xfrm>
            <a:off x="3203640" y="836640"/>
            <a:ext cx="2666880" cy="316872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978440" cy="608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Перун — бог грома и молнии, покровитель воинов. По воззрению славян, Перун в теплые дни весны являлся со своими молниями, оплодотворял землю дождями и выводил из-за рассеянных туч ясное солнце. Его творческою силою пробуждалась природа к жизни, и он как бы вновь созидал Мир. Отсюда Перун производитель, творец. В то же время Перун — божество грозное и карающее; его явление возбуждает страх и трепет. Перун являлся верховным божеством пантеона князя Владимира как покровитель правящей военной элиты, князя и дружины, карающий за несоблюдение законов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0" name="Picture 5" descr="ea86db57c83104d4ca750815f8027ada"/>
          <p:cNvPicPr/>
          <p:nvPr/>
        </p:nvPicPr>
        <p:blipFill>
          <a:blip r:embed="rId1"/>
          <a:stretch/>
        </p:blipFill>
        <p:spPr>
          <a:xfrm>
            <a:off x="5867280" y="1484280"/>
            <a:ext cx="2857680" cy="40291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475160" cy="600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Хотя Перун имел отношение к холоду (он рождался в первый месяц зимы), но Дни Перуна - его пора - начинались 20 июня и заканчивались в начале августа. В это время Русичи справляли тризны по павшим в боях воинам - собирались на курганах и красных горах, устраивали пиры, ратные потехи, мерялись силой между собой в беге, метании оружия, плавании, скачках на конях. Убивали купленного вскладчину быка, жарили и ели его, пили меды и квасы. Проводили посвящения молодых парней, которые должны были пройти серьезные испытания, в воины и опоясать себя оружием Рода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3" name="Picture 5" descr="perun"/>
          <p:cNvPicPr/>
          <p:nvPr/>
        </p:nvPicPr>
        <p:blipFill>
          <a:blip r:embed="rId1"/>
          <a:stretch/>
        </p:blipFill>
        <p:spPr>
          <a:xfrm>
            <a:off x="4859280" y="476280"/>
            <a:ext cx="3965760" cy="566100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24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У наших предков всегда было много внешних врагов, велись постоянные войны. Щит и меч почитались как символ Перуна, его подарок мужчине. Оружию поклонялись и его боготворили. Но в смертельный бой шли не только мужчины. Часто среди убитых русичей на поле боя враги с удивлением находили женщин, сражавшихся со своими мужьями плечом к плечу. Им тоже покровительствовал златоусый Перун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6" name="Picture 5" descr="46542584_perun"/>
          <p:cNvPicPr/>
          <p:nvPr/>
        </p:nvPicPr>
        <p:blipFill>
          <a:blip r:embed="rId1"/>
          <a:stretch/>
        </p:blipFill>
        <p:spPr>
          <a:xfrm>
            <a:off x="539640" y="3500280"/>
            <a:ext cx="2843280" cy="2738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perun"/>
          <p:cNvPicPr/>
          <p:nvPr/>
        </p:nvPicPr>
        <p:blipFill>
          <a:blip r:embed="rId2"/>
          <a:stretch/>
        </p:blipFill>
        <p:spPr>
          <a:xfrm>
            <a:off x="5867280" y="3068640"/>
            <a:ext cx="2657520" cy="3181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6c3491c115c9"/>
          <p:cNvPicPr/>
          <p:nvPr/>
        </p:nvPicPr>
        <p:blipFill>
          <a:blip r:embed="rId3"/>
          <a:stretch/>
        </p:blipFill>
        <p:spPr>
          <a:xfrm>
            <a:off x="3348000" y="3500280"/>
            <a:ext cx="2521080" cy="27370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WordArt 4"/>
          <p:cNvSpPr txBox="1"/>
          <p:nvPr/>
        </p:nvSpPr>
        <p:spPr>
          <a:xfrm rot="652800">
            <a:off x="2050560" y="1197000"/>
            <a:ext cx="59770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86000"/>
                </a:grad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86000"/>
              </a:gradFill>
              <a:latin typeface="Impact"/>
              <a:ea typeface="Impact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178080" cy="54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корень «яр» присутствует в таких чисто женских сочетаниях: яровая корова — ярка, ярмо, яровая пшеница, яровые хлеба. А вот в чисто женском роде: ярость, доярка, ярь, ярина (овечья шерсть), яра (весна). Ярило — сын или явья ипостась Велеса, который зимой выступает как Мороз, а по весне — Ярилой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AG00339_"/>
          <p:cNvPicPr/>
          <p:nvPr/>
        </p:nvPicPr>
        <p:blipFill>
          <a:blip r:embed="rId1"/>
          <a:stretch/>
        </p:blipFill>
        <p:spPr>
          <a:xfrm>
            <a:off x="0" y="0"/>
            <a:ext cx="1114560" cy="676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вапвап"/>
          <p:cNvPicPr/>
          <p:nvPr/>
        </p:nvPicPr>
        <p:blipFill>
          <a:blip r:embed="rId2"/>
          <a:stretch/>
        </p:blipFill>
        <p:spPr>
          <a:xfrm>
            <a:off x="4067280" y="1557360"/>
            <a:ext cx="4103640" cy="3135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186080" cy="622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Ярило, ярость, яровые, Яр (у северян в древности означало 'село'), т.к. раньше жили в избах с очагом; яркость, - эти слова объединены понятием усиления яркости, света. Действительно, после приходи весны идет быстрое прибавление дня и усиление тепла. Все оживает, растет, тянется к солнцу. Природа воскресает в образе прекрасной Лады. Ярило, растопляя снега, живит матушку – землю талой водой. Ярило - солнце в образе молодого, полного сил жениха скачет на коне к своей Ладе. Спешит создать семью и народить детей (урожай, детенышей зверей, птиц, рыб и т.д.)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5" descr="уу"/>
          <p:cNvPicPr/>
          <p:nvPr/>
        </p:nvPicPr>
        <p:blipFill>
          <a:blip r:embed="rId1"/>
          <a:stretch/>
        </p:blipFill>
        <p:spPr>
          <a:xfrm>
            <a:off x="5292720" y="1773360"/>
            <a:ext cx="3024360" cy="36716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61952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К летнему солнцестоянию Ярило набирает полную силу. Он живет в правде и любви с землею, рождая летом новые жизни. К 22 июня Ярило превращается в Белбога, день самый длинный, природа обласкана им и любит его. Состояние Ярилы - состояние всех молодых парней. В четвертый месяц года (ныне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апрель) русичи начинали самые важные для всего славянского рода сельскохозяйственные работы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2" name="Picture 4" descr="кк"/>
          <p:cNvPicPr/>
          <p:nvPr/>
        </p:nvPicPr>
        <p:blipFill>
          <a:blip r:embed="rId1"/>
          <a:stretch/>
        </p:blipFill>
        <p:spPr>
          <a:xfrm>
            <a:off x="5076720" y="1197000"/>
            <a:ext cx="1944720" cy="268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аыва"/>
          <p:cNvPicPr/>
          <p:nvPr/>
        </p:nvPicPr>
        <p:blipFill>
          <a:blip r:embed="rId2"/>
          <a:stretch/>
        </p:blipFill>
        <p:spPr>
          <a:xfrm>
            <a:off x="6372360" y="3429000"/>
            <a:ext cx="2165040" cy="30495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орень его имени – «яр» - встречается в словах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овая пшени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очка – молодая ов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ост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ый – сердитый или пылк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AG00212_"/>
          <p:cNvPicPr/>
          <p:nvPr/>
        </p:nvPicPr>
        <p:blipFill>
          <a:blip r:embed="rId1"/>
          <a:stretch/>
        </p:blipFill>
        <p:spPr>
          <a:xfrm>
            <a:off x="5651640" y="2060640"/>
            <a:ext cx="1400040" cy="942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AG00355_"/>
          <p:cNvPicPr/>
          <p:nvPr/>
        </p:nvPicPr>
        <p:blipFill>
          <a:blip r:embed="rId2"/>
          <a:stretch/>
        </p:blipFill>
        <p:spPr>
          <a:xfrm>
            <a:off x="7020000" y="3357720"/>
            <a:ext cx="865080" cy="1150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J0076190"/>
          <p:cNvPicPr/>
          <p:nvPr/>
        </p:nvPicPr>
        <p:blipFill>
          <a:blip r:embed="rId3"/>
          <a:stretch/>
        </p:blipFill>
        <p:spPr>
          <a:xfrm>
            <a:off x="2987640" y="2492280"/>
            <a:ext cx="1150920" cy="115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AG00610_"/>
          <p:cNvPicPr/>
          <p:nvPr/>
        </p:nvPicPr>
        <p:blipFill>
          <a:blip r:embed="rId4"/>
          <a:stretch/>
        </p:blipFill>
        <p:spPr>
          <a:xfrm>
            <a:off x="4284720" y="1413000"/>
            <a:ext cx="1838160" cy="828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4311720" y="324648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Яриле как богу смерти и воскреш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осились  в жертву  молодая овца, кровью которой окропляли пашню, дабы сделать урожай оби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7" descr="картинка 2"/>
          <p:cNvPicPr/>
          <p:nvPr/>
        </p:nvPicPr>
        <p:blipFill>
          <a:blip r:embed="rId1"/>
          <a:stretch/>
        </p:blipFill>
        <p:spPr>
          <a:xfrm>
            <a:off x="2771640" y="3429000"/>
            <a:ext cx="2936880" cy="30970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авянский бог Сварог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4149720"/>
            <a:ext cx="3035160" cy="19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ин из главных богов в славянском пантео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76720" y="1341000"/>
            <a:ext cx="3610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арог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ог огн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Svarog"/>
          <p:cNvPicPr/>
          <p:nvPr/>
        </p:nvPicPr>
        <p:blipFill>
          <a:blip r:embed="rId1"/>
          <a:stretch/>
        </p:blipFill>
        <p:spPr>
          <a:xfrm>
            <a:off x="2124000" y="1125360"/>
            <a:ext cx="3313080" cy="3534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i"/>
          <p:cNvPicPr/>
          <p:nvPr/>
        </p:nvPicPr>
        <p:blipFill>
          <a:blip r:embed="rId2"/>
          <a:stretch/>
        </p:blipFill>
        <p:spPr>
          <a:xfrm>
            <a:off x="5435640" y="2421000"/>
            <a:ext cx="3141720" cy="4149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svarog"/>
          <p:cNvPicPr/>
          <p:nvPr/>
        </p:nvPicPr>
        <p:blipFill>
          <a:blip r:embed="rId3"/>
          <a:stretch/>
        </p:blipFill>
        <p:spPr>
          <a:xfrm>
            <a:off x="179280" y="1413000"/>
            <a:ext cx="2536920" cy="25207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404352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Один из главных богов в славянском пантеоне. «Svarga» на санскрите — небо, небесный свод, «var» — огонь, жар. Отсюда идут и все славянские производные — варить, сварганить, верх и т. п. Сварог считался богом Неба, матерью жизни («Сва» — у индоевропейцев мать-прародительница). В уже более позднее время Сварог переменил свой пол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5" name="Picture 9" descr="s30616"/>
          <p:cNvPicPr/>
          <p:nvPr/>
        </p:nvPicPr>
        <p:blipFill>
          <a:blip r:embed="rId1"/>
          <a:stretch/>
        </p:blipFill>
        <p:spPr>
          <a:xfrm>
            <a:off x="4643280" y="692280"/>
            <a:ext cx="4042080" cy="554328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8:10:40Z</dcterms:created>
  <dc:creator>Name</dc:creator>
  <dc:description/>
  <dc:language>en-US</dc:language>
  <cp:lastModifiedBy>LEGION</cp:lastModifiedBy>
  <dcterms:modified xsi:type="dcterms:W3CDTF">2015-01-14T10:11:48Z</dcterms:modified>
  <cp:revision>31</cp:revision>
  <dc:subject/>
  <dc:title>Славянский бог - Ярило</dc:title>
</cp:coreProperties>
</file>