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jpeg" ContentType="image/jpeg"/>
  <Override PartName="/ppt/media/image11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51511-C47F-4B15-9801-673E420C15D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800080"/>
                </a:solidFill>
                <a:latin typeface="Calibri"/>
              </a:rPr>
              <a:t>Тема урока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« Вечный город» и его жител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AA8B3-EE6C-4D26-81EE-0E02C37F130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ногоэтажные дома в низин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BDA68-2FF9-4C48-8B50-B79D0D6B34F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ногоэтажные дома в низин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EA478-ED03-4262-B1A6-B0BA592C55C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ногоэтажные дома в низин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ода в квартиры не подавалась, её брали в городских фонтанах и тащили по лестницам на верхний этаж. Грязь и зловоние сопровождали римлян, которые жили в многоэтажных дом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8DDDC-20CB-4BC8-8D7D-BDF909CC860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сещение бан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00AA6-F722-4F24-B145-22D639566B1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мпейские тер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1E3F5-C6F2-4DA6-9B65-6253292D14F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бщественная бан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370C7-E631-47ED-B720-40E29038C31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Беднота требует « хлеба и зрелищ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FC20B-9B5A-429C-81C1-565CFE9C844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Беднота требует « хлеба и зрелищ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9C3B5-E0FA-4B33-A62F-F0F284F0094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одведём итог урока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опросы на стр. 27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730B5-289B-49D7-96BB-FFAB3BBFB67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лан уро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8A0A3-0D8E-417B-8E98-EE64547F1DD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Домашнее задание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mic"/>
              </a:rPr>
              <a:t>Параграф 58, вопросы, записи, творческое зад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ED60A-A5DF-495D-9D64-2061D42F208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работе использован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http://ru.wikipedia.org/wiki/%D0%9F%D0%B0%D0%BD%D1%82%D0%B5%D0%BE%D0%BD_(%D0%A0%D0%B8%D0%BC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A51DE-BA81-456C-9656-38A643036A8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дание на урок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comic"/>
              </a:rPr>
              <a:t> </a:t>
            </a:r>
            <a:r>
              <a:rPr b="1" lang="ru-RU" sz="1200" spc="-1" strike="noStrike">
                <a:solidFill>
                  <a:srgbClr val="000066"/>
                </a:solidFill>
                <a:latin typeface="comic"/>
              </a:rPr>
              <a:t>Как вы думаете, почему римляне пытались переселиться в Рим, что их влекло в «Вечный город» </a:t>
            </a:r>
            <a:r>
              <a:rPr b="1" lang="en-US" sz="1200" spc="-1" strike="noStrike">
                <a:solidFill>
                  <a:srgbClr val="000066"/>
                </a:solidFill>
                <a:latin typeface="comic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28650-D6D1-4E6D-88C7-EDB58175BB4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ысячи жителей Италии и провинций стремились попасть в Рим. Одни по делам, другие – хотели получить выгодную должность. Но всех привлекали гладиаторские игры, гонки колесниц и триумфальные шеств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DA056-37ED-4C90-B126-DCF49D8BC99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ля прославления императоров на многих Форумах строились колон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 самой колонне помещались барельефы со сценами жизни императоров, а венчали колонны многометровые статуи император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EC073-1923-402A-B16C-2B757D1528E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се дороги ведут в Ри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азмерами и красотой  выделялся огромны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амфитеатр Колизей, который вмещал 50 тыс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рител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B567F-7EE3-45A9-A50A-478F6A93636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се дороги ведут в Ри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ругой достопримечательностью Рима бы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Храм Пантеон ( дословно – храм всех богов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н был увенчан куполом, внутри находилс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громный за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06962-EEEB-441B-A0E1-1C261DE8C10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Особняки на городских холмах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ассмотрите иллюстрацию на стр. 267 и расскажите, как выглядел дом богатого римляни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D5FF4-BA6B-48BF-909A-C70E9378FD5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собняки на городских холм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33724-CAA8-45F3-A619-CF68347E180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F2120-609B-4F5A-89D2-4B5C3375E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4EB6E-D05E-44F3-BDEC-2E20B58AE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05676-5438-4B49-949C-00E762E34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EA901-6700-4378-95BD-993532411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F0942-A3C9-4792-A889-6E4FF2737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5C29F-55A7-4D36-B49C-0B4C2E107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D16A5-F659-4B46-B30E-3BF44A91D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A7089-B5A9-4565-9FB2-B5FC7DFF6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880EE-1D78-460B-8C25-DB90B8217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B5D99-71E7-46A0-A4EF-4CFD928CD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D05C6-F25E-49F1-87A9-96D809C13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3C8DE-D705-42D9-A91A-79818D001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24DB9-5B48-40A7-9D2C-0C9625B9101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7" descr="79а"/>
          <p:cNvPicPr/>
          <p:nvPr/>
        </p:nvPicPr>
        <p:blipFill>
          <a:blip r:embed="rId1"/>
          <a:stretch/>
        </p:blipFill>
        <p:spPr>
          <a:xfrm>
            <a:off x="0" y="-5335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171520" y="1295280"/>
            <a:ext cx="48006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99cc00"/>
                </a:solidFill>
                <a:latin typeface="Arial"/>
              </a:rPr>
              <a:t>Тема урока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219320" y="2361960"/>
            <a:ext cx="68580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« Вечный город» и его жители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8" descr="Картинка 6 из 10538"/>
          <p:cNvPicPr/>
          <p:nvPr/>
        </p:nvPicPr>
        <p:blipFill>
          <a:blip r:embed="rId2"/>
          <a:stretch/>
        </p:blipFill>
        <p:spPr>
          <a:xfrm>
            <a:off x="152280" y="3962520"/>
            <a:ext cx="2467080" cy="26668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6" descr="i?id=307134789-67-72"/>
          <p:cNvPicPr/>
          <p:nvPr/>
        </p:nvPicPr>
        <p:blipFill>
          <a:blip r:embed="rId3"/>
          <a:stretch/>
        </p:blipFill>
        <p:spPr>
          <a:xfrm>
            <a:off x="5105520" y="4038480"/>
            <a:ext cx="3838320" cy="26607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" descr="Картинка 2 из 2532"/>
          <p:cNvPicPr/>
          <p:nvPr/>
        </p:nvPicPr>
        <p:blipFill>
          <a:blip r:embed="rId4"/>
          <a:stretch/>
        </p:blipFill>
        <p:spPr>
          <a:xfrm>
            <a:off x="152280" y="-380880"/>
            <a:ext cx="2857680" cy="2004840"/>
          </a:xfrm>
          <a:prstGeom prst="rect">
            <a:avLst/>
          </a:prstGeom>
          <a:ln w="0">
            <a:noFill/>
          </a:ln>
        </p:spPr>
      </p:pic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79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5" descr="Рисунок6"/>
          <p:cNvPicPr/>
          <p:nvPr/>
        </p:nvPicPr>
        <p:blipFill>
          <a:blip r:embed="rId2"/>
          <a:stretch/>
        </p:blipFill>
        <p:spPr>
          <a:xfrm>
            <a:off x="304920" y="228600"/>
            <a:ext cx="5403600" cy="640080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96" name="Rectangle 6"/>
          <p:cNvSpPr/>
          <p:nvPr/>
        </p:nvSpPr>
        <p:spPr>
          <a:xfrm>
            <a:off x="5867280" y="2133720"/>
            <a:ext cx="3048120" cy="3657600"/>
          </a:xfrm>
          <a:prstGeom prst="rect">
            <a:avLst/>
          </a:prstGeom>
          <a:solidFill>
            <a:srgbClr val="ffcc99"/>
          </a:solidFill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едположите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к жили бедня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Рим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79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 txBox="1"/>
          <p:nvPr/>
        </p:nvSpPr>
        <p:spPr>
          <a:xfrm>
            <a:off x="513000" y="330120"/>
            <a:ext cx="8118000" cy="10314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Многоэтажные дома в низинах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6"/>
          <p:cNvSpPr/>
          <p:nvPr/>
        </p:nvSpPr>
        <p:spPr>
          <a:xfrm>
            <a:off x="152280" y="1600200"/>
            <a:ext cx="8686800" cy="1143000"/>
          </a:xfrm>
          <a:prstGeom prst="bevel">
            <a:avLst>
              <a:gd name="adj" fmla="val 12500"/>
            </a:avLst>
          </a:prstGeom>
          <a:solidFill>
            <a:srgbClr val="afe296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ольшинство римлян не могли иметь собственны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ом, поэтому снимали жильё в 5-6 этажных дом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7"/>
          <p:cNvSpPr/>
          <p:nvPr/>
        </p:nvSpPr>
        <p:spPr>
          <a:xfrm>
            <a:off x="228600" y="2857680"/>
            <a:ext cx="8686800" cy="1143000"/>
          </a:xfrm>
          <a:prstGeom prst="bevel">
            <a:avLst>
              <a:gd name="adj" fmla="val 12500"/>
            </a:avLst>
          </a:prstGeom>
          <a:solidFill>
            <a:srgbClr val="afe296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едняки ютились в каморках под черепицей крыш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8"/>
          <p:cNvSpPr/>
          <p:nvPr/>
        </p:nvSpPr>
        <p:spPr>
          <a:xfrm>
            <a:off x="228600" y="4191120"/>
            <a:ext cx="8686800" cy="1143000"/>
          </a:xfrm>
          <a:prstGeom prst="bevel">
            <a:avLst>
              <a:gd name="adj" fmla="val 12500"/>
            </a:avLst>
          </a:prstGeom>
          <a:solidFill>
            <a:srgbClr val="afe296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 улицах отсутствовали таблички с названиями улиц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 номерами дом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9"/>
          <p:cNvSpPr/>
          <p:nvPr/>
        </p:nvSpPr>
        <p:spPr>
          <a:xfrm>
            <a:off x="228600" y="5486400"/>
            <a:ext cx="8686800" cy="1143000"/>
          </a:xfrm>
          <a:prstGeom prst="bevel">
            <a:avLst>
              <a:gd name="adj" fmla="val 12500"/>
            </a:avLst>
          </a:prstGeom>
          <a:solidFill>
            <a:srgbClr val="afe296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х окон на прохожих часто выливались помо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79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 txBox="1"/>
          <p:nvPr/>
        </p:nvSpPr>
        <p:spPr>
          <a:xfrm>
            <a:off x="513000" y="330120"/>
            <a:ext cx="8118000" cy="10314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Многоэтажные дома в низинах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6"/>
          <p:cNvSpPr/>
          <p:nvPr/>
        </p:nvSpPr>
        <p:spPr>
          <a:xfrm>
            <a:off x="647640" y="1600200"/>
            <a:ext cx="7848720" cy="1295280"/>
          </a:xfrm>
          <a:prstGeom prst="rect">
            <a:avLst/>
          </a:prstGeom>
          <a:solidFill>
            <a:srgbClr val="ff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едположите, как жилось римлян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 многоэтажных домах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7"/>
          <p:cNvSpPr/>
          <p:nvPr/>
        </p:nvSpPr>
        <p:spPr>
          <a:xfrm>
            <a:off x="228600" y="3200400"/>
            <a:ext cx="8763120" cy="350532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ечей не было, в сырые и холодные д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жильцы обогревались жаровнями, ку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асыпали древесный уголь. Тут же готовил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ищу. Бедняки часто ели всухомятку. В окн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омов не было стёкол и закрывались ставня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79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ода в квартиры не подавалась, её брали в городских фонтанах и тащили по лестницам на верхний этаж. Грязь и зловоние сопровождали римлян, которые жили в многоэтажных домах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13000" y="330120"/>
            <a:ext cx="8118000" cy="10314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Многоэтажные дома в низинах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" descr="79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 txBox="1"/>
          <p:nvPr/>
        </p:nvSpPr>
        <p:spPr>
          <a:xfrm>
            <a:off x="513000" y="330120"/>
            <a:ext cx="8118000" cy="10314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осещение бан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6" descr="Картинка 2 из 2532"/>
          <p:cNvPicPr/>
          <p:nvPr/>
        </p:nvPicPr>
        <p:blipFill>
          <a:blip r:embed="rId2"/>
          <a:stretch/>
        </p:blipFill>
        <p:spPr>
          <a:xfrm>
            <a:off x="914400" y="1447920"/>
            <a:ext cx="7315200" cy="5145120"/>
          </a:xfrm>
          <a:prstGeom prst="rect">
            <a:avLst/>
          </a:prstGeom>
          <a:ln w="0">
            <a:noFill/>
          </a:ln>
        </p:spPr>
      </p:pic>
      <p:sp>
        <p:nvSpPr>
          <p:cNvPr id="11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79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6" descr="hypocast8"/>
          <p:cNvPicPr/>
          <p:nvPr/>
        </p:nvPicPr>
        <p:blipFill>
          <a:blip r:embed="rId2"/>
          <a:stretch/>
        </p:blipFill>
        <p:spPr>
          <a:xfrm>
            <a:off x="723960" y="1371600"/>
            <a:ext cx="7696080" cy="51498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 txBox="1"/>
          <p:nvPr/>
        </p:nvSpPr>
        <p:spPr>
          <a:xfrm>
            <a:off x="513000" y="330120"/>
            <a:ext cx="8118000" cy="10314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омпейские тер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79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5" descr="Рисунок2"/>
          <p:cNvPicPr/>
          <p:nvPr/>
        </p:nvPicPr>
        <p:blipFill>
          <a:blip r:embed="rId2"/>
          <a:stretch/>
        </p:blipFill>
        <p:spPr>
          <a:xfrm>
            <a:off x="380880" y="1600200"/>
            <a:ext cx="8534520" cy="500544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124" name=""/>
          <p:cNvSpPr txBox="1"/>
          <p:nvPr/>
        </p:nvSpPr>
        <p:spPr>
          <a:xfrm>
            <a:off x="513000" y="330120"/>
            <a:ext cx="8118000" cy="10314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Общественная бан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79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6" descr="Большой цирк"/>
          <p:cNvPicPr/>
          <p:nvPr/>
        </p:nvPicPr>
        <p:blipFill>
          <a:blip r:embed="rId2"/>
          <a:stretch/>
        </p:blipFill>
        <p:spPr>
          <a:xfrm>
            <a:off x="304920" y="1447920"/>
            <a:ext cx="8534160" cy="541008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 txBox="1"/>
          <p:nvPr/>
        </p:nvSpPr>
        <p:spPr>
          <a:xfrm>
            <a:off x="513000" y="330120"/>
            <a:ext cx="8118000" cy="10314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Беднота требует « хлеба и зрелищ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8"/>
          <p:cNvSpPr/>
          <p:nvPr/>
        </p:nvSpPr>
        <p:spPr>
          <a:xfrm>
            <a:off x="304920" y="5943600"/>
            <a:ext cx="8458200" cy="914400"/>
          </a:xfrm>
          <a:prstGeom prst="rect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ольшой цирк в Древнем Рим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79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 txBox="1"/>
          <p:nvPr/>
        </p:nvSpPr>
        <p:spPr>
          <a:xfrm>
            <a:off x="513000" y="330120"/>
            <a:ext cx="8118000" cy="10314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Беднота требует « хлеба и зрелищ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7" descr="Файл:Circuspainting.jpg"/>
          <p:cNvPicPr/>
          <p:nvPr/>
        </p:nvPicPr>
        <p:blipFill>
          <a:blip r:embed="rId2"/>
          <a:stretch/>
        </p:blipFill>
        <p:spPr>
          <a:xfrm>
            <a:off x="343080" y="1523880"/>
            <a:ext cx="8458200" cy="5099040"/>
          </a:xfrm>
          <a:prstGeom prst="rect">
            <a:avLst/>
          </a:prstGeom>
          <a:ln w="0">
            <a:noFill/>
          </a:ln>
        </p:spPr>
      </p:pic>
      <p:sp>
        <p:nvSpPr>
          <p:cNvPr id="13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79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Подведём итог урока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опросы на стр. 27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79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 txBox="1"/>
          <p:nvPr/>
        </p:nvSpPr>
        <p:spPr>
          <a:xfrm>
            <a:off x="513000" y="330120"/>
            <a:ext cx="8118000" cy="10314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лан уро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6"/>
          <p:cNvSpPr/>
          <p:nvPr/>
        </p:nvSpPr>
        <p:spPr>
          <a:xfrm>
            <a:off x="304920" y="1828800"/>
            <a:ext cx="8534160" cy="4572000"/>
          </a:xfrm>
          <a:prstGeom prst="roundRect">
            <a:avLst>
              <a:gd name="adj" fmla="val 16667"/>
            </a:avLst>
          </a:prstGeom>
          <a:solidFill>
            <a:srgbClr val="afe29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Algeri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"/>
              </a:rPr>
              <a:t>Все дороги ведут в Р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Algeri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"/>
              </a:rPr>
              <a:t>Особняки на городских холм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Algeri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"/>
              </a:rPr>
              <a:t>Многоэтажные дома в низинах межд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omic"/>
              </a:rPr>
              <a:t>холм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"/>
              </a:rPr>
              <a:t>4. Посещение бан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"/>
              </a:rPr>
              <a:t>5. Беднота требует « хлеба и зрелищ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79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Домашнее задание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omic"/>
              </a:rPr>
              <a:t>Параграф 58, вопросы, записи, творческое задани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2" descr="79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 работе использован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http://ru.wikipedia.org/wiki/%D0%9F%D0%B0%D0%BD%D1%82%D0%B5%D0%BE%D0%BD_(%D0%A0%D0%B8%D0%B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5"/>
          <p:cNvSpPr/>
          <p:nvPr/>
        </p:nvSpPr>
        <p:spPr>
          <a:xfrm>
            <a:off x="609480" y="2666880"/>
            <a:ext cx="8534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http://ru.wikipedia.org/wiki/%D6%E8%F0%EA_%E2_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E4%F0%E5%E2%ED%E5%EC_%D0%E8%EC%E5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6"/>
          <p:cNvSpPr/>
          <p:nvPr/>
        </p:nvSpPr>
        <p:spPr>
          <a:xfrm>
            <a:off x="457200" y="3809880"/>
            <a:ext cx="8229600" cy="2438640"/>
          </a:xfrm>
          <a:prstGeom prst="bevel">
            <a:avLst>
              <a:gd name="adj" fmla="val 12500"/>
            </a:avLst>
          </a:prstGeom>
          <a:solidFill>
            <a:srgbClr val="afe296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нтоненкова Анжелика Викторо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читель истории МОУ Будинской ОО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верская облас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79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66"/>
                </a:solidFill>
                <a:latin typeface="comic"/>
              </a:rPr>
              <a:t> </a:t>
            </a:r>
            <a:r>
              <a:rPr b="1" lang="ru-RU" sz="4800" spc="-1" strike="noStrike">
                <a:solidFill>
                  <a:srgbClr val="000066"/>
                </a:solidFill>
                <a:latin typeface="comic"/>
              </a:rPr>
              <a:t>Как вы думаете, почему римляне пытались переселиться в Рим, что их влекло в «Вечный город» </a:t>
            </a:r>
            <a:r>
              <a:rPr b="1" lang="en-US" sz="4800" spc="-1" strike="noStrike">
                <a:solidFill>
                  <a:srgbClr val="000066"/>
                </a:solidFill>
                <a:latin typeface="comic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513000" y="330120"/>
            <a:ext cx="8118000" cy="10314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Задание на урок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4" descr="79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343400" y="1600200"/>
            <a:ext cx="46483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ысячи жителей Италии и провинций стремились попасть в Рим. Одни по делам, другие – хотели получить выгодную должность. Но всех привлекали гладиаторские игры, гонки колесниц и триумфальные шеств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5"/>
          <p:cNvSpPr/>
          <p:nvPr/>
        </p:nvSpPr>
        <p:spPr>
          <a:xfrm>
            <a:off x="685800" y="152280"/>
            <a:ext cx="8077320" cy="121932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се дороги ведут в Ри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9" descr="Рисунок1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228600" y="1523880"/>
            <a:ext cx="3913200" cy="5029200"/>
          </a:xfrm>
          <a:prstGeom prst="rect">
            <a:avLst/>
          </a:prstGeom>
          <a:ln w="47520">
            <a:solidFill>
              <a:srgbClr val="000000"/>
            </a:solidFill>
            <a:miter/>
          </a:ln>
        </p:spPr>
      </p:pic>
      <p:sp>
        <p:nvSpPr>
          <p:cNvPr id="67" name="Rectangle 10"/>
          <p:cNvSpPr/>
          <p:nvPr/>
        </p:nvSpPr>
        <p:spPr>
          <a:xfrm>
            <a:off x="0" y="6095880"/>
            <a:ext cx="4191120" cy="762120"/>
          </a:xfrm>
          <a:prstGeom prst="rect">
            <a:avLst/>
          </a:prstGeom>
          <a:solidFill>
            <a:srgbClr val="ffcc99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риумфальная ар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79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4267080" y="1600200"/>
            <a:ext cx="47246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ля прославления императоров на многих Форумах строились колон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 самой колонне помещались барельефы со сценами жизни императоров, а венчали колонны многометровые статуи император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7"/>
          <p:cNvSpPr/>
          <p:nvPr/>
        </p:nvSpPr>
        <p:spPr>
          <a:xfrm>
            <a:off x="685800" y="152280"/>
            <a:ext cx="8077320" cy="121932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се дороги ведут в Ри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11" descr="Рисунок2"/>
          <p:cNvPicPr/>
          <p:nvPr/>
        </p:nvPicPr>
        <p:blipFill>
          <a:blip r:embed="rId2"/>
          <a:stretch/>
        </p:blipFill>
        <p:spPr>
          <a:xfrm>
            <a:off x="304920" y="1654200"/>
            <a:ext cx="3711600" cy="497520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79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 txBox="1"/>
          <p:nvPr/>
        </p:nvSpPr>
        <p:spPr>
          <a:xfrm>
            <a:off x="513000" y="330120"/>
            <a:ext cx="8118000" cy="10314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се дороги ведут в Ри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8" descr="Рисунок3"/>
          <p:cNvPicPr/>
          <p:nvPr/>
        </p:nvPicPr>
        <p:blipFill>
          <a:blip r:embed="rId2"/>
          <a:stretch/>
        </p:blipFill>
        <p:spPr>
          <a:xfrm>
            <a:off x="380880" y="1454040"/>
            <a:ext cx="8534520" cy="473400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77" name="Rectangle 9"/>
          <p:cNvSpPr/>
          <p:nvPr/>
        </p:nvSpPr>
        <p:spPr>
          <a:xfrm>
            <a:off x="228600" y="5486400"/>
            <a:ext cx="8915400" cy="1371600"/>
          </a:xfrm>
          <a:prstGeom prst="rect">
            <a:avLst/>
          </a:prstGeom>
          <a:solidFill>
            <a:srgbClr val="ffff99"/>
          </a:solidFill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азмерами и красотой  выделялся огромны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мфитеатр Колизей, который вмещал 50 тыс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рител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79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 txBox="1"/>
          <p:nvPr/>
        </p:nvSpPr>
        <p:spPr>
          <a:xfrm>
            <a:off x="513000" y="330120"/>
            <a:ext cx="8118000" cy="10314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се дороги ведут в Ри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8" descr="Картинка 6 из 10538"/>
          <p:cNvPicPr/>
          <p:nvPr/>
        </p:nvPicPr>
        <p:blipFill>
          <a:blip r:embed="rId2"/>
          <a:stretch/>
        </p:blipFill>
        <p:spPr>
          <a:xfrm>
            <a:off x="228600" y="1523880"/>
            <a:ext cx="3657600" cy="33530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0" descr="Файл:Pantheon rome 2005may.jpg"/>
          <p:cNvPicPr/>
          <p:nvPr/>
        </p:nvPicPr>
        <p:blipFill>
          <a:blip r:embed="rId3"/>
          <a:stretch/>
        </p:blipFill>
        <p:spPr>
          <a:xfrm>
            <a:off x="4572000" y="1523880"/>
            <a:ext cx="4419720" cy="33148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11"/>
          <p:cNvSpPr/>
          <p:nvPr/>
        </p:nvSpPr>
        <p:spPr>
          <a:xfrm>
            <a:off x="228600" y="5029200"/>
            <a:ext cx="8686800" cy="1828800"/>
          </a:xfrm>
          <a:prstGeom prst="rect">
            <a:avLst/>
          </a:prstGeom>
          <a:solidFill>
            <a:srgbClr val="ffcc99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ругой достопримечательностью Рима бы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Храм Пантеон ( дословно – храм всех богов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н был увенчан куполом, внутри находилс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громный за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79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1" descr="153-1"/>
          <p:cNvPicPr/>
          <p:nvPr/>
        </p:nvPicPr>
        <p:blipFill>
          <a:blip r:embed="rId2"/>
          <a:stretch/>
        </p:blipFill>
        <p:spPr>
          <a:xfrm>
            <a:off x="228600" y="2209680"/>
            <a:ext cx="3986280" cy="40388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513000" y="330120"/>
            <a:ext cx="8118000" cy="10314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собняки на городских холма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3962160" y="1599840"/>
            <a:ext cx="47242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ассмотрите иллюстрацию на стр. 267 и расскажите, как выглядел дом богатого римляни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79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513000" y="330120"/>
            <a:ext cx="8118000" cy="10314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собняки на городских холма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6" descr="Рисунок1"/>
          <p:cNvPicPr/>
          <p:nvPr/>
        </p:nvPicPr>
        <p:blipFill>
          <a:blip r:embed="rId2">
            <a:lum contrast="12000"/>
          </a:blip>
          <a:stretch/>
        </p:blipFill>
        <p:spPr>
          <a:xfrm>
            <a:off x="495360" y="1523880"/>
            <a:ext cx="8153280" cy="501192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5-01-14T10:13:10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