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40E3-B135-4080-A929-C3A4DDDD6B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Тема уро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Вечный город» и его жи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328A-4B7B-4456-9DB8-ADE0D84B66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98F-1B19-4D3F-8B4C-E6F90BA1FB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47CA-C71F-45B4-B498-70568A1C6E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C64F-7022-46CA-8A03-8BBD02701F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б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0702-3FAD-4F86-B53C-941FA11BDA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пейские те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8F78-B23E-49B7-88FC-8DC83CF9B1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 б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4BE5-E58B-4FC3-B442-8FC33B8033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ECFD-731B-4712-B2C8-89B30F4A36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5B14-9F7B-4D9B-823B-78946046F6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ведём итог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на стр. 2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52C-BC58-41C7-A333-84B414E531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4C8-57C5-4AC1-A357-D795512358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3BDC-5A1C-4212-98CB-0A4664EF56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боте использ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u.wikipedia.org/wiki/%D0%9F%D0%B0%D0%BD%D1%82%D0%B5%D0%BE%D0%BD_(%D0%A0%D0%B8%D0%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36DF-0E17-4483-B3C5-AC12AFA7C1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на ур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12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8F89-28BB-42D2-BEE3-562A4EE611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526F-AE81-4C52-B68A-09B49EC093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славления императоров на многих Форумах строились коло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456B-1ADD-414E-987A-B96734CAC4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рами и красотой  выделялся огр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фитеатр Колизей, который вмещал 50 ты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8567-4739-4A82-ACA2-A4A5F64149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 достопримечательностью Рима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ам Пантеон ( дословно – храм всех бог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был увенчан куполом, внутри находил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ромный з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9B36-49DE-4E3E-AFB5-7173DCD435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те иллюстрацию на стр. 267 и расскажите, как выглядел дом богатого римля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7DB2-AA04-4838-BE47-655CCC23FD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C8A7-1B94-432C-82E3-981B4717CE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455-0024-4EAA-86EF-84C5961C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07D-6D9B-452B-91D7-7BCA387C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0DA-95CF-43E7-BB20-04056195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6C3-90A4-43E6-8AFF-AAC82B80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E19-7B89-451A-B778-7E393033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32C-D3C5-436E-A862-54733D52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B1C-1631-49EB-BC6B-FFE253BA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AAC-910D-47EC-B964-F8E3E5CA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A2C-E2F1-4EB3-BC39-7BD9B6FA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F15-C672-4D68-AA0A-DF4DAA29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14F-F660-4B11-B6C7-293E2C1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C30-E9D9-4155-A2E8-CA2A0AC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07FD-ED40-4018-8C9F-0CAF37884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79а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520" y="12952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 Вечный город» и его жите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152280" y="3962520"/>
            <a:ext cx="24670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i?id=307134789-67-72"/>
          <p:cNvPicPr/>
          <p:nvPr/>
        </p:nvPicPr>
        <p:blipFill>
          <a:blip r:embed="rId3"/>
          <a:stretch/>
        </p:blipFill>
        <p:spPr>
          <a:xfrm>
            <a:off x="5105520" y="4038480"/>
            <a:ext cx="383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2 из 2532"/>
          <p:cNvPicPr/>
          <p:nvPr/>
        </p:nvPicPr>
        <p:blipFill>
          <a:blip r:embed="rId4"/>
          <a:stretch/>
        </p:blipFill>
        <p:spPr>
          <a:xfrm>
            <a:off x="152280" y="-380880"/>
            <a:ext cx="2857680" cy="2004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6"/>
          <p:cNvPicPr/>
          <p:nvPr/>
        </p:nvPicPr>
        <p:blipFill>
          <a:blip r:embed="rId2"/>
          <a:stretch/>
        </p:blipFill>
        <p:spPr>
          <a:xfrm>
            <a:off x="304920" y="228600"/>
            <a:ext cx="5403600" cy="640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5867280" y="2133720"/>
            <a:ext cx="3048120" cy="36576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ожи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жили бедн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и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2280" y="16002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римлян не могли иметь соб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, поэтому снимали жильё в 5-6 этажных до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28600" y="285768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дняки ютились в каморках под черепицей кр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419112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лицах отсутствовали таблички с названиями у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омерами до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28600" y="54864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окон на прохожих часто выливались пом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7640" y="1600200"/>
            <a:ext cx="7848720" cy="12952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ак жилось римля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ногоэтажных до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28600" y="3200400"/>
            <a:ext cx="8763120" cy="3505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ей не было, в сырые и холодные д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ьцы обогревались жаровнями, к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сыпали древесный уголь. Тут же гото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у. Бедняки часто ели всухомятку. В ок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в не было стёкол и закрывались став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ещение б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 из 2532"/>
          <p:cNvPicPr/>
          <p:nvPr/>
        </p:nvPicPr>
        <p:blipFill>
          <a:blip r:embed="rId2"/>
          <a:stretch/>
        </p:blipFill>
        <p:spPr>
          <a:xfrm>
            <a:off x="914400" y="144792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ypocast8"/>
          <p:cNvPicPr/>
          <p:nvPr/>
        </p:nvPicPr>
        <p:blipFill>
          <a:blip r:embed="rId2"/>
          <a:stretch/>
        </p:blipFill>
        <p:spPr>
          <a:xfrm>
            <a:off x="723960" y="1371600"/>
            <a:ext cx="7696080" cy="514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пейские те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Рисунок2"/>
          <p:cNvPicPr/>
          <p:nvPr/>
        </p:nvPicPr>
        <p:blipFill>
          <a:blip r:embed="rId2"/>
          <a:stretch/>
        </p:blipFill>
        <p:spPr>
          <a:xfrm>
            <a:off x="380880" y="1600200"/>
            <a:ext cx="8534520" cy="50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ественная ба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Большой цирк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04920" y="5943600"/>
            <a:ext cx="845820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цирк в 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Файл:Circuspainting.jpg"/>
          <p:cNvPicPr/>
          <p:nvPr/>
        </p:nvPicPr>
        <p:blipFill>
          <a:blip r:embed="rId2"/>
          <a:stretch/>
        </p:blipFill>
        <p:spPr>
          <a:xfrm>
            <a:off x="343080" y="1523880"/>
            <a:ext cx="8458200" cy="5099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на стр. 2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304920" y="1828800"/>
            <a:ext cx="8534160" cy="4572000"/>
          </a:xfrm>
          <a:prstGeom prst="roundRect">
            <a:avLst>
              <a:gd name="adj" fmla="val 16667"/>
            </a:avLst>
          </a:prstGeom>
          <a:solidFill>
            <a:srgbClr val="afe2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се дороги ведут в 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Особняки на городских хол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Многоэтажные дома в низинах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хол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4. Посещение б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5. Беднота требует « хлеба и зрелищ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0%9F%D0%B0%D0%BD%D1%82%D0%B5%D0%BE%D0%BD_(%D0%A0%D0%B8%D0%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26668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6%E8%F0%EA_%E2_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4%F0%E5%E2%ED%E5%EC_%D0%E8%EC%E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57200" y="3809880"/>
            <a:ext cx="8229600" cy="243864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48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1523880"/>
            <a:ext cx="3913200" cy="502920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  <p:sp>
        <p:nvSpPr>
          <p:cNvPr id="67" name="Rectangle 10"/>
          <p:cNvSpPr/>
          <p:nvPr/>
        </p:nvSpPr>
        <p:spPr>
          <a:xfrm>
            <a:off x="0" y="6095880"/>
            <a:ext cx="4191120" cy="76212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прославления императоров на многих Форумах строились коло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Рисунок2"/>
          <p:cNvPicPr/>
          <p:nvPr/>
        </p:nvPicPr>
        <p:blipFill>
          <a:blip r:embed="rId2"/>
          <a:stretch/>
        </p:blipFill>
        <p:spPr>
          <a:xfrm>
            <a:off x="304920" y="1654200"/>
            <a:ext cx="3711600" cy="4975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Рисунок3"/>
          <p:cNvPicPr/>
          <p:nvPr/>
        </p:nvPicPr>
        <p:blipFill>
          <a:blip r:embed="rId2"/>
          <a:stretch/>
        </p:blipFill>
        <p:spPr>
          <a:xfrm>
            <a:off x="380880" y="1454040"/>
            <a:ext cx="8534520" cy="47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7" name="Rectangle 9"/>
          <p:cNvSpPr/>
          <p:nvPr/>
        </p:nvSpPr>
        <p:spPr>
          <a:xfrm>
            <a:off x="228600" y="5486400"/>
            <a:ext cx="8915400" cy="13716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ами и красотой  выделялся огром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фитеатр Колизей, который вмещал 50 ты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228600" y="15238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Файл:Pantheon rome 2005may.jpg"/>
          <p:cNvPicPr/>
          <p:nvPr/>
        </p:nvPicPr>
        <p:blipFill>
          <a:blip r:embed="rId3"/>
          <a:stretch/>
        </p:blipFill>
        <p:spPr>
          <a:xfrm>
            <a:off x="4572000" y="15238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228600" y="5029200"/>
            <a:ext cx="8686800" cy="1828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ой достопримечательностью Рима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м Пантеон ( дословно – храм всех бог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увенчан куполом, внутри нах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ый з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153-1"/>
          <p:cNvPicPr/>
          <p:nvPr/>
        </p:nvPicPr>
        <p:blipFill>
          <a:blip r:embed="rId2"/>
          <a:stretch/>
        </p:blipFill>
        <p:spPr>
          <a:xfrm>
            <a:off x="228600" y="2209680"/>
            <a:ext cx="3986280" cy="40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ите иллюстрацию на стр. 267 и расскажите, как выглядел дом богатого римля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5360" y="1523880"/>
            <a:ext cx="8153280" cy="501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3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