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305E-0239-45B9-B5F8-A77AB1CF51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cc156"/>
                </a:solidFill>
                <a:latin typeface="Calibri"/>
              </a:rPr>
              <a:t>« Города Эллады подчиняются Македо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91EB-2C05-412F-9777-CB306F20F2C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аланге было от 6 до 9 р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ья были длинной до 2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ая конница была лёгкой по вооружению и  незначительной по своим разме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аланге от 16 и более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ья были неодинаковой длины: у первого ряда короткие, у второго длиннее, у третьего длиннее, чем у втор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ница была тяжёлой и огром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ели метательные орудия, с помощью которых бросали камни, брёвна и большие стре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4A9F-A182-403E-9709-5B12860AB7D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ла из 16 ря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оины держали копья впереди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клали копья впереди стоящему на плеч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раг заходил с тыла, им нужно было лишь поверну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ья были разной длины, самое большое – 5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293A-BD0F-4E76-AA82-D6C676673DC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мосфен о стратегии Фили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лакедемоняне в течение четырех или пяти месяцев, как раз в самую лучшую пору года, вторгнутся, бывало, опустошат страну противников своими гоплитами, то есть гражданским ополчением, и потом уходят обратно домой… это была какая-то честная и открытая война. Теперь же… большинство дел погубили предатели и ничего не решается выступлениями на поле битвы или правильными сражениями… И я не говорю уж о том, что ему [Филиппу] совершенно безразлично, зима ли стоит в это время или лето, и он не делает изъятия ни для какой поры года и ни в какую пору не приостанавливает свои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AFA4-7880-4B77-B5F3-6AD53BF81AA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188-189 п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. 189- о Демосф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EB4C-3C4E-4866-BEAA-648BCE58A86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ё было готово к выступлению, но осуществить данный поход Филиппу не удалось. Как вы думаете, почему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читайте об этом самостоятельно  на стр. 189-190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B33B-0FB4-4877-A3DD-C4B1065C1BB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в конце парагра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р. 1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BEC9-D95D-49C2-BFC1-DDFADFCEAF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граф 41, вопросы, записи, задания в рабочей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B8C4-3AE2-489D-ABBC-94061855599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ясним причины упадка Греции, которые в свою очередь стали причиной подчинения её Македон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мся с новыми понят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ем развивать  умение работать с учебником; историческим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E970-F7FB-4ED4-9208-35E6526D7F7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кедонский царь Филипп стрем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рить сосе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Потеря Грецией не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иход к власти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AF42-8711-4727-A699-8C5DA4289B1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рминологический дик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1419-4B2C-4C41-9257-B5AAD387A82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те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)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й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) орхес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ик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)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а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) красноре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гед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) ск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C3C7-54DF-4952-BE52-05DD1689789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, соперничавшие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8C4B-63C3-4F57-93C4-8444F7D20EA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едонский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пп II родился в 382 до н. э. в городе Пелла, столице древней Македонии. Отцом его был царь Аминта III, мать Эвридика происходила из знатного рода Линкестидов, правивших долгое время независимо на северо-западе Македо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0A22-C239-42C4-8DC4-EAC133B6168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жаный панци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лый щ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откий ме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инное копь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8542-C38D-4D90-97E9-378DA758EFF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D23-8952-4825-B654-084B1FBD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2CD-4950-4F44-A565-B14C843F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006-B096-4D94-9FAC-AA06A13C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EFF-E780-4D2D-B9BA-193CD331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8A1D-CE61-4B5C-9DCD-3F384DDF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7CA2-2405-4B56-970D-7E676B1E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D5D4-3601-4471-B7B1-0C7FACB3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76D7-4D15-4A4D-952A-EC23BC31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7076-48C4-4349-BE46-AF2C8204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0131-7106-42C5-BADA-3866BC77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4145-2145-4D33-858B-13E45F7E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5C7-64F5-4B64-A858-9EF3CB3F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AB80-BD05-4C89-8631-522B28DA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42F7-2F68-47C4-84AF-817425F2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E2D7-7E05-44A3-ACD8-5D4126DD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FFA2-B374-46C0-8057-EDB61542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6FD4-4BAF-48E0-BE92-2148FD69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F23-A3B5-4FDD-9E0D-3E901D76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4A8-A9AE-49A3-B4E3-AF92F7AA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412-48C8-4EF2-9600-8EE1BE63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FA8-7653-4575-BD3E-5E2356D1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F9D-FA1D-44A8-A450-D3A51836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079-A94F-4C9A-8E16-3B8BD6AF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D3F-6F3C-47EC-89FE-BBF25FA6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76"/>
            </a:gs>
            <a:gs pos="50000">
              <a:srgbClr val="9933ff"/>
            </a:gs>
            <a:gs pos="100000">
              <a:srgbClr val="4718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5BEA-B865-4D29-82C4-16A0CBC5AE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76"/>
            </a:gs>
            <a:gs pos="50000">
              <a:srgbClr val="9933ff"/>
            </a:gs>
            <a:gs pos="100000">
              <a:srgbClr val="4718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7325-1339-4A44-A292-68C1F36D58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Тема урока: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6840" y="2514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cc156"/>
                </a:solidFill>
                <a:latin typeface="Times New Roman"/>
              </a:rPr>
              <a:t>« Города Эллады подчиняются Македонии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114800" y="4876920"/>
            <a:ext cx="48769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ериал разработан учителем ист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инской ОО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тоненковой А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фаланге было от 6 до 9 ря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пья были длинной до 2 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еческая конница была лёгкой по вооружению и  незначительной по своим размер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фаланге от 16 и более ря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пья были неодинаковой длины: у первого ряда короткие, у второго длиннее, у третьего длиннее, чем у втор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ница была тяжёлой и огром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ели метательные орудия, с помощью которых бросали камни, брёвна и большие стре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57200" y="228600"/>
            <a:ext cx="8534520" cy="106668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м греческую и македонскую арм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ла из 16 ряд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е воины держали копья впереди себ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ющие клали копья впереди стоящему на плеч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враг заходил с тыла, им нужно было лишь повернутьс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пья были разной длины, самое большое – 5 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04920" y="228600"/>
            <a:ext cx="8229600" cy="121932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ение македонской фаланг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емосфен о стратегии Филипп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жде лакедемоняне в течение четырех или пяти месяцев, как раз в самую лучшую пору года, вторгнутся, бывало, опустошат страну противников своими гоплитами, то есть гражданским ополчением, и потом уходят обратно домой… это была какая-то честная и открытая война. Теперь же… большинство дел погубили предатели и ничего не решается выступлениями на поле битвы или правильными сражениями… И я не говорю уж о том, что ему [Филиппу] совершенно безразлично, зима ли стоит в это время или лето, и он не делает изъятия ни для какой поры года и ни в какую пору не приостанавливает своих действ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работаем по учебни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кройте учебник на стр. 188-189 п.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тр. 189- о Демосфе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ё было готово к выступлению, но осуществить данный поход Филиппу не удалось. Как вы думаете, почему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читайте об этом самостоятельно  на стр. 189-190.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5" descr="230px-Pausanius_assassinates_Philip_during_the_procession_into_the_theatre_by_Andre_Castaigne_%281898-1899%29"/>
          <p:cNvPicPr/>
          <p:nvPr/>
        </p:nvPicPr>
        <p:blipFill>
          <a:blip r:embed="rId1"/>
          <a:stretch/>
        </p:blipFill>
        <p:spPr>
          <a:xfrm>
            <a:off x="609480" y="1523880"/>
            <a:ext cx="3272040" cy="53341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457200" y="380880"/>
            <a:ext cx="8077320" cy="914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бийство Филиппа I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0" y="5943600"/>
            <a:ext cx="39625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ийство Филипп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вса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ьте на вопросы в конце параграф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стр. 1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3520" y="457200"/>
            <a:ext cx="8001000" cy="1066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едём итог ур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араграф 41, вопросы, записи, задания в рабочей тетрад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ясним причины упадка Греции, которые в свою очередь стали причиной подчинения её Македоние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знакомимся с новыми понятиям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удем развивать  умение работать с учебником; историческим источник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57200" y="380880"/>
            <a:ext cx="8305920" cy="1067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762120" y="685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годня на урок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95360" y="228600"/>
            <a:ext cx="81532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209680" y="3808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80880" y="1447920"/>
            <a:ext cx="838224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кедонский царь Филипп стреми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орить сосед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отеря Грецией независим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Приход к власти Александ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52280" y="533520"/>
            <a:ext cx="8305920" cy="914400"/>
          </a:xfrm>
          <a:prstGeom prst="rect">
            <a:avLst/>
          </a:prstGeom>
          <a:solidFill>
            <a:srgbClr val="feec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380880" y="60948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яем 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1295280" y="2819520"/>
            <a:ext cx="655344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рминологический диктан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ратег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) теат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йно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) орхе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ик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) комед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рато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9) краснореч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агед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0) ске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62120" y="304920"/>
            <a:ext cx="7772400" cy="1066680"/>
          </a:xfrm>
          <a:prstGeom prst="rect">
            <a:avLst/>
          </a:prstGeom>
          <a:solidFill>
            <a:srgbClr val="feec94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верьте себ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орода, соперничавшие между соб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56724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http://www.touravia.ru/netcat_files/298_44.jpg"/>
          <p:cNvPicPr/>
          <p:nvPr/>
        </p:nvPicPr>
        <p:blipFill>
          <a:blip r:embed="rId1"/>
          <a:stretch/>
        </p:blipFill>
        <p:spPr>
          <a:xfrm>
            <a:off x="304920" y="1600200"/>
            <a:ext cx="4038480" cy="283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tury.pokarmanu.ru/photogallery/sparta-1.jpg"/>
          <p:cNvPicPr/>
          <p:nvPr/>
        </p:nvPicPr>
        <p:blipFill>
          <a:blip r:embed="rId2"/>
          <a:stretch/>
        </p:blipFill>
        <p:spPr>
          <a:xfrm>
            <a:off x="4800600" y="373392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1600200" y="4495680"/>
            <a:ext cx="1600200" cy="60984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6019920" y="2971800"/>
            <a:ext cx="1523880" cy="60948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р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 rot="1938000">
            <a:off x="3657240" y="3886200"/>
            <a:ext cx="1522440" cy="485640"/>
          </a:xfrm>
          <a:prstGeom prst="leftRightArrow">
            <a:avLst>
              <a:gd name="adj1" fmla="val 50000"/>
              <a:gd name="adj2" fmla="val 624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5002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350px-Map_Macedonia_336_BC-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2209680" y="0"/>
            <a:ext cx="205740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едо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2514600" y="60948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кедонский ца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85776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http://sputnik.master-telecom.ru/Kultura/rulers.narod.ru/alexander/philip.jpg"/>
          <p:cNvPicPr/>
          <p:nvPr/>
        </p:nvPicPr>
        <p:blipFill>
          <a:blip r:embed="rId1"/>
          <a:stretch/>
        </p:blipFill>
        <p:spPr>
          <a:xfrm>
            <a:off x="609480" y="1163520"/>
            <a:ext cx="3673440" cy="4530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148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липп II родился в 382 до н. э. в городе Пелла, столице древней Македонии. Отцом его был царь Аминта III, мать Эвридика происходила из знатного рода Линкестидов, правивших долгое время независимо на северо-западе Македон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52280" y="5715000"/>
            <a:ext cx="419112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липп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ле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жаный панцир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руглый щ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роткий ме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линное копь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200px-Macedonian_Army_Thessalian"/>
          <p:cNvPicPr/>
          <p:nvPr/>
        </p:nvPicPr>
        <p:blipFill>
          <a:blip r:embed="rId1"/>
          <a:stretch/>
        </p:blipFill>
        <p:spPr>
          <a:xfrm>
            <a:off x="4343400" y="1600200"/>
            <a:ext cx="4191120" cy="3897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962520" y="5638680"/>
            <a:ext cx="4952880" cy="99072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едонский кавалерист с саркофа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ександра Великого (IV в. до н. э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838080" y="228600"/>
            <a:ext cx="777240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оружение пехотинц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4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