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5DE8-B75B-4469-8C91-0E009E2CAD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cc156"/>
                </a:solidFill>
                <a:latin typeface="Calibri"/>
              </a:rPr>
              <a:t>« Города Эллады подчиняются Македо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1DEB-DF4C-4360-B55A-4C869801EC5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было от 6 до 9 р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длинной до 2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ая конница была лёгкой по вооружению и  незначительной по своим разме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от 16 и более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ница была тяжёлой и огром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ели метательные орудия, с помощью которых бросали камни, брёвна и большие стре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F540-BBE9-4AF7-93EA-B91B74472D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ла из 16 ря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оины держали копья впереди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клали копья впереди стоящему на плеч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раг заходил с тыла, им нужно было лишь поверну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ья были разной длины, самое большое – 5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34FD-C1C5-4A4D-8C66-C71FC7D93C6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сфен о стратегии Фили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129-A09C-4F5A-9135-8538CB48B91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188-189 п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. 189- о Демосф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D7F9-D207-4CF5-A597-32C6CDE547F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читайте об этом самостоятельно  на стр. 189-190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DDEF-4E8A-4D24-8434-67FB8846DAE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в конце парагра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р. 1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0302-61E4-4BD9-BCCB-CC10B116256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граф 41, вопросы, записи, задания в рабочей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D1BC-0D32-473C-93E2-EF401C8CE1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мся с новыми пон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ем развивать  умение работать с учебником; историческим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1B6-AE46-4B4C-8D74-F82B511033D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кедонский царь Филипп стрем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рить сосе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Потеря Грецией не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иход к власти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4BD6-884B-487B-B4B6-504A588A804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рминолог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897B-1719-4980-9A85-C705A4A3122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те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)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й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) орхес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ик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)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а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) красноре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гед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) ск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4E6-8B1B-47D5-AE68-C059CBBBE8C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соперничавшие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9539-18DC-4DF0-BA60-C8902FB9171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едонский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45DB-74AF-41B0-A3C4-0D989317E80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жаный панци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лый щ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откий ме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инное копь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5ADD-F21B-4184-AE01-F3A1541D689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8F4-1C2B-4925-BAD5-1F03D785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613-E509-47BC-AE00-025F5A1C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FC9-91BA-4143-9307-F5C06188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B51-CD5D-4F1A-9D54-42CC8833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AF86-DD81-4CB5-9565-36A9554E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A6FC-DD0F-4C36-B178-92A4612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183E-0DB4-4B13-BE15-22CA2B8B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A6A4-B2DD-4A2F-99CD-08F1DEEA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A628-1C42-438E-B9EB-08CE7DE5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172-57A1-4502-9A01-7741B97C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05B-2151-454E-9108-F9E40D0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7C1-9D72-4B28-B85F-CB40B91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DBAA-927B-4664-BB05-C024F8A6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B7B5-60D2-4728-A552-C8F67AC5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E62-820E-4A05-87AC-10D74300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523E-2C49-45D5-B3CD-B2018EB3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1E92-10BD-451A-B80F-C8E7D3ED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E65-BFA0-448F-B12F-194F0441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D9C-C85D-4289-AD4E-954C1FCC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2D0-7890-413E-83E3-5D48509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592-C11C-49AC-95EA-6B3614B4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F66-891B-4C30-AF8F-144B39C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0F9-5266-4955-8830-5C7A576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439-AB6C-4870-A4D1-D15A46E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8A1E-4003-4A49-9BA8-84B25B6721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FA68-115A-4302-9EB6-9A707398EE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Тема урока: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cc156"/>
                </a:solidFill>
                <a:latin typeface="Times New Roman"/>
              </a:rPr>
              <a:t>« Города Эллады подчиняются Македо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114800" y="4876920"/>
            <a:ext cx="48769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риал разработан учителем ист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инской ОО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тоненковой А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было от 6 до 9 ря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длинной до 2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еческая конница была лёгкой по вооружению и  незначительной по своим разме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от 16 и более ря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ница была тяжёлой и огром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ели метательные орудия, с помощью которых бросали камни, брёвна и большие стре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57200" y="228600"/>
            <a:ext cx="8534520" cy="106668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м греческую и македонскую ар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ла из 16 ряд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воины держали копья впереди себ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ющие клали копья впереди стоящему на плеч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враг заходил с тыла, им нужно было лишь повернуть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пья были разной длины, самое большое – 5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04920" y="228600"/>
            <a:ext cx="8229600" cy="121932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македонской фалан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емосфен о стратегии Филипп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работаем по учебни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кройте учебник на стр. 188-189 п.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р. 189- о Демосфе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читайте об этом самостоятельно  на стр. 189-190.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230px-Pausanius_assassinates_Philip_during_the_procession_into_the_theatre_by_Andre_Castaigne_%281898-1899%29"/>
          <p:cNvPicPr/>
          <p:nvPr/>
        </p:nvPicPr>
        <p:blipFill>
          <a:blip r:embed="rId1"/>
          <a:stretch/>
        </p:blipFill>
        <p:spPr>
          <a:xfrm>
            <a:off x="609480" y="1523880"/>
            <a:ext cx="3272040" cy="5334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57200" y="380880"/>
            <a:ext cx="8077320" cy="914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ийство Филиппа I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5943600"/>
            <a:ext cx="39625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ийство Филипп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вс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ьте на вопросы в конце параграф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стр. 1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3520" y="457200"/>
            <a:ext cx="8001000" cy="1066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ём итог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граф 41, вопросы, записи, задания в рабочей тетрад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накомимся с новыми понятия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дем развивать  умение работать с учебником; историческим источ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762120" y="685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на урок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95360" y="228600"/>
            <a:ext cx="8153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80880" y="1447920"/>
            <a:ext cx="838224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кедонский царь Филипп стреми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орить сосе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теря Грецией независим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риход к власти Александ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52280" y="533520"/>
            <a:ext cx="8305920" cy="914400"/>
          </a:xfrm>
          <a:prstGeom prst="rect">
            <a:avLst/>
          </a:prstGeom>
          <a:solidFill>
            <a:srgbClr val="feec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80880" y="60948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яем 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1295280" y="2819520"/>
            <a:ext cx="655344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атег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) 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йно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) орхе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ик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) комед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ато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) краснореч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агед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0) ске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04920"/>
            <a:ext cx="7772400" cy="1066680"/>
          </a:xfrm>
          <a:prstGeom prst="rect">
            <a:avLst/>
          </a:prstGeom>
          <a:solidFill>
            <a:srgbClr val="feec9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ьте себ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ода, соперничавшие между соб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5672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http://www.touravia.ru/netcat_files/298_44.jpg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ury.pokarmanu.ru/photogallery/sparta-1.jpg"/>
          <p:cNvPicPr/>
          <p:nvPr/>
        </p:nvPicPr>
        <p:blipFill>
          <a:blip r:embed="rId2"/>
          <a:stretch/>
        </p:blipFill>
        <p:spPr>
          <a:xfrm>
            <a:off x="4800600" y="373392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600200" y="4495680"/>
            <a:ext cx="1600200" cy="60984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019920" y="2971800"/>
            <a:ext cx="1523880" cy="60948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1938000">
            <a:off x="3657240" y="3886200"/>
            <a:ext cx="1522440" cy="485640"/>
          </a:xfrm>
          <a:prstGeom prst="leftRightArrow">
            <a:avLst>
              <a:gd name="adj1" fmla="val 50000"/>
              <a:gd name="adj2" fmla="val 624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5002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350px-Map_Macedonia_336_BC-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2209680" y="0"/>
            <a:ext cx="205740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едо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514600" y="609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кедонский ц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577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http://sputnik.master-telecom.ru/Kultura/rulers.narod.ru/alexander/philip.jpg"/>
          <p:cNvPicPr/>
          <p:nvPr/>
        </p:nvPicPr>
        <p:blipFill>
          <a:blip r:embed="rId1"/>
          <a:stretch/>
        </p:blipFill>
        <p:spPr>
          <a:xfrm>
            <a:off x="609480" y="1163520"/>
            <a:ext cx="3673440" cy="4530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14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52280" y="5715000"/>
            <a:ext cx="419112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липп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л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жаный панцир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руглый щ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откий ме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линное копь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200px-Macedonian_Army_Thessalian"/>
          <p:cNvPicPr/>
          <p:nvPr/>
        </p:nvPicPr>
        <p:blipFill>
          <a:blip r:embed="rId1"/>
          <a:stretch/>
        </p:blipFill>
        <p:spPr>
          <a:xfrm>
            <a:off x="4343400" y="1600200"/>
            <a:ext cx="4191120" cy="3897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962520" y="5638680"/>
            <a:ext cx="4952880" cy="99072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едонский кавалерист с саркофа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а Великого (IV в. до н. э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838080" y="228600"/>
            <a:ext cx="777240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оружение пехотинц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