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9.png" ContentType="image/png"/>
  <Override PartName="/ppt/media/image5.gif" ContentType="image/gif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7.jpeg" ContentType="image/jpeg"/>
  <Override PartName="/ppt/media/image16.jpeg" ContentType="image/jpeg"/>
  <Override PartName="/ppt/media/image14.gif" ContentType="image/gif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D986-00F0-49F6-BDD0-F12D6729A8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1945-19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418A-B2AA-426A-8958-D8A23E652D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Во внешней политике Кеннеди продолжил конфронтацию с СССР и соц.лагерем. При нем произошел в 1962 г. «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карибский кризис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». Во внутренней политике Кеннеди был сторонником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кейнсианства 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/гос.регулирования экономики/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9D37-364D-4C5F-9478-27D7D31D8D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Calibri"/>
              </a:rPr>
              <a:t>Карибский криз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d0d"/>
                </a:solidFill>
                <a:latin typeface="Calibri"/>
              </a:rPr>
              <a:t>чрезвычайно напряжённое противостояние между Советским Союзом и Соединёнными Штатами относительно размещения Советским Союзом ядерных ракет на Кубе в октябре 1962. Кризису предшествовало размещение в 1961 году Соединёнными Штатами в Турции ракет средней дальности «Юпитер», напрямую угрожавших городам в западной части Советского Союза, доставая до Москвы и основных промышленных центров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8932-45D2-4517-B35C-7422C6093D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Calibri"/>
              </a:rPr>
              <a:t>Кубинская революция (1953 – 1959 )</a:t>
            </a:r>
            <a:r>
              <a:rPr b="1" i="1" lang="ru-RU" sz="1200" spc="-1" strike="noStrike">
                <a:solidFill>
                  <a:srgbClr val="984807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84807"/>
                </a:solidFill>
                <a:latin typeface="Calibri"/>
              </a:rPr>
              <a:t>Мир оказался на гране войны. Лидеры двух стран сумели сделать по шагу от края пропасти и урегулировать конфликт. Советские ракеты были вывезены с Кубы, США сняли морскую блокаду острова и убрали часть своих ракет из Тур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51A5-B0E1-43CF-A565-6D10CF2AE5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Calibri"/>
              </a:rPr>
              <a:t>Джон Кенне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d0d"/>
                </a:solidFill>
                <a:latin typeface="Calibri"/>
              </a:rPr>
              <a:t>Джон Кеннеди был убит 22 ноября 1963 года в городе Даллас (штат Теха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B2EF-5D85-4D33-8641-1E0A5786CD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После войны США взяли на себя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«мировую ответственность»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. Понеся минимальные потери в войне, США вышли из нее сверхдержавой отодвинув всех на второй план. Обладая монополией на ядерное оружие США умело этим пользовали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1AF2-A2FE-44A1-ADF1-E0F6268161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alibri"/>
              </a:rPr>
              <a:t>США во Второй мировой вой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d0d0d"/>
                </a:solidFill>
                <a:latin typeface="Calibri"/>
              </a:rPr>
              <a:t>Во </a:t>
            </a:r>
            <a:r>
              <a:rPr b="1" i="1" lang="ru-RU" sz="1200" spc="-1" strike="noStrike">
                <a:solidFill>
                  <a:srgbClr val="0d0d0d"/>
                </a:solidFill>
                <a:latin typeface="Calibri"/>
              </a:rPr>
              <a:t>вторую мировую войну США вступили как член антифашистской коалиции и союзник СССР. Война началась для Америки с внезапного нападения Японии на военно-морскую базу США в Пёрл-Харборе (Гавайские острова) 7 декабря 1941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8E89-7C44-49B6-A128-9210790B4C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США взяло на себя политику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«отбрасывания коммунизма»- Доктрину Трумена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, и укрепления устоев капитализма в Европе, Латинской Америке, Азии. Стали создаваться военные блоки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НАТО, АСЕАН, СЕАТО 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и др. Внутри самих США начинается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«охота на ведьм»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, поиск внутренних врагов, связанных с именем сенатора Д.Маккар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77F6-4D45-4212-AE95-2C2A1AA049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alibri"/>
              </a:rPr>
              <a:t>США во Второй мировой вой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d0d"/>
                </a:solidFill>
                <a:latin typeface="Calibri"/>
              </a:rPr>
              <a:t>Проведя несколько успешных военных операций в Северной Африке, Италии и на Тихоокеанском театре, согласно решению Тегеранской конференции, 6 июня 1944 года был открыт второй фронт. Войска США, Великобритании и Канады высадились в Нормандии. Операция закончилась 31 августа освобождением Фра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DD45-C08D-4A0F-A013-C5DB958A39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Calibri"/>
              </a:rPr>
              <a:t>Встреча на Эльбе (25 апреля 1945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842E-B984-4C0F-BC67-E83988DA56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Calibri"/>
              </a:rPr>
              <a:t>США в период «холодной войны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d0d"/>
                </a:solidFill>
                <a:latin typeface="Calibri"/>
              </a:rPr>
              <a:t>Результатом противостояния США и СССР стала серия конфликтов, включая Корейскую войну и Карибский кризис. Последствием холодной войны стала также «космическая гонка» между США и СССР в 1950-е — 1960-е г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9D23-67A7-4D2C-8D9C-4EB8F2A40B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Calibri"/>
              </a:rPr>
              <a:t>Корейская вой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d0d"/>
                </a:solidFill>
                <a:latin typeface="Calibri"/>
              </a:rPr>
              <a:t>конфликт между Северной Кореей и Южной Кореей, длившийся с 25 июня 1950 по 27 июля 1953 года (хотя официального окончания войны объявлено не было). Часто этот конфликт времён холодной войны рассматривается как опосредованная война между США и их союзниками и силами КНР и ССС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70A6-C136-4995-AAD0-F0B073B428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С началом президентства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генерала Эйзенхауэра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, прекратилась непопулярная корейская война. За годы его правления накопилась куча проблем в экономике, социальной сфере. С этим выступил новый президент республиканец Д.Кеннеди, провозгласивший политику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«Новых рубежей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E970-AEB5-4F43-90C7-AC6CDDA8EF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3549-8549-401A-BE40-E2FB1C1D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DBDB-ACEB-4889-A19B-258D442D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1E8C-1A5E-4215-B0C7-78B9591AD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AC50-D3F7-4104-A38C-C94EEC100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BDB7-BDEE-4119-AC68-7C7FE612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B104-E4FB-46B0-9E27-02BAE7EF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7C67-6700-4A10-AFC4-F1D3AB09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DE3D-1D59-4A19-9E9B-2563C8A7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870C-9AE4-4A18-9B8E-ED56EF4A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8287-2722-4AA4-AE7E-F40908C5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CE3C-7AEE-4D82-8A8C-6CC3E8D2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3D35-E68C-474A-9A55-52BAB3E1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F701-B324-4450-844E-0E7B5248BE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5.gif"/><Relationship Id="rId5" Type="http://schemas.openxmlformats.org/officeDocument/2006/relationships/image" Target="../media/image13.png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США 1945-196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Documents and Settings\Admin\Мои документы\Downloads\travelplanet-usa.gif"/>
          <p:cNvPicPr/>
          <p:nvPr/>
        </p:nvPicPr>
        <p:blipFill>
          <a:blip r:embed="rId1"/>
          <a:stretch/>
        </p:blipFill>
        <p:spPr>
          <a:xfrm>
            <a:off x="1214280" y="1643040"/>
            <a:ext cx="6786720" cy="45244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214200" y="214200"/>
            <a:ext cx="8715600" cy="119124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Во внешней политике Кеннеди продолжил конфронтацию с СССР и соц.лагерем. При нем произошел в 1962 г. «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карибский кризис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». Во внутренней политике Кеннеди был сторонником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кейнсианства 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/гос.регулирования экономики/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2" descr="1256646516_karibskij-krizis-q.jpg"/>
          <p:cNvPicPr/>
          <p:nvPr/>
        </p:nvPicPr>
        <p:blipFill>
          <a:blip r:embed="rId1"/>
          <a:stretch/>
        </p:blipFill>
        <p:spPr>
          <a:xfrm>
            <a:off x="214200" y="1571760"/>
            <a:ext cx="4071960" cy="43909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98" name="TextBox 3"/>
          <p:cNvSpPr/>
          <p:nvPr/>
        </p:nvSpPr>
        <p:spPr>
          <a:xfrm>
            <a:off x="857160" y="6072120"/>
            <a:ext cx="2786040" cy="3070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7f7f7f"/>
                </a:solidFill>
                <a:latin typeface="Arial"/>
              </a:rPr>
              <a:t>Кеннеди и Н.Хрущев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4" descr="456px-Cuban_crisis_map_missile_range.jpg"/>
          <p:cNvPicPr/>
          <p:nvPr/>
        </p:nvPicPr>
        <p:blipFill>
          <a:blip r:embed="rId2"/>
          <a:stretch/>
        </p:blipFill>
        <p:spPr>
          <a:xfrm>
            <a:off x="4429080" y="1571760"/>
            <a:ext cx="4429080" cy="44002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00" name="TextBox 5"/>
          <p:cNvSpPr/>
          <p:nvPr/>
        </p:nvSpPr>
        <p:spPr>
          <a:xfrm>
            <a:off x="5429160" y="6215040"/>
            <a:ext cx="2786040" cy="3070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арибский кризис 1962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Arial"/>
              </a:rPr>
              <a:t>Карибский кризи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Arial"/>
              </a:rPr>
              <a:t>чрезвычайно напряжённое противостояние между Советским Союзом и Соединёнными Штатами относительно размещения Советским Союзом ядерных ракет на Кубе в октябре 1962. Кризису предшествовало размещение в 1961 году Соединёнными Штатами в Турции ракет средней дальности «Юпитер», напрямую угрожавших городам в западной части Советского Союза, доставая до Москвы и основных промышленных центров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Arial"/>
              </a:rPr>
              <a:t>Кубинская революция (1953 – 1959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57120" y="1357200"/>
            <a:ext cx="2428920" cy="1619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5929200" y="1428840"/>
            <a:ext cx="2667240" cy="28004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6"/>
          <p:cNvSpPr/>
          <p:nvPr/>
        </p:nvSpPr>
        <p:spPr>
          <a:xfrm>
            <a:off x="5421600" y="4357800"/>
            <a:ext cx="32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дель Алехандро Каст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ус, лидер Кубин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волю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3"/>
          <a:stretch/>
        </p:blipFill>
        <p:spPr>
          <a:xfrm>
            <a:off x="500040" y="3143160"/>
            <a:ext cx="3405240" cy="264312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8"/>
          <p:cNvSpPr/>
          <p:nvPr/>
        </p:nvSpPr>
        <p:spPr>
          <a:xfrm>
            <a:off x="517680" y="5929200"/>
            <a:ext cx="38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Никита Хрущёв и Джон Кенне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Ведут мирные перегов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Прямоугольник 9"/>
          <p:cNvGrpSpPr/>
          <p:nvPr/>
        </p:nvGrpSpPr>
        <p:grpSpPr>
          <a:xfrm>
            <a:off x="3876840" y="1158840"/>
            <a:ext cx="5181480" cy="4761000"/>
            <a:chOff x="3876840" y="1158840"/>
            <a:chExt cx="5181480" cy="4761000"/>
          </a:xfrm>
        </p:grpSpPr>
        <p:pic>
          <p:nvPicPr>
            <p:cNvPr id="112" name="Прямоугольник 9" descr=""/>
            <p:cNvPicPr/>
            <p:nvPr/>
          </p:nvPicPr>
          <p:blipFill>
            <a:blip r:embed="rId4"/>
            <a:stretch/>
          </p:blipFill>
          <p:spPr>
            <a:xfrm>
              <a:off x="3876840" y="1158840"/>
              <a:ext cx="518148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4143240" y="1428840"/>
              <a:ext cx="4643640" cy="42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61645"/>
                  </a:solidFill>
                  <a:latin typeface="Arial"/>
                </a:rPr>
                <a:t>Мир оказался на гране войны. Лидеры двух стран сумели сделать по шагу от края пропасти и урегулировать конфликт. Советские ракеты были вывезены с Кубы, США сняли морскую блокаду острова и убрали часть своих ракет из Турци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Arial"/>
              </a:rPr>
              <a:t>Джон Кенне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55432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Arial"/>
              </a:rPr>
              <a:t>Джон Кеннеди был убит 22 ноября 1963 года в городе Даллас (штат Техас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6215040" y="1428840"/>
            <a:ext cx="2666880" cy="320040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4"/>
          <p:cNvSpPr/>
          <p:nvPr/>
        </p:nvSpPr>
        <p:spPr>
          <a:xfrm>
            <a:off x="6296760" y="4714920"/>
            <a:ext cx="259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Джон Фицджераль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Кеннеди, 35-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президент США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20 января 1961 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22 ноября 196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714240" y="2714760"/>
            <a:ext cx="4730760" cy="300024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6"/>
          <p:cNvSpPr/>
          <p:nvPr/>
        </p:nvSpPr>
        <p:spPr>
          <a:xfrm>
            <a:off x="857160" y="571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Это покушение до сих пор остается одной из величайших загадок ХХ 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214200" y="214200"/>
            <a:ext cx="8715600" cy="119124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После войны США взяли на себя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«мировую ответственность»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. Понеся минимальные потери в войне, США вышли из нее сверхдержавой отодвинув всех на второй план. Обладая монополией на ядерное оружие США умело этим пользова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Трумен.jpg"/>
          <p:cNvPicPr/>
          <p:nvPr/>
        </p:nvPicPr>
        <p:blipFill>
          <a:blip r:embed="rId1"/>
          <a:stretch/>
        </p:blipFill>
        <p:spPr>
          <a:xfrm>
            <a:off x="214200" y="1500120"/>
            <a:ext cx="3632400" cy="50799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53" name="TextBox 3"/>
          <p:cNvSpPr/>
          <p:nvPr/>
        </p:nvSpPr>
        <p:spPr>
          <a:xfrm>
            <a:off x="4071960" y="6143760"/>
            <a:ext cx="2786040" cy="520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резидент США Гарри Трумен. 1945-1852 г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4" descr="1233688484karta_ssha.jpg"/>
          <p:cNvPicPr/>
          <p:nvPr/>
        </p:nvPicPr>
        <p:blipFill>
          <a:blip r:embed="rId2"/>
          <a:stretch/>
        </p:blipFill>
        <p:spPr>
          <a:xfrm>
            <a:off x="4095720" y="1714680"/>
            <a:ext cx="4813200" cy="35002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Arial"/>
              </a:rPr>
              <a:t>США во Второй мировой вой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42880" y="1571400"/>
            <a:ext cx="500076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Arial"/>
              </a:rPr>
              <a:t>Во </a:t>
            </a:r>
            <a:r>
              <a:rPr b="1" i="1" lang="ru-RU" sz="2400" spc="-1" strike="noStrike">
                <a:solidFill>
                  <a:srgbClr val="0d0d0d"/>
                </a:solidFill>
                <a:latin typeface="Arial"/>
              </a:rPr>
              <a:t>вторую мировую войну США вступили как член антифашистской коалиции и союзник СССР. Война началась для Америки с внезапного нападения Японии на военно-морскую базу США в Пёрл-Харборе (Гавайские острова) 7 декабря 1941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C:\Documents and Settings\Пользователь\Мои документы\3dflagsdotcom_usa_2fawl.gif"/>
          <p:cNvPicPr/>
          <p:nvPr/>
        </p:nvPicPr>
        <p:blipFill>
          <a:blip r:embed="rId1"/>
          <a:stretch/>
        </p:blipFill>
        <p:spPr>
          <a:xfrm>
            <a:off x="500040" y="1357200"/>
            <a:ext cx="1257480" cy="857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357120" y="2357280"/>
            <a:ext cx="3857760" cy="306072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6"/>
          <p:cNvSpPr/>
          <p:nvPr/>
        </p:nvSpPr>
        <p:spPr>
          <a:xfrm>
            <a:off x="142920" y="5643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Линкор «Аризона» горит после взрыва, вызванного попаданием японской бом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214200" y="214200"/>
            <a:ext cx="8715600" cy="17398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США взяло на себя политику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«отбрасывания коммунизма»- Доктрину Трумена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, и укрепления устоев капитализма в Европе, Латинской Америке, Азии. Стали создаваться военные блоки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НАТО, АСЕАН, СЕАТО 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и др. Внутри самих США начинается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«охота на ведьм»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, поиск внутренних врагов, связанных с именем сенатора Д.Маккар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2" descr="Маккарти.jpg"/>
          <p:cNvPicPr/>
          <p:nvPr/>
        </p:nvPicPr>
        <p:blipFill>
          <a:blip r:embed="rId1"/>
          <a:stretch/>
        </p:blipFill>
        <p:spPr>
          <a:xfrm>
            <a:off x="214200" y="2214720"/>
            <a:ext cx="3643560" cy="4356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64" name="TextBox 3"/>
          <p:cNvSpPr/>
          <p:nvPr/>
        </p:nvSpPr>
        <p:spPr>
          <a:xfrm>
            <a:off x="4071960" y="6357960"/>
            <a:ext cx="2786040" cy="3070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.Маккар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4" descr="Конгресс.jpg"/>
          <p:cNvPicPr/>
          <p:nvPr/>
        </p:nvPicPr>
        <p:blipFill>
          <a:blip r:embed="rId2"/>
          <a:stretch/>
        </p:blipFill>
        <p:spPr>
          <a:xfrm>
            <a:off x="4357800" y="2143080"/>
            <a:ext cx="4214880" cy="31608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66" name="TextBox 5"/>
          <p:cNvSpPr/>
          <p:nvPr/>
        </p:nvSpPr>
        <p:spPr>
          <a:xfrm>
            <a:off x="5072040" y="5429160"/>
            <a:ext cx="2786040" cy="3070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нгресс СШ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Arial"/>
              </a:rPr>
              <a:t>США во Второй мировой вой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2880" y="1285920"/>
            <a:ext cx="50007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Arial"/>
              </a:rPr>
              <a:t>Проведя несколько успешных военных операций в Северной Африке, Италии и на Тихоокеанском театре, согласно решению Тегеранской конференции, 6 июня 1944 года был открыт второй фронт. Войска США, Великобритании и Канады высадились в Нормандии. Операция закончилась 31 августа освобождением Фран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C:\Documents and Settings\Пользователь\Мои документы\3dflagsdotcom_usa_2fawl.gif"/>
          <p:cNvPicPr/>
          <p:nvPr/>
        </p:nvPicPr>
        <p:blipFill>
          <a:blip r:embed="rId1"/>
          <a:stretch/>
        </p:blipFill>
        <p:spPr>
          <a:xfrm>
            <a:off x="500040" y="1357200"/>
            <a:ext cx="1257480" cy="857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214200" y="2428920"/>
            <a:ext cx="3802320" cy="28764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7"/>
          <p:cNvSpPr/>
          <p:nvPr/>
        </p:nvSpPr>
        <p:spPr>
          <a:xfrm>
            <a:off x="214200" y="55008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Arial"/>
              </a:rPr>
              <a:t>Американские солд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Arial"/>
              </a:rPr>
              <a:t>на пляже Омаха в Норманд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Arial"/>
              </a:rPr>
              <a:t>6 июня 19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Arial"/>
              </a:rPr>
              <a:t>Встреча на Эльбе (25 апреля 1945 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3372120" cy="2857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3929040" y="1285920"/>
            <a:ext cx="4157640" cy="2811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1143000" y="3857760"/>
            <a:ext cx="3452760" cy="2638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Documents and Settings\Пользователь\Мои документы\3dflagsdotcom_usa_2fawl.gif"/>
          <p:cNvPicPr/>
          <p:nvPr/>
        </p:nvPicPr>
        <p:blipFill>
          <a:blip r:embed="rId4"/>
          <a:stretch/>
        </p:blipFill>
        <p:spPr>
          <a:xfrm>
            <a:off x="214200" y="4594320"/>
            <a:ext cx="1328760" cy="906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5"/>
          <a:stretch/>
        </p:blipFill>
        <p:spPr>
          <a:xfrm>
            <a:off x="6357960" y="3286080"/>
            <a:ext cx="2465280" cy="3286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C:\Documents and Settings\Пользователь\Мои документы\soviet.gif"/>
          <p:cNvPicPr/>
          <p:nvPr/>
        </p:nvPicPr>
        <p:blipFill>
          <a:blip r:embed="rId6"/>
          <a:stretch/>
        </p:blipFill>
        <p:spPr>
          <a:xfrm>
            <a:off x="4705200" y="4567320"/>
            <a:ext cx="1486080" cy="10764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Arial"/>
              </a:rPr>
              <a:t>США в период «холодной войн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5600" y="1600200"/>
            <a:ext cx="69008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d0d0d"/>
                </a:solidFill>
                <a:latin typeface="Arial"/>
              </a:rPr>
              <a:t>Результатом противостояния США и СССР стала серия конфликтов, включая Корейскую войну и Карибский кризис. Последствием холодной войны стала также «космическая гонка» между США и СССР в 1950-е — 1960-е г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C:\Documents and Settings\Пользователь\Мои документы\3dflagsdotcom_usa_2fawl.gif"/>
          <p:cNvPicPr/>
          <p:nvPr/>
        </p:nvPicPr>
        <p:blipFill>
          <a:blip r:embed="rId1"/>
          <a:stretch/>
        </p:blipFill>
        <p:spPr>
          <a:xfrm>
            <a:off x="285840" y="1357200"/>
            <a:ext cx="1328760" cy="90648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Arial"/>
              </a:rPr>
              <a:t>Корейская вой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357360" y="1600200"/>
            <a:ext cx="5329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Arial"/>
              </a:rPr>
              <a:t>конфликт между Северной Кореей и Южной Кореей, длившийся с 25 июня 1950 по 27 июля 1953 года (хотя официального окончания войны объявлено не было). Часто этот конфликт времён холодной войны рассматривается как опосредованная война между США и их союзниками и силами КНР и ССС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68120" y="1357200"/>
            <a:ext cx="3403800" cy="514044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214200" y="214200"/>
            <a:ext cx="8715600" cy="14655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С началом президентства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генерала Эйзенхауэра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, прекратилась непопулярная корейская война. За годы его правления накопилась куча проблем в экономике, социальной сфере. С этим выступил новый президент республиканец Д.Кеннеди, провозгласивший политику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«Новых рубеже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500040" y="6072120"/>
            <a:ext cx="2786040" cy="520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7f7f7f"/>
                </a:solidFill>
                <a:latin typeface="Arial"/>
              </a:rPr>
              <a:t>Президент Д.Эйзенхауэр. 1952- 1960 г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3" descr="Эйзенхауэр.jpg"/>
          <p:cNvPicPr/>
          <p:nvPr/>
        </p:nvPicPr>
        <p:blipFill>
          <a:blip r:embed="rId1"/>
          <a:stretch/>
        </p:blipFill>
        <p:spPr>
          <a:xfrm>
            <a:off x="428760" y="1857240"/>
            <a:ext cx="3071520" cy="40165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93" name="Рисунок 4" descr="Кеннеди.jpg"/>
          <p:cNvPicPr/>
          <p:nvPr/>
        </p:nvPicPr>
        <p:blipFill>
          <a:blip r:embed="rId2"/>
          <a:stretch/>
        </p:blipFill>
        <p:spPr>
          <a:xfrm>
            <a:off x="5072040" y="1857240"/>
            <a:ext cx="3365640" cy="41306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94" name="TextBox 5"/>
          <p:cNvSpPr/>
          <p:nvPr/>
        </p:nvSpPr>
        <p:spPr>
          <a:xfrm>
            <a:off x="5429160" y="6072120"/>
            <a:ext cx="2786040" cy="520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резидент Д.Кеннеди. 1960- 1963 г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10:05:04Z</dcterms:created>
  <dc:creator>GENA</dc:creator>
  <dc:description/>
  <dc:language>en-US</dc:language>
  <cp:lastModifiedBy>LEGION</cp:lastModifiedBy>
  <dcterms:modified xsi:type="dcterms:W3CDTF">2015-01-14T10:15:07Z</dcterms:modified>
  <cp:revision>13</cp:revision>
  <dc:subject/>
  <dc:title>Слайд 1</dc:title>
</cp:coreProperties>
</file>