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9.png" ContentType="image/png"/>
  <Override PartName="/ppt/media/image5.gif" ContentType="image/gif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14.gif" ContentType="image/gif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6154-16AF-458C-A488-EFE3B7C71B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1945-19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DD56-6A02-4A38-BAF3-2D6C674FE9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Во внешней политике Кеннеди продолжил конфронтацию с СССР и соц.лагерем. При нем произошел в 1962 г. «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карибский кризис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». Во внутренней политике Кеннеди был сторонником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кейнсианства 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/гос.регулирования экономики/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26CC-183E-4282-8F85-7A47645535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ариб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чрезвычайно напряжённое противостояние между Советским Союзом и Соединёнными Штатами относительно размещения Советским Союзом ядерных ракет на Кубе в октябре 1962. Кризису предшествовало размещение в 1961 году Соединёнными Штатами в Турции ракет средней дальности «Юпитер», напрямую угрожавших городам в западной части Советского Союза, доставая до Москвы и основных промышленных центров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AA1B-743B-41E2-B4E1-654C922827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убинская революция (1953 – 1959 )</a:t>
            </a: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Мир оказался на гране войны. Лидеры двух стран сумели сделать по шагу от края пропасти и урегулировать конфликт. Советские ракеты были вывезены с Кубы, США сняли морскую блокаду острова и убрали часть своих ракет из Тур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5CE0-72C0-427C-8A69-B070E0AF77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Джон Кенн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Джон Кеннеди был убит 22 ноября 1963 года в городе Даллас (штат Теха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4B30-6B7A-435E-87A7-713BC58ABC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После войны США взяли на себя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мировую ответственность»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. Понеся минимальные потери в войне, США вышли из нее сверхдержавой отодвинув всех на второй план. Обладая монополией на ядерное оружие США умело этим пользова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7D05-8FB0-4379-97C8-6B9CB66344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США во Второй мировой вой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Calibri"/>
              </a:rPr>
              <a:t>Во </a:t>
            </a: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вторую мировую войну США вступили как член антифашистской коалиции и союзник СССР. Война началась для Америки с внезапного нападения Японии на военно-морскую базу США в Пёрл-Харборе (Гавайские острова) 7 декабря 194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6D84-E0E5-4FDF-875A-BDCA3B8D42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США взяло на себя политику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отбрасывания коммунизма»- Доктрину Трумена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и укрепления устоев капитализма в Европе, Латинской Америке, Азии. Стали создаваться военные блоки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НАТО, АСЕАН, СЕАТО 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и др. Внутри самих США начинается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охота на ведьм»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поиск внутренних врагов, связанных с именем сенатора Д.Макка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9F48-3458-42C8-B53D-855E6B0FD2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США во Второй мировой вой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Проведя несколько успешных военных операций в Северной Африке, Италии и на Тихоокеанском театре, согласно решению Тегеранской конференции, 6 июня 1944 года был открыт второй фронт. Войска США, Великобритании и Канады высадились в Нормандии. Операция закончилась 31 августа освобождением Фра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60C5-C422-445E-BDDA-5812A78525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Встреча на Эльбе (25 апреля 1945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7DCE-85F8-4AC6-931B-366BCBD61F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Calibri"/>
              </a:rPr>
              <a:t>США в период «холодной войны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Результатом противостояния США и СССР стала серия конфликтов, включая Корейскую войну и Карибский кризис. Последствием холодной войны стала также «космическая гонка» между США и СССР в 1950-е — 1960-е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E082-CA3E-4F58-8AF0-822647C103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орейская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конфликт между Северной Кореей и Южной Кореей, длившийся с 25 июня 1950 по 27 июля 1953 года (хотя официального окончания войны объявлено не было). Часто этот конфликт времён холодной войны рассматривается как опосредованная война между США и их союзниками и силами КНР и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6B31-0DB7-441D-A85D-D8F97809D0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С началом президентства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генерала Эйзенхауэра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прекратилась непопулярная корейская война. За годы его правления накопилась куча проблем в экономике, социальной сфере. С этим выступил новый президент республиканец Д.Кеннеди, провозгласивший политику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Новых рубеже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17D7-5DF8-4B62-B854-1FD6D76F44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05FC-6934-47E2-A0FD-C09121F0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088-7333-4FBD-9E00-1E3F4EA3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5DAF-043C-4425-AA95-BF309FC7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D393-9445-4696-AFFC-10EB374D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0CB6-A83D-4FC8-BC9D-4600FF2F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F068-6ABC-4265-9940-53D44BED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F98-8AB3-4473-BF83-BC9C1B4E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86B7-6ED9-4404-A6C9-3631FE85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0758-8668-4329-9365-6995C1A1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4D2-C63F-4FA8-8051-4158DB28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10C-E45F-45F9-8B12-52F0A868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16C-808E-479E-921D-33332C4D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6F3B-CDF2-46E3-9EB5-57E3C84ECC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gif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ША 1945-196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Documents and Settings\Admin\Мои документы\Downloads\travelplanet-usa.gif"/>
          <p:cNvPicPr/>
          <p:nvPr/>
        </p:nvPicPr>
        <p:blipFill>
          <a:blip r:embed="rId1"/>
          <a:stretch/>
        </p:blipFill>
        <p:spPr>
          <a:xfrm>
            <a:off x="1214280" y="1643040"/>
            <a:ext cx="6786720" cy="4524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214200" y="214200"/>
            <a:ext cx="8715600" cy="11912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Во внешней политике Кеннеди продолжил конфронтацию с СССР и соц.лагерем. При нем произошел в 1962 г. «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карибский кризис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». Во внутренней политике Кеннеди был сторонником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кейнсианства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/гос.регулирования экономики/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2" descr="1256646516_karibskij-krizis-q.jpg"/>
          <p:cNvPicPr/>
          <p:nvPr/>
        </p:nvPicPr>
        <p:blipFill>
          <a:blip r:embed="rId1"/>
          <a:stretch/>
        </p:blipFill>
        <p:spPr>
          <a:xfrm>
            <a:off x="214200" y="1571760"/>
            <a:ext cx="4071960" cy="4390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98" name="TextBox 3"/>
          <p:cNvSpPr/>
          <p:nvPr/>
        </p:nvSpPr>
        <p:spPr>
          <a:xfrm>
            <a:off x="857160" y="607212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f7f7f"/>
                </a:solidFill>
                <a:latin typeface="Arial"/>
              </a:rPr>
              <a:t>Кеннеди и Н.Хрущев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456px-Cuban_crisis_map_missile_range.jpg"/>
          <p:cNvPicPr/>
          <p:nvPr/>
        </p:nvPicPr>
        <p:blipFill>
          <a:blip r:embed="rId2"/>
          <a:stretch/>
        </p:blipFill>
        <p:spPr>
          <a:xfrm>
            <a:off x="4429080" y="1571760"/>
            <a:ext cx="4429080" cy="4400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00" name="TextBox 5"/>
          <p:cNvSpPr/>
          <p:nvPr/>
        </p:nvSpPr>
        <p:spPr>
          <a:xfrm>
            <a:off x="5429160" y="621504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арибский кризис 196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Карибский кризи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чрезвычайно напряжённое противостояние между Советским Союзом и Соединёнными Штатами относительно размещения Советским Союзом ядерных ракет на Кубе в октябре 1962. Кризису предшествовало размещение в 1961 году Соединёнными Штатами в Турции ракет средней дальности «Юпитер», напрямую угрожавших городам в западной части Советского Союза, доставая до Москвы и основных промышленных центров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Кубинская революция (1953 – 1959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2428920" cy="161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5929200" y="1428840"/>
            <a:ext cx="2667240" cy="2800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5421600" y="4357800"/>
            <a:ext cx="32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дель Алехандро Кас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ус, лидер Кубин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500040" y="3143160"/>
            <a:ext cx="3405240" cy="26431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8"/>
          <p:cNvSpPr/>
          <p:nvPr/>
        </p:nvSpPr>
        <p:spPr>
          <a:xfrm>
            <a:off x="517680" y="5929200"/>
            <a:ext cx="38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Никита Хрущёв и Джон Кенн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Ведут мирные перегов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Прямоугольник 9"/>
          <p:cNvGrpSpPr/>
          <p:nvPr/>
        </p:nvGrpSpPr>
        <p:grpSpPr>
          <a:xfrm>
            <a:off x="3876840" y="1158840"/>
            <a:ext cx="5181480" cy="4761000"/>
            <a:chOff x="3876840" y="1158840"/>
            <a:chExt cx="5181480" cy="4761000"/>
          </a:xfrm>
        </p:grpSpPr>
        <p:pic>
          <p:nvPicPr>
            <p:cNvPr id="112" name="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3876840" y="1158840"/>
              <a:ext cx="518148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143240" y="1428840"/>
              <a:ext cx="4643640" cy="42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61645"/>
                  </a:solidFill>
                  <a:latin typeface="Arial"/>
                </a:rPr>
                <a:t>Мир оказался на гране войны. Лидеры двух стран сумели сделать по шагу от края пропасти и урегулировать конфликт. Советские ракеты были вывезены с Кубы, США сняли морскую блокаду острова и убрали часть своих ракет из Турци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Джон Кенн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554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Джон Кеннеди был убит 22 ноября 1963 года в городе Даллас (штат Теха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6215040" y="1428840"/>
            <a:ext cx="2666880" cy="32004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6296760" y="4714920"/>
            <a:ext cx="259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Джон Фицджераль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Кеннеди, 35-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президент СШ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20 января 1961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22 ноября 196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714240" y="2714760"/>
            <a:ext cx="4730760" cy="30002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85716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Это покушение до сих пор остается одной из величайших загадок ХХ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14200" y="214200"/>
            <a:ext cx="8715600" cy="11912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После войны США взяли на себя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мировую ответственность»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. Понеся минимальные потери в войне, США вышли из нее сверхдержавой отодвинув всех на второй план. Обладая монополией на ядерное оружие США умело этим пользова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Трумен.jpg"/>
          <p:cNvPicPr/>
          <p:nvPr/>
        </p:nvPicPr>
        <p:blipFill>
          <a:blip r:embed="rId1"/>
          <a:stretch/>
        </p:blipFill>
        <p:spPr>
          <a:xfrm>
            <a:off x="214200" y="1500120"/>
            <a:ext cx="3632400" cy="5079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3" name="TextBox 3"/>
          <p:cNvSpPr/>
          <p:nvPr/>
        </p:nvSpPr>
        <p:spPr>
          <a:xfrm>
            <a:off x="4071960" y="614376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езидент США Гарри Трумен. 1945-1852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1233688484karta_ssha.jpg"/>
          <p:cNvPicPr/>
          <p:nvPr/>
        </p:nvPicPr>
        <p:blipFill>
          <a:blip r:embed="rId2"/>
          <a:stretch/>
        </p:blipFill>
        <p:spPr>
          <a:xfrm>
            <a:off x="4095720" y="1714680"/>
            <a:ext cx="4813200" cy="3500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о Второй мирово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42880" y="1571400"/>
            <a:ext cx="500076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Во </a:t>
            </a: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вторую мировую войну США вступили как член антифашистской коалиции и союзник СССР. Война началась для Америки с внезапного нападения Японии на военно-морскую базу США в Пёрл-Харборе (Гавайские острова) 7 декабря 1941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500040" y="1357200"/>
            <a:ext cx="1257480" cy="857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57120" y="2357280"/>
            <a:ext cx="3857760" cy="30607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142920" y="5643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Линкор «Аризона» горит после взрыва, вызванного попаданием японской бом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14200" y="214200"/>
            <a:ext cx="8715600" cy="17398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США взяло на себя политику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отбрасывания коммунизма»- Доктрину Трумена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и укрепления устоев капитализма в Европе, Латинской Америке, Азии. Стали создаваться военные блоки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НАТО, АСЕАН, СЕАТО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и др. Внутри самих США начинается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охота на ведьм»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поиск внутренних врагов, связанных с именем сенатора Д.Маккар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Маккарти.jpg"/>
          <p:cNvPicPr/>
          <p:nvPr/>
        </p:nvPicPr>
        <p:blipFill>
          <a:blip r:embed="rId1"/>
          <a:stretch/>
        </p:blipFill>
        <p:spPr>
          <a:xfrm>
            <a:off x="214200" y="2214720"/>
            <a:ext cx="3643560" cy="4356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64" name="TextBox 3"/>
          <p:cNvSpPr/>
          <p:nvPr/>
        </p:nvSpPr>
        <p:spPr>
          <a:xfrm>
            <a:off x="4071960" y="635796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.Маккар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Конгресс.jpg"/>
          <p:cNvPicPr/>
          <p:nvPr/>
        </p:nvPicPr>
        <p:blipFill>
          <a:blip r:embed="rId2"/>
          <a:stretch/>
        </p:blipFill>
        <p:spPr>
          <a:xfrm>
            <a:off x="4357800" y="2143080"/>
            <a:ext cx="4214880" cy="31608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66" name="TextBox 5"/>
          <p:cNvSpPr/>
          <p:nvPr/>
        </p:nvSpPr>
        <p:spPr>
          <a:xfrm>
            <a:off x="5072040" y="542916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гресс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о Второй мирово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2880" y="1285920"/>
            <a:ext cx="50007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Проведя несколько успешных военных операций в Северной Африке, Италии и на Тихоокеанском театре, согласно решению Тегеранской конференции, 6 июня 1944 года был открыт второй фронт. Войска США, Великобритании и Канады высадились в Нормандии. Операция закончилась 31 августа освобождением Фра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500040" y="1357200"/>
            <a:ext cx="1257480" cy="857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214200" y="2428920"/>
            <a:ext cx="3802320" cy="28764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7"/>
          <p:cNvSpPr/>
          <p:nvPr/>
        </p:nvSpPr>
        <p:spPr>
          <a:xfrm>
            <a:off x="214200" y="55008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Американские солд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на пляже Омаха в Норманд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6 июня 19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Встреча на Эльбе (25 апреля 1945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3372120" cy="2857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929040" y="1285920"/>
            <a:ext cx="4157640" cy="281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1143000" y="3857760"/>
            <a:ext cx="3452760" cy="2638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Documents and Settings\Пользователь\Мои документы\3dflagsdotcom_usa_2fawl.gif"/>
          <p:cNvPicPr/>
          <p:nvPr/>
        </p:nvPicPr>
        <p:blipFill>
          <a:blip r:embed="rId4"/>
          <a:stretch/>
        </p:blipFill>
        <p:spPr>
          <a:xfrm>
            <a:off x="214200" y="4594320"/>
            <a:ext cx="1328760" cy="906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5"/>
          <a:stretch/>
        </p:blipFill>
        <p:spPr>
          <a:xfrm>
            <a:off x="6357960" y="3286080"/>
            <a:ext cx="2465280" cy="3286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Documents and Settings\Пользователь\Мои документы\soviet.gif"/>
          <p:cNvPicPr/>
          <p:nvPr/>
        </p:nvPicPr>
        <p:blipFill>
          <a:blip r:embed="rId6"/>
          <a:stretch/>
        </p:blipFill>
        <p:spPr>
          <a:xfrm>
            <a:off x="4705200" y="4567320"/>
            <a:ext cx="1486080" cy="10764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 период «холодной войн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5600" y="1600200"/>
            <a:ext cx="69008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Результатом противостояния США и СССР стала серия конфликтов, включая Корейскую войну и Карибский кризис. Последствием холодной войны стала также «космическая гонка» между США и СССР в 1950-е — 1960-е г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285840" y="1357200"/>
            <a:ext cx="1328760" cy="9064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Корейская во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357360" y="1600200"/>
            <a:ext cx="5329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конфликт между Северной Кореей и Южной Кореей, длившийся с 25 июня 1950 по 27 июля 1953 года (хотя официального окончания войны объявлено не было). Часто этот конфликт времён холодной войны рассматривается как опосредованная война между США и их союзниками и силами КНР и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68120" y="1357200"/>
            <a:ext cx="3403800" cy="514044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14200" y="214200"/>
            <a:ext cx="8715600" cy="14655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С началом президентства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генерала Эйзенхауэра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прекратилась непопулярная корейская война. За годы его правления накопилась куча проблем в экономике, социальной сфере. С этим выступил новый президент республиканец Д.Кеннеди, провозгласивший политику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Новых рубеж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500040" y="607212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f7f7f"/>
                </a:solidFill>
                <a:latin typeface="Arial"/>
              </a:rPr>
              <a:t>Президент Д.Эйзенхауэр. 1952- 1960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Эйзенхауэр.jpg"/>
          <p:cNvPicPr/>
          <p:nvPr/>
        </p:nvPicPr>
        <p:blipFill>
          <a:blip r:embed="rId1"/>
          <a:stretch/>
        </p:blipFill>
        <p:spPr>
          <a:xfrm>
            <a:off x="428760" y="1857240"/>
            <a:ext cx="3071520" cy="4016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93" name="Рисунок 4" descr="Кеннеди.jpg"/>
          <p:cNvPicPr/>
          <p:nvPr/>
        </p:nvPicPr>
        <p:blipFill>
          <a:blip r:embed="rId2"/>
          <a:stretch/>
        </p:blipFill>
        <p:spPr>
          <a:xfrm>
            <a:off x="5072040" y="1857240"/>
            <a:ext cx="3365640" cy="41306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94" name="TextBox 5"/>
          <p:cNvSpPr/>
          <p:nvPr/>
        </p:nvSpPr>
        <p:spPr>
          <a:xfrm>
            <a:off x="5429160" y="607212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езидент Д.Кеннеди. 1960- 1963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0:05:04Z</dcterms:created>
  <dc:creator>GENA</dc:creator>
  <dc:description/>
  <dc:language>en-US</dc:language>
  <cp:lastModifiedBy>LEGION</cp:lastModifiedBy>
  <dcterms:modified xsi:type="dcterms:W3CDTF">2015-01-14T10:15:07Z</dcterms:modified>
  <cp:revision>13</cp:revision>
  <dc:subject/>
  <dc:title>Слайд 1</dc:title>
</cp:coreProperties>
</file>