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66D-1603-4658-A494-D8B9CA0808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ис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иродоведения)в 4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5ACD-2256-4B1A-92DE-808E08FB262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93E4-39E9-43EC-8988-B862EB2EF80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BBF3-689B-433A-B92E-71B1EE0D9BE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–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5C96-80FF-44C9-9BB4-FE50EEF6544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EE0F-EF03-43E6-9D28-87E37B17D37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47FA-117D-4606-B2BE-EDE4CDF4CAA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4389-9A5B-4DB3-929A-E3A6BE0035F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т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F4CD-C290-4507-8A01-A543A424163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представление о Древней Руси, русских княз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познавательный кругоз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 интерес к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B432-74A4-4498-8797-27771D195A7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 по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Земля наша велика и обильна, но порядка в ней нет: приходите княжить и владеть н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D79E-D94A-45AB-ADFB-6164B138DE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княз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9990-1A82-42A4-940A-077F62467B1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князь Рю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5ED6-115B-4A61-98D3-503413C27EF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князь Ол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C7EB-06EC-4D4F-B2A3-40E161A8710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имир – Красное Солны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37EA-A319-4EC4-9AF9-33DFF612473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9E4B-7195-4C02-8129-4BF61CBAFE9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C22C-D2E5-4DC9-9512-245ED7F8D7B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был первым князем на Ру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уда он прише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русский князь знаменит своими поход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князя на Руси называли Красным Солныш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след в истории он остав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9356-32D3-43B6-B83E-DD3CBBCB30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оч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, украинцы и белорусы произош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точ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пад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юж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5995-C7C9-4BC9-9A38-581F2DABB38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ж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емь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одиноч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л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2C47-16E0-44F2-B7AA-1D674B0F4E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честь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честь Солн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честь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103B-B2D2-412B-9641-73B55340375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ом грома и молнии у Древних славян бы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ев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у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р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04CD-E0F0-4303-8223-98E37A410A2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911 года, более ранние свидетельства имеют дело с этноним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 е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название народа). Согласно летописцу «Повести временных лет» название произошло от варягов племени русь, призванных новгородскими славянами в 862 году как воинская друж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6B04-4749-4D6B-A715-B769D546DDA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пос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5A68-B066-43FA-A236-18D086CA884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вание варяг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М.Васн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C36-A25A-493A-8526-1DCC8D31323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279-763E-48F7-9FCF-C5C7D7E1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F33-D24D-4CCE-92FB-1D74148D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4625D-45C2-4E8F-94EE-FCADDAFC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C3B8A-E85A-42AD-A4B2-C88C2BD4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A27E2-B240-4620-993B-966DEE5E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AE7E8-C31A-4003-889A-11305E8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4498F-DD7E-435E-9608-A048D82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312B8-42CC-4E44-AE44-0D59018B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C8114-DAF1-484D-B717-4F573CE6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40AE6-7577-4754-96EF-5BEC1938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BF4B2-5D0A-43FE-ACBC-111193FE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6F236-132B-451A-8F57-357BE768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CE9-4ADC-4018-989F-E248ADC8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ECE16-DDDC-4718-B097-66E87F19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1D9CE-2736-40C2-A3E4-25A2C087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B8FD6-1BB4-425F-B056-4768D709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0C3E3-FF60-46C9-918D-2FB24CF4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FC89F-D907-473F-9795-8DA72746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F5FA0-2861-4E07-AA31-351F2E9A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16141-F45C-4C44-A7A4-C52DF312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15EC8-3F86-48D2-A4E8-FA88E39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06904-84AA-4F43-8814-61144A9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0F137-EF37-49D9-B36D-0307D8C5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0CC-6CEB-4CC8-9CEB-229FE8DE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B12AB-F4C1-40FB-A365-C035DA26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2227C-A9C7-49F2-BC07-9590468E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60165-C003-4705-A994-1799DE53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9C8D8-9E4A-48ED-9AD8-6FC83820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ADB31-8B76-42B9-A925-E2698536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5ACE8-CCD2-4879-8707-3CFFA31F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E9696-BDF4-404F-B22B-F5C35D7E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1DAE2-1134-4056-BA73-3661322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691BC-B86A-49A4-BCA0-CBEBF348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0DAB-226F-4832-9EAB-48D4CE28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297D-93BE-4146-A51D-8A01FDD2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6758E-63F6-4651-B3A1-45AD1A9E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63721-2872-41C2-81C8-833AF045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826CF-56D8-4C50-9607-29FA5881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FB4E7-44B9-4BCB-B60E-5AD15688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A4B5D-92EE-422D-8941-A02906F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CF1AB-87A3-42F7-A899-AC7A1EDB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A5BE6-103B-4CA0-AC7F-25DFCC19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502AB-AFB5-4407-85C5-6C3B3196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BF937-4462-471B-A444-8883AA37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36279-AFC8-4302-83CD-386078CD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B9E8-86A9-4011-AD7A-ECE347D8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0D25A-8F37-4A42-BCF3-4F81F267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D26A3-6F66-416D-9F3A-4ACD5636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191CE-7680-48D7-8E0D-FCC5591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B4ACF-E42C-401B-ADFB-D49A952F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34B34-DCA8-4DF5-B4A3-6EDAD675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8CDB-3748-4C33-BE6C-D706DA57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4AF1-0F07-4011-8750-BD794C0E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702E-78B7-4D32-89B3-829AA2B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5D0F-C2DF-4B0F-9513-FFC45EAD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036A-C2BF-4CB5-B3DC-7F73E71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0F5-2065-4745-866F-09AF0B8F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32C9-F6D7-452E-9F26-2D7FBD70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0C68-6297-4968-A6C7-960AD21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A1B5-DCAD-45FE-BBBA-C04AC843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231B-2F7F-465A-B774-70F0420F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C2E7-7374-400D-B953-6F0DCEF7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601F-086C-46E6-8A16-931AF80C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BA6F-DCC5-43D2-9697-48B7F08F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3AC5-FFE2-4D0B-9620-D1885444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6995-70AE-40CA-AFAF-53B26AAA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B5062-8E1D-4356-A8DC-4CB74FFB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031-12A7-464B-89A3-59164160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3579-659B-4901-B2CE-3A7A316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BAA0-CFD0-45CF-97A8-656016DB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375D-E244-4F30-8EC4-3A57809C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E39E-BC3E-4ED1-A125-C31C9BD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7A20-DEEC-4FD3-A5E1-1DD56E2C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8F12-07E0-4DEC-ADFF-4C2FB2A2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6457-E965-4950-B814-A201643B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BAD0-D4E5-4455-A92A-0F9A40A7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A7B0-13D7-49A6-984E-AF080F95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989F-5487-4CEB-9CDB-D7AF79C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3E4-DBF4-48B9-938C-14A6CCD0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70BF-7420-4505-9063-4B9E2BEB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0DD12-B31F-4BD6-9C3C-B24BA2C4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1977-B9E4-4354-A8D6-0FE1E1A5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D28A-105A-4CA1-8228-810F59F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66BF-0CD9-499D-BD02-3C7F1A1A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6F57-F478-4F94-BACC-00735C7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77C54-4E0E-415A-8A31-9C562392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14CA-F8E5-4E40-9010-63B998C2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31E48-1465-42B0-9AB4-AC7E649A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03A9A-A8C3-4F05-9F4C-C2F99B1B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EA6-53C3-4732-BBE9-3D6F528F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B0D5-0041-4292-A1DE-036C2CEB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D0BA-8646-4EC3-A698-2B2AEB20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E094-FEA5-47E1-B3DF-9144AE46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75084-7AE6-4B84-8446-1A1BCC1E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51A4-B731-4165-B46E-3ADBDBCE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4658-952D-4EB2-B576-40D72DD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75B87-2E28-48A8-AFA9-0C62DA6F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5DCF-0DC6-4FC3-94D8-6AE96C6A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8A7D4-ED95-4A76-B432-5071699B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A4EF4-1EB3-4308-8030-D53C16C8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54B-2453-4AF9-8963-F1120A7D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791E-BE5E-465C-932A-A857555B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63837-0920-4909-BC90-00BC2586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AA128-5BE8-4CDA-B0DE-94CC3FD7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06A2D-4F15-4F11-B099-D51D0A72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A283F-3DB2-4999-8C4A-E6816FF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D3E67-3FA3-41FB-802B-038B2A9B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51F71-7E21-496B-A65D-14F52708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16FC-A780-49C9-8FDD-1C2031D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D713A-686F-4EC1-873F-07D8E638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727B7-E594-40F9-A8AD-A3ABEC9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ED7-8143-4E91-9D3D-8BAB7E00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93647-DF8F-4718-AEBC-B977F40F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7C0C9-E092-4310-8314-3A199CDC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304A-6ECD-4147-9A26-3194B2B0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88E8-8649-42DC-8486-075CE6BB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29D86-3976-4F2A-9B4E-8D89A978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52D9E-6869-43CF-A1F4-4265776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00C7A-3065-4BA5-BAD7-5030967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1790A-2AC7-48E5-80EB-907C49BB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FCB1F-5B55-43A6-8F93-E61C2AF8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DFB72-702A-4369-B1A4-19AEC31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D3B-E633-4B28-8B7B-C9D26370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AF435-0D5C-4CB2-A59E-68FCA792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373A7-7243-4D95-B497-C0B3A75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87A3-E815-4AA4-A326-F64E2EF6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FE036-8533-4CCF-AD44-4789553A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66AA4-70FE-46F7-BC95-D7792AC9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6F00E-55E7-4C99-BFDA-4EF5027E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E5701-2761-469C-A5AB-DD4F3120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F2D4F-D344-499A-9C7D-7813C2AA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C1263-6687-4DB3-8D40-92132AE2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C1706-C41C-4528-B113-4A401010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66A-4224-4D9C-9117-BE9B03A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B5389-4788-4182-9FED-9CDE034E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C739A-2F7C-4007-AAC7-4D1C9A45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329D-5C13-4F4C-BD57-F6912645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EFFC3-F938-48AE-87B4-ACB2AA2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F65B-9D53-420E-B6D2-621438BC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96C95-3155-4A9A-B8F6-ADE2A1E7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1C21C-12CE-4D42-B99F-560590FF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9A456-465A-49C6-A99D-CA569520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700ED-DE23-4BC0-AF82-9C8B4DA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B20C3-CCB3-4FEA-B652-3C248611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6C05-FD33-4BC8-833C-53BC27D123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3EB8-8A0A-47D8-817A-798DE28941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3740-C25D-4AA0-9851-6687C872C5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07C5-F38C-47AD-B3EA-9FDE2AEAB8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E241-C1AA-492D-B02F-BFEEF0E6B8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B1DD-939C-4A17-A82C-8A0BE6AB38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A08B-D56F-41FA-BB6B-698AE706EE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A5F-7382-4F28-AECE-A61E4CEF02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95E9-335C-4A87-800C-A7D1C9A9E4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607E-2A87-499A-A509-7A95F5E63A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F57E-32D2-47F6-A29E-E4F4862A53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18E-EA5E-4318-834A-0E5EFB7EE5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11_&#1075;&#1086;&#1076;" TargetMode="External"/><Relationship Id="rId2" Type="http://schemas.openxmlformats.org/officeDocument/2006/relationships/hyperlink" Target="http://ru.wikipedia.org/wiki/&#1069;&#1090;&#1085;&#1086;&#1085;&#1080;&#1084;" TargetMode="External"/><Relationship Id="rId3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4" Type="http://schemas.openxmlformats.org/officeDocument/2006/relationships/hyperlink" Target="http://ru.wikipedia.org/wiki/&#1056;&#1091;&#1089;&#1100;_%28&#1085;&#1072;&#1088;&#1086;&#1076;%29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 времена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 исто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природоведения)в 4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Верования древних славян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690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 – бог грома и молн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9" name="Picture 4" descr="Громовник Перун Виктор Корольков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532764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Перуница Виктор Корольков"/>
          <p:cNvPicPr/>
          <p:nvPr/>
        </p:nvPicPr>
        <p:blipFill>
          <a:blip r:embed="rId1"/>
          <a:stretch/>
        </p:blipFill>
        <p:spPr>
          <a:xfrm>
            <a:off x="147636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иц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здник Ивана Купал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Праздник Ивана Купа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Иван Купала - Купалле"/>
          <p:cNvPicPr/>
          <p:nvPr/>
        </p:nvPicPr>
        <p:blipFill>
          <a:blip r:embed="rId1"/>
          <a:stretch/>
        </p:blipFill>
        <p:spPr>
          <a:xfrm>
            <a:off x="1258920" y="476280"/>
            <a:ext cx="6697800" cy="5689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lat021"/>
          <p:cNvPicPr/>
          <p:nvPr/>
        </p:nvPicPr>
        <p:blipFill>
          <a:blip r:embed="rId1"/>
          <a:stretch/>
        </p:blipFill>
        <p:spPr>
          <a:xfrm>
            <a:off x="468360" y="692280"/>
            <a:ext cx="8424720" cy="5329080"/>
          </a:xfrm>
          <a:prstGeom prst="rect">
            <a:avLst/>
          </a:prstGeom>
          <a:ln w="0">
            <a:noFill/>
          </a:ln>
        </p:spPr>
      </p:pic>
      <p:sp>
        <p:nvSpPr>
          <p:cNvPr id="58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з летопи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овать представление о Древней Руси, русских князь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познавательный кругоз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ечь посл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Земля наша велика и обильна, но порядка в ней нет: приходите княжить и владеть нам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7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4432320" y="2203560"/>
            <a:ext cx="3876480" cy="3600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68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68" fill="hold"/>
                                        <p:tgtEl>
                                          <p:spTgt spid="5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ые князь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"/>
          <p:cNvPicPr/>
          <p:nvPr/>
        </p:nvPicPr>
        <p:blipFill>
          <a:blip r:embed="rId1"/>
          <a:stretch/>
        </p:blipFill>
        <p:spPr>
          <a:xfrm>
            <a:off x="1116000" y="0"/>
            <a:ext cx="7559640" cy="65977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ликий князь Рюри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68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68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ский князь Ол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7" descr="ol1-1"/>
          <p:cNvPicPr/>
          <p:nvPr/>
        </p:nvPicPr>
        <p:blipFill>
          <a:blip r:embed="rId1"/>
          <a:stretch/>
        </p:blipFill>
        <p:spPr>
          <a:xfrm>
            <a:off x="1042920" y="1700280"/>
            <a:ext cx="5958000" cy="5157720"/>
          </a:xfrm>
          <a:prstGeom prst="rect">
            <a:avLst/>
          </a:prstGeom>
          <a:ln w="0">
            <a:noFill/>
          </a:ln>
        </p:spPr>
      </p:pic>
      <p:sp>
        <p:nvSpPr>
          <p:cNvPr id="6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ладимир – Красное Солнышк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нягиня Оль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489564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« Три богатыря»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508464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тог 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то был первым князем на Ру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уда он прише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русский князь знаменит своими походам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го князя на Руси называли Красным Солнышк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след в истории он остави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оверочное тестиро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№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е, украинцы и белорусы произошли о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осточ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пад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южных славя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вние славяне жи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семь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одиночк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леме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здник Ивана Купал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 честь в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честь Солнц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в честь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ом грома и молнии у Древних славян бы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Зевс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еру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Мар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911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более ранние свидетельства имеют дело с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этноним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то есть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ак название народа). Согласно летописцу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«Повести временных лет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азвание произошло от варягов племени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изванных новгородскими славянами в 862 году как воинская друж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ревнее посе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Picture 5" descr="Изображение:Uchebnik poselok 1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извание варягов.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37:08Z</dcterms:created>
  <dc:creator>Саша</dc:creator>
  <dc:description/>
  <dc:language>en-US</dc:language>
  <cp:lastModifiedBy>LEGION</cp:lastModifiedBy>
  <dcterms:modified xsi:type="dcterms:W3CDTF">2015-01-15T12:19:01Z</dcterms:modified>
  <cp:revision>14</cp:revision>
  <dc:subject/>
  <dc:title>Во времена Древней Руси</dc:title>
</cp:coreProperties>
</file>