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type.wav" ContentType="audio/x-wav"/>
  <Override PartName="/ppt/media/image20.jpeg" ContentType="image/jpeg"/>
  <Override PartName="/ppt/media/image1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2.jpeg" ContentType="image/jpeg"/>
  <Override PartName="/ppt/media/image4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dt" idx="5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 type="ftr" idx="5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 type="sldNum" idx="5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B8C5-B8BF-45B4-A7BD-2314F3C736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_AlgeriusCaps"/>
              </a:rPr>
              <a:t>Тема: Монголо-татарское нашествие на Ру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_AntiqueTrady"/>
              </a:rPr>
              <a:t>Цель: углубить свои знания по вопросу «Монголо-татары и Русь» на основе историографии и решить проблему: почему монголо -татары смогли покорить Русь, находящуюся на более высокой ступени общественного развития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3714-F024-4913-A556-01755C9A6FD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имиро-Суздальское княж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1B9B-BC07-416B-A8AE-4231372C58D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ины поражения русских вой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озможность сопротивления монголо-татарам в связи с их воинской организацией (комплекс воинских приёмов, использовавшихся при штурме городов, численное превосходство, мобильность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общённость русских войск и си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лое тактическое руководство и стратегический талант Батыя и его военачальн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4103-9968-4894-95AC-7847B304C0C1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바탕"/>
              </a:rPr>
              <a:t>Монголо-татарское нашествие завершилось установлением владычества, сущность которого можно определить следующими понятиями и суждениями: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cademyCTT"/>
              </a:rPr>
              <a:t>Домашнее зад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cademyCTT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cademyCTT"/>
              </a:rPr>
              <a:t>Завершить подготовку к уроку-семинару, ответив на вопрос: «Как рассматривается содержание монголо-татарского ига в русской и советской историографии (на примере точек зрения С.М. Соловьева, В.В. Каргалова, Л.Н.Гумилёва)?»; сообщение об Александре Невском, учебник с. 123-129; ответить на вопро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F1E0-A515-476C-8471-3606A3798660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Социальная 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51B5-50F0-4C76-95FF-52BC4398EB5C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Чингисхан (1155 г.? – </a:t>
            </a: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                            август 1227 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Какое благо выше всех на земле?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 на него ответил: </a:t>
            </a:r>
            <a:r>
              <a:rPr b="1" lang="ru-RU" sz="1200" spc="-1" strike="noStrike">
                <a:solidFill>
                  <a:srgbClr val="ff6600"/>
                </a:solidFill>
                <a:latin typeface="Arial"/>
              </a:rPr>
              <a:t>«Счастливее всех на земле тот, кто гонит разбитых им неприятелей, грабит их добро, скачет на их конях, любуется слезами людей, им близких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5B4E-96DC-4C47-8D74-37106D4CCA1B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ение вой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nnaLightCTT"/>
              </a:rPr>
              <a:t>кон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nnaLightCTT"/>
              </a:rPr>
              <a:t>тяжелая</a:t>
            </a:r>
            <a:r>
              <a:rPr b="0" lang="ru-RU" sz="1200" spc="-1" strike="noStrike">
                <a:solidFill>
                  <a:srgbClr val="000000"/>
                </a:solidFill>
                <a:latin typeface="AnnaLightCTT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nnaLightCTT"/>
              </a:rPr>
              <a:t>лёгкая</a:t>
            </a:r>
            <a:r>
              <a:rPr b="0" lang="ru-RU" sz="1200" spc="-1" strike="noStrike">
                <a:solidFill>
                  <a:srgbClr val="000000"/>
                </a:solidFill>
                <a:latin typeface="AnnaLightCTT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686C-913B-4774-9283-5EF4081DA0A2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оевания монго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11D9-1425-47D6-A8AD-F7940F91F9A8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Битва на Калке - 31 мая 122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Джебе-ной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Субэдэй-богату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хан Котян: «Нашу зем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сегодня отняли, а ваш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завтра, пришедш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возьмут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cc"/>
                </a:solidFill>
                <a:latin typeface="Arial"/>
              </a:rPr>
              <a:t>Мстислав Удал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cc"/>
                </a:solidFill>
                <a:latin typeface="Arial"/>
              </a:rPr>
              <a:t>Мстислав Роман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cc"/>
                </a:solidFill>
                <a:latin typeface="Arial"/>
              </a:rPr>
              <a:t>Мстислав Святослав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cc"/>
                </a:solidFill>
                <a:latin typeface="Arial"/>
              </a:rPr>
              <a:t>Даниил Роман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7C11-75C9-4CD9-8C17-ED98B5FAF77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ствие Батыя на Ру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719A-D979-4A3B-85BC-CFD97ABA595C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ствие Батыя на Ру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E7B5-3C32-4DB3-9E09-FB11128877A9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орение земли Рязанс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2E7C-EDF7-42AD-B255-617464FDEC8B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E73B-A094-4668-8422-D9C3C01D5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2522-C3CC-46E5-B5EA-0D3B2E51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582F73-1F41-49A3-9C09-42CB1DF4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B0C884-4648-4C79-AF89-72E1115D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40589F-531D-4E38-95E7-32EF020A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DCB2D3-C78E-4EFA-AA9C-D3DBC522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E3EAA1-8EE2-41CE-83D5-FE7FFD41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76F386-F6BF-4B51-BF4A-8EE7F1D1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5A4D53-CE20-4701-A16D-1E48BB61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3FDB0D-1F05-4F6A-9615-097A7E76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1CED84-D098-43D8-AC81-C0FE7A7E4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050C20-6463-455A-9DA2-D37CF6F62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7D43-8842-4AA6-A8A3-2E9B43CF1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0A28D2-E54F-43E3-823B-0427974D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F4C6FF-A90D-499A-8E43-256EB527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EF6662-8957-417F-B0A5-CB5111BF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75D8C8-8565-48AF-8BDC-C3C2C3C4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BB8A80-AC73-4BF7-ABDA-B37FB03B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E49C9-FBA6-4D27-8A59-08415FAC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3BA4C-DC9D-427E-8E53-99818114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77721D-38AE-4E62-9EBA-5DC533C4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300EFF-1F81-497E-817C-528E9F8A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C1919-AEDC-4BA3-9EAA-44F6AF427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D612-35C8-4905-A208-C9E6090B0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B9E56F-D413-4D82-97E7-784C66DAD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A55EFC6-22B1-42B8-8229-BC9BED356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4C7B39-421A-4927-9271-4A55FAC2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96B146-7F2F-4441-AFB6-0951F23D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49D06F4-8B00-4AAD-9C2C-F6C36F1A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DB68EA9-73A2-4898-89CD-22B9416F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EC3144D-B8F8-4100-93DB-A927703F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713B3A8-D211-4273-AC7E-0504160D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0F1D69F-77AB-4170-8991-FFFCB581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8C684EF-D355-425A-8424-FF8DBAEB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E1D6-9CB2-4BF5-9B59-C5B87BBF6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25C9DC5-CD3B-419B-9D75-181E6293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D8CA32-D4FC-49F5-8B52-E225557E5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69260D-21BD-4FBE-8153-37901CAF3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A7E009-4AE1-439B-9A35-47AD0C3A7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B39E9F-5B19-488C-B374-769F51EF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74A526-ABE6-4546-9310-760C4C62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D3B81F-2032-491B-A3EB-0C36F8CC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0B7158-884B-4CF0-870E-F2DBD31B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394524-D5CA-48E9-8BA2-F4C14E40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398290-178A-4C77-9357-A7A256AC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85C9-5265-428F-98C7-5FFF7D51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DA7823-3984-4328-88FC-44E66578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6F4DA5-5606-4533-8A17-77BBE179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760534-2672-4967-A012-53CE7FBA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A6C2C3-4EE8-40FD-B8E7-D9B8DCE87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2941FB-F958-4F3A-A4DA-460F4D77F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B8ED9C-4D50-4FBD-8F8C-E6F61D326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AA806E-BE5D-47EF-935E-F1703890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115055-BE22-48F8-91D5-AC8738B9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27E71D-990E-4CA1-9646-7CB06DBA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A5876C-97F4-4E2E-9257-8B295D5D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A1FF-B53B-4A29-8CD0-A2FB7955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C22A2C-2389-4E56-94D1-E0BCFD36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97A8DE-36F7-4054-8700-BA637AAF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2D41EA-E467-470D-A003-0A501E33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B04210-F328-481F-B741-3CABA651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4C03B0-E63B-4ECC-9C74-FB256698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29ED13-C41C-4BAB-B129-D1380FA64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B9F05A-E70A-4A7F-A1D1-3C44A2B25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55F111-7AF2-40FB-A24D-A4A0ACC9C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7501F5-D421-4914-8D1E-3D4B4A85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C0D66C-62E1-4502-850D-7FF2D7DD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436E-0AE5-48B2-B05D-F8639B79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EE87BE-6D34-4DB5-B358-DA5E517F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71A0FC-2F2C-4BFF-B777-08492061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8F980A-265E-4109-AD96-2CF7FC1A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ADD4EA-B4BC-4F39-A0B1-A6289F3C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7408DA-973A-4EB2-B8A2-D969638E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1313AE-2F57-4DC4-891B-68BF19CD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66673C-0646-4205-BBA9-09967F8D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553DAE-E4FA-4DCC-9E2C-CF40FB87E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C32D5B-3564-42F4-BD66-041533994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AD0EAD5-F60C-4CA4-8C86-F8171DB58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BD90-3C7A-4F19-A892-5734DF20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F0547DB-EBDF-4F9E-8AAA-8D170B5A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4ACE074-1C18-440D-8AF2-76829F68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FAA15A0-20D7-47FB-B97A-E2EE0571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9D95604-62F6-418C-BC97-17CF4C19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7F2B965-B681-4C49-892A-7F2C622A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14AC59E-070F-409E-9B41-BE05FD49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0A4C5F9-B129-4E2E-B5CA-ED0F2A89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2D0D24D-92A1-4EDF-A221-6DFEEAAD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FC6BD23-A62B-4BA4-8334-3798C6A3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0C58A10-C3CB-4F26-A47C-06C800200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6FEB-47FE-479B-88A7-877BDE24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B58014B-4216-4A0C-9E0F-2DF33C3E5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B264CE2-9EA0-4916-91E4-8B98C402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7A26C14-BADA-4DCC-9EDA-F9D6DE26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059A18B-E695-47C3-9659-48D1FF6E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07C2A00-15CF-408F-BCD7-F08D2930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0D93A73-0F5F-410F-8A08-82216F5C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50E1271-1E6A-4AFC-A39E-EE6D742F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B4A2F9C-FF8D-446D-BB5F-72A64991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37AB010-D7D9-49D9-8AFA-BF5AF2B5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1C15789-6D85-4931-A0AC-846CF357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C8CB-4502-4400-9997-D4E1B004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57029DC-D773-4E95-9B56-C0B728F9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9FC45D9-C86B-4605-B0E0-963067B73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6C3676F-5F68-4F34-817C-26C2B7E0F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3180D4-56E8-4468-996F-CF6F94DFF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7BD736-D5CD-4584-AD63-09EECD98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CE6E77-4A0B-4514-BA8B-23A36541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FD2AEB-8E47-46FF-991F-8E6CB66B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2F6124-865B-4B73-88DD-28310103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0C9009-CAFD-4402-8B09-2609E3F6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50ED58-E4AE-4FBE-B925-C44BF718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3D94-0F16-44B5-8518-C33A72A8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815E-5172-433E-8E0B-13260EAD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FBF012-74F8-47DC-8D24-D7291DED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90853A-B7E6-47F6-A73C-A0BAD218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E4FBDE-D697-4837-B5BF-8D11D12B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609294-1C82-45B7-AEA7-C69CBCB6D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C3B0EA-0DA9-4886-A648-B184973B7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21BDBD-22E1-479E-B3CE-61DB5576F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C86FAD-1D3E-4D93-93FE-1B850DE7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D12A6F-99CC-42A0-B95D-DE995C59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F7B27B-F755-4400-BDE2-A1C0D8C1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8CB62B-5B5A-4CC6-A0FC-25A49E61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7DCD-DEA4-4B0B-88E1-7A959757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EE1D7A-49F1-40BA-A513-12B4F3FD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AACD5D-3C22-4E63-B4F8-B73FA37F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1A3B81-A822-46ED-8E05-C523BEC9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0E8C7A-9D96-41D9-9046-C289D6F2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8F9EA4-F414-45F5-80A2-8C53CFCD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F819DA-B205-42B2-A8F2-798EF7903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2AC50D-6F52-439A-B491-BCDAC159D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E68E-8FD9-4C39-8D61-FDC94216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82C9-8B4C-4927-BA89-93B2DB9D0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55E3-C10D-4C77-8688-F049DAD79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1D127-2AB5-446D-BEB7-E64B34560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2C204-15F5-45CF-BAE5-F5A668EB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19E78-CBCF-4398-BDBA-53DACA3C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A615E-30E3-4A42-992D-7115324A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A353F-EA89-45AF-92D2-23A76E53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745B-7224-453D-BCB3-460FF22C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197B6-C1A3-459C-A6E5-6545429C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5971E-5ABC-4C5E-865D-3403AA04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F33F5-7565-4556-8698-78495D5D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7D91D-4336-48D8-AE70-24A55DAE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FA099-6046-4F29-A34C-35060303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2DED1-DFB7-402E-8F13-7F691FF3D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300E5-8BA6-4B1F-A14B-F7294010E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FD8F7-CD52-4CFC-BE0B-1966A5579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F444D-4AED-4A44-BE33-064F675C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E3890-C378-4C47-BFD9-CAB1F68A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7738-58A1-41E4-BA06-F5A66DDB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C0A54-F791-4295-8297-A9BA3C27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8E571-F317-4302-9DD8-098660F9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D977A-1751-4E3A-B514-AD826334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2E77D-7E81-4464-9C18-B08F2E4C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1A922-3C07-409E-9C18-C60D659E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84729-4A0A-4DEE-8FA0-D738445B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360EE-3936-4380-9A15-20A9EE71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A7791-E880-4558-9A4F-7ED0DA6C6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13C8C-36B0-4EA6-9480-91EF37241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36162-8FD7-4492-B217-1E6DE28C2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3F0C-0935-45C9-816F-EB07A10A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0BBE7-ACE1-4282-BDC2-D3B0A30C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5457D-D3DA-4C98-B371-9A8A7943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AAECC-4C75-4246-8F48-90419F1C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5EB45-7071-41F7-959C-4980C845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E5200-FD7F-48C1-B220-11911657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07662-B2C6-4946-9DEE-68A03591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7937C-26A2-468B-B21D-7DF70EA8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0A40D-5EA5-433A-8EA7-C0144869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A717E-8A03-41FD-977C-A48CC5CA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569C6-C925-42B9-86B3-7CFE24FBC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2F1D-364A-49E7-B233-68B8311D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02912-4C81-462D-B3A9-D70345034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E06E0-5945-42DC-95CE-9F024B1C9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63110-5383-4A44-BB92-D6D5F775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87ED0-CE8B-4656-BDF0-74539550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6631A-D61F-49DA-9984-AABF0146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4EFD1-4B7A-4B40-A65D-53479420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BFAAC-FCF5-4190-AC8A-011D772A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B0B8A-2C3B-4F29-A767-7DD1DC84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017AD-0479-4F74-B26E-E31BC012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BE1B1-07EB-4C10-BE5C-D03CF6A4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01BE-584E-4BBC-8B83-B97C1973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49F7C-BE7C-4CBB-9AEC-06670392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A88F0-08C4-48B2-928E-C1D2C72E0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A7969-112C-4241-A32A-F552EF5D5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37AE77-04C5-4DAC-880E-D806D1CDF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53C06E-C91C-4EF3-9300-EDA87E3D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D79565-F955-497E-B86C-616A18D1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BDF1BB-17CA-4443-8BE8-3AE4916E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6ED058-85B7-4213-98F9-5790CE80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E21F7E-D874-44C8-86FB-5E887E9C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D2DCFD-1A5A-4815-8CAA-87982020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431A-5BF2-40C7-8EDC-6502DA0D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C75729-C40E-4A2B-AEDA-2E628776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183ACF-80B4-47FE-BA11-EE99CD2F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02314F-1913-401E-B215-BF9E5800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3FB842-94A1-4E8C-8E06-A5A5ED051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14C0A0-67B0-4513-9398-9E346956D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3B0DC-475C-41BA-A77E-C503C5675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76C1E-B10F-4C38-A5C7-315D35B7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066C5-B32E-469E-B1CC-6275A0FD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59805-6305-4C9E-82F1-B4820E58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94907-88BD-46C8-806F-B60649A0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C771-A571-4940-AA9C-ABFC1608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C34E6-A097-44E4-8B4F-28C74B33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6293D-EF61-4D90-AB4B-2956242F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1AF8B-5C6E-41ED-A61E-19B86FAB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5E843-D9BF-4F6E-882E-B55B0CB1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C99CA-9A8E-43D4-A766-A30B7596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A81B1-575C-4261-9D80-524330628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D9401-95A5-4CE4-89A7-F930DEE3E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7C0C1B-8D24-415D-B8A8-8267FFF20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CC4C5C-A7B4-42EE-A624-63F2BE4E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A5DEA4-7C88-483F-9748-E8157784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271a0d"/>
              </a:gs>
              <a:gs pos="50000">
                <a:srgbClr val="66ff33"/>
              </a:gs>
              <a:gs pos="100000">
                <a:srgbClr val="271a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271a0d"/>
                </a:gs>
                <a:gs pos="100000">
                  <a:srgbClr val="66ff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66ff33"/>
                </a:gs>
                <a:gs pos="100000">
                  <a:srgbClr val="271a0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271a0d"/>
                </a:gs>
                <a:gs pos="50000">
                  <a:srgbClr val="ca9561"/>
                </a:gs>
                <a:gs pos="100000">
                  <a:srgbClr val="271a0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DEFB-90E0-4916-A785-A358F9F3E9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1a0d"/>
            </a:gs>
            <a:gs pos="50000">
              <a:srgbClr val="66ff33"/>
            </a:gs>
            <a:gs pos="100000">
              <a:srgbClr val="271a0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271a0d"/>
              </a:gs>
              <a:gs pos="50000">
                <a:srgbClr val="66ff33"/>
              </a:gs>
              <a:gs pos="100000">
                <a:srgbClr val="271a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465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466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66ff33"/>
                </a:gs>
                <a:gs pos="100000">
                  <a:srgbClr val="271a0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67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271a0d"/>
                </a:gs>
                <a:gs pos="100000">
                  <a:srgbClr val="66ff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468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469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470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471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472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</p:grpSp>
        <p:sp>
          <p:nvSpPr>
            <p:cNvPr id="473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271a0d"/>
                </a:gs>
                <a:gs pos="50000">
                  <a:srgbClr val="ca9561"/>
                </a:gs>
                <a:gs pos="100000">
                  <a:srgbClr val="271a0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28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29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0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65EF-BED9-42E5-99DA-95F7A04D48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16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17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e6169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518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85d1e3"/>
              </a:gs>
              <a:gs pos="100000">
                <a:srgbClr val="00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519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20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599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521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22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523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524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525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526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</p:grpSp>
        <p:sp>
          <p:nvSpPr>
            <p:cNvPr id="527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e8b8b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528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29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30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31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32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33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34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87F1-81B9-476F-8A84-00F6B77B6C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577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78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79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13BB-79F6-40C5-B627-D86507646B6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Sprite 10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3240" y="2895480"/>
            <a:ext cx="9147240" cy="1130400"/>
          </a:xfrm>
          <a:prstGeom prst="rect">
            <a:avLst/>
          </a:prstGeom>
          <a:ln w="0">
            <a:noFill/>
          </a:ln>
        </p:spPr>
      </p:pic>
      <p:sp>
        <p:nvSpPr>
          <p:cNvPr id="622" name="Rectangle 8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3" name="Rectangle 9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9C0B-B382-44D6-91FA-C9F82BB7AC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666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82d8ad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67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BDF0-421F-4D5B-91A4-E677B55C3C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ftr" idx="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E34B-07BF-4E3E-97DA-9FE6557B41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752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753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754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755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</p:grpSp>
        <p:sp>
          <p:nvSpPr>
            <p:cNvPr id="756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ftr" idx="46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sldNum" idx="47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F5D4-1C13-42FD-86E4-C6359FF00A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dt" idx="48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99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0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1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2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3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4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5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6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7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8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9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0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1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2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3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4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5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6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7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8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9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0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1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2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3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4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5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6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7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828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829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830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831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832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833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4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5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6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837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38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39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40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41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842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43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44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45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46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47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49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50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51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054D-6778-4B05-A86C-56AD22FDBA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9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9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10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6CC6-927F-485D-B039-9C95D9B9953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e6169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5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85d1e3"/>
              </a:gs>
              <a:gs pos="100000">
                <a:srgbClr val="00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5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599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5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</p:grpSp>
        <p:sp>
          <p:nvSpPr>
            <p:cNvPr id="6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e8b8b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6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7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10D8-F2B7-423E-93B7-570565E5D4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13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14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15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7EBF-2F61-4B10-BBBA-8AEC3749B2D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Sprite 10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C993-DAA6-4482-8686-260188C2B1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0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90f0c0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0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B3F9-0C66-439B-8FCB-3283BF99EF3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81F5-9EF1-45A9-B9F3-9A8733417E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86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87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88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19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20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DD64-5DC6-4877-A1AC-9FD5ADB453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dt" idx="2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33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2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3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4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FE2B-5EB9-42DA-8CC5-BE5B009AC1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0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2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2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2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AD37-04CC-44D4-95A2-B158CE84182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_AlgeriusCaps"/>
              </a:rPr>
              <a:t>Тема: Монголо-татарское нашествие на Русь.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_AntiqueTrady"/>
              </a:rPr>
              <a:t>Цель: углубить свои знания по вопросу «Монголо-татары и Русь» на основе историографии и решить проблему: почему монголо -татары смогли покорить Русь, находящуюся на более высокой ступени общественного развития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500" autoRev="1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80"/>
                                      </p:to>
                                    </p:animClr>
                                    <p:animClr clrSpc="rgb">
                                      <p:cBhvr>
                                        <p:cTn id="7" dur="1500" autoRev="1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80"/>
                                      </p:to>
                                    </p:animClr>
                                    <p:set>
                                      <p:cBhvr>
                                        <p:cTn id="8" dur="1500" autoRev="1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0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4,111,94)"/>
                                      </p:to>
                                    </p:set>
                                    <p:set>
                                      <p:cBhvr>
                                        <p:cTn id="12" dur="10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3" dur="10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10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Garamond"/>
              </a:rPr>
              <a:t>Владимиро-Суздальское княжество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023" name="Picture 8" descr=""/>
          <p:cNvPicPr/>
          <p:nvPr/>
        </p:nvPicPr>
        <p:blipFill>
          <a:blip r:embed="rId1"/>
          <a:stretch/>
        </p:blipFill>
        <p:spPr>
          <a:xfrm>
            <a:off x="4067280" y="1628640"/>
            <a:ext cx="4464000" cy="399600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9" descr=""/>
          <p:cNvPicPr/>
          <p:nvPr/>
        </p:nvPicPr>
        <p:blipFill>
          <a:blip r:embed="rId2"/>
          <a:stretch/>
        </p:blipFill>
        <p:spPr>
          <a:xfrm>
            <a:off x="2050920" y="1773360"/>
            <a:ext cx="4321440" cy="41432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2" descr=""/>
          <p:cNvPicPr/>
          <p:nvPr/>
        </p:nvPicPr>
        <p:blipFill>
          <a:blip r:embed="rId3"/>
          <a:stretch/>
        </p:blipFill>
        <p:spPr>
          <a:xfrm>
            <a:off x="2050920" y="2679840"/>
            <a:ext cx="5604120" cy="4178160"/>
          </a:xfrm>
          <a:prstGeom prst="rect">
            <a:avLst/>
          </a:prstGeom>
          <a:ln w="0">
            <a:noFill/>
          </a:ln>
        </p:spPr>
      </p:pic>
      <p:sp>
        <p:nvSpPr>
          <p:cNvPr id="1026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3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2" dur="3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3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3" dur="3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3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7" name="Organization Chart 6"/>
          <p:cNvGrpSpPr/>
          <p:nvPr/>
        </p:nvGrpSpPr>
        <p:grpSpPr>
          <a:xfrm>
            <a:off x="1547640" y="404640"/>
            <a:ext cx="7595280" cy="6264000"/>
            <a:chOff x="1547640" y="404640"/>
            <a:chExt cx="7595280" cy="6264000"/>
          </a:xfrm>
        </p:grpSpPr>
        <p:cxnSp>
          <p:nvCxnSpPr>
            <p:cNvPr id="1028" name="_s3076"/>
            <p:cNvCxnSpPr>
              <a:stCxn id="1029" idx="1"/>
              <a:endCxn id="1030" idx="2"/>
            </p:cNvCxnSpPr>
            <p:nvPr/>
          </p:nvCxnSpPr>
          <p:spPr>
            <a:xfrm rot="10800000">
              <a:off x="3825360" y="1298880"/>
              <a:ext cx="759960" cy="4924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31" name="_s3077"/>
            <p:cNvCxnSpPr>
              <a:stCxn id="1032" idx="1"/>
              <a:endCxn id="1030" idx="2"/>
            </p:cNvCxnSpPr>
            <p:nvPr/>
          </p:nvCxnSpPr>
          <p:spPr>
            <a:xfrm rot="10800000">
              <a:off x="3825360" y="1298880"/>
              <a:ext cx="759960" cy="3581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33" name="_s3078"/>
            <p:cNvCxnSpPr>
              <a:stCxn id="1034" idx="1"/>
              <a:endCxn id="1030" idx="2"/>
            </p:cNvCxnSpPr>
            <p:nvPr/>
          </p:nvCxnSpPr>
          <p:spPr>
            <a:xfrm rot="10800000">
              <a:off x="3825360" y="1298880"/>
              <a:ext cx="759960" cy="2238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35" name="_s3079"/>
            <p:cNvCxnSpPr>
              <a:stCxn id="1036" idx="1"/>
              <a:endCxn id="1030" idx="2"/>
            </p:cNvCxnSpPr>
            <p:nvPr/>
          </p:nvCxnSpPr>
          <p:spPr>
            <a:xfrm rot="10800000">
              <a:off x="3825360" y="1298880"/>
              <a:ext cx="759960" cy="895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30" name="_s3080"/>
            <p:cNvSpPr/>
            <p:nvPr/>
          </p:nvSpPr>
          <p:spPr>
            <a:xfrm>
              <a:off x="1547640" y="404640"/>
              <a:ext cx="4557240" cy="89496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900" spc="-1" strike="noStrike">
                  <a:solidFill>
                    <a:srgbClr val="ffcc66"/>
                  </a:solidFill>
                  <a:latin typeface="Tahoma"/>
                </a:rPr>
                <a:t>II</a:t>
              </a:r>
              <a:r>
                <a:rPr b="0" lang="ru-RU" sz="4900" spc="-1" strike="noStrike">
                  <a:solidFill>
                    <a:srgbClr val="ffcc66"/>
                  </a:solidFill>
                  <a:latin typeface="Tahoma"/>
                </a:rPr>
                <a:t> поход Батыя</a:t>
              </a:r>
              <a:endParaRPr b="0" lang="en-US" sz="49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36" name="_s3081"/>
            <p:cNvSpPr/>
            <p:nvPr/>
          </p:nvSpPr>
          <p:spPr>
            <a:xfrm>
              <a:off x="4585680" y="1747440"/>
              <a:ext cx="4557240" cy="89496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aeaea"/>
                  </a:solidFill>
                  <a:latin typeface="Tahoma"/>
                </a:rPr>
                <a:t>март 1239 г. - Переяславль</a:t>
              </a:r>
              <a:endParaRPr b="0" lang="en-US" sz="23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34" name="_s3082"/>
            <p:cNvSpPr/>
            <p:nvPr/>
          </p:nvSpPr>
          <p:spPr>
            <a:xfrm>
              <a:off x="4585680" y="3090240"/>
              <a:ext cx="4557240" cy="89496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aeaea"/>
                  </a:solidFill>
                  <a:latin typeface="Tahoma"/>
                </a:rPr>
                <a:t>18 октября 1239 г. - Чернигов</a:t>
              </a:r>
              <a:endParaRPr b="0" lang="en-US" sz="23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32" name="_s3083"/>
            <p:cNvSpPr/>
            <p:nvPr/>
          </p:nvSpPr>
          <p:spPr>
            <a:xfrm>
              <a:off x="4585680" y="4433040"/>
              <a:ext cx="4557240" cy="89496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aeaea"/>
                  </a:solidFill>
                  <a:latin typeface="Tahoma"/>
                </a:rPr>
                <a:t>6 декабря 1240 г. - Киев</a:t>
              </a:r>
              <a:endParaRPr b="0" lang="en-US" sz="23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29" name="_s3084"/>
            <p:cNvSpPr/>
            <p:nvPr/>
          </p:nvSpPr>
          <p:spPr>
            <a:xfrm>
              <a:off x="4585680" y="5776200"/>
              <a:ext cx="4557240" cy="89244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aeaea"/>
                  </a:solidFill>
                  <a:latin typeface="Tahoma"/>
                </a:rPr>
                <a:t>январь 1242 г. вышли на </a:t>
              </a:r>
              <a:endParaRPr b="0" lang="en-US" sz="2300" spc="-1" strike="noStrike">
                <a:solidFill>
                  <a:srgbClr val="eaeaea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aeaea"/>
                  </a:solidFill>
                  <a:latin typeface="Tahoma"/>
                </a:rPr>
                <a:t>побережье Адриатического моря</a:t>
              </a:r>
              <a:endParaRPr b="0" lang="en-US" sz="23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037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ичины поражения русских войс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невозможность сопротивления монголо-татарам в связи с их воинской организацией (комплекс воинских приёмов, использовавшихся при штурме городов, численное превосходство, мобильность)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разобщённость русских войск и сил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умелое тактическое руководство и стратегический талант Батыя и его военачальников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040" name="9.ОГИНСКИЙ - ПОЛОНЕЗ  ПРОЩАНИЕ.mp3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41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1" dur="1" fill="hold"/>
                                        <p:tgtEl>
                                          <p:spTgt spid="10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4" dur="3000"/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7" dur="3000"/>
                                        <p:tgtEl>
                                          <p:spTgt spid="10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0" dur="3000"/>
                                        <p:tgtEl>
                                          <p:spTgt spid="10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Picture 6" descr="пожар"/>
          <p:cNvPicPr/>
          <p:nvPr/>
        </p:nvPicPr>
        <p:blipFill>
          <a:blip r:embed="rId1"/>
          <a:stretch/>
        </p:blipFill>
        <p:spPr>
          <a:xfrm>
            <a:off x="755640" y="1773360"/>
            <a:ext cx="3228840" cy="35924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7" descr="f-85"/>
          <p:cNvPicPr/>
          <p:nvPr/>
        </p:nvPicPr>
        <p:blipFill>
          <a:blip r:embed="rId2"/>
          <a:stretch/>
        </p:blipFill>
        <p:spPr>
          <a:xfrm>
            <a:off x="4716360" y="549360"/>
            <a:ext cx="3476880" cy="27669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8" descr="0,1587,1441475_1,00"/>
          <p:cNvPicPr/>
          <p:nvPr/>
        </p:nvPicPr>
        <p:blipFill>
          <a:blip r:embed="rId3"/>
          <a:stretch/>
        </p:blipFill>
        <p:spPr>
          <a:xfrm>
            <a:off x="4716360" y="3789360"/>
            <a:ext cx="3516480" cy="2548080"/>
          </a:xfrm>
          <a:prstGeom prst="rect">
            <a:avLst/>
          </a:prstGeom>
          <a:ln w="0">
            <a:noFill/>
          </a:ln>
        </p:spPr>
      </p:pic>
      <p:sp>
        <p:nvSpPr>
          <p:cNvPr id="10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78920" y="476280"/>
            <a:ext cx="9325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바탕"/>
              </a:rPr>
              <a:t>Монголо-татарское нашествие завершилось установлением владычества, сущность которого можно определить следующими понятиями и суждениями: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 …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cademyCTT"/>
              </a:rPr>
              <a:t>Домашнее зада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cademyCTT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cademyCTT"/>
              </a:rPr>
              <a:t>Завершить подготовку к уроку-семинару, ответив на вопрос: «Как рассматривается содержание монголо-татарского ига в русской и советской историографии (на примере точек зрения С.М. Соловьева, В.В. Каргалова, Л.Н.Гумилёва)?»; сообщение об Александре Невском, учебник с. 123-129; ответить на вопрос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65.6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2,-84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6516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Times New Roman"/>
              </a:rPr>
              <a:t>Социальная структур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63" name="Diagram 18"/>
          <p:cNvGrpSpPr/>
          <p:nvPr/>
        </p:nvGrpSpPr>
        <p:grpSpPr>
          <a:xfrm>
            <a:off x="0" y="1557360"/>
            <a:ext cx="8685000" cy="5120640"/>
            <a:chOff x="0" y="1557360"/>
            <a:chExt cx="8685000" cy="5120640"/>
          </a:xfrm>
        </p:grpSpPr>
        <p:sp>
          <p:nvSpPr>
            <p:cNvPr id="964" name="_s1028"/>
            <p:cNvSpPr/>
            <p:nvPr/>
          </p:nvSpPr>
          <p:spPr>
            <a:xfrm flipV="1">
              <a:off x="4082040" y="2054880"/>
              <a:ext cx="1842840" cy="1155600"/>
            </a:xfrm>
            <a:custGeom>
              <a:avLst/>
              <a:gdLst>
                <a:gd name="textAreaLeft" fmla="*/ 661320 w 1842840"/>
                <a:gd name="textAreaRight" fmla="*/ 1181520 w 1842840"/>
                <a:gd name="textAreaTop" fmla="*/ 414720 h 1155600"/>
                <a:gd name="textAreaBottom" fmla="*/ 74088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ff00"/>
            </a:solidFill>
            <a:ln w="39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71a0d"/>
                  </a:solidFill>
                  <a:latin typeface="Tahoma"/>
                </a:rPr>
                <a:t>хан</a:t>
              </a:r>
              <a:endParaRPr b="0" lang="en-US" sz="36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65" name="_s1029"/>
            <p:cNvSpPr/>
            <p:nvPr/>
          </p:nvSpPr>
          <p:spPr>
            <a:xfrm flipV="1">
              <a:off x="3161520" y="3210480"/>
              <a:ext cx="3683520" cy="1155600"/>
            </a:xfrm>
            <a:custGeom>
              <a:avLst/>
              <a:gdLst>
                <a:gd name="textAreaLeft" fmla="*/ 810000 w 3683520"/>
                <a:gd name="textAreaRight" fmla="*/ 2873520 w 3683520"/>
                <a:gd name="textAreaTop" fmla="*/ 254160 h 1155600"/>
                <a:gd name="textAreaBottom" fmla="*/ 90144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eaeae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71a0d"/>
                  </a:solidFill>
                  <a:latin typeface="Tahoma"/>
                </a:rPr>
                <a:t>нойоны </a:t>
              </a:r>
              <a:endParaRPr b="0" lang="en-US" sz="3600" spc="-1" strike="noStrike">
                <a:solidFill>
                  <a:srgbClr val="eaeae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71a0d"/>
                  </a:solidFill>
                  <a:latin typeface="Tahoma"/>
                </a:rPr>
                <a:t>богатуры</a:t>
              </a:r>
              <a:r>
                <a:rPr b="1" lang="en-US" sz="2700" spc="-1" strike="noStrike">
                  <a:solidFill>
                    <a:srgbClr val="eaeaea"/>
                  </a:solidFill>
                  <a:latin typeface="Tahoma"/>
                </a:rPr>
                <a:t> </a:t>
              </a:r>
              <a:endParaRPr b="0" lang="en-US" sz="2700" spc="-1" strike="noStrike">
                <a:solidFill>
                  <a:srgbClr val="eaeae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66" name="_s1030"/>
            <p:cNvSpPr/>
            <p:nvPr/>
          </p:nvSpPr>
          <p:spPr>
            <a:xfrm flipV="1">
              <a:off x="2242080" y="4366080"/>
              <a:ext cx="5523120" cy="1155600"/>
            </a:xfrm>
            <a:custGeom>
              <a:avLst/>
              <a:gdLst>
                <a:gd name="textAreaLeft" fmla="*/ 958680 w 5523120"/>
                <a:gd name="textAreaRight" fmla="*/ 4564440 w 5523120"/>
                <a:gd name="textAreaTop" fmla="*/ 200520 h 1155600"/>
                <a:gd name="textAreaBottom" fmla="*/ 95508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71a0d"/>
                  </a:solidFill>
                  <a:latin typeface="Tahoma"/>
                </a:rPr>
                <a:t>нукеры</a:t>
              </a:r>
              <a:endParaRPr b="0" lang="en-US" sz="36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67" name="_s1031"/>
            <p:cNvSpPr/>
            <p:nvPr/>
          </p:nvSpPr>
          <p:spPr>
            <a:xfrm flipV="1">
              <a:off x="1321920" y="5522040"/>
              <a:ext cx="7363080" cy="1155600"/>
            </a:xfrm>
            <a:custGeom>
              <a:avLst/>
              <a:gdLst>
                <a:gd name="textAreaLeft" fmla="*/ 1107720 w 7363080"/>
                <a:gd name="textAreaRight" fmla="*/ 6255360 w 7363080"/>
                <a:gd name="textAreaTop" fmla="*/ 173880 h 1155600"/>
                <a:gd name="textAreaBottom" fmla="*/ 98172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71a0d"/>
                  </a:solidFill>
                  <a:latin typeface="Tahoma"/>
                </a:rPr>
                <a:t>араты</a:t>
              </a:r>
              <a:endParaRPr b="0" lang="en-US" sz="36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pic>
          <p:nvPicPr>
            <p:cNvPr id="968" name="Picture 26" descr=""/>
            <p:cNvPicPr/>
            <p:nvPr/>
          </p:nvPicPr>
          <p:blipFill>
            <a:blip r:embed="rId1"/>
            <a:stretch/>
          </p:blipFill>
          <p:spPr>
            <a:xfrm>
              <a:off x="0" y="1557360"/>
              <a:ext cx="2954880" cy="316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69" name="Picture 25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549360"/>
            <a:ext cx="3276720" cy="2492280"/>
          </a:xfrm>
          <a:prstGeom prst="rect">
            <a:avLst/>
          </a:prstGeom>
          <a:ln w="0">
            <a:noFill/>
          </a:ln>
        </p:spPr>
      </p:pic>
      <p:sp>
        <p:nvSpPr>
          <p:cNvPr id="97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Чингисхан (1155 г.? –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                       август 1227 г.)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78920" y="3357360"/>
            <a:ext cx="352908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Какое благо выше всех на земле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 на него ответил: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«Счастливее всех на земле тот, кто гонит разбитых им неприятелей, грабит их добро, скачет на их конях, любуется слезами людей, им близких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3" name="Picture 8" descr=""/>
          <p:cNvPicPr/>
          <p:nvPr/>
        </p:nvPicPr>
        <p:blipFill>
          <a:blip r:embed="rId1"/>
          <a:stretch/>
        </p:blipFill>
        <p:spPr>
          <a:xfrm>
            <a:off x="0" y="765000"/>
            <a:ext cx="1681200" cy="21654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9" descr=""/>
          <p:cNvPicPr/>
          <p:nvPr/>
        </p:nvPicPr>
        <p:blipFill>
          <a:blip r:embed="rId2"/>
          <a:stretch/>
        </p:blipFill>
        <p:spPr>
          <a:xfrm>
            <a:off x="2124000" y="1125360"/>
            <a:ext cx="1503360" cy="2165400"/>
          </a:xfrm>
          <a:prstGeom prst="rect">
            <a:avLst/>
          </a:prstGeom>
          <a:ln w="0">
            <a:noFill/>
          </a:ln>
        </p:spPr>
      </p:pic>
      <p:grpSp>
        <p:nvGrpSpPr>
          <p:cNvPr id="975" name="Organization Chart 10"/>
          <p:cNvGrpSpPr/>
          <p:nvPr/>
        </p:nvGrpSpPr>
        <p:grpSpPr>
          <a:xfrm>
            <a:off x="3633840" y="765000"/>
            <a:ext cx="5509440" cy="5327640"/>
            <a:chOff x="3633840" y="765000"/>
            <a:chExt cx="5509440" cy="5327640"/>
          </a:xfrm>
        </p:grpSpPr>
        <p:cxnSp>
          <p:nvCxnSpPr>
            <p:cNvPr id="976" name="_s2052"/>
            <p:cNvCxnSpPr>
              <a:stCxn id="977" idx="3"/>
              <a:endCxn id="978" idx="3"/>
            </p:cNvCxnSpPr>
            <p:nvPr/>
          </p:nvCxnSpPr>
          <p:spPr>
            <a:xfrm flipV="1">
              <a:off x="7027200" y="1526040"/>
              <a:ext cx="529200" cy="4186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79" name="_s2053"/>
            <p:cNvCxnSpPr>
              <a:stCxn id="980" idx="3"/>
              <a:endCxn id="978" idx="2"/>
            </p:cNvCxnSpPr>
            <p:nvPr/>
          </p:nvCxnSpPr>
          <p:spPr>
            <a:xfrm flipV="1">
              <a:off x="7027200" y="1526040"/>
              <a:ext cx="529200" cy="3044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81" name="_s2054"/>
            <p:cNvCxnSpPr>
              <a:stCxn id="982" idx="3"/>
              <a:endCxn id="978" idx="1"/>
            </p:cNvCxnSpPr>
            <p:nvPr/>
          </p:nvCxnSpPr>
          <p:spPr>
            <a:xfrm flipV="1">
              <a:off x="7027200" y="1526400"/>
              <a:ext cx="529200" cy="1905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83" name="_s2055"/>
            <p:cNvCxnSpPr>
              <a:stCxn id="984" idx="3"/>
              <a:endCxn id="978" idx="0"/>
            </p:cNvCxnSpPr>
            <p:nvPr/>
          </p:nvCxnSpPr>
          <p:spPr>
            <a:xfrm flipV="1">
              <a:off x="7027200" y="1526400"/>
              <a:ext cx="529200" cy="763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78" name="_s2056"/>
            <p:cNvSpPr/>
            <p:nvPr/>
          </p:nvSpPr>
          <p:spPr>
            <a:xfrm>
              <a:off x="5969520" y="765000"/>
              <a:ext cx="3173760" cy="761760"/>
            </a:xfrm>
            <a:custGeom>
              <a:avLst/>
              <a:gdLst>
                <a:gd name="textAreaLeft" fmla="*/ 0 w 3173760"/>
                <a:gd name="textAreaRight" fmla="*/ 3174120 w 317376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89961" h="21600">
                  <a:moveTo>
                    <a:pt x="0" y="0"/>
                  </a:moveTo>
                  <a:lnTo>
                    <a:pt x="89961" y="0"/>
                  </a:lnTo>
                  <a:lnTo>
                    <a:pt x="89961" y="21600"/>
                  </a:lnTo>
                  <a:lnTo>
                    <a:pt x="0" y="21600"/>
                  </a:lnTo>
                  <a:close/>
                </a:path>
                <a:path fill="lightenLess" w="89961" h="21600">
                  <a:moveTo>
                    <a:pt x="0" y="0"/>
                  </a:moveTo>
                  <a:lnTo>
                    <a:pt x="89961" y="0"/>
                  </a:lnTo>
                  <a:lnTo>
                    <a:pt x="89961" y="0"/>
                  </a:lnTo>
                  <a:lnTo>
                    <a:pt x="0" y="0"/>
                  </a:lnTo>
                  <a:close/>
                </a:path>
                <a:path fill="darken" w="89961" h="21600">
                  <a:moveTo>
                    <a:pt x="89961" y="0"/>
                  </a:moveTo>
                  <a:lnTo>
                    <a:pt x="89961" y="21600"/>
                  </a:lnTo>
                  <a:lnTo>
                    <a:pt x="89961" y="21600"/>
                  </a:lnTo>
                  <a:lnTo>
                    <a:pt x="89961" y="0"/>
                  </a:lnTo>
                  <a:close/>
                </a:path>
                <a:path fill="darkenLess" w="89961" h="21600">
                  <a:moveTo>
                    <a:pt x="89961" y="21600"/>
                  </a:moveTo>
                  <a:lnTo>
                    <a:pt x="0" y="21600"/>
                  </a:lnTo>
                  <a:lnTo>
                    <a:pt x="0" y="21600"/>
                  </a:lnTo>
                  <a:lnTo>
                    <a:pt x="89961" y="21600"/>
                  </a:lnTo>
                  <a:close/>
                </a:path>
                <a:path fill="lighten" w="89961" h="21600">
                  <a:moveTo>
                    <a:pt x="0" y="2160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nnaLightCTT"/>
                </a:rPr>
                <a:t>Войско монголов.</a:t>
              </a:r>
              <a:endParaRPr b="0" lang="en-US" sz="2800" spc="-1" strike="noStrike">
                <a:solidFill>
                  <a:srgbClr val="eaeaea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84" name="_s2057"/>
            <p:cNvSpPr/>
            <p:nvPr/>
          </p:nvSpPr>
          <p:spPr>
            <a:xfrm>
              <a:off x="3633840" y="1906560"/>
              <a:ext cx="3393720" cy="762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nnaLightCTT"/>
                </a:rPr>
                <a:t>тумены</a:t>
              </a:r>
              <a:endParaRPr b="0" lang="en-US" sz="54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82" name="_s2058"/>
            <p:cNvSpPr/>
            <p:nvPr/>
          </p:nvSpPr>
          <p:spPr>
            <a:xfrm>
              <a:off x="3633840" y="3049200"/>
              <a:ext cx="3393720" cy="7617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nnaLightCTT"/>
                </a:rPr>
                <a:t>тысячи</a:t>
              </a:r>
              <a:endParaRPr b="0" lang="en-US" sz="4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80" name="_s2059"/>
            <p:cNvSpPr/>
            <p:nvPr/>
          </p:nvSpPr>
          <p:spPr>
            <a:xfrm>
              <a:off x="3633840" y="4191120"/>
              <a:ext cx="3393720" cy="7617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nnaLightCTT"/>
                </a:rPr>
                <a:t>сотни</a:t>
              </a:r>
              <a:endParaRPr b="0" lang="en-US" sz="44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77" name="_s2060"/>
            <p:cNvSpPr/>
            <p:nvPr/>
          </p:nvSpPr>
          <p:spPr>
            <a:xfrm>
              <a:off x="3651840" y="5333040"/>
              <a:ext cx="3375360" cy="75960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nnaLightCTT"/>
                </a:rPr>
                <a:t>десятки</a:t>
              </a:r>
              <a:endParaRPr b="0" lang="en-US" sz="4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9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Picture 13" descr=""/>
          <p:cNvPicPr/>
          <p:nvPr/>
        </p:nvPicPr>
        <p:blipFill>
          <a:blip r:embed="rId1"/>
          <a:stretch/>
        </p:blipFill>
        <p:spPr>
          <a:xfrm>
            <a:off x="0" y="2349360"/>
            <a:ext cx="4003560" cy="3141720"/>
          </a:xfrm>
          <a:prstGeom prst="rect">
            <a:avLst/>
          </a:prstGeom>
          <a:ln w="0">
            <a:noFill/>
          </a:ln>
        </p:spPr>
      </p:pic>
      <p:sp>
        <p:nvSpPr>
          <p:cNvPr id="987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49323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ru-RU" sz="4200" spc="-1" strike="noStrike">
                <a:solidFill>
                  <a:srgbClr val="ffffff"/>
                </a:solidFill>
                <a:latin typeface="AnnaLightCTT"/>
              </a:rPr>
              <a:t>конница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nnaLightCTT"/>
              </a:rPr>
              <a:t>тяжелая</a:t>
            </a:r>
            <a:r>
              <a:rPr b="0" lang="ru-RU" sz="4200" spc="-1" strike="noStrike">
                <a:solidFill>
                  <a:srgbClr val="ffffff"/>
                </a:solidFill>
                <a:latin typeface="AnnaLightCTT"/>
              </a:rPr>
              <a:t>	</a:t>
            </a:r>
            <a:r>
              <a:rPr b="0" lang="ru-RU" sz="4200" spc="-1" strike="noStrike">
                <a:solidFill>
                  <a:srgbClr val="ffffff"/>
                </a:solidFill>
                <a:latin typeface="AnnaLightCTT"/>
              </a:rPr>
              <a:t>лёгкая</a:t>
            </a:r>
            <a:r>
              <a:rPr b="0" lang="ru-RU" sz="4200" spc="-1" strike="noStrike">
                <a:solidFill>
                  <a:srgbClr val="ffffff"/>
                </a:solidFill>
                <a:latin typeface="AnnaLightCTT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Line 29"/>
          <p:cNvSpPr/>
          <p:nvPr/>
        </p:nvSpPr>
        <p:spPr>
          <a:xfrm flipH="1">
            <a:off x="1476360" y="620640"/>
            <a:ext cx="936720" cy="64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9" name="Line 30"/>
          <p:cNvSpPr/>
          <p:nvPr/>
        </p:nvSpPr>
        <p:spPr>
          <a:xfrm>
            <a:off x="3059280" y="620640"/>
            <a:ext cx="93636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title"/>
          </p:nvPr>
        </p:nvSpPr>
        <p:spPr>
          <a:xfrm>
            <a:off x="4680000" y="-360"/>
            <a:ext cx="446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Построение войска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91" name="Line 32"/>
          <p:cNvSpPr/>
          <p:nvPr/>
        </p:nvSpPr>
        <p:spPr>
          <a:xfrm flipH="1">
            <a:off x="5003640" y="1125360"/>
            <a:ext cx="935280" cy="863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2" name="Line 33"/>
          <p:cNvSpPr/>
          <p:nvPr/>
        </p:nvSpPr>
        <p:spPr>
          <a:xfrm>
            <a:off x="6877080" y="1125360"/>
            <a:ext cx="0" cy="1152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3" name="Line 34"/>
          <p:cNvSpPr/>
          <p:nvPr/>
        </p:nvSpPr>
        <p:spPr>
          <a:xfrm>
            <a:off x="7956720" y="1052640"/>
            <a:ext cx="360360" cy="1081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4" name="Rectangle 35"/>
          <p:cNvSpPr/>
          <p:nvPr/>
        </p:nvSpPr>
        <p:spPr>
          <a:xfrm>
            <a:off x="4704480" y="22050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ланг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5" name="Rectangle 36"/>
          <p:cNvSpPr/>
          <p:nvPr/>
        </p:nvSpPr>
        <p:spPr>
          <a:xfrm>
            <a:off x="7944480" y="21337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ланг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6" name="Rectangle 37"/>
          <p:cNvSpPr/>
          <p:nvPr/>
        </p:nvSpPr>
        <p:spPr>
          <a:xfrm>
            <a:off x="6491880" y="2421000"/>
            <a:ext cx="8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cc"/>
                </a:solidFill>
                <a:latin typeface="Tahoma"/>
              </a:rPr>
              <a:t>Центр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997" name="Picture 38" descr=""/>
          <p:cNvPicPr/>
          <p:nvPr/>
        </p:nvPicPr>
        <p:blipFill>
          <a:blip r:embed="rId2"/>
          <a:stretch/>
        </p:blipFill>
        <p:spPr>
          <a:xfrm>
            <a:off x="5580000" y="2852640"/>
            <a:ext cx="2644920" cy="3732480"/>
          </a:xfrm>
          <a:prstGeom prst="rect">
            <a:avLst/>
          </a:prstGeom>
          <a:ln w="0">
            <a:noFill/>
          </a:ln>
        </p:spPr>
      </p:pic>
      <p:sp>
        <p:nvSpPr>
          <p:cNvPr id="9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ccff"/>
                </a:solidFill>
                <a:latin typeface="Arial Black"/>
              </a:rPr>
              <a:t>Завоевания монголов</a:t>
            </a: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graphicFrame>
        <p:nvGraphicFramePr>
          <p:cNvPr id="1000" name=""/>
          <p:cNvGraphicFramePr/>
          <p:nvPr/>
        </p:nvGraphicFramePr>
        <p:xfrm>
          <a:off x="34920" y="1557360"/>
          <a:ext cx="9109080" cy="5659560"/>
        </p:xfrm>
        <a:graphic>
          <a:graphicData uri="http://schemas.openxmlformats.org/drawingml/2006/table">
            <a:tbl>
              <a:tblPr/>
              <a:tblGrid>
                <a:gridCol w="2884320"/>
                <a:gridCol w="2881440"/>
                <a:gridCol w="334332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Дат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Направлени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Последстви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1206-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1211 гг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Восточная Азия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Покорение киргизов, бурят, якутов, уйгуров. Разгром Тангутского царства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1211-1215 гг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Китай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Захват Северного Китая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1218 г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Корея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Завоевание государства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1219-1221 гг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Средняя Азия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Завоевание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01" name="7.ХАЧАТУРЯН - ТАНЕЦ С САБЛЯМИ.mp3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00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1" fill="hold"/>
                                        <p:tgtEl>
                                          <p:spTgt spid="10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ahoma"/>
              </a:rPr>
              <a:t>Битва на Калке - 31 мая 1223 г.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-360" y="1197000"/>
            <a:ext cx="403380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Джебе-нойо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Субэдэй-богату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684000" y="4076280"/>
            <a:ext cx="403380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хан Котян: «Нашу земл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сегодня отняли, а ваш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завтра, пришедш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возьмут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2627280" y="907920"/>
            <a:ext cx="4673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Мстислав Удал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Мстислав Романо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Мстислав Святославо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Даниил Романо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7" name="11.БРАМС - ВЕНГЕРСКИЙ ТАНЕЦ №1.mp3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51" descr=""/>
          <p:cNvPicPr/>
          <p:nvPr/>
        </p:nvPicPr>
        <p:blipFill>
          <a:blip r:embed="rId2"/>
          <a:stretch/>
        </p:blipFill>
        <p:spPr>
          <a:xfrm>
            <a:off x="5867280" y="2362320"/>
            <a:ext cx="3132360" cy="4495680"/>
          </a:xfrm>
          <a:prstGeom prst="rect">
            <a:avLst/>
          </a:prstGeom>
          <a:ln w="0">
            <a:noFill/>
          </a:ln>
        </p:spPr>
      </p:pic>
      <p:sp>
        <p:nvSpPr>
          <p:cNvPr id="10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1" fill="hold"/>
                                        <p:tgtEl>
                                          <p:spTgt spid="10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" dur="2000"/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2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1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7" dur="2000"/>
                                        <p:tgtEl>
                                          <p:spTgt spid="10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10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Garamond"/>
              </a:rPr>
              <a:t>Нашествие Батыя на Русь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011" name="Picture 4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5059440" cy="5073480"/>
          </a:xfrm>
          <a:prstGeom prst="rect">
            <a:avLst/>
          </a:prstGeom>
          <a:ln w="0">
            <a:noFill/>
          </a:ln>
        </p:spPr>
      </p:pic>
      <p:pic>
        <p:nvPicPr>
          <p:cNvPr id="1012" name="17.ВАГНЕР - ПОЛЕТ ВАЛЬКИРИИ.mp3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3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450"/>
                            </p:stCondLst>
                            <p:childTnLst>
                              <p:par>
                                <p:cTn id="1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1" fill="hold"/>
                                        <p:tgtEl>
                                          <p:spTgt spid="10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9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Нашествие Батыя на Русь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015" name="Picture 4" descr="карта правильная"/>
          <p:cNvPicPr/>
          <p:nvPr/>
        </p:nvPicPr>
        <p:blipFill>
          <a:blip r:embed="rId1"/>
          <a:stretch/>
        </p:blipFill>
        <p:spPr>
          <a:xfrm>
            <a:off x="1568520" y="1568520"/>
            <a:ext cx="7575480" cy="5289480"/>
          </a:xfrm>
          <a:prstGeom prst="rect">
            <a:avLst/>
          </a:prstGeom>
          <a:ln w="0">
            <a:noFill/>
          </a:ln>
        </p:spPr>
      </p:pic>
      <p:sp>
        <p:nvSpPr>
          <p:cNvPr id="1016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6633"/>
                                      </p:to>
                                    </p:animClr>
                                    <p:animClr clrSpc="rgb">
                                      <p:cBhvr>
                                        <p:cTn id="2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6633"/>
                                      </p:to>
                                    </p:animClr>
                                    <p:set>
                                      <p:cBhvr>
                                        <p:cTn id="2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1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2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4196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Garamond"/>
              </a:rPr>
              <a:t>Разорение земли Рязанской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018" name="Picture 9" descr=""/>
          <p:cNvPicPr/>
          <p:nvPr/>
        </p:nvPicPr>
        <p:blipFill>
          <a:blip r:embed="rId1"/>
          <a:stretch/>
        </p:blipFill>
        <p:spPr>
          <a:xfrm>
            <a:off x="0" y="1125360"/>
            <a:ext cx="5435640" cy="57326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0" descr=""/>
          <p:cNvPicPr/>
          <p:nvPr/>
        </p:nvPicPr>
        <p:blipFill>
          <a:blip r:embed="rId2"/>
          <a:stretch/>
        </p:blipFill>
        <p:spPr>
          <a:xfrm>
            <a:off x="4017960" y="1125360"/>
            <a:ext cx="5126040" cy="5732640"/>
          </a:xfrm>
          <a:prstGeom prst="rect">
            <a:avLst/>
          </a:prstGeom>
          <a:ln w="0">
            <a:noFill/>
          </a:ln>
        </p:spPr>
      </p:pic>
      <p:sp>
        <p:nvSpPr>
          <p:cNvPr id="1020" name="Rectangle 11"/>
          <p:cNvSpPr/>
          <p:nvPr/>
        </p:nvSpPr>
        <p:spPr>
          <a:xfrm>
            <a:off x="4370400" y="0"/>
            <a:ext cx="47736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Garamond"/>
              </a:rPr>
              <a:t>Новгородская земля</a:t>
            </a:r>
            <a:endParaRPr b="0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1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4:29:41Z</dcterms:created>
  <dc:creator>Наталья Андреевна</dc:creator>
  <dc:description/>
  <dc:language>en-US</dc:language>
  <cp:lastModifiedBy>LEGION</cp:lastModifiedBy>
  <dcterms:modified xsi:type="dcterms:W3CDTF">2015-01-15T12:22:56Z</dcterms:modified>
  <cp:revision>17</cp:revision>
  <dc:subject/>
  <dc:title>Слайд 1</dc:title>
</cp:coreProperties>
</file>