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6.wmf" ContentType="image/x-wmf"/>
  <Override PartName="/ppt/media/image9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5AFE-8DFC-42E9-B13B-CC2154D28CD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капитал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в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499C-23E5-49FF-B291-964D7A22257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4D76-F211-41D3-B169-A950B6881A0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9B3C-4A49-4BB3-A52A-8C20EA51446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2302-77FB-4FAB-84EE-FFBA17363BF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E657-5B72-4D46-BFDD-42B76F3D0C4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.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A289-0F2A-4794-BA5C-926EF05CFE0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BF73-E3EC-4AB1-88B3-6A8DE0DAADA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2DA3-6D49-4294-8C35-F08666DECD3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16FF-19B4-4731-90D4-15C06E67D29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BDF9-EC96-4BAE-A074-EEC792532B4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E0A1-03F1-4C19-B55F-6019B5AB482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5537-612A-47B1-9209-F8B820AD214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8864-F267-4736-B7C1-484C5103135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3D3E-5B72-42DB-BFA2-60062AD96DC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40B3-4792-425C-A18F-4088D5533CB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49F-E51A-4A1D-9678-07D1AC11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891-5237-42D9-ABFA-4C37627E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C39-77E7-467C-8516-9CA49B6F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42C-C41C-4463-8841-BAC12E34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708-46C0-4DDB-A7A9-A3A44E02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ADE-3209-4EA4-9403-71D2086A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893-A62B-43B6-9DA6-425246A8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A95-D76B-40FA-BB2D-2D7734D5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247-4420-42F1-AE7E-C1932042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2D9-F421-4511-80C3-9E2BEF52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00A-9F72-4CDF-8E56-AC20C224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45B-8877-42C1-B12E-6807B704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0D4D-A60D-4F7F-9D1F-5A054BFC32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321048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оле 4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клас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Объект WordArt 6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Объект WordArt 7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IX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Объект WordArt 8"/>
          <p:cNvSpPr txBox="1"/>
          <p:nvPr/>
        </p:nvSpPr>
        <p:spPr>
          <a:xfrm>
            <a:off x="2895480" y="1676520"/>
            <a:ext cx="592164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азвити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капитализма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 Росси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257440" y="609120"/>
            <a:ext cx="380988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оле 5"/>
          <p:cNvSpPr/>
          <p:nvPr/>
        </p:nvSpPr>
        <p:spPr>
          <a:xfrm>
            <a:off x="1631880" y="5486400"/>
            <a:ext cx="31341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гоностроите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7" descr="Рисунок5"/>
          <p:cNvPicPr/>
          <p:nvPr/>
        </p:nvPicPr>
        <p:blipFill>
          <a:blip r:embed="rId2"/>
          <a:stretch/>
        </p:blipFill>
        <p:spPr>
          <a:xfrm>
            <a:off x="1547640" y="907920"/>
            <a:ext cx="3314880" cy="4405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5280" y="3657240"/>
            <a:ext cx="7772400" cy="304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оле 5"/>
          <p:cNvSpPr/>
          <p:nvPr/>
        </p:nvSpPr>
        <p:spPr>
          <a:xfrm>
            <a:off x="1401480" y="1555920"/>
            <a:ext cx="22654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6" descr="Рисунок4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997440" y="828720"/>
            <a:ext cx="4895640" cy="2746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3809880"/>
            <a:ext cx="769608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оле 5"/>
          <p:cNvSpPr/>
          <p:nvPr/>
        </p:nvSpPr>
        <p:spPr>
          <a:xfrm>
            <a:off x="1400760" y="1447920"/>
            <a:ext cx="2408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сибирск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7" descr="Рисунок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140360" y="846000"/>
            <a:ext cx="4679640" cy="2887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Объект 6"/>
          <p:cNvGraphicFramePr/>
          <p:nvPr/>
        </p:nvGraphicFramePr>
        <p:xfrm>
          <a:off x="2590920" y="685800"/>
          <a:ext cx="4876560" cy="32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85800"/>
                    <a:ext cx="4876560" cy="3295800"/>
                  </a:xfrm>
                  <a:prstGeom prst="rect">
                    <a:avLst/>
                  </a:prstGeom>
                  <a:ln w="7632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819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81120" y="685440"/>
            <a:ext cx="3886200" cy="6095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оле 4"/>
          <p:cNvSpPr/>
          <p:nvPr/>
        </p:nvSpPr>
        <p:spPr>
          <a:xfrm>
            <a:off x="1647720" y="5867280"/>
            <a:ext cx="30794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цехе завода Г.Пе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етербур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Рисунок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511280" y="846000"/>
            <a:ext cx="3348000" cy="4815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оле 5"/>
          <p:cNvSpPr/>
          <p:nvPr/>
        </p:nvSpPr>
        <p:spPr>
          <a:xfrm>
            <a:off x="1831320" y="1692360"/>
            <a:ext cx="14821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до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чег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7772400" cy="31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8" descr="Рисунок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067280" y="839880"/>
            <a:ext cx="4681440" cy="2660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620120" cy="518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4" descr="ag00029_"/>
          <p:cNvPicPr/>
          <p:nvPr/>
        </p:nvPicPr>
        <p:blipFill>
          <a:blip r:embed="rId2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ag00317_"/>
          <p:cNvPicPr/>
          <p:nvPr/>
        </p:nvPicPr>
        <p:blipFill>
          <a:blip r:embed="rId2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маковский отдых во время сбора урожая"/>
          <p:cNvPicPr/>
          <p:nvPr/>
        </p:nvPicPr>
        <p:blipFill>
          <a:blip r:embed="rId1"/>
          <a:stretch/>
        </p:blipFill>
        <p:spPr>
          <a:xfrm>
            <a:off x="3995640" y="260280"/>
            <a:ext cx="4845240" cy="3390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оле 5"/>
          <p:cNvSpPr/>
          <p:nvPr/>
        </p:nvSpPr>
        <p:spPr>
          <a:xfrm>
            <a:off x="1535400" y="1152360"/>
            <a:ext cx="2129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ых 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сбор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жа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Рисунок10"/>
          <p:cNvPicPr/>
          <p:nvPr/>
        </p:nvPicPr>
        <p:blipFill>
          <a:blip r:embed="rId1"/>
          <a:stretch/>
        </p:blipFill>
        <p:spPr>
          <a:xfrm>
            <a:off x="4643280" y="522360"/>
            <a:ext cx="4249800" cy="26082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772400" cy="3505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оле 5"/>
          <p:cNvSpPr/>
          <p:nvPr/>
        </p:nvSpPr>
        <p:spPr>
          <a:xfrm>
            <a:off x="1481400" y="1387440"/>
            <a:ext cx="28202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естьянский д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фото к. 19 века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Рисунок9"/>
          <p:cNvPicPr/>
          <p:nvPr/>
        </p:nvPicPr>
        <p:blipFill>
          <a:blip r:embed="rId1"/>
          <a:stretch/>
        </p:blipFill>
        <p:spPr>
          <a:xfrm>
            <a:off x="4427640" y="598320"/>
            <a:ext cx="4248000" cy="2686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оле 5"/>
          <p:cNvSpPr/>
          <p:nvPr/>
        </p:nvSpPr>
        <p:spPr>
          <a:xfrm>
            <a:off x="1798200" y="1301760"/>
            <a:ext cx="2012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атье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м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в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76560" y="761760"/>
            <a:ext cx="4190760" cy="601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оле 1029"/>
          <p:cNvSpPr/>
          <p:nvPr/>
        </p:nvSpPr>
        <p:spPr>
          <a:xfrm>
            <a:off x="2092320" y="5877000"/>
            <a:ext cx="1820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брикан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о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031" descr="Рисунок8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63560" y="907920"/>
            <a:ext cx="2692440" cy="4759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оле 7"/>
          <p:cNvSpPr/>
          <p:nvPr/>
        </p:nvSpPr>
        <p:spPr>
          <a:xfrm>
            <a:off x="1486080" y="1631880"/>
            <a:ext cx="21297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9" descr="Рисунок7"/>
          <p:cNvPicPr/>
          <p:nvPr/>
        </p:nvPicPr>
        <p:blipFill>
          <a:blip r:embed="rId2"/>
          <a:stretch/>
        </p:blipFill>
        <p:spPr>
          <a:xfrm>
            <a:off x="3995640" y="838080"/>
            <a:ext cx="4897440" cy="2889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оле 5"/>
          <p:cNvSpPr/>
          <p:nvPr/>
        </p:nvSpPr>
        <p:spPr>
          <a:xfrm>
            <a:off x="1717920" y="1844640"/>
            <a:ext cx="21726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нот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ца 19 ве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8" descr="Рисунок6"/>
          <p:cNvPicPr/>
          <p:nvPr/>
        </p:nvPicPr>
        <p:blipFill>
          <a:blip r:embed="rId2"/>
          <a:stretch/>
        </p:blipFill>
        <p:spPr>
          <a:xfrm>
            <a:off x="4498920" y="808200"/>
            <a:ext cx="4321080" cy="296208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LEGION</cp:lastModifiedBy>
  <dcterms:modified xsi:type="dcterms:W3CDTF">2015-01-15T12:24:56Z</dcterms:modified>
  <cp:revision>51</cp:revision>
  <dc:subject/>
  <dc:title>Презентация PowerPoint</dc:title>
</cp:coreProperties>
</file>