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3.png" ContentType="image/png"/>
  <Override PartName="/ppt/media/image18.jpeg" ContentType="image/jpeg"/>
  <Override PartName="/ppt/media/image12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8.png" ContentType="image/png"/>
  <Override PartName="/ppt/media/image5.gif" ContentType="image/gif"/>
  <Override PartName="/ppt/media/image14.jpeg" ContentType="image/jpeg"/>
  <Override PartName="/ppt/media/image16.wmf" ContentType="image/x-wmf"/>
  <Override PartName="/ppt/media/image9.png" ContentType="image/png"/>
  <Override PartName="/ppt/media/image6.gif" ContentType="image/gif"/>
  <Override PartName="/ppt/media/image10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370D-AFEF-4E59-A6D1-45EB0982724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Развит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капитализм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в Рос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E111-247C-4245-A08B-213BB0E6C15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Развитие банков оказа-лось тесно связано со строительством желе-зных дорог.Это объяс-нялос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1.Поражением в Крымс-кой вой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2.Желанием увеличить экспорт хлеба за счет  соединения центра с провинцией транспор-тной сеть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Бала создана программа привлечения частного и иностранного капи-т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2FD5-696F-46BB-B0B3-7A503AA6560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1868-72 гг. в стране проходило бурное железнодоро-жное строительство.Транспортная сеть выросла с 2 тыс. до 22 тыс. км дорог.Появились предприни-матели разбогатевшие на таком строительстве.Им разрешали на льготных условиях приобрести под-вижной состав,рельсы и др. материалы.Большин-ство дорог строились в интересах промышленнос-ти и торгов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453F-6442-4CE5-B81F-84C1F14EAAB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Москва была с вязана с Нижним Новгородом, Воро-нежем,Уралом.Между собой были соединены круп нейшие текстильные центры.Грузооборот желез-ных дорог вырос за 15 лет в 25 ра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1891 г. началось строительство Транссиба.Разви-тие транспорта привело к развитию сопутствую-щих отраслей промышлен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BF8D-8E6C-49AB-8646-7E72832AAE9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к. 1860-х гг. начался промышленный подъем.В сер. 80-х гг. завершился промышленный переворо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Главной базой металлургии оставался Урал,но быст-ро развивался Донбасс.Здесь же добывали уголь.В Баку сосредоточилась добыча нефти.Начало разви-ваться машиностроение-Путиловский з-д в Петер-бурге и в Коломне производство паровоз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F929-F660-4E2B-A19A-97FFE5A49C7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.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0DD6-16B8-4473-9CEB-E45F25D546D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Быстрыми темпами раз-вивалась текстильная промышленность.Владельцы мануфактур по-купали земли в Ср. Азии и начали выращи вать там хлопок.За 30 лет производство текс-тиля выросло в 30 ра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На Юге успехов достигла свеклосахарная про-мышленность(рост в 6 ваз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Число рабочих выросло за 15 лет в 1,5 раза и составила 1 мл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Пополнение шло за счет крестьян-отходников,посте-пенно отрывавшихся от земли.Уже в 1872 г. на Кре нмгольской мануфактуре прошла 1-я в истории России стач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н.80-х гг. темпы развития резко замедлились из-за Русско-Турецкой войны,нерациональным налого-обложением и низкой покупательной способностью насе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9944-046B-4868-AC9D-CB7D639C11B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00"/>
                </a:solidFill>
                <a:latin typeface="Times New Roman"/>
              </a:rPr>
              <a:t>План урока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-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3.Финан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-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FE59-44A2-4495-8E19-0F0FB0B42DA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00"/>
                </a:solidFill>
                <a:latin typeface="Times New Roman"/>
              </a:rPr>
              <a:t>Задание на уро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Что способствовало и что тормозило развитие капиталистических отношений в промышленности, сельском хозяйстве и финансах России в пореформенный период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BD49-89A5-4F1B-AC87-71C118D3D91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первые годы после реформы в сельском хозяйстве начался спад вызванный его перестройкой.Поме-щики оказались в сложных условиях-у них не бы-ло свободного капитала и инвентаря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Times New Roman"/>
              </a:rPr>
              <a:t>(почему?).</a:t>
            </a: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Ос-новная часть помещиков выкупные платежи быс-тро промотала,а власти при выдаче денег удержи-вали с них долги.Поэтому помещики сдавали зем-лю в аренду, а за это крестьяне отрабатывали и их надел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F532-7D7E-443C-879A-B90BB2C4588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Многие помещики использовали труд временнообя-занных крестьян.Даже высокие мировые цены на хлеб и строительство дорог в хлебные районы не заставило их вести хозяйство по-капиталистичес-ки.Крестьяне-арендаторы тоже не воспользова-лись эти фактором,т.к. аренда росла еще быстре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Крестьяне и помещики не были уравнены в гражд-анских правах,т.к.1-е были причислены к подат-ным сослов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2715-62CC-4AA0-9CAE-B6A42AA2E6D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результате крестьянской реформы ожидаемого рос-та промышленности не последовало.Предпринима-тели получили возможность использовать вольно-наемный труд, но посессионные крестьяне испы-тывая ненависть к подневольному труду бросали заводы и уходили в деревню.В результате сократи-лось производство в металлургии и суконной про-мышленности.Лишь через 10 лет они смогли прео-долеть криз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4B08-A27E-454B-A5BB-7DCB897134F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хлопчатобумажной про-мышленности кризис объ яснялся ростом мировых цен на хлопок.Но после присоединения к России Средней Азии это пробле-ма была разреше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Несмотря на трудности рос-сийская экономика суме-ла перестроиться доволь-но быстро во многом бла- годаря целенаправлен-ной экономической поли-тике государства.В стра-не появился слой круп-ных фабрика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B69F-F633-4C82-9AA5-23B3138DC3E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Экономические реформы начались с реорганизации банковской системы.В 1860 г. был открыт Госуда-рственный банк, для кредитования важнейших от-раслей промышленности и поддерживать частные коммерческие бан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60-70-е гг.частные банки возникли в Москве и Пе-тербург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0798-921D-42E0-9AC6-78B1EE9E9CE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Они оказали огромное влияние на развитие экономи-ки в тот пери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У истоков банковского дела стоял В.Кокорев, сколо-тивший капитал на винных откупах.В к. 60-х гг. он открыл Московский купеческий банк, а в 1870 г. - Волжско-Камский банк для финансирования про-мышленных предприятий Росс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D739-D942-4A47-9000-71F8192C0A6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B1D7-66D9-4836-884A-19EE0E0D7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E184-B8A1-4EDF-B67C-85266EE7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D7B8-F6DF-46E1-B23E-4881069E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18A6-63B6-42F2-B08B-1AB72079A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8FE1-CC47-4F0B-8A72-D5FE6218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8D87-6548-48BF-93FE-BB41B0B6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0B3A-3692-49D8-835E-B88CD04F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AACF-5DD3-49A6-97A7-6EA09A71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F972-CA11-480F-A866-540791C8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80D1-6212-457D-A6CA-57902AB7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8716-FF4B-42C1-8ACD-B86B3EAB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13BE-8037-4C7D-9AB0-7C4DB167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A7D1-4B40-4002-BAA4-4AA804ACA9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ле 3"/>
          <p:cNvSpPr/>
          <p:nvPr/>
        </p:nvSpPr>
        <p:spPr>
          <a:xfrm>
            <a:off x="3210480" y="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рок №2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оле 4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8 клас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Объект WordArt 6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1" name="Объект WordArt 7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XIX ве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2" name="Объект WordArt 8"/>
          <p:cNvSpPr txBox="1"/>
          <p:nvPr/>
        </p:nvSpPr>
        <p:spPr>
          <a:xfrm>
            <a:off x="2895480" y="1676520"/>
            <a:ext cx="5921640" cy="25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Развитие 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капитализма 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в России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257440" y="609120"/>
            <a:ext cx="3809880" cy="6172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азвитие банков оказа-лось тесно связано со строительством желе-зных дорог.Это объяс-нялос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1.Поражением в Крымс-кой войн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.Желанием увеличить экспорт хлеба за счет  соединения центра с провинцией транспор-тной сеть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ала создана программа привлечения частного и иностранного капи-та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Поле 5"/>
          <p:cNvSpPr/>
          <p:nvPr/>
        </p:nvSpPr>
        <p:spPr>
          <a:xfrm>
            <a:off x="1631880" y="5486400"/>
            <a:ext cx="313416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кция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агоностроительног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вод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Рисунок 7" descr="Рисунок5"/>
          <p:cNvPicPr/>
          <p:nvPr/>
        </p:nvPicPr>
        <p:blipFill>
          <a:blip r:embed="rId2"/>
          <a:stretch/>
        </p:blipFill>
        <p:spPr>
          <a:xfrm>
            <a:off x="1547640" y="907920"/>
            <a:ext cx="3314880" cy="44053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295280" y="3657240"/>
            <a:ext cx="7772400" cy="30481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1868-72 гг. в стране проходило бурное железнодоро-жное строительство.Транспортная сеть выросла с 2 тыс. до 22 тыс. км дорог.Появились предприни-матели разбогатевшие на таком строительстве.Им разрешали на льготных условиях приобрести под-вижной состав,рельсы и др. материалы.Большин-ство дорог строились в интересах промышленнос-ти и торгов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оле 5"/>
          <p:cNvSpPr/>
          <p:nvPr/>
        </p:nvSpPr>
        <p:spPr>
          <a:xfrm>
            <a:off x="1401480" y="1555920"/>
            <a:ext cx="226548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роительств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елезно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рог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Рисунок 6" descr="Рисунок4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3997440" y="828720"/>
            <a:ext cx="4895640" cy="274644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71600" y="3809880"/>
            <a:ext cx="7696080" cy="2895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осква была с вязана с Нижним Новгородом, Воро-нежем,Уралом.Между собой были соединены круп нейшие текстильные центры.Грузооборот желез-ных дорог вырос за 15 лет в 25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1891 г. началось строительство Транссиба.Разви-тие транспорта привело к развитию сопутствую-щих отраслей промышлен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оле 5"/>
          <p:cNvSpPr/>
          <p:nvPr/>
        </p:nvSpPr>
        <p:spPr>
          <a:xfrm>
            <a:off x="1400760" y="1447920"/>
            <a:ext cx="240876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анссибирско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елезно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роге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Рисунок 7" descr="Рисунок3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140360" y="846000"/>
            <a:ext cx="4679640" cy="28879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Объект 6"/>
          <p:cNvGraphicFramePr/>
          <p:nvPr/>
        </p:nvGraphicFramePr>
        <p:xfrm>
          <a:off x="2590920" y="685800"/>
          <a:ext cx="4876560" cy="329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685800"/>
                    <a:ext cx="4876560" cy="3295800"/>
                  </a:xfrm>
                  <a:prstGeom prst="rect">
                    <a:avLst/>
                  </a:prstGeom>
                  <a:ln w="76320">
                    <a:solidFill>
                      <a:srgbClr val="cc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295280" y="3886200"/>
            <a:ext cx="7772400" cy="28195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к. 1860-х гг. начался промышленный подъем.В сер. 80-х гг. завершился промышленный переворо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Главной базой металлургии оставался Урал,но быст-ро развивался Донбасс.Здесь же добывали уголь.В Баку сосредоточилась добыча нефти.Начало разви-ваться машиностроение-Путиловский з-д в Петер-бурге и в Коломне производство паровоз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181120" y="685440"/>
            <a:ext cx="3886200" cy="6095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ыстрыми темпами раз-вивалась текстильная промышленность.Владельцы мануфактур по-купали земли в Ср. Азии и начали выращи вать там хлопок.За 30 лет производство текс-тиля выросло в 30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а Юге успехов достигла свеклосахарная про-мышленность(рост в 6 ваз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Число рабочих выросло за 15 лет в 1,5 раза и составила 1 мл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оле 4"/>
          <p:cNvSpPr/>
          <p:nvPr/>
        </p:nvSpPr>
        <p:spPr>
          <a:xfrm>
            <a:off x="1647720" y="5867280"/>
            <a:ext cx="307944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цехе завода Г.Пек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Петербурге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Рисунок 7" descr="Рисунок2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1511280" y="846000"/>
            <a:ext cx="3348000" cy="48150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оле 5"/>
          <p:cNvSpPr/>
          <p:nvPr/>
        </p:nvSpPr>
        <p:spPr>
          <a:xfrm>
            <a:off x="1831320" y="1692360"/>
            <a:ext cx="148212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дом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бочего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7772400" cy="3124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ополнение шло за счет крестьян-отходников,посте-пенно отрывавшихся от земли.Уже в 1872 г. на Кре нмгольской мануфактуре прошла 1-я в истории России стач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н.80-х гг. темпы развития резко замедлились из-за Русско-Турецкой войны,нерациональным налого-обложением и низкой покупательной способностью насе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Рисунок 8" descr="Рисунок1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4067280" y="839880"/>
            <a:ext cx="4681440" cy="26604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лан уро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240" y="1142640"/>
            <a:ext cx="7620120" cy="5181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-в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3.Финанс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-ство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Рисунок 4" descr="ag00029_"/>
          <p:cNvPicPr/>
          <p:nvPr/>
        </p:nvPicPr>
        <p:blipFill>
          <a:blip r:embed="rId2"/>
          <a:stretch/>
        </p:blipFill>
        <p:spPr>
          <a:xfrm>
            <a:off x="1295280" y="152280"/>
            <a:ext cx="1143000" cy="9064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Задание на уро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240" y="914040"/>
            <a:ext cx="7620120" cy="5715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Что способствовало и что тормозило развитие капиталистических отношений в промышленности, сельском хозяйстве и финансах России в пореформенный период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Рисунок 4" descr="ag00317_"/>
          <p:cNvPicPr/>
          <p:nvPr/>
        </p:nvPicPr>
        <p:blipFill>
          <a:blip r:embed="rId2"/>
          <a:stretch/>
        </p:blipFill>
        <p:spPr>
          <a:xfrm>
            <a:off x="1141560" y="-228600"/>
            <a:ext cx="949320" cy="12193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6" descr="маковский отдых во время сбора урожая"/>
          <p:cNvPicPr/>
          <p:nvPr/>
        </p:nvPicPr>
        <p:blipFill>
          <a:blip r:embed="rId1"/>
          <a:stretch/>
        </p:blipFill>
        <p:spPr>
          <a:xfrm>
            <a:off x="3995640" y="260280"/>
            <a:ext cx="4845240" cy="339084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295280" y="3276360"/>
            <a:ext cx="7772400" cy="3429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первые годы после реформы в сельском хозяйстве начался спад вызванный его перестройкой.Поме-щики оказались в сложных условиях-у них не бы-ло свободного капитала и инвентаря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(почему?).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с-новная часть помещиков выкупные платежи быс-тро промотала,а власти при выдаче денег удержи-вали с них долги.Поэтому помещики сдавали зем-лю в аренду, а за это крестьяне отрабатывали и их наде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в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оле 5"/>
          <p:cNvSpPr/>
          <p:nvPr/>
        </p:nvSpPr>
        <p:spPr>
          <a:xfrm>
            <a:off x="1535400" y="1152360"/>
            <a:ext cx="212976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.Маковский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дых в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ремя сбор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рожая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7" descr="Рисунок10"/>
          <p:cNvPicPr/>
          <p:nvPr/>
        </p:nvPicPr>
        <p:blipFill>
          <a:blip r:embed="rId1"/>
          <a:stretch/>
        </p:blipFill>
        <p:spPr>
          <a:xfrm>
            <a:off x="4643280" y="522360"/>
            <a:ext cx="4249800" cy="26082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295280" y="3200040"/>
            <a:ext cx="7772400" cy="3505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ногие помещики использовали труд временнообя-занных крестьян.Даже высокие мировые цены на хлеб и строительство дорог в хлебные районы не заставило их вести хозяйство по-капиталистичес-ки.Крестьяне-арендаторы тоже не воспользова-лись эти фактором,т.к. аренда росла еще быстре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рестьяне и помещики не были уравнены в гражд-анских правах,т.к.1-е были причислены к подат-ным сословия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в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оле 5"/>
          <p:cNvSpPr/>
          <p:nvPr/>
        </p:nvSpPr>
        <p:spPr>
          <a:xfrm>
            <a:off x="1481400" y="1387440"/>
            <a:ext cx="282024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естьянский дом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фото к. 19 века.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6" descr="Рисунок9"/>
          <p:cNvPicPr/>
          <p:nvPr/>
        </p:nvPicPr>
        <p:blipFill>
          <a:blip r:embed="rId1"/>
          <a:stretch/>
        </p:blipFill>
        <p:spPr>
          <a:xfrm>
            <a:off x="4427640" y="598320"/>
            <a:ext cx="4248000" cy="26863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295280" y="3276360"/>
            <a:ext cx="7772400" cy="3429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результате крестьянской реформы ожидаемого рос-та промышленности не последовало.Предпринима-тели получили возможность использовать вольно-наемный труд, но посессионные крестьяне испы-тывая ненависть к подневольному труду бросали заводы и уходили в деревню.В результате сократи-лось производство в металлургии и суконной про-мышленности.Лишь через 10 лет они смогли прео-долеть кризи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Поле 5"/>
          <p:cNvSpPr/>
          <p:nvPr/>
        </p:nvSpPr>
        <p:spPr>
          <a:xfrm>
            <a:off x="1798200" y="1301760"/>
            <a:ext cx="201240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вод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ратье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мо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вы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876560" y="761760"/>
            <a:ext cx="4190760" cy="60195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хлопчатобумажной про-мышленности кризис объ яснялся ростом мировых цен на хлопок.Но после присоединения к России Средней Азии это пробле-ма была разреше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есмотря на трудности рос-сийская экономика суме-ла перестроиться доволь-но быстро во многом бла- годаря целенаправлен-ной экономической поли-тике государства.В стра-не появился слой круп-ных фабрикан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Поле 1029"/>
          <p:cNvSpPr/>
          <p:nvPr/>
        </p:nvSpPr>
        <p:spPr>
          <a:xfrm>
            <a:off x="2092320" y="5877000"/>
            <a:ext cx="182052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абрикан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хоров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Рисунок 1031" descr="Рисунок8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663560" y="907920"/>
            <a:ext cx="2692440" cy="47595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295280" y="3809880"/>
            <a:ext cx="7772400" cy="2895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Экономические реформы начались с реорганизации банковской системы.В 1860 г. был открыт Госуда-рственный банк, для кредитования важнейших от-раслей промышленности и поддерживать частные коммерческие бан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60-70-е гг.частные банки возникли в Москве и Пе-тербург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Прямоуг. 4"/>
          <p:cNvSpPr/>
          <p:nvPr/>
        </p:nvSpPr>
        <p:spPr>
          <a:xfrm>
            <a:off x="137160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3.Финансы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Поле 7"/>
          <p:cNvSpPr/>
          <p:nvPr/>
        </p:nvSpPr>
        <p:spPr>
          <a:xfrm>
            <a:off x="1486080" y="1631880"/>
            <a:ext cx="212976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.Маковский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анка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Рисунок 9" descr="Рисунок7"/>
          <p:cNvPicPr/>
          <p:nvPr/>
        </p:nvPicPr>
        <p:blipFill>
          <a:blip r:embed="rId2"/>
          <a:stretch/>
        </p:blipFill>
        <p:spPr>
          <a:xfrm>
            <a:off x="3995640" y="838080"/>
            <a:ext cx="4897440" cy="28893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295280" y="3809880"/>
            <a:ext cx="7772400" cy="2895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ни оказали огромное влияние на развитие экономи-ки в тот пери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У истоков банковского дела стоял В.Кокорев, сколо-тивший капитал на винных откупах.В к. 60-х гг. он открыл Московский купеческий банк, а в 1870 г. - Волжско-Камский банк для финансирования про-мышленных предприятий Росс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оуг. 4"/>
          <p:cNvSpPr/>
          <p:nvPr/>
        </p:nvSpPr>
        <p:spPr>
          <a:xfrm>
            <a:off x="137160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3.Финансы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оле 5"/>
          <p:cNvSpPr/>
          <p:nvPr/>
        </p:nvSpPr>
        <p:spPr>
          <a:xfrm>
            <a:off x="1717920" y="1844640"/>
            <a:ext cx="217260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анкноты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нца 19 века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Рисунок 8" descr="Рисунок6"/>
          <p:cNvPicPr/>
          <p:nvPr/>
        </p:nvPicPr>
        <p:blipFill>
          <a:blip r:embed="rId2"/>
          <a:stretch/>
        </p:blipFill>
        <p:spPr>
          <a:xfrm>
            <a:off x="4498920" y="808200"/>
            <a:ext cx="4321080" cy="2962080"/>
          </a:xfrm>
          <a:prstGeom prst="rect">
            <a:avLst/>
          </a:prstGeom>
          <a:ln w="57240">
            <a:solidFill>
              <a:srgbClr val="ccccff"/>
            </a:solidFill>
            <a:miter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11:32:57Z</dcterms:created>
  <dc:creator>Чернов Алксей</dc:creator>
  <dc:description/>
  <dc:language>en-US</dc:language>
  <cp:lastModifiedBy>LEGION</cp:lastModifiedBy>
  <dcterms:modified xsi:type="dcterms:W3CDTF">2015-01-15T12:24:56Z</dcterms:modified>
  <cp:revision>51</cp:revision>
  <dc:subject/>
  <dc:title>Презентация PowerPoint</dc:title>
</cp:coreProperties>
</file>