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A10C-12D0-4F66-9DCE-E630D30E9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АВИЛОНСКИЙ ЦАРЬ ХАММУРАПИ И ЕГО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A027-7BCD-4B19-A16F-97B8249DF5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Хаммурапи получил власть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т б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663300"/>
                </a:solidFill>
                <a:uFillTx/>
                <a:latin typeface="Calibri"/>
              </a:rPr>
              <a:t>Заслуги Хаммурап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величил территорию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становил единые законы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706D-9F27-414A-8145-A11EB41108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ЗАКОНЫ –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авила, обязательные для всех жител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9360-F98F-49F6-8335-5DD733CD0B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на стр 68 текст законов, и предположите, какому наказанию подвергся бедня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B04B-E55B-45DE-A3F8-6D9B81DA9D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е наказание ждёт купца, согласно закону, если его пойм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за кражу  осла и раба наказывают одинак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6E21-8625-4CF4-9A4D-B0F7427981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О СВОБОДНЫХ И РАБ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тр 69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Чем раб отличался от свободн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AA4B-0B82-4C16-BFAA-BA1A151445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т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мертная ка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инцип тал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(око за око, зуб – за з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2D39-8C22-487F-83F3-367D1FFD97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О БОГАЧАХ И БЕДНЯ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текст п.5 стр 69-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едняки становились рабами-долж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ём разница в положении раба-чужеземца и раба-долж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DF80-3C56-4347-A6A9-B156CD55DA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08D3-A2D5-4597-A5B1-B2963EA86E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– правила, обязательные для всех жител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наличие писаных законов – важнейший признак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98FA-0D18-40ED-944F-DF13D1582E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 какой страной вы познаком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де она располож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так называ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зовите древнейшие города Двуреч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й город стал главным в Двуреч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B888-2B95-4FFA-A337-B7847FEB4D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5CC5-88EB-4DD6-82F5-7451C238E6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авилон – торговый г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одавали купцы, приплывшие в Вавилон с сев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окупали в Вавило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E96B-5969-4C7A-9A3B-9A4E6A2684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7C41-85AF-4476-BFD2-5439670AC3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орота богини Ишт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D85C-50D7-4852-B016-1911476F47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исячие сады Семирам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7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ы – поднимавшиеся уступы 12  терр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и казалось, что сады висят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9B17-60B8-429C-9B32-55FD41CD72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АВИЛОНСКАЯ БА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дно из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ногоярусное пирамидальное 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5053-9A52-414D-B267-3F8074917C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D5F-9229-4E0C-8367-CC671DEB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D2FE-79BB-43DD-8343-40AA65CF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5E7-4F51-4DCD-B1D7-79C81E18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2FA-849A-41CB-87DF-65C373A6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012-D09B-479A-9E12-6FD02CD2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C59-0E5E-4C6F-885F-761B233B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97E-B7B9-46B5-8620-E31BDE22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7E3-0DB4-47F3-AA72-EED50F6B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3D8-9458-43BC-8C25-B18DAA3B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9AF9-5D91-4559-A6C4-AA721410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FD6-8AB8-45F4-8643-C752A62E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D8FF-1CD6-4DD0-8AE5-85EEBED6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8730-89C4-4361-A6F0-5B2E013C87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АВИЛОНСКИЙ ЦАРЬ ХАММУРАПИ И ЕГО ЗАКО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Хаммурапи "/>
          <p:cNvPicPr/>
          <p:nvPr/>
        </p:nvPicPr>
        <p:blipFill>
          <a:blip r:embed="rId1"/>
          <a:stretch/>
        </p:blipFill>
        <p:spPr>
          <a:xfrm>
            <a:off x="250920" y="2708280"/>
            <a:ext cx="2695320" cy="3790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143160" y="36432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92-1750 гг до н. э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283000" y="5500800"/>
            <a:ext cx="35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уляшова И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-СОШ №3 г. Красноуфи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Хаммурапи получил власть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от б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32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Заслуги Хаммурап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величил территорию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становил единые законы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0" y="1143000"/>
            <a:ext cx="446724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859280" y="3881520"/>
            <a:ext cx="396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текст на стр 67-68, ответьте на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то написано на стел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–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авила, обязательные для всех жител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законы "/>
          <p:cNvPicPr/>
          <p:nvPr/>
        </p:nvPicPr>
        <p:blipFill>
          <a:blip r:embed="rId1"/>
          <a:stretch/>
        </p:blipFill>
        <p:spPr>
          <a:xfrm>
            <a:off x="250920" y="1484280"/>
            <a:ext cx="4464000" cy="5181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стелла "/>
          <p:cNvPicPr/>
          <p:nvPr/>
        </p:nvPicPr>
        <p:blipFill>
          <a:blip r:embed="rId2"/>
          <a:stretch/>
        </p:blipFill>
        <p:spPr>
          <a:xfrm>
            <a:off x="6137280" y="1484280"/>
            <a:ext cx="2676600" cy="5068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на стр 68 текст законов, и предположите, какому наказанию подвергся бедня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законы Хпмураппи "/>
          <p:cNvPicPr/>
          <p:nvPr/>
        </p:nvPicPr>
        <p:blipFill>
          <a:blip r:embed="rId1"/>
          <a:stretch/>
        </p:blipFill>
        <p:spPr>
          <a:xfrm>
            <a:off x="210960" y="1557360"/>
            <a:ext cx="4426200" cy="511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859280" y="429264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Если человек украл иму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рама, он должен быть казнё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ое наказание ждёт купца, согласно закону, если его пойм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чему за кражу  осла и раба наказывают одинак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Суд Хамураппи "/>
          <p:cNvPicPr/>
          <p:nvPr/>
        </p:nvPicPr>
        <p:blipFill>
          <a:blip r:embed="rId1"/>
          <a:stretch/>
        </p:blipFill>
        <p:spPr>
          <a:xfrm>
            <a:off x="250920" y="1789200"/>
            <a:ext cx="5400720" cy="4383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О СВОБОДНЫХ И РАБ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р 69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Чем раб отличался от свободного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клеймо раба "/>
          <p:cNvPicPr/>
          <p:nvPr/>
        </p:nvPicPr>
        <p:blipFill>
          <a:blip r:embed="rId1"/>
          <a:stretch/>
        </p:blipFill>
        <p:spPr>
          <a:xfrm>
            <a:off x="1042920" y="3645000"/>
            <a:ext cx="7234200" cy="29145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На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шт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мертная ка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инцип тал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око за око, зуб – за з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текст законов Хаммураппи "/>
          <p:cNvPicPr/>
          <p:nvPr/>
        </p:nvPicPr>
        <p:blipFill>
          <a:blip r:embed="rId1"/>
          <a:stretch/>
        </p:blipFill>
        <p:spPr>
          <a:xfrm>
            <a:off x="539640" y="1484280"/>
            <a:ext cx="3821400" cy="4824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О БОГАЧАХ И БЕДНЯ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читайте текст п.5 стр 69-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едняки становились рабами-должни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ём разница в положении раба-чужеземца и раба-должни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Шумеры знать и простые люди "/>
          <p:cNvPicPr/>
          <p:nvPr/>
        </p:nvPicPr>
        <p:blipFill>
          <a:blip r:embed="rId1"/>
          <a:stretch/>
        </p:blipFill>
        <p:spPr>
          <a:xfrm>
            <a:off x="1258920" y="3878280"/>
            <a:ext cx="7200720" cy="2979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4000" y="-360"/>
            <a:ext cx="5580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179280" y="333360"/>
            <a:ext cx="3602160" cy="6191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287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32000" y="764640"/>
            <a:ext cx="60120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– правила, обязательные для всех жителей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личие писаных законов – важнейший признак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Хаммураппи "/>
          <p:cNvPicPr/>
          <p:nvPr/>
        </p:nvPicPr>
        <p:blipFill>
          <a:blip r:embed="rId1"/>
          <a:stretch/>
        </p:blipFill>
        <p:spPr>
          <a:xfrm>
            <a:off x="179280" y="1844640"/>
            <a:ext cx="2978280" cy="433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 какой страной вы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Где она располож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чему так назыв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Назовите древнейшие города Двуреч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кой город стал главным в Двуреч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а Двуречья 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Вавилон 3 "/>
          <p:cNvPicPr/>
          <p:nvPr/>
        </p:nvPicPr>
        <p:blipFill>
          <a:blip r:embed="rId1"/>
          <a:stretch/>
        </p:blipFill>
        <p:spPr>
          <a:xfrm>
            <a:off x="0" y="1197000"/>
            <a:ext cx="6588000" cy="392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тены Вавилона раскопки "/>
          <p:cNvPicPr/>
          <p:nvPr/>
        </p:nvPicPr>
        <p:blipFill>
          <a:blip r:embed="rId2"/>
          <a:stretch/>
        </p:blipFill>
        <p:spPr>
          <a:xfrm>
            <a:off x="4427640" y="3591000"/>
            <a:ext cx="4716360" cy="326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Вавилон – торговый 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0720" y="1052640"/>
            <a:ext cx="418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родавали купцы, приплывшие в Вавилон с сев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купали в Вавило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Вавилон 4 jpg"/>
          <p:cNvPicPr/>
          <p:nvPr/>
        </p:nvPicPr>
        <p:blipFill>
          <a:blip r:embed="rId1"/>
          <a:stretch/>
        </p:blipFill>
        <p:spPr>
          <a:xfrm>
            <a:off x="179280" y="1125360"/>
            <a:ext cx="3971880" cy="554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финиковые пальмы "/>
          <p:cNvPicPr/>
          <p:nvPr/>
        </p:nvPicPr>
        <p:blipFill>
          <a:blip r:embed="rId2"/>
          <a:stretch/>
        </p:blipFill>
        <p:spPr>
          <a:xfrm>
            <a:off x="4788000" y="3716280"/>
            <a:ext cx="4000320" cy="2695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царский дворец в Вавилоне jpg"/>
          <p:cNvPicPr/>
          <p:nvPr/>
        </p:nvPicPr>
        <p:blipFill>
          <a:blip r:embed="rId1"/>
          <a:stretch/>
        </p:blipFill>
        <p:spPr>
          <a:xfrm>
            <a:off x="684360" y="1389240"/>
            <a:ext cx="809604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орота богини Иш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ворота Иштар реконструкция "/>
          <p:cNvPicPr/>
          <p:nvPr/>
        </p:nvPicPr>
        <p:blipFill>
          <a:blip r:embed="rId1"/>
          <a:stretch/>
        </p:blipFill>
        <p:spPr>
          <a:xfrm>
            <a:off x="395280" y="1268280"/>
            <a:ext cx="4670280" cy="530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ворота  Иштар jpg"/>
          <p:cNvPicPr/>
          <p:nvPr/>
        </p:nvPicPr>
        <p:blipFill>
          <a:blip r:embed="rId2"/>
          <a:stretch/>
        </p:blipFill>
        <p:spPr>
          <a:xfrm>
            <a:off x="5003640" y="2637000"/>
            <a:ext cx="3843360" cy="4016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исячие сады Сем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7 чудес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ды – поднимавшиеся уступы 12  терр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ли казалось, что сады висят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Висячие сады jpg"/>
          <p:cNvPicPr/>
          <p:nvPr/>
        </p:nvPicPr>
        <p:blipFill>
          <a:blip r:embed="rId1"/>
          <a:stretch/>
        </p:blipFill>
        <p:spPr>
          <a:xfrm>
            <a:off x="1258920" y="2700360"/>
            <a:ext cx="6421320" cy="3930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АВИЛОН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но из чудес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ногоярусное пирамидальное 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Вавилонская башня Брейгель jpg"/>
          <p:cNvPicPr/>
          <p:nvPr/>
        </p:nvPicPr>
        <p:blipFill>
          <a:blip r:embed="rId1"/>
          <a:stretch/>
        </p:blipFill>
        <p:spPr>
          <a:xfrm>
            <a:off x="324000" y="1628640"/>
            <a:ext cx="5381640" cy="4400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1:43:19Z</dcterms:created>
  <dc:creator>Администратор</dc:creator>
  <dc:description/>
  <dc:language>en-US</dc:language>
  <cp:lastModifiedBy>LEGION</cp:lastModifiedBy>
  <dcterms:modified xsi:type="dcterms:W3CDTF">2015-01-15T12:26:26Z</dcterms:modified>
  <cp:revision>10</cp:revision>
  <dc:subject/>
  <dc:title>ВАВИЛОНСКИЙ ЦАРЬ ХАММУРАПИ И ЕГО ЗАКОНЫ</dc:title>
</cp:coreProperties>
</file>