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C5F9-29BC-49E5-BCE6-E80EF24C4C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АВИЛОНСКИЙ ЦАРЬ ХАММУРАПИ И ЕГО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69D2-1460-4FB8-B6F0-7CED07F22C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Хаммурапи получил власть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т б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3300"/>
                </a:solidFill>
                <a:uFillTx/>
                <a:latin typeface="Calibri"/>
              </a:rPr>
              <a:t>Заслуги Хаммура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величил территорию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становил единые законы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A641-490C-4980-9A78-8F47B2B4A2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ЗАКОНЫ –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авила, обязательные для всех жител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834C-6A7A-456F-843B-4CFF085FA6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на стр 68 текст законов, и предположите, какому наказанию подвергся бедня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A2DF-71C4-4566-9AC6-8512FAE3D7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е наказание ждёт купца, согласно закону, если его пойм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за кражу  осла и раба наказывают одинак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AF5E-AA26-4A6E-A836-56B479148B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О СВОБОДНЫХ И РАБ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тр 69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Чем раб отличался от свободн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709A-1A76-4C07-AD61-F8E559011A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т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мертная ка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инцип тал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(око за око, зуб – за з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9A75-2438-4527-BF13-917D033D15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О БОГАЧАХ И БЕДНЯ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текст п.5 стр 69-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едняки становились рабами-долж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разница в положении раба-чужеземца и раба-долж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823E-A6EC-4709-AEFB-CF9FB89CB8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AFA4-A3B7-42EC-AF5A-91DBA4A21D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– правила, обязательные для всех жител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наличие писаных законов – важнейший признак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F2DA-9311-422B-8566-C4DB286C9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 какой страной вы познаком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де она располож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так называ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зовите древнейшие города Двуреч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й город стал главным в Двуреч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21F7-E830-4EEB-A6DE-7397C7A630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D395-D552-4927-ACAF-4526BCB05A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авилон – торговый г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одавали купцы, приплывшие в Вавилон с сев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окупали в Вавило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C091-D5C2-408B-AE9D-749062A70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1B88-B5A2-4199-AF8B-66A8A15847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орота богини Ишт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F4E4-5579-433F-AF2E-963F46D19A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исячие сады Семирам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7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ы – поднимавшиеся уступы 12  терр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и казалось, что сады висят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8AB8-A3F5-48EC-9E76-CCBA4C66DE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АВИЛОНСКАЯ БА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дно из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ногоярусное пирамидальное 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7C6-4EA7-4224-83E2-901BDA7E7B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7F7-D94A-48EC-8BCB-9261C4F4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E8D-C019-425D-9662-5D0B6A44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1F6-A744-46BB-84EC-5E81A0D9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E97-4DF4-4039-A493-558E9658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CED-9148-4979-BA6F-B592BECD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B0E-FFE1-4C84-A26A-4725C517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34C-0BE6-435E-BE4E-21FF4E95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BAD-ED85-4417-8DF4-2AC82C28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6AF-20C6-4A2B-953D-18F0530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FF0-523E-45B8-BEF8-87A85260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ED2-1712-4146-9A40-36A5FB3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1F2-C77A-4887-92E6-F8D1381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5A9C-09A5-48CA-9E5F-2B0C689A8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АВИЛОНСКИЙ ЦАРЬ ХАММУРАПИ И ЕГО ЗАКО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Хаммурапи "/>
          <p:cNvPicPr/>
          <p:nvPr/>
        </p:nvPicPr>
        <p:blipFill>
          <a:blip r:embed="rId1"/>
          <a:stretch/>
        </p:blipFill>
        <p:spPr>
          <a:xfrm>
            <a:off x="250920" y="2708280"/>
            <a:ext cx="2695320" cy="3790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143160" y="36432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92-1750 гг до н. э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283000" y="550080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уляшова 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-СОШ №3 г. Красноуф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Хаммурапи получил власть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от б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Заслуги Хаммурап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величил территорию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становил единые закон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0" y="1143000"/>
            <a:ext cx="446724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859280" y="3881520"/>
            <a:ext cx="396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текст на стр 67-68,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то написано на стел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–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а, обязательные для всех жител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законы "/>
          <p:cNvPicPr/>
          <p:nvPr/>
        </p:nvPicPr>
        <p:blipFill>
          <a:blip r:embed="rId1"/>
          <a:stretch/>
        </p:blipFill>
        <p:spPr>
          <a:xfrm>
            <a:off x="250920" y="1484280"/>
            <a:ext cx="4464000" cy="518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ла "/>
          <p:cNvPicPr/>
          <p:nvPr/>
        </p:nvPicPr>
        <p:blipFill>
          <a:blip r:embed="rId2"/>
          <a:stretch/>
        </p:blipFill>
        <p:spPr>
          <a:xfrm>
            <a:off x="6137280" y="1484280"/>
            <a:ext cx="2676600" cy="5068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на стр 68 текст законов, и предположите, какому наказанию подвергся бедня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законы Хпмураппи "/>
          <p:cNvPicPr/>
          <p:nvPr/>
        </p:nvPicPr>
        <p:blipFill>
          <a:blip r:embed="rId1"/>
          <a:stretch/>
        </p:blipFill>
        <p:spPr>
          <a:xfrm>
            <a:off x="210960" y="1557360"/>
            <a:ext cx="442620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859280" y="429264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Если человек украл иму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рама, он должен быть казнё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ое наказание ждёт купца, согласно закону, если его пойм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чему за кражу  осла и раба наказывают одинак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Суд Хамураппи "/>
          <p:cNvPicPr/>
          <p:nvPr/>
        </p:nvPicPr>
        <p:blipFill>
          <a:blip r:embed="rId1"/>
          <a:stretch/>
        </p:blipFill>
        <p:spPr>
          <a:xfrm>
            <a:off x="250920" y="1789200"/>
            <a:ext cx="5400720" cy="4383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 СВОБОДНЫХ И РА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р 69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Чем раб отличался от свободн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клеймо раба "/>
          <p:cNvPicPr/>
          <p:nvPr/>
        </p:nvPicPr>
        <p:blipFill>
          <a:blip r:embed="rId1"/>
          <a:stretch/>
        </p:blipFill>
        <p:spPr>
          <a:xfrm>
            <a:off x="1042920" y="3645000"/>
            <a:ext cx="7234200" cy="29145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На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мертная ка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нцип тал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око за око, зуб – за з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текст законов Хаммураппи "/>
          <p:cNvPicPr/>
          <p:nvPr/>
        </p:nvPicPr>
        <p:blipFill>
          <a:blip r:embed="rId1"/>
          <a:stretch/>
        </p:blipFill>
        <p:spPr>
          <a:xfrm>
            <a:off x="539640" y="1484280"/>
            <a:ext cx="3821400" cy="4824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О БОГАЧАХ И БЕДНЯ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читайте текст п.5 стр 69-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едняки становились рабами-должн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ём разница в положении раба-чужеземца и раба-долж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Шумеры знать и простые люди "/>
          <p:cNvPicPr/>
          <p:nvPr/>
        </p:nvPicPr>
        <p:blipFill>
          <a:blip r:embed="rId1"/>
          <a:stretch/>
        </p:blipFill>
        <p:spPr>
          <a:xfrm>
            <a:off x="1258920" y="3878280"/>
            <a:ext cx="7200720" cy="2979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4000" y="-360"/>
            <a:ext cx="5580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179280" y="333360"/>
            <a:ext cx="3602160" cy="6191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– правила, обязательные для всех жител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личие писаных законов – важнейший признак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Хаммураппи "/>
          <p:cNvPicPr/>
          <p:nvPr/>
        </p:nvPicPr>
        <p:blipFill>
          <a:blip r:embed="rId1"/>
          <a:stretch/>
        </p:blipFill>
        <p:spPr>
          <a:xfrm>
            <a:off x="179280" y="1844640"/>
            <a:ext cx="2978280" cy="433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 какой страной вы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де она располож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чему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Назовите древнейшие города Двуреч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кой город стал главным в Двуреч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 Двуречья 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Вавилон 3 "/>
          <p:cNvPicPr/>
          <p:nvPr/>
        </p:nvPicPr>
        <p:blipFill>
          <a:blip r:embed="rId1"/>
          <a:stretch/>
        </p:blipFill>
        <p:spPr>
          <a:xfrm>
            <a:off x="0" y="1197000"/>
            <a:ext cx="6588000" cy="39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тены Вавилона раскопки "/>
          <p:cNvPicPr/>
          <p:nvPr/>
        </p:nvPicPr>
        <p:blipFill>
          <a:blip r:embed="rId2"/>
          <a:stretch/>
        </p:blipFill>
        <p:spPr>
          <a:xfrm>
            <a:off x="4427640" y="3591000"/>
            <a:ext cx="4716360" cy="326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Вавилон – торговый 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052640"/>
            <a:ext cx="418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одавали купцы, приплывшие в Вавилон с сев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купали в Вавило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Вавилон 4 jpg"/>
          <p:cNvPicPr/>
          <p:nvPr/>
        </p:nvPicPr>
        <p:blipFill>
          <a:blip r:embed="rId1"/>
          <a:stretch/>
        </p:blipFill>
        <p:spPr>
          <a:xfrm>
            <a:off x="179280" y="1125360"/>
            <a:ext cx="3971880" cy="554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финиковые пальмы "/>
          <p:cNvPicPr/>
          <p:nvPr/>
        </p:nvPicPr>
        <p:blipFill>
          <a:blip r:embed="rId2"/>
          <a:stretch/>
        </p:blipFill>
        <p:spPr>
          <a:xfrm>
            <a:off x="4788000" y="3716280"/>
            <a:ext cx="4000320" cy="2695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царский дворец в Вавилоне jpg"/>
          <p:cNvPicPr/>
          <p:nvPr/>
        </p:nvPicPr>
        <p:blipFill>
          <a:blip r:embed="rId1"/>
          <a:stretch/>
        </p:blipFill>
        <p:spPr>
          <a:xfrm>
            <a:off x="684360" y="1389240"/>
            <a:ext cx="809604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орота богини Иш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ворота Иштар реконструкция "/>
          <p:cNvPicPr/>
          <p:nvPr/>
        </p:nvPicPr>
        <p:blipFill>
          <a:blip r:embed="rId1"/>
          <a:stretch/>
        </p:blipFill>
        <p:spPr>
          <a:xfrm>
            <a:off x="395280" y="1268280"/>
            <a:ext cx="4670280" cy="53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ворота  Иштар jpg"/>
          <p:cNvPicPr/>
          <p:nvPr/>
        </p:nvPicPr>
        <p:blipFill>
          <a:blip r:embed="rId2"/>
          <a:stretch/>
        </p:blipFill>
        <p:spPr>
          <a:xfrm>
            <a:off x="5003640" y="2637000"/>
            <a:ext cx="3843360" cy="4016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7 чудес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ды – поднимавшиеся уступы 12  тер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ли казалось, что сады висят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Висячие сады jpg"/>
          <p:cNvPicPr/>
          <p:nvPr/>
        </p:nvPicPr>
        <p:blipFill>
          <a:blip r:embed="rId1"/>
          <a:stretch/>
        </p:blipFill>
        <p:spPr>
          <a:xfrm>
            <a:off x="1258920" y="2700360"/>
            <a:ext cx="6421320" cy="3930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АВИЛОН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но из чудес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ногоярусное пирамидальное 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Вавилонская башня Брейгель jpg"/>
          <p:cNvPicPr/>
          <p:nvPr/>
        </p:nvPicPr>
        <p:blipFill>
          <a:blip r:embed="rId1"/>
          <a:stretch/>
        </p:blipFill>
        <p:spPr>
          <a:xfrm>
            <a:off x="324000" y="1628640"/>
            <a:ext cx="5381640" cy="4400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1:43:19Z</dcterms:created>
  <dc:creator>Администратор</dc:creator>
  <dc:description/>
  <dc:language>en-US</dc:language>
  <cp:lastModifiedBy>LEGION</cp:lastModifiedBy>
  <dcterms:modified xsi:type="dcterms:W3CDTF">2015-01-15T12:26:26Z</dcterms:modified>
  <cp:revision>10</cp:revision>
  <dc:subject/>
  <dc:title>ВАВИЛОНСКИЙ ЦАРЬ ХАММУРАПИ И ЕГО ЗАКОНЫ</dc:title>
</cp:coreProperties>
</file>