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6724-3C62-4D2D-89E9-5C8CB57798F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нетарна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едитно-денежная) полити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Макроэкономика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11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ная аттестацион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шателя группы Э-1/07 специальности «Экономика» Груздовой Т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E50F-D3E5-4009-969D-63A8F33536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зменение нормы обязательных резерв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нормы обязательных резервов ведет к уменьшению банковского мультипликатора: денежная масса сок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нормы обязательных резервов ведет к увеличению банковского мультипликатора: денежная масса увели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0B3E-3F97-4682-93E2-70EB0323D0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менение учетной ставки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четной ставки процента ведет к уменьшению избыточных резервов коммерческих б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кредитных возможностей банков ведет к мультипликативному сжатию денежной м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учетной ставки процента ведет к увеличению избыточных резервов коммерческих б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кредитных возможностей банков ведет к мультипликативному расширению денежной м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C4DF-1BAC-4B71-A836-4487D8786F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перации на открытом рынке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ка и продажа государственных ценных бумаг на вторичных рынках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B24D-BBE1-4CF8-960D-7369C5F338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ерации на открытом рынк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даж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х ценных бумаг Центральным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меньшению предложения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куп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сударственных ценных бумаг Центральным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величению предложения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D744-D154-4A0E-8E7F-688227E932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вложить деньг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ады до востреб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е вкл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 (акции, облиг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ысокая ликвидность, но невысокая дохо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ысокая доход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о низкая ликви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т чего зависит решение владельцев денег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2E07-AEE8-4339-9A88-07375F0AF7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ая ставка -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ладельцев денег зависит от величины рыночной процентной ста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денег, которая зависит от спроса и предложения денег на денежном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A3D2-4E8C-4363-851D-EEB25629B2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 на денежном рынке под влиянием монетарной политик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52F0-10F6-4F8B-8DEA-64A7A5AAAB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ую политику Центрального банка принято называть сдерживающе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результате мер монетарной политики денежная масса сокращается, рыночная ставка процента рас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497d"/>
                </a:solidFill>
                <a:latin typeface="Calibri"/>
              </a:rPr>
              <a:t>Повышение ставки процента приводит к удорожанию кредитов и сдерживанию роста инвестиционных расходов и потребле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766F-D2CE-42A0-AEA5-37F3B01C8D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предложения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412C-8230-482C-A1B3-67E718821E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кую политику Центрального банка принято называть стимулирующ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нижение ставки процента стимулирует инвестиционные расходы фирм и потребительские расходы, а это ведет к увеличению совокупного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величение денежной массы в результате мер Центрального банка приводит к понижению рыночной ставки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25F4-4D7C-4BEC-82B1-1858374D2E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учебно-методического комплекса по теме «Монетарная политика» для классов с углубленным изучением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8931-AD16-4197-A528-5FF4D59092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озросли инвестиционные расходы фирм или потребительские расходы граждан, то совокупный спрос увеличи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цен подталкивает фирмы к увеличению выпу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оэтому такая монетарная политика называется стимулиру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= C+I+G+X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2D8A-2DDD-4784-AB01-C686CB0F83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 механизм денежной трансмиссии можно показать т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3060-088F-444A-9900-8967175B18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Этот механизм называется </a:t>
            </a:r>
            <a:r>
              <a:rPr b="1" i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механизмом денежной трансмиссии </a:t>
            </a: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1f497d"/>
                </a:solidFill>
                <a:latin typeface="Calibri"/>
              </a:rPr>
              <a:t>money transmission mechan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езультате монетарной политики происходит изменение предложения денег в эконом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едложения денег воздействует на рыночную ставку проц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е ставки процента приводит либо к росту совокупного спроса, либо к его уменьше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5F9F-C4AE-4D20-804F-57E7607672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й комплекс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преподавателей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ся в соответствии с программой факультета довузовской подготовки ГУ-ВШЭ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уется на использование учебных пособий для школ с углубленным изучением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A341-9AE5-4E1D-AC65-78D9D032CA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иска из программы ГУ-ВШЭ для слушателей подготовительных курсов и базовых шк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нетарная (денежно-кредитная полит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етарная политика, ее цели и целевые ориентиры. Роль центрального ба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монетарной политики. Операции на открытом рынке с государственными ценными бумагами. Изменение нормы обязательных банковских резервов. Изменение ставки рефинансирования (учетной ставки процента). Центральный банк как кредитор коммерческих б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денег. Предложение и спрос на день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 и сдерживающая монетарная политика. Воздействие монетарной политики на совокупный с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8F85-D397-489F-8B55-1F784F45AB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ели изучения те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убление знаний о механизме взаимодействия коммерческих и Центрального ба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едставлений о монетарной политике, о целях и способах ее осущест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знаниями о целях и способах регулирования денежного рынка с помощью банковск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A97C-094C-402E-883C-35DACF6261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результате изучения темы учащиеся долж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 и описывать понятия: «монетарная политика», «норма обязательных резервов», «ставка рефинансирования», «операции на открытом рынке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и объяснять, как политика Центробанка воздействует на макроэкономическую ситуац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ть стимулирующую и сдерживающую монетарную полити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ть возможные последствия тех или иных мер Центроба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ть полученные знания для анализа конкретной экономическо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F025-01D9-4728-9644-8837B486F9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такое монетарная полити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ЛИТИКА КРЕДИТНО-ДЕНЕЖНА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проводимые правительством страны, государством меры, определяющие величину денежного предложения, массу денег в стране, процентные ставки кредитования, объем кредитов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нетарная полити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инструмент, при помощи которого правительства стараются воздействовать на макроэкономические условия, увеличивая или уменьшая денежную массу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ловарь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е и финанс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C5C4-D3AF-45C9-8E6C-B8AF6E96EB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нетар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и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о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нетарную политику определяет и осуществляе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нтральный ба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о регулированию денежного рынка с целью стабилизац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104D-362D-4B4F-AEC7-FED4F5CDE4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монетар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С помощью этих инструментов Центральный банк может воздействовать на денежную мас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нормы обязательных резер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учетной ставки процента (ставки рефинанс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и на открытом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3ACC-9A00-4AB0-858E-0F0A2E6A65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A88-62F4-4454-80DB-1DBC6E17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F11-8C85-42D8-9B0D-8F2D13BF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E68F-F1EC-43B8-A677-C14A1794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DDE-0E00-4AC1-861A-B6EB1642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253E-9C0E-4765-8060-201C54E8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333C-2C91-464D-B3EA-2635C4F0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9DF9-FAB0-47BD-ADAC-F5F31A4E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EE1E-5DAD-41DA-B288-F8038C2E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134F-5182-49F9-A01F-EB9B9CB7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AB8C-C533-44B6-82AE-222F7D06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EA82-275C-425D-87C5-B3BF81BC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5697-28BB-47A3-8511-AE716DC9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B776-BDAB-4849-8DCC-434178BC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523E-8CE1-4A22-A8FF-0B3E6E61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8623-DF33-464E-8EAF-1169C522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54EA-39E6-48CB-ACAF-E87CD25D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0731-336D-459D-B04B-3F1677EC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C05-539A-46D4-B422-E62D33B0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C6A-3778-4523-8A13-762DE2FA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38D-A0A4-4FB9-B0CE-DFED8DA2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1CD-2793-4B46-B920-F03E2631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627-47CD-4C0C-841F-1EB39795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7525-22CF-418E-A59E-483ADD52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0A7-C086-49CD-9339-CE0D9D06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355E-7960-4736-9E0D-84CA5E03F1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98DD-18B5-4ACC-A50D-830067FAED8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98984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Монетарная 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кредитно-денежная) политика</a:t>
            </a:r>
            <a:br>
              <a:rPr sz="48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Макроэкономика 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11 класс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71640" y="429264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ускная аттестационн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ушателя группы Э-1/07 специальности «Экономика» Груздовой Т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Изменение нормы обязательных резервов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324036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нормы обязательных резервов ведет к уменьшению банковского мультипликатора: денежная масса сокращ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35280" y="1916280"/>
            <a:ext cx="3384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ижение нормы обязательных резервов ведет к увеличению банковского мультипликатора: денежная масса увеличи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 flipV="1">
            <a:off x="0" y="3141360"/>
            <a:ext cx="91440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3635280" y="4941720"/>
                <a:ext cx="2087640" cy="11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l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ан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2. Изменение учетной ставки процен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4032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учетной ставки процента ведет к уменьшению избыточных резервов коммерческих бан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ньшение кредитных возможностей банков ведет к мультипликативному сжатию денежной м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17960" y="1905120"/>
            <a:ext cx="3927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жение учетной ставки процента ведет к увеличению избыточных резервов коммерческих бан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кредитных возможностей банков ведет к мультипликативному расширению денежной м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3. Операции на открытом рынке – это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купка и продажа государственных ценных бумаг на вторичных рынках ценных бума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перации на открытом рынке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3816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одаж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сударственных ценных бумаг Центральным бан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уменьшению предложения ден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куп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сударственных ценных бумаг Центральным бан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увеличению предложения ден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349236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д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уда вложить деньги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26560" y="1905120"/>
            <a:ext cx="374508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ны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клады до востреб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076720" y="1905120"/>
            <a:ext cx="345600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очные вкла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нные бумаги (акции, облигац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26560" y="3428640"/>
            <a:ext cx="3745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Высокая ликвидность, но невысокая доход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003640" y="3499920"/>
            <a:ext cx="38563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Высокая доходно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но низкая ликвид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31640" y="5013360"/>
            <a:ext cx="7272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 чего зависит решение владельцев денег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центная ставка - эт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36160" y="4941720"/>
            <a:ext cx="80074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на денег, которая зависит от спроса и предложения денег на денежном рын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11280" y="333000"/>
            <a:ext cx="80071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ение владельцев денег зависит от величины рыночной процентной ста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40960" y="260280"/>
            <a:ext cx="8302680" cy="14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Что происходит на денежном рынке под влиянием монетарной политики?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Picture 5" descr="Рис"/>
          <p:cNvPicPr/>
          <p:nvPr/>
        </p:nvPicPr>
        <p:blipFill>
          <a:blip r:embed="rId1"/>
          <a:stretch/>
        </p:blipFill>
        <p:spPr>
          <a:xfrm>
            <a:off x="826920" y="1916280"/>
            <a:ext cx="6121440" cy="4464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465264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Такую политику Центрального банка принято называть сдерживающей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26920" y="475920"/>
            <a:ext cx="7632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результате мер монетарной политики денежная масса сокращается, рыночная ставка процента раст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640" y="2276640"/>
            <a:ext cx="8007120" cy="16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Повышение ставки процента приводит к удорожанию кредитов и сдерживанию роста инвестиционных расходов и потреб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Увеличение предложения денег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748360" y="4221000"/>
            <a:ext cx="96840" cy="18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1692360" y="1852560"/>
            <a:ext cx="6048360" cy="47307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4797000"/>
            <a:ext cx="7632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Такую политику Центрального банка принято называть стимулирующей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36160" y="2420640"/>
            <a:ext cx="800748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Понижение ставки процента стимулирует инвестиционные расходы фирм и потребительские расходы, а это ведет к увеличению совокупного спро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333360"/>
            <a:ext cx="80071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величение денежной массы в результате мер Центрального банка приводит к понижению рыночной ставки процен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Цель работы: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учебно-методического комплекса по теме «Монетарная политика» для классов с углубленным изучением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71280" y="1988640"/>
            <a:ext cx="8172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озросли инвестиционные расходы фирм или потребительские расходы граждан, то совокупный спрос увеличива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т цен подталкивает фирмы к увеличению выпус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b7"/>
                </a:solidFill>
                <a:latin typeface="Arial"/>
              </a:rPr>
              <a:t>Поэтому такая монетарная политика называется стимулирующ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777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вокупный спрос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10920" y="1196640"/>
            <a:ext cx="396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= C+I+G+X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7128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фически механизм денежной трансмиссии можно показать та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РИс"/>
          <p:cNvPicPr/>
          <p:nvPr/>
        </p:nvPicPr>
        <p:blipFill>
          <a:blip r:embed="rId1"/>
          <a:srcRect l="-4451" t="-1939" r="24707" b="14587"/>
          <a:stretch/>
        </p:blipFill>
        <p:spPr>
          <a:xfrm>
            <a:off x="1692360" y="1989000"/>
            <a:ext cx="3889440" cy="319572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116000" y="4941360"/>
            <a:ext cx="764712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b7"/>
                </a:solidFill>
                <a:latin typeface="Arial"/>
              </a:rPr>
              <a:t>Этот механизм называется </a:t>
            </a:r>
            <a:r>
              <a:rPr b="1" i="1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механизмом денежной трансмиссии </a:t>
            </a:r>
            <a:r>
              <a:rPr b="1" i="1" lang="ru-RU" sz="2800" spc="-1" strike="noStrike">
                <a:solidFill>
                  <a:srgbClr val="ffffb7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b7"/>
                </a:solidFill>
                <a:latin typeface="Arial"/>
              </a:rPr>
              <a:t>money transmission mechanis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55280" y="476280"/>
            <a:ext cx="8388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езультате монетарной политики происходит изменение предложения денег в эконом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ение предложения денег воздействует на рыночную ставку проце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ение ставки процента приводит либо к росту совокупного спроса, либо к его уменьше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Учебно-методический комплекс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назначен для преподавателей экономи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ится в соответствии с программой факультета довузовской подготовки ГУ-ВШЭ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иентируется на использование учебных пособий для школ с углубленным изучением эконом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Выписка из программы ГУ-ВШЭ для слушателей подготовительных курсов и базовых школ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36160" y="2060640"/>
            <a:ext cx="76834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нетарная (денежно-кредитная полити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етарная политика, ее цели и целевые ориентиры. Роль центрального ба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струменты монетарной политики. Операции на открытом рынке с государственными ценными бумагами. Изменение нормы обязательных банковских резервов. Изменение ставки рефинансирования (учетной ставки процента). Центральный банк как кредитор коммерческих бан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ынок денег. Предложение и спрос на деньг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имулирующая и сдерживающая монетарная политика. Воздействие монетарной политики на совокупный спро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Цели изучения темы: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9360" y="1773360"/>
            <a:ext cx="82342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лубление знаний о механизме взаимодействия коммерческих и Центрального бан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представлений о монетарной политике, о целях и способах ее осущест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владение знаниями о целях и способах регулирования денежного рынка с помощью банковской систе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В результате изучения темы учащиеся должн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2151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ть и описывать понятия: «монетарная политика», «норма обязательных резервов», «ставка рефинансирования», «операции на открытом рынке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мать и объяснять, как политика Центробанка воздействует на макроэкономическую ситуацию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личать стимулирующую и сдерживающую монетарную политик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ть возможные последствия тех или иных мер Центроба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ять полученные знания для анализа конкретной экономической ситу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403280" y="486900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71640" y="1844640"/>
            <a:ext cx="77040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ЛИТИКА КРЕДИТНО-ДЕНЕЖНАЯ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- проводимые правительством страны, государством меры, определяющие величину денежного предложения, массу денег в стране, процентные ставки кредитования, объем кредитов…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экономический словар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нетарная политик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- инструмент, при помощи которого правительства стараются воздействовать на макроэкономические условия, увеличивая или уменьшая денежную массу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словарь п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ономике и финанса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Что такое монетарная политика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Монетарная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политика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–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это..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55640" y="4797360"/>
            <a:ext cx="795672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Монетарную политику определяет и осуществляет 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Центральный бан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36160" y="1844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ры по регулированию денежного рынка с целью стабилизации экономи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4000" y="4797000"/>
            <a:ext cx="8280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b7"/>
                </a:solidFill>
                <a:latin typeface="Arial"/>
              </a:rPr>
              <a:t>С помощью этих инструментов Центральный банк может воздействовать на денежную мас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нструменты монетарной политик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е нормы обязательных резерв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е учетной ставки процента (ставки рефинансирова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ерации на открытом рын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1:02:20Z</dcterms:created>
  <dc:creator>Ur.Gr.</dc:creator>
  <dc:description/>
  <dc:language>en-US</dc:language>
  <cp:lastModifiedBy>LEGION</cp:lastModifiedBy>
  <dcterms:modified xsi:type="dcterms:W3CDTF">2014-11-07T13:45:36Z</dcterms:modified>
  <cp:revision>23</cp:revision>
  <dc:subject/>
  <dc:title>Монетарная (кредитно-денежная) политика</dc:title>
</cp:coreProperties>
</file>