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7E1E1-7EDC-41D4-9F4B-77FE56AC46B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онетарная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редитно-денежная) политика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Макроэкономика </a:t>
            </a:r>
            <a:br>
              <a:rPr sz="1000"/>
            </a:b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11 класс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ускная аттестационная раб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ушателя группы Э-1/07 специальности «Экономика» Груздовой Т.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4CF97-9592-4D74-923F-A4A9B0722A4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Изменение нормы обязательных резерв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ышение нормы обязательных резервов ведет к уменьшению банковского мультипликатора: денежная масса сокращае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нижение нормы обязательных резервов ведет к увеличению банковского мультипликатора: денежная масса увеличивае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765DB-5782-4228-A95F-697B0B6E849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Изменение учетной ставки проц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ышение учетной ставки процента ведет к уменьшению избыточных резервов коммерческих бан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меньшение кредитных возможностей банков ведет к мультипликативному сжатию денежной мас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ижение учетной ставки процента ведет к увеличению избыточных резервов коммерческих бан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величение кредитных возможностей банков ведет к мультипликативному расширению денежной мас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EB6CA-B60A-4009-BB4B-4123BC7C7F7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Операции на открытом рынке – это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упка и продажа государственных ценных бумаг на вторичных рынках ценных бума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F446E-574C-4401-957F-883B966A76F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перации на открытом рынке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одаж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ых ценных бумаг Центральным банк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уменьшению предложения дене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окуп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государственных ценных бумаг Центральным банк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увеличению предложения дене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FB876-D908-45B7-8C05-8F90F7A4DE8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да вложить деньг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ичны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клады до востреб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очные вкла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ные бумаги (акции, облигаци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Высокая ликвидность, но невысокая доход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Высокая доходность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но низкая ликвид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От чего зависит решение владельцев денег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7331E-7109-4077-AF38-90D88B248BF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нтная ставка - эт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шение владельцев денег зависит от величины рыночной процентной став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а денег, которая зависит от спроса и предложения денег на денежном рын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032F2-4397-49E7-81F4-8BDC9014919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происходит на денежном рынке под влиянием монетарной политики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CD6BA-F047-4BFD-B389-FFB7B4DEA71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ую политику Центрального банка принято называть сдерживающей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 результате мер монетарной политики денежная масса сокращается, рыночная ставка процента раст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1f497d"/>
                </a:solidFill>
                <a:latin typeface="Calibri"/>
              </a:rPr>
              <a:t>Повышение ставки процента приводит к удорожанию кредитов и сдерживанию роста инвестиционных расходов и потребления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E9EB7-8DAA-4841-9D3F-5C882F149F7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величение предложения дене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AA1B1-43D1-4505-B14A-C2A1FB6250C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Такую политику Центрального банка принято называть стимулирующе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Понижение ставки процента стимулирует инвестиционные расходы фирм и потребительские расходы, а это ведет к увеличению совокупного спрос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Увеличение денежной массы в результате мер Центрального банка приводит к понижению рыночной ставки проц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4AF14-A218-4442-97D5-CE82EC0227F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 работы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учебно-методического комплекса по теме «Монетарная политика» для классов с углубленным изучением эконом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2389C-2863-4A2B-B58F-146CFCD5A19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окупный спрос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возросли инвестиционные расходы фирм или потребительские расходы граждан, то совокупный спрос увеличивает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т цен подталкивает фирмы к увеличению выпус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Поэтому такая монетарная политика называется стимулирующ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Y= C+I+G+X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3BD41-B148-4EEF-AEAA-156B7861FD6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фически механизм денежной трансмиссии можно показать так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FBE75-80B8-49C0-8E05-19EDDBD8601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f497d"/>
                </a:solidFill>
                <a:latin typeface="Calibri"/>
              </a:rPr>
              <a:t>Этот механизм называется </a:t>
            </a:r>
            <a:r>
              <a:rPr b="1" i="1" lang="ru-RU" sz="2800" spc="-1" strike="noStrike" u="sng">
                <a:solidFill>
                  <a:srgbClr val="1f497d"/>
                </a:solidFill>
                <a:uFillTx/>
                <a:latin typeface="Calibri"/>
              </a:rPr>
              <a:t>механизмом денежной трансмиссии </a:t>
            </a:r>
            <a:r>
              <a:rPr b="1" i="1" lang="ru-RU" sz="2800" spc="-1" strike="noStrike">
                <a:solidFill>
                  <a:srgbClr val="1f497d"/>
                </a:solidFill>
                <a:latin typeface="Calibri"/>
              </a:rPr>
              <a:t>(</a:t>
            </a:r>
            <a:r>
              <a:rPr b="1" i="1" lang="en-US" sz="2800" spc="-1" strike="noStrike">
                <a:solidFill>
                  <a:srgbClr val="1f497d"/>
                </a:solidFill>
                <a:latin typeface="Calibri"/>
              </a:rPr>
              <a:t>money transmission mechanism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результате монетарной политики происходит изменение предложения денег в экономик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е предложения денег воздействует на рыночную ставку процен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зменение ставки процента приводит либо к росту совокупного спроса, либо к его уменьшению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0DE38-3238-490D-AAAF-D75DC66E862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Учебно-методический комплекс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назначен для преподавателей экономи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оится в соответствии с программой факультета довузовской подготовки ГУ-ВШЭ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иентируется на использование учебных пособий для школ с углубленным изучением эконом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466F2-4B8C-4DEF-9D45-C3F455B35B4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иска из программы ГУ-ВШЭ для слушателей подготовительных курсов и базовых шко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Монетарная (денежно-кредитная политик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нетарная политика, ее цели и целевые ориентиры. Роль центрального бан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струменты монетарной политики. Операции на открытом рынке с государственными ценными бумагами. Изменение нормы обязательных банковских резервов. Изменение ставки рефинансирования (учетной ставки процента). Центральный банк как кредитор коммерческих бан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денег. Предложение и спрос на деньг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имулирующая и сдерживающая монетарная политика. Воздействие монетарной политики на совокупный спро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A21A6-821A-46A9-A749-7B1CEEFC59E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Цели изучения темы: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глубление знаний о механизме взаимодействия коммерческих и Центрального банк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представлений о монетарной политике, о целях и способах ее осуществл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владение знаниями о целях и способах регулирования денежного рынка с помощью банковской сист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58A36-9B90-49D4-B4EA-5417DD608ED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 результате изучения темы учащиеся должны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ть и описывать понятия: «монетарная политика», «норма обязательных резервов», «ставка рефинансирования», «операции на открытом рынке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имать и объяснять, как политика Центробанка воздействует на макроэкономическую ситуацию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личать стимулирующую и сдерживающую монетарную политик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зывать возможные последствия тех или иных мер Центробан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нять полученные знания для анализа конкретной экономической ситу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3BCC6-B5BC-4F74-BD9E-37F723829AD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то такое монетарная политика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ОЛИТИКА КРЕДИТНО-ДЕНЕЖНАЯ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- проводимые правительством страны, государством меры, определяющие величину денежного предложения, массу денег в стране, процентные ставки кредитования, объем кредитов…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экономический словарь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Монетарная политика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- инструмент, при помощи которого правительства стараются воздействовать на макроэкономические условия, увеличивая или уменьшая денежную массу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словарь по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ке и финансам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53C59-4C1A-4FB4-A889-56FC36CEBD3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Монетарна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олити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это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Монетарную политику определяет и осуществляет </a:t>
            </a: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Центральный бан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ры по регулированию денежного рынка с целью стабилизации эконом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39A64-670A-42C6-9F11-F17CDD9EB83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струменты монетарной полити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С помощью этих инструментов Центральный банк может воздействовать на денежную масс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е нормы обязательных резерв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е учетной ставки процента (ставки рефинансирован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ерации на открытом рын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93706-7248-43B5-9E87-F419A8AF6F4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2DC9-3F9C-47C5-94D6-A47F6CFEB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F05E-B6C1-40E3-B6D2-058472814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5333-F5F9-40EF-AAEF-DA0185FA8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3D97-B410-4FF7-9201-5BC62CD0C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BFB72-8D2F-4BC1-9908-40222F068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EF448-0B77-4A01-893C-FA3853818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1B77B-42C3-4A5D-B150-C7FA73B48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4A38F-B88A-4C5E-98E0-FEBAD18EE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9BFCE-BA82-4905-B2E0-DC2623641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A69CD-5B8E-481D-BC43-92F2E806A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FBFE7-00F8-412B-950C-08761A831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9832-BA46-4E23-9AA5-90E610ABD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5B019-3918-4CF7-BBE5-6B22816A5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35E77-1032-4F43-8637-A7B0FCD76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3CB5D-9DD1-4447-832A-448873BF6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BF5E5-20F8-4E29-B8FA-954FB09BA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0A0A8-59B9-4353-BC65-F53FD9DB6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FE88-5F79-484A-A91A-B616970B1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5940-5566-4AFA-9301-C57FD725E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C9D0-6D54-4E29-968A-D7EDC84CC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140A-0259-408A-A1C2-3F085ECCB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F16B-FE91-42E4-BC7E-A8EE23F58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1880-26EB-4D01-B2EF-C8EB92447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0DF7-417D-4E02-B74F-25F95ACB1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64DB5-D1EA-48E6-B4DB-019ADE480D9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E25A4-CC6C-43F6-A7DC-9176E925EB9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765000"/>
            <a:ext cx="7989840" cy="283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Монетарная </a:t>
            </a: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кредитно-денежная) политика</a:t>
            </a:r>
            <a:br>
              <a:rPr sz="4800"/>
            </a:b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i="1" lang="ru-RU" sz="1800" spc="-1" strike="noStrike">
                <a:solidFill>
                  <a:srgbClr val="ffffb7"/>
                </a:solidFill>
                <a:latin typeface="Arial Black"/>
              </a:rPr>
              <a:t>Макроэкономика </a:t>
            </a:r>
            <a:br>
              <a:rPr sz="1800"/>
            </a:br>
            <a:r>
              <a:rPr b="1" i="1" lang="ru-RU" sz="18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i="1" lang="ru-RU" sz="18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i="1" lang="ru-RU" sz="18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i="1" lang="ru-RU" sz="18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i="1" lang="ru-RU" sz="18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i="1" lang="ru-RU" sz="18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i="1" lang="ru-RU" sz="18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i="1" lang="ru-RU" sz="1800" spc="-1" strike="noStrike">
                <a:solidFill>
                  <a:srgbClr val="ffffb7"/>
                </a:solidFill>
                <a:latin typeface="Arial Black"/>
              </a:rPr>
              <a:t>11 класс</a:t>
            </a:r>
            <a:endParaRPr b="1" lang="en-US" sz="1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71640" y="429264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ыпускная аттестационная рабо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лушателя группы Э-1/07 специальности «Экономика» Груздовой Т.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46860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1. Изменение нормы обязательных резервов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99640" y="1916280"/>
            <a:ext cx="3240360" cy="32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вышение нормы обязательных резервов ведет к уменьшению банковского мультипликатора: денежная масса сокращаетс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435280" y="1916280"/>
            <a:ext cx="3384360" cy="25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нижение нормы обязательных резервов ведет к увеличению банковского мультипликатора: денежная масса увеличиваетс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8"/>
          <p:cNvSpPr/>
          <p:nvPr/>
        </p:nvSpPr>
        <p:spPr>
          <a:xfrm flipV="1">
            <a:off x="0" y="3141360"/>
            <a:ext cx="914400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Object 9"/>
              <p:cNvSpPr txBox="1"/>
              <p:nvPr/>
            </p:nvSpPr>
            <p:spPr>
              <a:xfrm>
                <a:off x="3635280" y="4941720"/>
                <a:ext cx="2087640" cy="115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ul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банк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2. Изменение учетной ставки процент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9280" y="1916280"/>
            <a:ext cx="403236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вышение учетной ставки процента ведет к уменьшению избыточных резервов коммерческих банк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меньшение кредитных возможностей банков ведет к мультипликативному сжатию денежной масс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917960" y="1905120"/>
            <a:ext cx="392760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нижение учетной ставки процента ведет к увеличению избыточных резервов коммерческих банк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величение кредитных возможностей банков ведет к мультипликативному расширению денежной масс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3. Операции на открытом рынке – это…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покупка и продажа государственных ценных бумаг на вторичных рынках ценных бумаг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Операции на открытом рынке: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10920" y="1844640"/>
            <a:ext cx="3816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Продажа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осударственных ценных бумаг Центральным банко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 уменьшению предложения дене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Покупк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государственных ценных бумаг Центральным банко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 увеличению предложения дене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Rectangle 10"/>
          <p:cNvSpPr/>
          <p:nvPr/>
        </p:nvSpPr>
        <p:spPr>
          <a:xfrm>
            <a:off x="3492360" y="414972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ед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Куда вложить деньги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826560" y="1905120"/>
            <a:ext cx="3745080" cy="116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личны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клады до востребов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5076720" y="1905120"/>
            <a:ext cx="3456000" cy="116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рочные вклад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Ценные бумаги (акции, облигации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826560" y="3428640"/>
            <a:ext cx="374508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b7"/>
                </a:solidFill>
                <a:latin typeface="Arial"/>
              </a:rPr>
              <a:t>Высокая ликвидность, но невысокая доходн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003640" y="3499920"/>
            <a:ext cx="385632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b7"/>
                </a:solidFill>
                <a:latin typeface="Arial"/>
              </a:rPr>
              <a:t>Высокая доходность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b7"/>
                </a:solidFill>
                <a:latin typeface="Arial"/>
              </a:rPr>
              <a:t>но низкая ликвидн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31640" y="5013360"/>
            <a:ext cx="727236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т чего зависит решение владельцев денег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3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3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8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8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87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95280" y="206028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Процентная ставка - это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36160" y="4941720"/>
            <a:ext cx="800748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Цена денег, которая зависит от спроса и предложения денег на денежном рынк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611280" y="333000"/>
            <a:ext cx="800712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ешение владельцев денег зависит от величины рыночной процентной став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40960" y="260280"/>
            <a:ext cx="8302680" cy="141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Что происходит на денежном рынке под влиянием монетарной политики? 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65" name="Picture 5" descr="Рис"/>
          <p:cNvPicPr/>
          <p:nvPr/>
        </p:nvPicPr>
        <p:blipFill>
          <a:blip r:embed="rId1"/>
          <a:stretch/>
        </p:blipFill>
        <p:spPr>
          <a:xfrm>
            <a:off x="826920" y="1916280"/>
            <a:ext cx="6121440" cy="4464000"/>
          </a:xfrm>
          <a:prstGeom prst="rect">
            <a:avLst/>
          </a:prstGeom>
          <a:ln w="0">
            <a:noFill/>
          </a:ln>
        </p:spPr>
      </p:pic>
      <p:sp>
        <p:nvSpPr>
          <p:cNvPr id="166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4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00000" y="4652640"/>
            <a:ext cx="7920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Такую политику Центрального банка принято называть сдерживающей</a:t>
            </a:r>
            <a:br>
              <a:rPr sz="3200"/>
            </a:b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826920" y="475920"/>
            <a:ext cx="763272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В результате мер монетарной политики денежная масса сокращается, рыночная ставка процента расте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71640" y="2276640"/>
            <a:ext cx="8007120" cy="165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b7"/>
                </a:solidFill>
                <a:latin typeface="Arial"/>
              </a:rPr>
              <a:t>Повышение ставки процента приводит к удорожанию кредитов и сдерживанию роста инвестиционных расходов и потребл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0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8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Увеличение предложения денег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748360" y="4221000"/>
            <a:ext cx="96840" cy="18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Picture 5" descr=""/>
          <p:cNvPicPr/>
          <p:nvPr/>
        </p:nvPicPr>
        <p:blipFill>
          <a:blip r:embed="rId1"/>
          <a:stretch/>
        </p:blipFill>
        <p:spPr>
          <a:xfrm>
            <a:off x="1692360" y="1852560"/>
            <a:ext cx="6048360" cy="4730760"/>
          </a:xfrm>
          <a:prstGeom prst="rect">
            <a:avLst/>
          </a:prstGeom>
          <a:ln w="0">
            <a:noFill/>
          </a:ln>
        </p:spPr>
      </p:pic>
      <p:sp>
        <p:nvSpPr>
          <p:cNvPr id="17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9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16000" y="4797000"/>
            <a:ext cx="763272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Такую политику Центрального банка принято называть стимулирующей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136160" y="2420640"/>
            <a:ext cx="8007480" cy="16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b7"/>
                </a:solidFill>
                <a:latin typeface="Arial"/>
              </a:rPr>
              <a:t>Понижение ставки процента стимулирует инвестиционные расходы фирм и потребительские расходы, а это ведет к увеличению совокупного спрос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1280" y="333360"/>
            <a:ext cx="800712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Увеличение денежной массы в результате мер Центрального банка приводит к понижению рыночной ставки процен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3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3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Цель работы: 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99640" y="21333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здание учебно-методического комплекса по теме «Монетарная политика» для классов с углубленным изучением экономи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971280" y="1988640"/>
            <a:ext cx="817236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Если возросли инвестиционные расходы фирм или потребительские расходы граждан, то совокупный спрос увеличиваетс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ост цен подталкивает фирмы к увеличению выпус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b7"/>
                </a:solidFill>
                <a:latin typeface="Arial"/>
              </a:rPr>
              <a:t>Поэтому такая монетарная политика называется стимулирующе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55280" y="333360"/>
            <a:ext cx="77770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Совокупный спрос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10920" y="1196640"/>
            <a:ext cx="396108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Y= C+I+G+X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0" y="620280"/>
            <a:ext cx="712800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рафически механизм денежной трансмиссии можно показать так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Picture 8" descr="РИс"/>
          <p:cNvPicPr/>
          <p:nvPr/>
        </p:nvPicPr>
        <p:blipFill>
          <a:blip r:embed="rId1"/>
          <a:srcRect l="-4451" t="-1939" r="24707" b="14587"/>
          <a:stretch/>
        </p:blipFill>
        <p:spPr>
          <a:xfrm>
            <a:off x="1692360" y="1989000"/>
            <a:ext cx="3889440" cy="3195720"/>
          </a:xfrm>
          <a:prstGeom prst="rect">
            <a:avLst/>
          </a:prstGeom>
          <a:ln w="0">
            <a:noFill/>
          </a:ln>
        </p:spPr>
      </p:pic>
      <p:sp>
        <p:nvSpPr>
          <p:cNvPr id="185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1116000" y="4941360"/>
            <a:ext cx="7647120" cy="15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b7"/>
                </a:solidFill>
                <a:latin typeface="Arial"/>
              </a:rPr>
              <a:t>Этот механизм называется </a:t>
            </a:r>
            <a:r>
              <a:rPr b="1" i="1" lang="ru-RU" sz="2800" spc="-1" strike="noStrike" u="sng">
                <a:solidFill>
                  <a:srgbClr val="ffffb7"/>
                </a:solidFill>
                <a:uFillTx/>
                <a:latin typeface="Arial"/>
              </a:rPr>
              <a:t>механизмом денежной трансмиссии </a:t>
            </a:r>
            <a:r>
              <a:rPr b="1" i="1" lang="ru-RU" sz="2800" spc="-1" strike="noStrike">
                <a:solidFill>
                  <a:srgbClr val="ffffb7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ffffb7"/>
                </a:solidFill>
                <a:latin typeface="Arial"/>
              </a:rPr>
              <a:t>money transmission mechanism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755280" y="476280"/>
            <a:ext cx="838836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результате монетарной политики происходит изменение предложения денег в экономик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зменение предложения денег воздействует на рыночную ставку процент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зменение ставки процента приводит либо к росту совокупного спроса, либо к его уменьшению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3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3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3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50560" y="244440"/>
            <a:ext cx="8591400" cy="52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Учебно-методический комплекс 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едназначен для преподавателей экономик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троится в соответствии с программой факультета довузовской подготовки ГУ-ВШЭ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риентируется на использование учебных пособий для школ с углубленным изучением экономик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b7"/>
                </a:solidFill>
                <a:latin typeface="Arial Black"/>
              </a:rPr>
              <a:t>Выписка из программы ГУ-ВШЭ для слушателей подготовительных курсов и базовых школ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36160" y="2060640"/>
            <a:ext cx="768348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Монетарная (денежно-кредитная политика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онетарная политика, ее цели и целевые ориентиры. Роль центрального банк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нструменты монетарной политики. Операции на открытом рынке с государственными ценными бумагами. Изменение нормы обязательных банковских резервов. Изменение ставки рефинансирования (учетной ставки процента). Центральный банк как кредитор коммерческих банк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ынок денег. Предложение и спрос на деньг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тимулирующая и сдерживающая монетарная политика. Воздействие монетарной политики на совокупный спрос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Цели изучения темы:</a:t>
            </a:r>
            <a:br>
              <a:rPr sz="3600"/>
            </a:b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09360" y="1773360"/>
            <a:ext cx="823428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глубление знаний о механизме взаимодействия коммерческих и Центрального банков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формирование представлений о монетарной политике, о целях и способах ее осуществлени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владение знаниями о целях и способах регулирования денежного рынка с помощью банковской систем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16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b7"/>
                </a:solidFill>
                <a:latin typeface="Arial Black"/>
              </a:rPr>
              <a:t>В результате изучения темы учащиеся должны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71640" y="1557000"/>
            <a:ext cx="72151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нать и описывать понятия: «монетарная политика», «норма обязательных резервов», «ставка рефинансирования», «операции на открытом рынке»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нимать и объяснять, как политика Центробанка воздействует на макроэкономическую ситуацию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зличать стимулирующую и сдерживающую монетарную политику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зывать возможные последствия тех или иных мер Центробанк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менять полученные знания для анализа конкретной экономической ситуа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1403280" y="4869000"/>
            <a:ext cx="741672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971640" y="1844640"/>
            <a:ext cx="77040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ПОЛИТИКА КРЕДИТНО-ДЕНЕЖНАЯ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- проводимые правительством страны, государством меры, определяющие величину денежного предложения, массу денег в стране, процентные ставки кредитования, объем кредитов…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экономический словарь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Монетарная политика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- инструмент, при помощи которого правительства стараются воздействовать на макроэкономические условия, увеличивая или уменьшая денежную массу.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словарь по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кономике и финансам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5888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Что такое монетарная политика?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b7"/>
                </a:solidFill>
                <a:latin typeface="Arial Black"/>
              </a:rPr>
              <a:t>Монетарная</a:t>
            </a:r>
            <a:r>
              <a:rPr b="0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0" lang="ru-RU" sz="4000" spc="-1" strike="noStrike">
                <a:solidFill>
                  <a:srgbClr val="ffffb7"/>
                </a:solidFill>
                <a:latin typeface="Arial Black"/>
              </a:rPr>
              <a:t>политика</a:t>
            </a:r>
            <a:r>
              <a:rPr b="0" lang="ru-RU" sz="4400" spc="-1" strike="noStrike">
                <a:solidFill>
                  <a:srgbClr val="ffffb7"/>
                </a:solidFill>
                <a:latin typeface="Arial Black"/>
              </a:rPr>
              <a:t> – </a:t>
            </a:r>
            <a:r>
              <a:rPr b="0" lang="ru-RU" sz="4000" spc="-1" strike="noStrike">
                <a:solidFill>
                  <a:srgbClr val="ffffb7"/>
                </a:solidFill>
                <a:latin typeface="Arial Black"/>
              </a:rPr>
              <a:t>это...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755640" y="4797360"/>
            <a:ext cx="7956720" cy="14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Монетарную политику определяет и осуществляет </a:t>
            </a:r>
            <a:r>
              <a:rPr b="0" i="1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Центральный банк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36160" y="1844280"/>
            <a:ext cx="8007480" cy="20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меры по регулированию денежного рынка с целью стабилизации экономик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3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4000" y="4797000"/>
            <a:ext cx="828036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3200" spc="-1" strike="noStrike">
                <a:solidFill>
                  <a:srgbClr val="ffffb7"/>
                </a:solidFill>
                <a:latin typeface="Arial"/>
              </a:rPr>
              <a:t>С помощью этих инструментов Центральный банк может воздействовать на денежную масс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5888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Инструменты монетарной политики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36160" y="1904760"/>
            <a:ext cx="8007480" cy="296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зменение нормы обязательных резерв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зменение учетной ставки процента (ставки рефинансирования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перации на открытом рынк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9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3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3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3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8T11:02:20Z</dcterms:created>
  <dc:creator>Ur.Gr.</dc:creator>
  <dc:description/>
  <dc:language>en-US</dc:language>
  <cp:lastModifiedBy>LEGION</cp:lastModifiedBy>
  <dcterms:modified xsi:type="dcterms:W3CDTF">2014-11-07T13:45:36Z</dcterms:modified>
  <cp:revision>23</cp:revision>
  <dc:subject/>
  <dc:title>Монетарная (кредитно-денежная) политика</dc:title>
</cp:coreProperties>
</file>