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18E1-0A27-490C-9B70-1F9FFCFE73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вечность! прекрати твоих шум веч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то превосходней всех героев в свете бы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вятилище твое от нас в сей день вступ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в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й 1800  Г.Р. Держа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3715-FF42-45E0-9518-16266F11F5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амять о Суворов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30D-4329-482B-913C-16788AF9AE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А. В. Суворову в Севастополе, 19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AE08-8C53-4F12-A212-B18D26C38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уворова III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риальный му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в Санкт-Петербур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B0AD-9A00-4284-BEAB-6E72DB2726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rus.ec/b/1790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%D0%A1%D1%83%D0%B2%D0%BE%D1%80%D0%BE%D0%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military/commander/suvor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aina.aib.ru/biography/aleksandr-suvorov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EFBC-4C08-40E2-A6BC-F7EEF9E703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(24) ноября 1729 — 6 (18) мая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 Александр Васильевич Италийский, граф Суворов-Рымник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рож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смер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адлеж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ды служб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48—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ралиссим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андова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м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жения/вой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 (178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кшаны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мник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Измаила (17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Праги (17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CA9E-9CC2-41BF-9036-167225ACD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ился 13 (24) ноября 1729 или 1730 года в семье во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42 году был зачислен мушкетёром в лейб-гвардии Семёновский пол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A189-A9E7-4B9D-A1E3-F33BC7BB09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Сражения/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FFD-382F-41DC-94CA-33E3E68379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-турецкая война 1768—17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0F2-D7B3-44BC-A258-B4EF4819F0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5F50-B3BB-442A-AC84-D76E80577E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ий поход 179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1D44-4400-47FC-8F10-D2828C99EA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Владимира 1-й ст. (28.07.1783) — за победы над ногайцами в Кры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 (20.12.1771) — за победу над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й Анны (09.1770) — за бои с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алер большого креста Иоанна Иерусалим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ийский Военный орден Марии Терезии 1-й кл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усские: орден Красного орла 1-й ст., орден Чёрного орла, «За заслуг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динские: Св. Анунциаты, Св. Маврикия и Лаза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варские: орден Святого Губерта, орден Золотого ль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: орден Кармельской Богородицы, орден Святого Лаза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D297-B79E-4176-AF62-46BDCA793A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933-4207-4B01-9DDE-FA0F5A77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BCF-62B3-40C0-A8D5-4204177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824-4DB5-4DED-A699-CD045382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172-D24F-4D8D-94C6-21E28077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42E-4EC1-447B-BA52-65C2DD67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A497-9D73-4AB2-A547-8433C4A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19C2-3FAA-4939-8D6D-5883EBC5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1477-F2DD-4399-B710-7F2301FA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10A8-DB4C-4CFD-BFE1-86725811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E5D8-176B-4F86-98FA-027A9843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BB68-2AAA-4A4D-9A99-090E341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792-7A0E-4EBF-8250-C17374E7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074B-28E9-45E3-945F-27389DF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6BB2-308E-4624-9A24-D0728F6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B642-7E13-4AB6-8688-9A6B1DD5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6F3C-3173-43C4-BC07-37209143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EBD1-DFA8-46F4-9334-BE219160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67A-9F83-4019-BBC8-32B9D23C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5B7-9F3D-4273-A832-96FE93F5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107-DC9F-4DCD-A722-FC616CAE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E27-473A-410D-BDDC-6A513108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40C-8112-457B-8EEC-2FB8C035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B14-DC31-4748-AF51-761389B5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F38-A307-48FC-997A-F866AD4C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F8FC-1EBF-44C2-8472-1C93D1630D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F294-B292-4EE8-9292-577C782679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rus.ec/b/179079" TargetMode="External"/><Relationship Id="rId2" Type="http://schemas.openxmlformats.org/officeDocument/2006/relationships/hyperlink" Target="http://ru.wikipedia.org/wiki/&#1057;&#1091;&#1074;&#1086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2720" y="3857760"/>
            <a:ext cx="66992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 1800  Г.Р. Держ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45080" y="858960"/>
            <a:ext cx="2852640" cy="320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071960" y="3571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 Math"/>
                <a:ea typeface="Cambria Math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28760" y="621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 к уроку Атапина Анастасия, 10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ОУ  СОШ № 15 г. Балашо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840" y="212760"/>
            <a:ext cx="2378160" cy="3736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43160" cy="551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1187280" y="580536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похоронен в Нижней Благовещенской церкви Александро-Невской ла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 память о Суворове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2627280" cy="288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40440" y="1628640"/>
            <a:ext cx="2298600" cy="3486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39528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швейцарских Аль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5157720"/>
            <a:ext cx="39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«Суворов в Альпах» (с рисунка Николая Аввакумова, 1941, Москва, Государственный музей изобразительных искусств имени А. С. Пушк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2293920" cy="3052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291636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на месте редута на берегу Сал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5807160" y="2276640"/>
            <a:ext cx="3336840" cy="36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59421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Санкт-Петербурге, Михаил Козловский,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292720" y="602136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Москве. Скульптор О. К. К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481480" cy="331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916360" y="3573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А. В. Суворову в Севастополе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6868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7160" cy="341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5080" y="4941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ен Суворова III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505040" y="4797360"/>
            <a:ext cx="44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риальный м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орова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формационные 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lib.rus.ec/b/179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ru.wikipedia.org/wiki/%D0%A1%D1%83%D0%B2%D0%BE%D1%80%D0%BE%D0%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eoples.ru/military/commander/suvor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aina.aib.ru/biography/aleksandr-suvorov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805200" cy="491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140360" y="0"/>
            <a:ext cx="453708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(24) ноября 1729 — 6 (18) мая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Александр Васильевич Италийский, граф Суворов-Рымни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смер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48—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исс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ов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я/вой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нбурнская баталия (178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шаны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мник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Измаила (179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Праги (17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06436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дился 13 (24) ноября 1729 или 1730 года в семье военног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742 году был зачислен мушкетёром в лейб-гвардии Семёновский пол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19782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773760" y="260280"/>
            <a:ext cx="1938600" cy="24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81476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886040" cy="24670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9900"/>
                </a:solidFill>
                <a:latin typeface="Garamond"/>
              </a:rPr>
              <a:t>Сражения/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290600"/>
            <a:ext cx="4572000" cy="3272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79280" y="472428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ятие крепости Кольберг в ходе Семилетней войны». А. Коцебу. 1852 год. На картине изображено взятие крепости русскими войсками в 176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572000" y="128736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4791600" y="5013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8. Сражение при Кунерсдор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63640" y="549360"/>
            <a:ext cx="3178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о-турецкая война 1768—17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824360" cy="316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43280" y="4797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жение при Козлу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2"/>
          <a:stretch/>
        </p:blipFill>
        <p:spPr>
          <a:xfrm>
            <a:off x="5076720" y="3009960"/>
            <a:ext cx="4067280" cy="3309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479960" y="609300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-турецкая война 1787—1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267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нбурнская бата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851280" y="11736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3211560"/>
            <a:ext cx="5148360" cy="3646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5291280" y="450864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польского вос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94 года. Штурм Пр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22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0" y="3357720"/>
            <a:ext cx="4680000" cy="267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981080" y="24922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оход 17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82160" y="633888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п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938760" cy="27910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6192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Владимира 1-й ст. (28.07.1783) — за победы над ногайцами в Кры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 (20.12.1771) — за победу над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й Анны (09.1770) — за бои с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валер большого креста Иоанна Иерусалимск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ийский Военный орден Марии Терезии 1-й кл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сские: орден Красного орла 1-й ст., орден Чёрного орла, «За заслуг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динские: Св. Анунциаты, Св. Маврикия и Лаз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варские: орден Святого Губерта, орден Золотого ль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е: орден Кармельской Богородицы, орден Святого Лаз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689120" cy="3957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767640" y="4365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. Георгия 1-й степени. Вышитая звезда и лента принадлежали А. В. Сув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57Z</dcterms:created>
  <dc:creator>Анастасия Атапина, 10 а класс, МОУ СОШ № 15</dc:creator>
  <dc:description/>
  <dc:language>en-US</dc:language>
  <cp:lastModifiedBy>LEGION</cp:lastModifiedBy>
  <dcterms:modified xsi:type="dcterms:W3CDTF">2015-01-15T12:27:40Z</dcterms:modified>
  <cp:revision>8</cp:revision>
  <dc:subject>Александр Васильевич Суворов</dc:subject>
  <dc:title>Творческое задание к уроку</dc:title>
</cp:coreProperties>
</file>