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CEA3-FF34-4B68-B9C4-20F55644DB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вечность! прекрати твоих шум веч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то превосходней всех героев в свете бы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вятилище твое от нас в сей день вступ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в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й 1800  Г.Р. Держа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C1D-E374-41BC-A5DA-14563B9E99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амять о Суворов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CCF2-CC4F-4F70-BFE0-AE89C9FB4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А. В. Суворову в Севастополе, 19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9E26-3C13-4A24-86A5-53521E8F9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уворова III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риальный му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в Санкт-Петербур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74B0-F22B-4A88-8315-CE5A613EBD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.rus.ec/b/1790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%D0%A1%D1%83%D0%B2%D0%BE%D1%80%D0%BE%D0%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military/commander/suvor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aina.aib.ru/biography/aleksandr-suvorov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6D73-4ED0-4FD3-BF86-E74B7F533E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(24) ноября 1729 — 6 (18) мая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 Александр Васильевич Италийский, граф Суворов-Рымник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рож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смер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адлеж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ды служб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48—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ралиссим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андова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м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жения/вой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 (178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кшаны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мник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Измаила (17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Праги (17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3745-D58B-446B-B183-A687136D0C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ился 13 (24) ноября 1729 или 1730 года в семье во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42 году был зачислен мушкетёром в лейб-гвардии Семёновский пол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E40B-DEEE-4FDD-8CC9-58ED96BFEE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Сражения/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9DDF-3EB7-4D43-B0FA-4198CAB76B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-турецкая война 1768—17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FFCD-8D8D-4C65-B832-69E7919C3D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C1C2-62D1-4C3C-BAD8-8F05E8B949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ий поход 179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9E5A-BF76-404F-821E-82FA7FF992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Владимира 1-й ст. (28.07.1783) — за победы над ногайцами в Кры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 (20.12.1771) — за победу над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й Анны (09.1770) — за бои с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алер большого креста Иоанна Иерусалим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ийский Военный орден Марии Терезии 1-й кл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усские: орден Красного орла 1-й ст., орден Чёрного орла, «За заслуг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динские: Св. Анунциаты, Св. Маврикия и Лаза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варские: орден Святого Губерта, орден Золотого ль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: орден Кармельской Богородицы, орден Святого Лаза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E63E-6638-4A8D-B5C3-DB7491A4B3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90B-0F25-4622-B633-8B973E63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3E6-C86F-4D97-B428-D92917B7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4A6-3CBC-4210-BB96-DE683069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25B8-3D9A-45A7-935F-63B15B02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234A-D59E-431A-8F54-D8C10623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B388-06AE-4272-BD45-09591382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0454-1BED-457D-A92E-5468DE64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07BC-730E-4976-B3BF-61242C48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91FE-4EA4-4294-AA33-E8EC31DD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8B07-2F00-47AD-B01A-DB7D38D8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F25F-B303-41DB-9468-9B4F8763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B26-CCD8-4A8F-AC94-4006C1E1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DCF5-B3C5-424E-9644-1C90D5A3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365A-A88B-41F8-9C93-344056BC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8B96-C2B2-43CA-A09F-176416A3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5A66-A3AB-497A-92AF-E97A970C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7AB3-5A8D-45B0-8505-96BE725C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79E-6594-4D8A-B175-7662B386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DA85-1C3B-4FE1-9E43-4AF904BE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08D-D914-46B9-85A6-A2878E85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FFB-739B-4E16-A9F4-537D8627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F9D-A800-47F6-A9B5-C77EF0ED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26F-C01A-4B0E-B69A-2493F140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797-D4C3-4DF3-8222-06449199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1CA2-5F14-4100-B48E-478DEB87860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3170-7511-470A-8D1B-4E541AF7E4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rus.ec/b/179079" TargetMode="External"/><Relationship Id="rId2" Type="http://schemas.openxmlformats.org/officeDocument/2006/relationships/hyperlink" Target="http://ru.wikipedia.org/wiki/&#1057;&#1091;&#1074;&#1086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2720" y="3857760"/>
            <a:ext cx="66992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вечность! прекрати твоих шум вечных сп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превосходней всех героев в свете бы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ятилище твое от нас в сей день вступ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 1800  Г.Р. Держ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45080" y="858960"/>
            <a:ext cx="2852640" cy="320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071960" y="3571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 Math"/>
                <a:ea typeface="Cambria Math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28760" y="621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а к уроку Атапина Анастасия, 10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ОУ  СОШ № 15 г. Балашо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840" y="212760"/>
            <a:ext cx="2378160" cy="3736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43160" cy="551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1187280" y="580536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похоронен в Нижней Благовещенской церкви Александро-Невской лав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 память о Суворове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2627280" cy="288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6040440" y="1628640"/>
            <a:ext cx="2298600" cy="3486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39528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швейцарских Аль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5157720"/>
            <a:ext cx="39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«Суворов в Альпах» (с рисунка Николая Аввакумова, 1941, Москва, Государственный музей изобразительных искусств имени А. С. Пушк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2293920" cy="3052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291636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на месте редута на берегу Сал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5807160" y="2276640"/>
            <a:ext cx="3336840" cy="36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59421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Санкт-Петербурге, Михаил Козловский,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292720" y="602136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Москве. Скульптор О. К. К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2481480" cy="331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2916360" y="3573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А. В. Суворову в Севастополе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6868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367160" cy="3416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325080" y="494172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ен Суворова III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505040" y="4797360"/>
            <a:ext cx="44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риальный м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орова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формационные ресур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lib.rus.ec/b/179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ru.wikipedia.org/wiki/%D0%A1%D1%83%D0%B2%D0%BE%D1%80%D0%BE%D0%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eoples.ru/military/commander/suvor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aina.aib.ru/biography/aleksandr-suvorov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805200" cy="491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140360" y="0"/>
            <a:ext cx="453708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(24) ноября 1729 — 6 (18) мая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Александр Васильевич Италийский, граф Суворов-Рымни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смер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 служ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48—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лисс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ов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я/вой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нбурнская баталия (178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шаны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мник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Измаила (179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Праги (17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997360"/>
            <a:ext cx="806436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дился 13 (24) ноября 1729 или 1730 года в семье военног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742 году был зачислен мушкетёром в лейб-гвардии Семёновский пол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19782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773760" y="260280"/>
            <a:ext cx="1938600" cy="240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814760" cy="250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886040" cy="24670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9900"/>
                </a:solidFill>
                <a:latin typeface="Garamond"/>
              </a:rPr>
              <a:t>Сражения/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290600"/>
            <a:ext cx="4572000" cy="3272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79280" y="472428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ятие крепости Кольберг в ходе Семилетней войны». А. Коцебу. 1852 год. На картине изображено взятие крепости русскими войсками в 176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572000" y="128736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1"/>
          <p:cNvSpPr/>
          <p:nvPr/>
        </p:nvSpPr>
        <p:spPr>
          <a:xfrm>
            <a:off x="4791600" y="5013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48. Сражение при Кунерсдор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63640" y="549360"/>
            <a:ext cx="3178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о-турецкая война 1768—17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824360" cy="3160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43280" y="47973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жение при Козлу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2"/>
          <a:stretch/>
        </p:blipFill>
        <p:spPr>
          <a:xfrm>
            <a:off x="5076720" y="3009960"/>
            <a:ext cx="4067280" cy="3309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5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479960" y="609300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-турецкая война 1787—1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267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нбурнская бата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851280" y="117360"/>
            <a:ext cx="4943520" cy="371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3211560"/>
            <a:ext cx="5148360" cy="3646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5291280" y="4508640"/>
            <a:ext cx="38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польского вос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94 года. Штурм Пр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221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0" y="3357720"/>
            <a:ext cx="4680000" cy="2676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981080" y="24922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оход 179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82160" y="633888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царский п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938760" cy="27910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6192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Владимира 1-й ст. (28.07.1783) — за победы над ногайцами в Кры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лександра Невского (20.12.1771) — за победу над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й Анны (09.1770) — за бои с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валер большого креста Иоанна Иерусалимск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стрийский Военный орден Марии Терезии 1-й кл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усские: орден Красного орла 1-й ст., орден Чёрного орла, «За заслуг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динские: Св. Анунциаты, Св. Маврикия и Лаз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варские: орден Святого Губерта, орден Золотого ль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ие: орден Кармельской Богородицы, орден Святого Лаз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689120" cy="3957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767640" y="4365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. Георгия 1-й степени. Вышитая звезда и лента принадлежали А. В. Сувор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4:57Z</dcterms:created>
  <dc:creator>Анастасия Атапина, 10 а класс, МОУ СОШ № 15</dc:creator>
  <dc:description/>
  <dc:language>en-US</dc:language>
  <cp:lastModifiedBy>LEGION</cp:lastModifiedBy>
  <dcterms:modified xsi:type="dcterms:W3CDTF">2015-01-15T12:27:40Z</dcterms:modified>
  <cp:revision>8</cp:revision>
  <dc:subject>Александр Васильевич Суворов</dc:subject>
  <dc:title>Творческое задание к уроку</dc:title>
</cp:coreProperties>
</file>