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4B08-1865-4558-A7D8-AB1E09F76E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 вечность! прекрати твоих шум вечных сп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то превосходней всех героев в свете бы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святилище твое от нас в сей день вступи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в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й 1800  Г.Р. Держав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6F0B-1EDE-422B-9FCE-C32C5FECEF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амять о Суворов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C048-E078-4B26-B6F4-BFC6AF86C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ник А. В. Суворову в Севастополе, 198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1A0C-C678-46B7-8409-25ED04A1CC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уворова III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мориальный муз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орова в Санкт-Петербур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3267-3A92-4C9A-81B2-DBE430314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ib.rus.ec/b/1790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%D0%A1%D1%83%D0%B2%D0%BE%D1%80%D0%BE%D0%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military/commander/suvor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taina.aib.ru/biography/aleksandr-suvorov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799C-B059-4730-AAC3-4E3651EC7E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(24) ноября 1729 — 6 (18) мая 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 Александр Васильевич Италийский, граф Суворов-Рымник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рожден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сто смер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кт-Петербу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адлеж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оссийская имп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ды служб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748—1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нералиссим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андова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м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жения/вой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 (1787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кшаны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ымник (1789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Измаила (179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турм Праги (179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AD57-1FBB-492F-92A7-5407F8C45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дился 13 (24) ноября 1729 или 1730 года в семье во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42 году был зачислен мушкетёром в лейб-гвардии Семёновский пол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850-A667-4074-BA25-FA53D2E82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Сражения/во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B67-4ADA-4CA4-9F58-EBFD695BA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-турецкая война 1768—17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A94-AA42-4341-95FF-FEAB5C7D0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бурнская бат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F4FB-DD23-42BA-AA21-B50E1CF429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ий поход 1799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3C31-F25C-4271-8EEA-31AD50E735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Владимира 1-й ст. (28.07.1783) — за победы над ногайцами в Кры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го Александра Невского (20.12.1771) — за победу над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ден Святой Анны (09.1770) — за бои с польскими конфедерат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алер большого креста Иоанна Иерусалим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стрийский Военный орден Марии Терезии 1-й кл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усские: орден Красного орла 1-й ст., орден Чёрного орла, «За заслуг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динские: Св. Анунциаты, Св. Маврикия и Лазар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варские: орден Святого Губерта, орден Золотого ль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е: орден Кармельской Богородицы, орден Святого Лаза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E63B-B046-4C8E-B421-90AE447153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6C2-C186-4E11-B2B0-15AFA775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D919-34B4-47D1-9995-AC59DC05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001-852E-4D6D-92A2-5AA71AF1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FC9-C50A-499C-BBBF-0159EC45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B8EE-4F81-4DBF-8D10-0FD539A8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9891-21E8-4A9A-8EAB-3DBB9DCA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435-83E6-444F-A891-7C3BFFF8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330D-8EDA-48F0-8186-0E9AB6A2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7DFC-393D-41A3-A143-FD9516A2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1DCB-9B75-4DCE-B09A-5639EC5A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17E6-5764-4E58-BD37-C0DA6EC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DC8-8494-453F-BE6A-91E3508D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3390-74B2-4217-84CC-7DC0752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BE6E-535C-4CF6-A922-F699E0A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327F-3950-492F-B9A3-F1F37FFC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8393-3CAB-4EC8-AEE3-55F9D6BD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225E-9131-4C29-BF56-D84B8D867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562-ACBC-4061-BFF6-87E053C4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17C-98DD-450A-95E0-1B4E2662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7DF-1BBD-4358-895C-AFE47DFB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018-1A94-481F-BBEA-E32B7FCB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1190-43CD-4276-991C-7DE4A4FE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5F4-7F76-409B-B3A9-FF395F2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C81-46BC-4AD8-A217-460083A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044A-C8F3-4C99-A191-B6F087F4282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675-B513-4C81-A2DF-6FBC1865C0B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lib.rus.ec/b/179079" TargetMode="External"/><Relationship Id="rId2" Type="http://schemas.openxmlformats.org/officeDocument/2006/relationships/hyperlink" Target="http://ru.wikipedia.org/wiki/&#1057;&#1091;&#1074;&#1086;&#1088;&#1086;&#1074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42720" y="3857760"/>
            <a:ext cx="669924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вечность! прекрати твоих шум вечных сп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то превосходней всех героев в свете бы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святилище твое от нас в сей день вступи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в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й 1800  Г.Р. Держа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645080" y="858960"/>
            <a:ext cx="2852640" cy="3206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071960" y="35712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mbria Math"/>
                <a:ea typeface="Cambria Math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28760" y="6211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дготовила к уроку Атапина Анастасия, 10 клас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ОУ  СОШ № 15 г. Балашова Сарат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840" y="212760"/>
            <a:ext cx="2378160" cy="3736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043160" cy="5510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7"/>
          <p:cNvSpPr/>
          <p:nvPr/>
        </p:nvSpPr>
        <p:spPr>
          <a:xfrm>
            <a:off x="1187280" y="5805360"/>
            <a:ext cx="65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 похоронен в Нижней Благовещенской церкви Александро-Невской лав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 память о Суворове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44360" y="1700280"/>
            <a:ext cx="2627280" cy="2884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"/>
          <p:cNvPicPr/>
          <p:nvPr/>
        </p:nvPicPr>
        <p:blipFill>
          <a:blip r:embed="rId2"/>
          <a:stretch/>
        </p:blipFill>
        <p:spPr>
          <a:xfrm>
            <a:off x="6040440" y="1628640"/>
            <a:ext cx="2298600" cy="34862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395280" y="4797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швейцарских Аль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5219640" y="5157720"/>
            <a:ext cx="39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ка «Суворов в Альпах» (с рисунка Николая Аввакумова, 1941, Москва, Государственный музей изобразительных искусств имени А. С. Пушк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2" descr=""/>
          <p:cNvPicPr/>
          <p:nvPr/>
        </p:nvPicPr>
        <p:blipFill>
          <a:blip r:embed="rId3"/>
          <a:stretch/>
        </p:blipFill>
        <p:spPr>
          <a:xfrm>
            <a:off x="3220920" y="1628640"/>
            <a:ext cx="2293920" cy="30528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5"/>
          <p:cNvSpPr/>
          <p:nvPr/>
        </p:nvSpPr>
        <p:spPr>
          <a:xfrm>
            <a:off x="2916360" y="4869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на месте редута на берегу Салг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27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5807160" y="2276640"/>
            <a:ext cx="3336840" cy="3600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0" y="5942160"/>
            <a:ext cx="41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Санкт-Петербурге, Михаил Козловский, 18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292720" y="6021360"/>
            <a:ext cx="413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Суворову в Москве. Скульптор О. К. Ко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3"/>
          <a:stretch/>
        </p:blipFill>
        <p:spPr>
          <a:xfrm>
            <a:off x="3348000" y="189000"/>
            <a:ext cx="2481480" cy="33112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5"/>
          <p:cNvSpPr/>
          <p:nvPr/>
        </p:nvSpPr>
        <p:spPr>
          <a:xfrm>
            <a:off x="2916360" y="357336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ник А. В. Суворову в Севастополе,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356868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2"/>
          <a:stretch/>
        </p:blipFill>
        <p:spPr>
          <a:xfrm>
            <a:off x="4427640" y="1197000"/>
            <a:ext cx="4367160" cy="34164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0"/>
          <p:cNvSpPr/>
          <p:nvPr/>
        </p:nvSpPr>
        <p:spPr>
          <a:xfrm>
            <a:off x="325080" y="494172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ден Суворова III степ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505040" y="4797360"/>
            <a:ext cx="446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мориальный муз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орова в Санкт-Петер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формационные ресур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599840"/>
            <a:ext cx="8186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lib.rus.ec/b/1790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ru.wikipedia.org/wiki/%D0%A1%D1%83%D0%B2%D0%BE%D1%80%D0%BE%D0%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eoples.ru/military/commander/suvoro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taina.aib.ru/biography/aleksandr-suvorov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3805200" cy="4910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4140360" y="0"/>
            <a:ext cx="4537080" cy="76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 (24) ноября 1729 — 6 (18) мая 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 Александр Васильевич Италийский, граф Суворов-Рымник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рожд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сто смерт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адлежн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оссийская имп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ды служб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748—1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ва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исс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ова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ажения/войн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нбурнская баталия (1787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шаны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мник (1789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Измаила (1790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урм Праги (17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2997360"/>
            <a:ext cx="806436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дился 13 (24) ноября 1729 или 1730 года в семье военного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Его отец, Василий Иванович Суворов — генерал-аншеф и сенатор . Мать — Авдотья (Евдокия) Федосеевна Суворова, в девичестве Мануков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 родословной легенде Суворовы происходят от древней шведской благородной фамилии. Предок их, Сувор, выехал в Россию в 1622 году при царе Михаиле Фёдоровиче и принял российское поддан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зван Александром в честь Александра Невского. Детство провёл в отцовском имении в деревне. Суворов рос слабым, часто болел. Отец готовил его на гражданскую служб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1742 году был зачислен мушкетёром в лейб-гвардии Семёновский полк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2411280" y="260280"/>
            <a:ext cx="1978200" cy="244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773760" y="260280"/>
            <a:ext cx="1938600" cy="2405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4643280" y="260280"/>
            <a:ext cx="1814760" cy="250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395280" y="260280"/>
            <a:ext cx="1886040" cy="246708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9900"/>
                </a:solidFill>
                <a:latin typeface="Garamond"/>
              </a:rPr>
              <a:t>Сражения/войн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0" y="1290600"/>
            <a:ext cx="4572000" cy="3272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179280" y="472428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зятие крепости Кольберг в ходе Семилетней войны». А. Коцебу. 1852 год. На картине изображено взятие крепости русскими войсками в 176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4572000" y="1287360"/>
            <a:ext cx="4319640" cy="324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1"/>
          <p:cNvSpPr/>
          <p:nvPr/>
        </p:nvSpPr>
        <p:spPr>
          <a:xfrm>
            <a:off x="4791600" y="501336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48. Сражение при Кунерсдорф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63640" y="549360"/>
            <a:ext cx="31784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усско-турецкая война 1768—177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824360" cy="31608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1043280" y="4797360"/>
            <a:ext cx="36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жение при Козлуд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2" descr=""/>
          <p:cNvPicPr/>
          <p:nvPr/>
        </p:nvPicPr>
        <p:blipFill>
          <a:blip r:embed="rId2"/>
          <a:stretch/>
        </p:blipFill>
        <p:spPr>
          <a:xfrm>
            <a:off x="5076720" y="3009960"/>
            <a:ext cx="4067280" cy="3309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561440" cy="50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479960" y="6093000"/>
            <a:ext cx="602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о-турецкая война 1787—1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267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инбурнская батал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3851280" y="117360"/>
            <a:ext cx="4943520" cy="371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0" y="3211560"/>
            <a:ext cx="5148360" cy="3646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0"/>
          <p:cNvSpPr/>
          <p:nvPr/>
        </p:nvSpPr>
        <p:spPr>
          <a:xfrm>
            <a:off x="5291280" y="4508640"/>
            <a:ext cx="38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вление польского вос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94 года. Штурм Пра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184720" cy="22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2"/>
          <a:stretch/>
        </p:blipFill>
        <p:spPr>
          <a:xfrm>
            <a:off x="0" y="3357720"/>
            <a:ext cx="4680000" cy="2676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981080" y="24922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альянский поход 1799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982160" y="6338880"/>
            <a:ext cx="34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вейцарский по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6" descr=""/>
          <p:cNvPicPr/>
          <p:nvPr/>
        </p:nvPicPr>
        <p:blipFill>
          <a:blip r:embed="rId3"/>
          <a:stretch/>
        </p:blipFill>
        <p:spPr>
          <a:xfrm>
            <a:off x="4932360" y="3213000"/>
            <a:ext cx="3938760" cy="27910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6192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постола Андрея Первозванного (09.11.1787) — за сражение под Кинбурном; бриллиантовые знаки к ордену (1789) — за сражение при Фокшан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 В. Суворов стал одним из 3 Георгиевских кавалеров за всю историю ордена, награждённых с 3-й по 1-ю степ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1-го кл. бол.кр. (18.10.1789, № 7) — «превосходное искусство и отличное мужество во всяком случае, наипаче же при атаке многочисленных турецких сил, верховным визирем предводимых в 11 день сентября на реке Рымнике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2-го кл. (30.07.1773, № 8) — «За произведённое храброе и мужественное дело с вверенным его руководству деташаментом при атаке на Туртукай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Георгия 3-го кл. (19.08.1771, № 34) — «За храбрость и мужественные подвиги, оказанные 770 и 771 годов с вверенным ему деташаментом против польских возмутителей, когда он благоразумными распоряжениями в случившихся сражениях, поражая везде их партии, одержал над ними победы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ая шпага с бриллиантами и лаврами (10.07.1775) — в честь победы над турками; вторая шпага с бриллиантами и лавровыми венками за победу при Рымнике (1789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Владимира 1-й ст. (28.07.1783) — за победы над ногайцами в Крым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го Александра Невского (20.12.1771) — за победу над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ден Святой Анны (09.1770) — за бои с польскими конфедерат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валер большого креста Иоанна Иерусалимск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стрийский Военный орден Марии Терезии 1-й кл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усские: орден Красного орла 1-й ст., орден Чёрного орла, «За заслуги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рдинские: Св. Анунциаты, Св. Маврикия и Лазар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варские: орден Святого Губерта, орден Золотого ль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ранцузские: орден Кармельской Богородицы, орден Святого Лаза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689120" cy="3957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6767640" y="4365720"/>
            <a:ext cx="23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ден Св. Георгия 1-й степени. Вышитая звезда и лента принадлежали А. В. Суворо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14:14:57Z</dcterms:created>
  <dc:creator>Анастасия Атапина, 10 а класс, МОУ СОШ № 15</dc:creator>
  <dc:description/>
  <dc:language>en-US</dc:language>
  <cp:lastModifiedBy>LEGION</cp:lastModifiedBy>
  <dcterms:modified xsi:type="dcterms:W3CDTF">2015-01-15T12:27:40Z</dcterms:modified>
  <cp:revision>8</cp:revision>
  <dc:subject>Александр Васильевич Суворов</dc:subject>
  <dc:title>Творческое задание к уроку</dc:title>
</cp:coreProperties>
</file>