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716D-2EF8-40C7-AB12-5018BD7EE9F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императо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подгото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зина Рег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1B1E-4DB4-475B-8819-5E7A69310647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ьное убийств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F5FC-E7DF-41E5-875C-AE814F79E450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ва истинная судьба Роман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09B0-00AF-4B77-BE11-DA992D4F7D5E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ский цар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следнее письмо Григория Распутина Николаю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кабрь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6991-B7CE-45E2-B9A6-D3358FF19807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ийство Никол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E425-49F7-430E-A8E4-C799A8FE6937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мена, и трусость, и обман». От Могилёва до Екатеринбур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079D-FA8C-4E56-9997-63B67C28B83F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ковая ошиб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7EE1-D829-42AE-B8A8-063C1CCCC3CA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езд в Екатерин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5E0B-C9AC-4342-95B8-9CC4AA94C0B7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к расстре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BA6B-B12A-4FF5-A6AE-9A6BADFADEEE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E69-B10D-426F-A845-5B049607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D45-0069-4B52-947F-9D8FD791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9B6-0053-4EFC-9D13-B6606DE9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56A-E219-48F2-ABF0-2D332690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C083-B01E-4FD3-B145-DB137B27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DCBC-ABD0-485C-9FF9-CE731B50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DECC-DF4B-4C8E-8E44-CDA6DE0B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2C2A-BB20-4CB9-9C6F-F1E711B6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9FDF-390F-4D0F-9ED9-9B5AF93B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9D38-CF32-4A13-B458-054840FA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809E-E26F-48DB-8C2F-892E4CAA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C97-E58F-449A-BEDA-E84184D5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C943-5A8F-4252-A713-5025281B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9979-781C-4F46-9F23-29E17CEE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06E8-5665-4BED-A138-5B69515D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4DB9-BE4C-473B-84AF-9EAF17B9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9D08-1B72-40DD-A95D-797B536C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5F75-CC8D-4660-917E-843B846A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B3D-6856-4F0A-9C5E-B62660A4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76A-F857-4217-880E-2D7CBEF3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530-474B-4F18-8399-63FD6934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025-C332-4D86-9684-0B934F17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6AC-3749-469D-AA90-66D61C68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A58-07EB-4675-AA1A-81FB5343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07EE-CACF-4D1E-9EB7-7EC493C6695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E93C-D5A8-44E1-82E9-0AA944E71D17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оследний император</a:t>
            </a:r>
            <a:br>
              <a:rPr sz="4400"/>
            </a:b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          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4720" y="3500280"/>
            <a:ext cx="36954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Доклад подготовил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Ученица 9А класс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Танзина Регин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8" name="Picture 6" descr="nikolay-rz "/>
          <p:cNvPicPr/>
          <p:nvPr/>
        </p:nvPicPr>
        <p:blipFill>
          <a:blip r:embed="rId1"/>
          <a:stretch/>
        </p:blipFill>
        <p:spPr>
          <a:xfrm>
            <a:off x="1476360" y="3500280"/>
            <a:ext cx="2206800" cy="3049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_44615022_woods"/>
          <p:cNvPicPr/>
          <p:nvPr/>
        </p:nvPicPr>
        <p:blipFill>
          <a:blip r:embed="rId1"/>
          <a:stretch/>
        </p:blipFill>
        <p:spPr>
          <a:xfrm rot="360000">
            <a:off x="179280" y="3357360"/>
            <a:ext cx="1933560" cy="144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_240111"/>
          <p:cNvPicPr/>
          <p:nvPr/>
        </p:nvPicPr>
        <p:blipFill>
          <a:blip r:embed="rId2"/>
          <a:stretch/>
        </p:blipFill>
        <p:spPr>
          <a:xfrm rot="1260000">
            <a:off x="5651640" y="39337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Детальное убийство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2" name="Picture 5" descr="03_01_01"/>
          <p:cNvPicPr/>
          <p:nvPr/>
        </p:nvPicPr>
        <p:blipFill>
          <a:blip r:embed="rId3"/>
          <a:stretch/>
        </p:blipFill>
        <p:spPr>
          <a:xfrm rot="21360000">
            <a:off x="250560" y="5516640"/>
            <a:ext cx="2016000" cy="10159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nikolay2"/>
          <p:cNvPicPr/>
          <p:nvPr/>
        </p:nvPicPr>
        <p:blipFill>
          <a:blip r:embed="rId1"/>
          <a:stretch/>
        </p:blipFill>
        <p:spPr>
          <a:xfrm>
            <a:off x="3635280" y="1484280"/>
            <a:ext cx="3529080" cy="2824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Такова истинная судьба Романовых. 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7" name="Picture 5" descr="Николай Второй и семья"/>
          <p:cNvPicPr/>
          <p:nvPr/>
        </p:nvPicPr>
        <p:blipFill>
          <a:blip r:embed="rId2"/>
          <a:stretch/>
        </p:blipFill>
        <p:spPr>
          <a:xfrm>
            <a:off x="971640" y="1844640"/>
            <a:ext cx="2857320" cy="2828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nikolai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255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09_Император Николай II с семьей (слева "/>
          <p:cNvPicPr/>
          <p:nvPr/>
        </p:nvPicPr>
        <p:blipFill>
          <a:blip r:embed="rId4"/>
          <a:stretch/>
        </p:blipFill>
        <p:spPr>
          <a:xfrm>
            <a:off x="3059280" y="4076640"/>
            <a:ext cx="2790720" cy="23256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73" name="Picture 4" descr="36D042D1-DD8B-4328-BCCE-7AC31B874F01_mw800_mh60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404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Русский царь!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                              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Последнее письмо Григория Распутина Николаю </a:t>
            </a:r>
            <a:r>
              <a:rPr b="0" i="1" lang="en-US" sz="18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.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Декабрь 1916 г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22" name="Picture 8" descr="ИльяГалкин-портретИмператораНиколаяII"/>
          <p:cNvPicPr/>
          <p:nvPr/>
        </p:nvPicPr>
        <p:blipFill>
          <a:blip r:embed="rId1"/>
          <a:stretch/>
        </p:blipFill>
        <p:spPr>
          <a:xfrm>
            <a:off x="1152360" y="1981080"/>
            <a:ext cx="352296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Введение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Убийство Николая </a:t>
            </a: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600" spc="-1" strike="noStrike">
              <a:solidFill>
                <a:srgbClr val="4a25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</a:t>
            </a:r>
            <a:r>
              <a:rPr b="0" lang="ru-RU" sz="1500" spc="-1" strike="noStrike">
                <a:solidFill>
                  <a:srgbClr val="4a25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image001"/>
          <p:cNvPicPr/>
          <p:nvPr/>
        </p:nvPicPr>
        <p:blipFill>
          <a:blip r:embed="rId1"/>
          <a:stretch/>
        </p:blipFill>
        <p:spPr>
          <a:xfrm>
            <a:off x="1763640" y="1557360"/>
            <a:ext cx="2255760" cy="4780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8569"/>
                </a:solidFill>
                <a:latin typeface="Tahoma"/>
              </a:rPr>
              <a:t>«Измена, и трусость, и обман». От Могилёва до Екатеринбурга.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0" name="Picture 6" descr="0NikAlVForKonnPolk"/>
          <p:cNvPicPr/>
          <p:nvPr/>
        </p:nvPicPr>
        <p:blipFill>
          <a:blip r:embed="rId2"/>
          <a:stretch/>
        </p:blipFill>
        <p:spPr>
          <a:xfrm>
            <a:off x="5076720" y="1916280"/>
            <a:ext cx="3695760" cy="27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Nicholas_II_of_Russia_painted_by_Earnest_Lipgart"/>
          <p:cNvPicPr/>
          <p:nvPr/>
        </p:nvPicPr>
        <p:blipFill>
          <a:blip r:embed="rId3"/>
          <a:stretch/>
        </p:blipFill>
        <p:spPr>
          <a:xfrm>
            <a:off x="3564000" y="3429000"/>
            <a:ext cx="2038320" cy="30481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pict"/>
          <p:cNvPicPr/>
          <p:nvPr/>
        </p:nvPicPr>
        <p:blipFill>
          <a:blip r:embed="rId1"/>
          <a:stretch/>
        </p:blipFill>
        <p:spPr>
          <a:xfrm rot="660000">
            <a:off x="3779640" y="47242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Роковая ошибка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6" name="Picture 5" descr="par01"/>
          <p:cNvPicPr/>
          <p:nvPr/>
        </p:nvPicPr>
        <p:blipFill>
          <a:blip r:embed="rId2"/>
          <a:stretch/>
        </p:blipFill>
        <p:spPr>
          <a:xfrm rot="21120000">
            <a:off x="4788000" y="2205000"/>
            <a:ext cx="3695760" cy="26132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ереезд в Екатеринбург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92720" y="1412640"/>
            <a:ext cx="3695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0" name="Picture 5" descr="Russian_Royal_Family,_1911"/>
          <p:cNvPicPr/>
          <p:nvPr/>
        </p:nvPicPr>
        <p:blipFill>
          <a:blip r:embed="rId1"/>
          <a:stretch/>
        </p:blipFill>
        <p:spPr>
          <a:xfrm>
            <a:off x="1042920" y="2276640"/>
            <a:ext cx="4368960" cy="36367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Ipatjew-Haus1"/>
          <p:cNvPicPr/>
          <p:nvPr/>
        </p:nvPicPr>
        <p:blipFill>
          <a:blip r:embed="rId1"/>
          <a:stretch/>
        </p:blipFill>
        <p:spPr>
          <a:xfrm>
            <a:off x="250920" y="3573360"/>
            <a:ext cx="4249800" cy="2803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5" name="Picture 5" descr="03_Император Николай II с семьей"/>
          <p:cNvPicPr/>
          <p:nvPr/>
        </p:nvPicPr>
        <p:blipFill>
          <a:blip r:embed="rId2"/>
          <a:stretch/>
        </p:blipFill>
        <p:spPr>
          <a:xfrm>
            <a:off x="3492360" y="981000"/>
            <a:ext cx="4969080" cy="4008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Николай Второй и семья"/>
          <p:cNvPicPr/>
          <p:nvPr/>
        </p:nvPicPr>
        <p:blipFill>
          <a:blip r:embed="rId3"/>
          <a:stretch/>
        </p:blipFill>
        <p:spPr>
          <a:xfrm>
            <a:off x="1042920" y="549360"/>
            <a:ext cx="2857680" cy="2828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romanov_family2"/>
          <p:cNvPicPr/>
          <p:nvPr/>
        </p:nvPicPr>
        <p:blipFill>
          <a:blip r:embed="rId4"/>
          <a:stretch/>
        </p:blipFill>
        <p:spPr>
          <a:xfrm>
            <a:off x="5796000" y="4076640"/>
            <a:ext cx="2808360" cy="2643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Подготовка к расстрелу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754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54" name="Picture 4" descr="nik2_8"/>
          <p:cNvPicPr/>
          <p:nvPr/>
        </p:nvPicPr>
        <p:blipFill>
          <a:blip r:embed="rId1"/>
          <a:stretch/>
        </p:blipFill>
        <p:spPr>
          <a:xfrm>
            <a:off x="4284720" y="476280"/>
            <a:ext cx="4248000" cy="327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36D042D1-DD8B-4328-BCCE-7AC31B874F01_mw800_mh600"/>
          <p:cNvPicPr/>
          <p:nvPr/>
        </p:nvPicPr>
        <p:blipFill>
          <a:blip r:embed="rId2"/>
          <a:stretch/>
        </p:blipFill>
        <p:spPr>
          <a:xfrm>
            <a:off x="611280" y="1773360"/>
            <a:ext cx="4602240" cy="3450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Foto-podval"/>
          <p:cNvPicPr/>
          <p:nvPr/>
        </p:nvPicPr>
        <p:blipFill>
          <a:blip r:embed="rId3"/>
          <a:stretch/>
        </p:blipFill>
        <p:spPr>
          <a:xfrm>
            <a:off x="4140360" y="4149720"/>
            <a:ext cx="3840120" cy="23018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3:15:44Z</dcterms:created>
  <dc:creator>7</dc:creator>
  <dc:description/>
  <dc:language>en-US</dc:language>
  <cp:lastModifiedBy>LEGION</cp:lastModifiedBy>
  <dcterms:modified xsi:type="dcterms:W3CDTF">2015-01-15T12:28:06Z</dcterms:modified>
  <cp:revision>8</cp:revision>
  <dc:subject/>
  <dc:title>Последний император            Николай 2.</dc:title>
</cp:coreProperties>
</file>