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E00F-AEC9-4478-BB38-40EFEF3A38A5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88_&#1075;&#1086;&#1076;" TargetMode="External"/><Relationship Id="rId2" Type="http://schemas.openxmlformats.org/officeDocument/2006/relationships/hyperlink" Target="http://ru.wikipedia.org/wiki/&#1050;&#1080;&#1077;&#1074;&#1089;&#1082;&#1072;&#1103;_&#1056;&#1091;&#1089;&#1100;" TargetMode="External"/><Relationship Id="rId3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4" Type="http://schemas.openxmlformats.org/officeDocument/2006/relationships/hyperlink" Target="http://ru.wikipedia.org/wiki/&#1050;&#1088;&#1077;&#1097;&#1077;&#1085;&#1080;&#1077;" TargetMode="External"/><Relationship Id="rId5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6" Type="http://schemas.openxmlformats.org/officeDocument/2006/relationships/hyperlink" Target="http://ru.wikipedia.org/wiki/&#1042;&#1072;&#1089;&#1080;&#1083;&#1080;&#1081;_II_(&#1074;&#1080;&#1079;&#1072;&#1085;&#1090;&#1080;&#1081;&#1089;&#1082;&#1080;&#1081;_&#1080;&#1084;&#1087;&#1077;&#1088;&#1072;&#1090;&#1086;&#1088;)" TargetMode="External"/><Relationship Id="rId7" Type="http://schemas.openxmlformats.org/officeDocument/2006/relationships/hyperlink" Target="http://ru.wikipedia.org/wiki/&#1050;&#1086;&#1085;&#1089;&#1090;&#1072;&#1085;&#1090;&#1080;&#1085;_VIII" TargetMode="External"/><Relationship Id="rId8" Type="http://schemas.openxmlformats.org/officeDocument/2006/relationships/slide" Target="../slides/slide7.xml"/><Relationship Id="rId9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ревнерусск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1E62-7068-4345-B42D-BDEDBE7CC4C7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умай</a:t>
            </a: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 отв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спространились книги в Древней Руси? Что такое список? Рукоп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всех ли произведений  древнерусской литературы известны имена автор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ольше всего ценят в человеке древнерусские писа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ем состоит гуманизм древнерусской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1721-9F1C-4031-AAC3-9B6C9037CA10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Летописец Н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Повесть времен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44D9-9EFF-45A8-874E-DA82D5B6BE45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4D6B-5557-438D-B5BA-39EF683643D0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Киевской Ру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-X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-X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-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XVII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F2D2-6CC7-44C0-BEFE-C1CACE37539A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8F42-22D2-42D5-8591-855089CBFB7D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етописе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4FCA-18D2-4D64-9EA8-F4F6CBF1A757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Начало 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Крещение</a:t>
            </a:r>
            <a:r>
              <a:rPr b="0" i="1" lang="ru-RU" sz="1000" spc="-1" strike="noStrike">
                <a:solidFill>
                  <a:srgbClr val="ff0000"/>
                </a:solidFill>
                <a:latin typeface="Calibri"/>
              </a:rPr>
              <a:t> Рус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нязь Владимир Красное Солны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988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и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няз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ладимир Святосла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ял реш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рести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онстантинопольской Церк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сле чего, в царствование Император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Василия 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Константина 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рфирородных, духовенство крестило киевских людей в водах Днепра и Почайны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нязь во время крещения своего народа вознёс следующую молитв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1422-C1D8-45C7-8F0F-AF828373A5FD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христианства князем Владимиром во многом определило духовное и политическое развитие Руси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Лебедев  «Крещение киевл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BF56-163E-4EE2-BDB9-5768383BAC47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72C7-0F24-4BDB-9F5B-085635FFA7FD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1DC-F8DD-4295-AFDC-B101183F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BCA-A5F9-4E90-B34C-6DECC65F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158-9666-4397-8CD5-5700A7AD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1D8-C655-4A5D-A444-94E3C6F8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DF5-DA40-41D8-BD57-53DF5073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056-3BB4-40A7-A36D-5CB9A6DB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6E8-85B4-4E02-8AA5-F6B45FFC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B08-8936-4939-AD65-22102FC6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680-8EE7-4712-971D-5D1618C6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EB8-6F05-4EE0-8F6E-866D9ABC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C48-7E5D-42A6-A654-823825D1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3B0-0002-461D-BB56-B31FF642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673F-98BE-4CAF-B88F-3759BB5C2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988_&#1075;&#1086;&#1076;" TargetMode="External"/><Relationship Id="rId4" Type="http://schemas.openxmlformats.org/officeDocument/2006/relationships/hyperlink" Target="http://ru.wikipedia.org/wiki/&#1050;&#1080;&#1077;&#1074;&#1089;&#1082;&#1072;&#1103;_&#1056;&#1091;&#1089;&#1100;" TargetMode="External"/><Relationship Id="rId5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6" Type="http://schemas.openxmlformats.org/officeDocument/2006/relationships/hyperlink" Target="http://ru.wikipedia.org/wiki/&#1050;&#1088;&#1077;&#1097;&#1077;&#1085;&#1080;&#1077;" TargetMode="External"/><Relationship Id="rId7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8" Type="http://schemas.openxmlformats.org/officeDocument/2006/relationships/hyperlink" Target="http://ru.wikipedia.org/wiki/&#1042;&#1072;&#1089;&#1080;&#1083;&#1080;&#1081;_II_%28&#1074;&#1080;&#1079;&#1072;&#1085;&#1090;&#1080;&#1081;&#1089;&#1082;&#1080;&#1081;_&#1080;&#1084;&#1087;&#1077;&#1088;&#1072;&#1090;&#1086;&#1088;%29" TargetMode="External"/><Relationship Id="rId9" Type="http://schemas.openxmlformats.org/officeDocument/2006/relationships/hyperlink" Target="http://ru.wikipedia.org/wiki/&#1050;&#1086;&#1085;&#1089;&#1090;&#1072;&#1085;&#1090;&#1080;&#1085;_VIII" TargetMode="External"/><Relationship Id="rId10" Type="http://schemas.openxmlformats.org/officeDocument/2006/relationships/hyperlink" Target="http://ru.wikipedia.org/wiki/&#1044;&#1085;&#1077;&#1087;&#1088;" TargetMode="External"/><Relationship Id="rId11" Type="http://schemas.openxmlformats.org/officeDocument/2006/relationships/hyperlink" Target="http://ru.wikipedia.org/wiki/&#1055;&#1086;&#1095;&#1072;&#1081;&#1085;&#1072;" TargetMode="External"/><Relationship Id="rId12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Lebedev_baptism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56;&#1091;&#1089;&#1100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0"/>
            <a:ext cx="7777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ревнерусская литератур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911840" y="5734080"/>
            <a:ext cx="42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а Наталья Алексеевн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0" name="Picture 9" descr="nestor"/>
          <p:cNvPicPr/>
          <p:nvPr/>
        </p:nvPicPr>
        <p:blipFill>
          <a:blip r:embed="rId1"/>
          <a:stretch/>
        </p:blipFill>
        <p:spPr>
          <a:xfrm>
            <a:off x="250920" y="3357720"/>
            <a:ext cx="2808360" cy="3500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одумай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распространились книги в Древней Руси? Что такое список? Рукоп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всех ли произведений  древнерусской литературы известны имена авто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больше всего ценят в человеке древнерусские писа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ем состоит гуманизм древнерусской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na_kone"/>
          <p:cNvPicPr/>
          <p:nvPr/>
        </p:nvPicPr>
        <p:blipFill>
          <a:blip r:embed="rId1"/>
          <a:stretch/>
        </p:blipFill>
        <p:spPr>
          <a:xfrm>
            <a:off x="0" y="0"/>
            <a:ext cx="1619280" cy="170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5000111523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1109"/>
          <p:cNvPicPr/>
          <p:nvPr/>
        </p:nvPicPr>
        <p:blipFill>
          <a:blip r:embed="rId3"/>
          <a:stretch/>
        </p:blipFill>
        <p:spPr>
          <a:xfrm>
            <a:off x="7667640" y="5013360"/>
            <a:ext cx="14763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kat100173p"/>
          <p:cNvPicPr/>
          <p:nvPr/>
        </p:nvPicPr>
        <p:blipFill>
          <a:blip r:embed="rId4"/>
          <a:stretch/>
        </p:blipFill>
        <p:spPr>
          <a:xfrm>
            <a:off x="0" y="5013360"/>
            <a:ext cx="1476360" cy="184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Истоки Древнерус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Летописец Не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овесть временных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109"/>
          <p:cNvPicPr/>
          <p:nvPr/>
        </p:nvPicPr>
        <p:blipFill>
          <a:blip r:embed="rId1"/>
          <a:stretch/>
        </p:blipFill>
        <p:spPr>
          <a:xfrm>
            <a:off x="5796000" y="2060640"/>
            <a:ext cx="3173400" cy="45813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34704560"/>
          <p:cNvPicPr/>
          <p:nvPr/>
        </p:nvPicPr>
        <p:blipFill>
          <a:blip r:embed="rId2"/>
          <a:stretch/>
        </p:blipFill>
        <p:spPr>
          <a:xfrm>
            <a:off x="468360" y="1268280"/>
            <a:ext cx="3797280" cy="5079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4211640" y="3860640"/>
            <a:ext cx="49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067280" y="134136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4788000" y="13636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4427640" y="1484280"/>
            <a:ext cx="311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ергамент-специально обработанная кожа ягнят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6659640" y="2349360"/>
            <a:ext cx="212724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Береста-светлый слой березовой кор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427640" y="3429000"/>
            <a:ext cx="28270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Рукопис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свитк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отдельные лист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5580000" y="4653000"/>
            <a:ext cx="33116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АВ-ПОЛУУСТАВ-СКОРОПИСЬ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4356000" y="5589720"/>
            <a:ext cx="455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ное народное творчество-ПРИНЯТИЕ ХРИСТИАНСТВА-проповеди,жития,поучени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6" name="025. A. MARCELLO - ADAGIO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9280" y="189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55640" y="765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Киевской Руси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-XI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4360" y="1700280"/>
            <a:ext cx="462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II-XV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84360" y="3357720"/>
            <a:ext cx="434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-XV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508720" y="364500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3" name="Picture 9" descr="236046769"/>
          <p:cNvPicPr/>
          <p:nvPr/>
        </p:nvPicPr>
        <p:blipFill>
          <a:blip r:embed="rId1"/>
          <a:stretch/>
        </p:blipFill>
        <p:spPr>
          <a:xfrm>
            <a:off x="6227640" y="620640"/>
            <a:ext cx="208944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684360" y="566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Bitstream Vera Sans"/>
              </a:rPr>
              <a:t>XVII</a:t>
            </a:r>
            <a:r>
              <a:rPr b="0" i="1" lang="ru-RU" sz="1800" spc="-1" strike="noStrike">
                <a:solidFill>
                  <a:srgbClr val="ff0000"/>
                </a:solidFill>
                <a:latin typeface="Bitstream Vera Sans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Organization Chart 6"/>
          <p:cNvGrpSpPr/>
          <p:nvPr/>
        </p:nvGrpSpPr>
        <p:grpSpPr>
          <a:xfrm>
            <a:off x="468360" y="1557360"/>
            <a:ext cx="8208360" cy="4462560"/>
            <a:chOff x="468360" y="1557360"/>
            <a:chExt cx="8208360" cy="4462560"/>
          </a:xfrm>
        </p:grpSpPr>
        <p:cxnSp>
          <p:nvCxnSpPr>
            <p:cNvPr id="78" name="_s1028"/>
            <p:cNvCxnSpPr>
              <a:stCxn id="79" idx="0"/>
              <a:endCxn id="80" idx="2"/>
            </p:cNvCxnSpPr>
            <p:nvPr/>
          </p:nvCxnSpPr>
          <p:spPr>
            <a:xfrm flipV="1" rot="16200000">
              <a:off x="6793560" y="235116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1" name="_s1029"/>
            <p:cNvCxnSpPr>
              <a:stCxn id="82" idx="0"/>
              <a:endCxn id="80" idx="1"/>
            </p:cNvCxnSpPr>
            <p:nvPr/>
          </p:nvCxnSpPr>
          <p:spPr>
            <a:xfrm flipV="1">
              <a:off x="5803920" y="3341520"/>
              <a:ext cx="3600" cy="89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84" idx="0"/>
              <a:endCxn id="80" idx="0"/>
            </p:cNvCxnSpPr>
            <p:nvPr/>
          </p:nvCxnSpPr>
          <p:spPr>
            <a:xfrm flipH="1" flipV="1" rot="5400000">
              <a:off x="3920760" y="235152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80" name="_s1031"/>
            <p:cNvSpPr/>
            <p:nvPr/>
          </p:nvSpPr>
          <p:spPr>
            <a:xfrm>
              <a:off x="3341160" y="155736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Священно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исани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роповед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апокрифы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4" name="_s1032"/>
            <p:cNvSpPr/>
            <p:nvPr/>
          </p:nvSpPr>
          <p:spPr>
            <a:xfrm>
              <a:off x="4683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жит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каз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уч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33411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летопис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вест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лово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621432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сл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хожд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етописе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ес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nestorpat"/>
          <p:cNvPicPr/>
          <p:nvPr/>
        </p:nvPicPr>
        <p:blipFill>
          <a:blip r:embed="rId1"/>
          <a:stretch/>
        </p:blipFill>
        <p:spPr>
          <a:xfrm>
            <a:off x="324000" y="2781360"/>
            <a:ext cx="2592360" cy="374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41110_1kyiv"/>
          <p:cNvPicPr/>
          <p:nvPr/>
        </p:nvPicPr>
        <p:blipFill>
          <a:blip r:embed="rId2"/>
          <a:stretch/>
        </p:blipFill>
        <p:spPr>
          <a:xfrm>
            <a:off x="6804000" y="981000"/>
            <a:ext cx="2095560" cy="280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95280" y="2205000"/>
            <a:ext cx="49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Жил во второй половин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XI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в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е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II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851280" y="28526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 Black"/>
              </a:rPr>
              <a:t>ЛЕТОПИСЬ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987640" y="4869000"/>
            <a:ext cx="187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ытий русской истории по годам(летам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932360" y="524196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роизошло в этом году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6948360" y="4508640"/>
            <a:ext cx="17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чем должны знать и помнить потомки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AutoShape 14"/>
          <p:cNvSpPr/>
          <p:nvPr/>
        </p:nvSpPr>
        <p:spPr>
          <a:xfrm rot="1911000">
            <a:off x="3795840" y="3281040"/>
            <a:ext cx="133200" cy="1496880"/>
          </a:xfrm>
          <a:prstGeom prst="downArrow">
            <a:avLst>
              <a:gd name="adj1" fmla="val 50000"/>
              <a:gd name="adj2" fmla="val 2809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4859280" y="342900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AutoShape 18"/>
          <p:cNvSpPr/>
          <p:nvPr/>
        </p:nvSpPr>
        <p:spPr>
          <a:xfrm rot="19617600">
            <a:off x="6161040" y="3213000"/>
            <a:ext cx="158760" cy="1575000"/>
          </a:xfrm>
          <a:prstGeom prst="downArrow">
            <a:avLst>
              <a:gd name="adj1" fmla="val 50000"/>
              <a:gd name="adj2" fmla="val 2480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324000" y="1052640"/>
            <a:ext cx="6429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НЕСТОР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инок (монах) Киево – Печерского монастыр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ЛЕТОПИСЕЦ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Vasnetsov_Bapt_Vladimir"/>
          <p:cNvPicPr/>
          <p:nvPr/>
        </p:nvPicPr>
        <p:blipFill>
          <a:blip r:embed="rId1"/>
          <a:stretch/>
        </p:blipFill>
        <p:spPr>
          <a:xfrm>
            <a:off x="5635800" y="981000"/>
            <a:ext cx="3508200" cy="568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wladimir_krasnoe_solnyshko"/>
          <p:cNvPicPr/>
          <p:nvPr/>
        </p:nvPicPr>
        <p:blipFill>
          <a:blip r:embed="rId2"/>
          <a:stretch/>
        </p:blipFill>
        <p:spPr>
          <a:xfrm>
            <a:off x="3564000" y="907920"/>
            <a:ext cx="2044800" cy="2521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Начало 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Крещение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50920" y="299160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988 году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4"/>
              </a:rPr>
              <a:t>Киевский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князь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5"/>
              </a:rPr>
              <a:t>Владимир Святославич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принял решен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6"/>
              </a:rPr>
              <a:t>креститьс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о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7"/>
              </a:rPr>
              <a:t>Константинопольской Церкв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сле чего, в царствование Императоро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8"/>
              </a:rPr>
              <a:t>Василия 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9"/>
              </a:rPr>
              <a:t>Константина VI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Порфирородных, духовенство крестило киевских людей в вода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0"/>
              </a:rPr>
              <a:t>Днепра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1"/>
              </a:rPr>
              <a:t>Почайны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2"/>
              </a:rPr>
              <a:t>Повесть временных лет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князь во время крещения своего народа вознёс следующую молитву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08000" y="2421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Bitstream Vera Sans"/>
              </a:rPr>
              <a:t>Князь Владимир Красное Солнышко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11280" y="189000"/>
          <a:ext cx="8101080" cy="1800000"/>
        </p:xfrm>
        <a:graphic>
          <a:graphicData uri="http://schemas.openxmlformats.org/drawingml/2006/table">
            <a:tbl>
              <a:tblPr/>
              <a:tblGrid>
                <a:gridCol w="81010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08" name="Рисунок 3" descr="Крещение киевлян К. Лебеде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4824360" cy="4176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7"/>
          <p:cNvSpPr/>
          <p:nvPr/>
        </p:nvSpPr>
        <p:spPr>
          <a:xfrm>
            <a:off x="0" y="43578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508720" y="2156760"/>
            <a:ext cx="331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ринятие христианства князем Владимиром во многом определило духовное и политическое развит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042920" y="6299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К.Лебедев  «Крещение киевлян»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324000" y="26028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Bitstream Vera Sans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13" name="003. J. S. BACH - TOCCATTA IN D MINOR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72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Повесть временных л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42920" y="314172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00720" y="4365720"/>
            <a:ext cx="37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Чудо Георгия о зми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-1620720" y="5157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Олег вещий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5877000"/>
            <a:ext cx="37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Игорь и княгиня Ольга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-1765440" y="4508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Святослав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500720" y="4941720"/>
            <a:ext cx="28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Повесть о белгородском кисел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Сказание о Никите Кожемяк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867280" y="692280"/>
            <a:ext cx="398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– монах Нестор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а около 1113 г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6:13:03Z</dcterms:created>
  <dc:creator>Teacher</dc:creator>
  <dc:description/>
  <dc:language>en-US</dc:language>
  <cp:lastModifiedBy>LEGION</cp:lastModifiedBy>
  <dcterms:modified xsi:type="dcterms:W3CDTF">2015-01-15T12:30:45Z</dcterms:modified>
  <cp:revision>21</cp:revision>
  <dc:subject/>
  <dc:title>Слайд 1</dc:title>
</cp:coreProperties>
</file>