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1708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7"/>
          </p:nvPr>
        </p:nvSpPr>
        <p:spPr>
          <a:xfrm>
            <a:off x="0" y="892620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8"/>
          </p:nvPr>
        </p:nvSpPr>
        <p:spPr>
          <a:xfrm>
            <a:off x="3927240" y="892620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F10B-2E59-47DC-B057-80A067C937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"Вост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славян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древност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9DC5-C663-4062-B700-C62CC56A4EDA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4.Происхождение Рус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Times New Roman"/>
              </a:rPr>
              <a:t>Название Русь объясняется 2-я вариан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1.По названию варяжского племе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2.По названию р.Рось(на Украин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Times New Roman"/>
              </a:rPr>
              <a:t>Прочитайте отрывок из ПВЛ относящийся к 7 веку и сделайте вывод,какой вариант кажется вам верным,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Times New Roman"/>
              </a:rPr>
              <a:t>«Повесть временных лет» рассказы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Напали на полян хазары... И сказали хазары: «Плати-те нам дань». Посоветовались поляне и дали от двора меч... И сказали старцы хазарские: «Не добрая это дань. Мы добыли ее саблями, заостренными с одной стороны, а у этих оружие обоюдоострое; будут они (русы) потом брать дань с нас самих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951F-8957-450D-8591-A9B35B465FC2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Calibri"/>
              </a:rPr>
              <a:t>План ур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1.Происхождение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2.Расселение славянских плем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3.Язычество древни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4.Происхождение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1F55-B428-4CCD-9C1D-B85BDCD5F5BB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00"/>
                </a:solidFill>
                <a:uFillTx/>
                <a:latin typeface="Calibri"/>
              </a:rPr>
              <a:t>Задание на уро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пытайтесь выяснить, чем славяне отличались от других народов Евро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2E45-8D94-4CE8-961D-D6F3CDE2D38E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1.Происхождение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B7EA-E337-4F1A-BF86-62B0C3D02A03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2.Расселение славянских племе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Восточные славяне заселив Восточно- Европейскую рав-нину, постепенно обособились друг от друга, и раздели-лись на пле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Определите, как на-зывались племена восточных славян, и где они жи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2FBF-3E97-461C-991F-AB8FC840D706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2.Расселение славянских племе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Большинство славян жили в лесах, но поляне обитали в лесостепной пол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-Опишите их быт? Чем они занима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40C9-21D1-41B6-938E-CDF1116DC290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Язычество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это не религия, а мировоззрение.Славя-не пытались объяснить то ,что видели вокр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-Почему появилась вера в бог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Рассмотрите слайд и по-пытайтесь определить, какие боги были у сла-вян и чему они покрови-тельствова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Перун-верховный бог,Сва-рог-бог огня, Стрибог-бог ветра,Велес бог ско-товодства,Мокошь-боги-ня т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10D0-7CB8-461F-9D68-B955B32D6D64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Для поклонения богам славяне строили Капища.По его границе водружались Идолы(деревянные изображе-ния бог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В капищах славяне приносили жертвы,совершали об-ряды, просили богов о милости и покровительстве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051D-468E-4DD9-8164-F4730501E831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Наряду с богами славяне верили в «низших дух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Те в свою очередь делились на полезных и опасных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Определите, кто изображен на слайдах и к какой группе духов относятся эти су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-Домовой,леший,водяной,волкол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Каких еще славянских духов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973A-4D2E-4EE3-B5E0-00788DA6B15A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1FB4F-F1BF-45FC-93EF-D0CE03B8A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A7FA-908B-42D3-89EC-7A7FC8E08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8F59-7B45-4726-9B5B-A00E68972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5670-1616-446A-B2CE-D5DEA7413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0C12B-B209-422C-AD68-2793FE22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E748E-5565-4C62-9AF1-31AA33B9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98A66-9130-45C1-8CB5-5F5E08D3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36018-49EF-4F48-BD6D-ECE84171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1DEC9-EB40-46A1-AD23-F1968832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E2443-6121-41F6-A716-4EE34CBA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445FF-E1D4-4A37-B656-C6D614B3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5C87-4962-4C75-B0F5-01D270EB7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30A61-4B14-4B5D-AB11-BEFE0CF3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E50A3-2FA5-477D-BB84-0C9A138E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92A44-BC32-4F3C-AF82-2D2D8913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2D9F0-5A7C-47A7-8359-C7BCFB12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5254A-652C-4235-A20D-10A18E1E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8086C-AA41-4F4C-B175-955582960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34F6-FDD1-48B7-B97C-4A17E3923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1D5E-76BC-4367-BAA9-4DDC4A39E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4A76E-2C5B-416C-8614-8C7EDC591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B7D21-E0EB-45C8-8C6B-219B38A59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5F94F-5D07-4834-99D2-A616545A5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08B5A-BA93-4FC2-B7D0-2CC56A567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FA79-170B-4487-B8B3-C7D0E4960D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lnTo>
                  <a:pt x="1129" y="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2730" y="4317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1115-2E59-49CB-AD66-9D8099D5FC01}" type="datetime">
              <a:rPr b="0" lang="ru-RU" sz="3200" spc="-1" strike="noStrike">
                <a:solidFill>
                  <a:srgbClr val="336699"/>
                </a:solidFill>
                <a:latin typeface="Arial"/>
              </a:rPr>
              <a:t>30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E490-DCBD-4F86-B385-C3D8084BA0A2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4698-DE5A-4D30-BF06-A4C3FCD5D3A4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30.07.26</a:t>
            </a:fld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4" name="WordArt 6" descr="Дуб"/>
          <p:cNvPicPr/>
          <p:nvPr/>
        </p:nvPicPr>
        <p:blipFill>
          <a:blip r:embed="rId1"/>
          <a:stretch/>
        </p:blipFill>
        <p:spPr>
          <a:xfrm>
            <a:off x="1579680" y="2724120"/>
            <a:ext cx="6973920" cy="3925800"/>
          </a:xfrm>
          <a:prstGeom prst="rect">
            <a:avLst/>
          </a:prstGeom>
          <a:ln w="0">
            <a:noFill/>
          </a:ln>
        </p:spPr>
      </p:pic>
      <p:pic>
        <p:nvPicPr>
          <p:cNvPr id="105" name="WordArt 7" descr=""/>
          <p:cNvPicPr/>
          <p:nvPr/>
        </p:nvPicPr>
        <p:blipFill>
          <a:blip r:embed="rId2"/>
          <a:stretch/>
        </p:blipFill>
        <p:spPr>
          <a:xfrm>
            <a:off x="2193840" y="712800"/>
            <a:ext cx="5962680" cy="10191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8763120" cy="6172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звание Русь объясняется 2-я вариантами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1.По названию варяжского племени,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2.По названию р.Рось(на Украине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читайте отрывок из ПВЛ относящийся к 7 веку и сделайте вывод,какой вариант кажется вам верным, почему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«Повесть временных лет» рассказывает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пали на полян хазары... И сказали хазары: «Плати-те нам дань». Посоветовались поляне и дали от двора меч... И сказали старцы хазарские: «Не добрая это дань. Мы добыли ее саблями, заостренными с одной стороны, а у этих оружие обоюдоострое; будут они (русы) потом брать дань с нас самих!»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4.Происхождение Руси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2361960"/>
            <a:ext cx="7240320" cy="3809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.Происхождение славя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2.Расселение славянских племе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3.Язычество древних славя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4.Происхождение Рус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урок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76520" y="2362320"/>
            <a:ext cx="724032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опытайтесь выяснить, чем славяне отличались от других народов Европы?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6" descr="Рисунок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1.Происхождение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7880" y="4130640"/>
            <a:ext cx="5671800" cy="82548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Определите по карте прародину славян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 родственные им народы?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88360" y="838080"/>
            <a:ext cx="1043280" cy="4597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балт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487240" y="1557360"/>
            <a:ext cx="1572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германц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08520" y="879480"/>
            <a:ext cx="18784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скандинав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58040" y="1523880"/>
            <a:ext cx="12110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кельт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21120" y="3048120"/>
            <a:ext cx="9716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баск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537200" y="2743200"/>
            <a:ext cx="13543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талик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97200" y="2209680"/>
            <a:ext cx="11149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скиф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128120" y="1523880"/>
            <a:ext cx="127944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лавяне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071480" y="3789360"/>
            <a:ext cx="167436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ндо-ари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6267600" y="2860560"/>
            <a:ext cx="10342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перс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724280" y="838080"/>
            <a:ext cx="4267440" cy="59436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осточные славяне заселив Восточно- Европейскую рав-нину, постепенно обособились друг от друга, и раздели-лись на племен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Определите, как на-зывались племена восточных славян, и где они жили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2.Расселение славянских племе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9" name="Picture 8" descr="Рисунок8"/>
          <p:cNvPicPr/>
          <p:nvPr/>
        </p:nvPicPr>
        <p:blipFill>
          <a:blip r:embed="rId1"/>
          <a:stretch/>
        </p:blipFill>
        <p:spPr>
          <a:xfrm>
            <a:off x="46080" y="836640"/>
            <a:ext cx="4670280" cy="5977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320" y="5105160"/>
            <a:ext cx="8991360" cy="1600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ольшинство славян жили в лесах, но поляне обитали в лесостепной полос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-Опишите их быт? Чем они занимались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2.Расселение славянских племе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3" name="Picture 8" descr="Рисунок7"/>
          <p:cNvPicPr/>
          <p:nvPr/>
        </p:nvPicPr>
        <p:blipFill>
          <a:blip r:embed="rId1"/>
          <a:stretch/>
        </p:blipFill>
        <p:spPr>
          <a:xfrm>
            <a:off x="1906560" y="739800"/>
            <a:ext cx="5761080" cy="43196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9" descr="Рисунок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0600" y="873000"/>
            <a:ext cx="4451400" cy="5220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1640" y="609120"/>
            <a:ext cx="4419720" cy="6172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Язычество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это не религия, а мировоззрение.Славя-не пытались объяснить то ,что видели вокруг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-Почему появилась вера в богов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ассмотрите слайд и по-пытайтесь определить, какие боги были у сла-вян и чему они покрови-тельствовали?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ерун-верховный бог,Сва-рог-бог огня, Стрибог-бог ветра,Велес бог ско-товодства,Мокошь-боги-ня ткачеств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980720" y="981000"/>
            <a:ext cx="98856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перун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320280" y="6051600"/>
            <a:ext cx="128700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мокошь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 flipV="1">
            <a:off x="3962520" y="5552640"/>
            <a:ext cx="304560" cy="381240"/>
          </a:xfrm>
          <a:prstGeom prst="line">
            <a:avLst/>
          </a:prstGeom>
          <a:ln cap="sq" w="7632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2955600" y="5692680"/>
            <a:ext cx="92304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велес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1024200" y="5235480"/>
            <a:ext cx="125352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трибог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3241800" y="2492280"/>
            <a:ext cx="109368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варог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" dur="1" fill="hold"/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20" y="4648320"/>
            <a:ext cx="8991360" cy="2133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ля поклонения богам славяне строили Капища.По его границе водружались Идолы(деревянные изображе-ния богов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 капищах славяне приносили жертвы,совершали об-ряды, просили богов о милости и покровительстве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7" name="Picture 5" descr="Рисунок5"/>
          <p:cNvPicPr/>
          <p:nvPr/>
        </p:nvPicPr>
        <p:blipFill>
          <a:blip r:embed="rId1"/>
          <a:stretch/>
        </p:blipFill>
        <p:spPr>
          <a:xfrm>
            <a:off x="1763640" y="692280"/>
            <a:ext cx="5832720" cy="39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320" y="4191120"/>
            <a:ext cx="8991360" cy="25905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аряду с богами славяне верили в «низших духов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Те в свою очередь делились на полезных и опасных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Определите, кто изображен на слайдах и к какой группе духов относятся эти существа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-Домовой,леший,водяной,волколак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Каких еще славянских духов вы знаете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1" name="Picture 9" descr="Рисунок4"/>
          <p:cNvPicPr/>
          <p:nvPr/>
        </p:nvPicPr>
        <p:blipFill>
          <a:blip r:embed="rId1"/>
          <a:stretch/>
        </p:blipFill>
        <p:spPr>
          <a:xfrm>
            <a:off x="179280" y="812880"/>
            <a:ext cx="1778040" cy="3336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Рисунок3"/>
          <p:cNvPicPr/>
          <p:nvPr/>
        </p:nvPicPr>
        <p:blipFill>
          <a:blip r:embed="rId2"/>
          <a:stretch/>
        </p:blipFill>
        <p:spPr>
          <a:xfrm>
            <a:off x="2001960" y="812880"/>
            <a:ext cx="2187360" cy="3317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Рисунок2"/>
          <p:cNvPicPr/>
          <p:nvPr/>
        </p:nvPicPr>
        <p:blipFill>
          <a:blip r:embed="rId3"/>
          <a:stretch/>
        </p:blipFill>
        <p:spPr>
          <a:xfrm>
            <a:off x="4233960" y="812880"/>
            <a:ext cx="2176200" cy="3317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Рисунок1"/>
          <p:cNvPicPr/>
          <p:nvPr/>
        </p:nvPicPr>
        <p:blipFill>
          <a:blip r:embed="rId4"/>
          <a:stretch/>
        </p:blipFill>
        <p:spPr>
          <a:xfrm>
            <a:off x="6454800" y="812880"/>
            <a:ext cx="2509920" cy="33177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1:55:04Z</dcterms:created>
  <dc:creator>elior</dc:creator>
  <dc:description/>
  <dc:language>en-US</dc:language>
  <cp:lastModifiedBy>LEGION</cp:lastModifiedBy>
  <cp:lastPrinted>1997-01-19T19:09:28Z</cp:lastPrinted>
  <dcterms:modified xsi:type="dcterms:W3CDTF">2015-01-15T12:35:06Z</dcterms:modified>
  <cp:revision>18</cp:revision>
  <dc:subject/>
  <dc:title>Заголовок слайда отсутствует</dc:title>
</cp:coreProperties>
</file>