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46895-D7E9-478A-B6A8-08D9486837B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Toyota" TargetMode="External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режливое произво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8967C-77D9-4A75-9DDF-6CF2F724E99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лгоритм внедрения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EAN -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деолог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ти проводника перемен (нужен ЛИДЕР, способный взять на себя ответственность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ить необходимые знания по систем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N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знания должны быть получены из надежного источник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ти или создать кризис (хорошим мотивом внедрени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N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лужит кризис в организаци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ить карту всего потока создания ценности для каждого семейства продук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можно быстрей начинать работу по основным направлениям (информация о результатах должна быть доступна персоналу организаци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емиться немедленно получить результа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ять непрерывные улучшения по системе Кайдзен (переходить от процессов создания ценностей в цехах к административным процесса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776A2-2A44-4CE7-A910-FF8B932063E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ипичные ошибки при внедрении бережливого производств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о семь видов основных ошибо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нимание роли руководства при внедрении системы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роение «Системы», не обладающей необходимой гибк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о внедрения не с «осн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яются рабочие места, но не меняются привы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измерять (собирать данные), но ни на что не реагиров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аралитический анализ» (бесконечный анализ ситуации, вместо непрерывных улучшени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ходиться без поддерж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861D9-A0CC-4094-9F08-90F36EF5A5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AN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культура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режливое производство невозможно без бережливой культуры. Главное 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n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туре — человеческий фактор, коллективная рабо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енную поддержку этому оказывает эмоциональный интеллект (EQ) сотрудни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n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ультуре соответствует и определенная корпоративная культу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73C8-311B-4E26-A70F-A356CBD5954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айдзен – это настоящая философи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ософия постоянного, неторопливого совершенствования всех процес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ть  стоит только с реальными фак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 и анализ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очных данны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ршенствование процессов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онцепция Кайдз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BDB72-2125-4A59-9FA2-006D983F775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йдз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концепции кайдзен относят большую часть извест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понских техник менеджмен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оставки-точно-в-срок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нба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общий контроль качества, контроль качества в масштабе всей комп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у нуль дефе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у подачи предложений и многое друго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A8BD5-D20D-45F8-B40D-061E6E0A590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Кайдз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истеме Кайдзен каждый сотрудник является равноправным партнером комп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9E385-D2E1-493E-82E5-33CB6690500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оставки-точно-в-сро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итель, в качестве любого последующе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ть -  продукция должна быть поставлена потребителю в идеальном варианте. Без дефектов, на каждом предыдущем этап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33B68-65AD-4747-8CE8-786A59437D2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 КАНБ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CANBAN, тянущая система, pull system) - наиболее распространенная разновид-ность системы "точно в срок") - система, обеспечивающая организацию непрерывного материального потока при отсутствии запасов: производственные запасы подаются не-большими партиями непосредственно в нужные точки производственного процесса, минуя склад, а готовая продукция сразу отгружается покупателя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E9BC1-6C0E-450A-951F-18CA71E3E4D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 КАНБ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ы производства на данном участке определяются потребностями следующего производственного участ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0A3B4-C23A-46CA-A591-FF1C982ABBC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 КАНБ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B21A-74EB-42EA-9BA6-3434EC3D51F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ы никогда не решишь проблему, если будешь думать так же, как те, кто ее созда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Альберт Эйнштейн (1879–1955), немецкий физи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72B94-E08D-4F60-90B6-D7583FFF40E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 КАНБ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емление к снижению запасов – метод выявления и решения производственных пробл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опление запасов и завышенные объемы производства  скрывают: частые поломки и остановки оборудования, производственный бра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требования системы CANB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ноль запасов"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ноль дефектов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истема CANBAN   невозможна без внедрения комплексной системы управления качеств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5B90F-3E69-463A-AB2E-04A4912AD8D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 КАНБ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ажными элементами системы CANBAN являются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система, включающая не только карточки, но и производственные, транспортные и снабженческие графики, технологические карт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регулирования потребности и профессиональной ротации кадр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всеобщего (TQM) и выборочного ("Дзидока") контроля качества продук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выравнивания производ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FC64-B7EB-4E01-8696-7A5B2AD5E7E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 КАНБ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реимущества системы CANBAN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откий производственный цикл, высокая оборачиваемость активов, в том числе запас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уют или чрезвычайно низки издержки хранения производственных и товарных запас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ое качество продукции на всех стадиях производственного процес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FBD98-EB18-4690-9773-2DF59108DCD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новные недостатки системы "точно в срок"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ость обеспечения высокой согласованности между стадиями производства продук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ительный риск срыва производства и реализации продук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193B5-E4B6-4BD9-B54E-0EE31907A24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ы «канбан» и «точно вовремя» - два метода управления производством и запасами - помогают найти лучшие способы повышения производительности процесса и качества продук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DBBEA-85DA-4D65-9B3F-1EAFB60A973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Calibri"/>
              </a:rPr>
              <a:t>Система    качества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Четырнадцать принципов Уильям Эдвардса Демин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тоянство цел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улучшение продукции и обслужи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овая философ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ля нового экономического периода путем познания менеджерами своих обязанностей и принятия на себя лидерства на пути к переменам. Далее, обращаясь к менеджерам, д-р Деминг призывае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кончите с зависимостью от массового контрол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достижении качества; исключите необходимость в массовом контроле, сделав качество неотъемлемым свойством продукции, «встроив» качество в продукц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кончите с практикой закупок по самой дешевой цене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место этого следует минимизировать общие затраты и стремиться к выбору определенного поставщика для каждого продукта, необходимого в производств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лучшайте каждый процес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ля улучшения качества, повышения производительности и уменьшения затра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ведите в практику подготовку и переподготовку кадров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редите «лидерство»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оцесс руководства сотрудниками должен помогать им лучше делать свою работу; необходимо тщательно рассмотреть систему управления персонал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гоняйте страхи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чтобы все могли эффективно работать для предприят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рушайте барьер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ежду подразделениями; исследования, проектирование, производство и реализация должны быть объединены, чтобы предвидеть проблемы производства и эксплуат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кажитесь от пустых лозунгов, призыв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ля производственного персонала, таких, как «ноль дефектов» или новые задания по производительности. Такие призывы бессмысленны, так как подавляющее большинство проблем возникает в системе и находится вне возможностей работни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страните произвольно установленные задания и количественные нормы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айте работникам возможность гордиться своим трудом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страните барьеры, которые обкрадывают рабочих и руководителей, лишая их возможности гордиться своим труд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ощряйте стремление к образованию и совершенствованию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обходима приверженность делу повышения качества и действенность высшего руководств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59AE-1DF6-4837-8F81-A2691715C4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ловия мешающие реализации внедрения системы качест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постоянства цел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гоня за сиюминутной выгодо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ы аттестации и ранжирования персонал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оянная ротация кадров управляющи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только количественных критериев для оценки деятельности компа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3291C-6DBE-4E81-9E9C-2CD0C0970C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ка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лан действ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руководство, опираясь на все 14 принципов, борется со «смертельными болезнями» и препятствиями, согласовывает понятия и направления планов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руководство собирается с духом и внутренне настраивается на движение в новом направлении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руководство объясняет сотрудникам компании, почему перемены необходимы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вся деятельность компании разбивается на этапы (стадии), при этом каждый последующий этап является как бы заказчиком предыдущего. Постоянное улучшение методов работы должно осуществляться на каждом этапе, и каждый этап должен работать в направлении качества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как можно быстрее строится организационная структура, которая будет работать на постоянное улучшение качеств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) каждый сотрудник может принять участие в совершенствовании работы на любом этапе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) Для строительства системы качества - требуется участие знающих специалис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E25C0-62D9-4652-A7A8-6C6D1B58212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9 видов потер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читесь видеть эти потери и избавляться от них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ТРАВМ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чинение вреда здоровью люд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ТРАНСПОРТИРОВК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мещения вещей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СКЛАД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ещи, ожидающие своего ча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ПЕРЕМЕЩЕН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лишние перемещения люд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ВРЕМЯ ОЖИДАН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жидание чего-либ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ПЕРЕПРОИЗВОДСТВ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ишком много продукции/ресурсов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ИЗЛИШНЯЯ ОБРАБОТК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лание того, что не добавляет цен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БРАК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неправильные» вещи, требующие доработ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897C9-2D56-42D3-A321-448DCBFBAC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едостаточно полное использование интеллекта и таланта люд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09107-A8A7-4300-BEDB-69D51317892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lean production, lean manufacturing — англ. lean — постный, стройный, без жира; в России с 2004 года принят перевод «бережливое», хотя ранее встречались варианты «стройное», «щадящее», «рачительное», сейчас также встречается вариант с транслитом «лин») —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концепция менеджмента, созданная на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Toyota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 и основанная на неуклонном стремлении к устранению всех видов потерь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20B39-DB87-41EC-A9DF-1660F9F86C1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МЕНТ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ДЕОЛОГИИ НЕПРЕРЫВНЫХ УЛУЧ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98E6F-E42D-473E-90CB-1E9F530757B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ИЗУАЛЬНОЕ  УПР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1959B-81DD-4301-977A-522EA53D61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6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“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954BD-D137-41C9-BC81-D50E9550C9F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тяги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диняет потоковые ячейки вместе Содержит 3 элемен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3AD9F-BBD7-4F15-943C-7002EB0427F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андартна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687C2-78FA-400C-8EBC-77E9FC423E8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андартна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позволяет избежать серьезных отклонений при выполнении работы, как в сроках, так и в получаемом каче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64E6E-C141-4E67-8E48-FE354F1840E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изуальное Упр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27E6-B869-4E06-8AB4-F81FCA07694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ЧИСЛО АЛЬТЕРНАТИВНЫХ СЦЕНАРИЕВ БЕСКОНЕЧН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ью Эверет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2DF2D-7C3D-41E4-8625-AC1238F77CE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263AF-8A1D-4612-8D67-986019CE5D9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режливое произво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режливое производство предполагает вовлечение в процесс оптимизации бизнеса каждого сотрудника и максимальную ориентацию на потребителя. Целями бережливого производства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трудозатра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сроков разработки новой продукц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сроков создания продукц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производственных и складских площаде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рантия поставки продукции заказчик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симальное качество при минимальной стои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A299F-FD5C-431F-903D-24EE8F5E036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правная точка бережливого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ность для потребите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точки зрения конечного потребителя, продукт(услуга) приобретает действительную ценность только в то время, когда происходит непосредственная обработка, изготовление технологических элемен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ё, что не добавляет ценности для потребителя, с точки зрения бережливого производства, классифицируется как потери, и должно быть устране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110F6-A70A-4761-8428-2D773F315B2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ринцип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ь ценность конкретного продукта.(</a:t>
            </a: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Ценност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товар или услуга за которую платит Заказчик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ь поток создания ценности для этого проду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ть непрерывное течение потока создания ценности проду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волить потребителю вытягивать проду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емиться к совершенст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74CAF-667C-4587-9DF0-31ECB450459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 принципов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LE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Ц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Заказчик покупает на самом де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Цепочка Создания Ц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оздается ц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т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лучшение цепочки создания ц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ытяги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потоком только на основании реальных потребно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овершенств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оянный нескончаемый процесс улуч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BE692-EF08-4174-834F-0E2F34A8A0E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ругие принци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восходное качество (сдача с первого предъявления, система ноль дефектов, обнаружение и решение проблем у истоков их возникновен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к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долговременных отношений с заказчиком (путем деления рисков, затрат и информаци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организация, эволюция, адапт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798C6-5D4B-4861-91DD-D859C3140CC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струменты бережливого производств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TPM (Total Productive Maintenance) — Всеобщий уход за оборудова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6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ортируйте, соблюдайте порядок, содержите в чистоте, стандартизируйте, совершенствуйт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страя переналадк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Single-Minute Exchange of Dies (буквально «быстрая смена пресс-форм» — переналадка/переоснастка оборудования менее чем за 10 минут). Переналадка в одно касание (One-touch setup) — вариант SMED, но время переналадки уже изменяерся единицами минут, то есть не больше 9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йдзен(kaizen) — непрерывное совершенств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мба кайдзен — непрерывное совершенствование на месте создания дополнительной стои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нбан, вытягивающее производство — продукция «вытягивается» со стороны заказчика, а не «толкается» производителем. Информирования предыдущей производственной стадии о том, что нужно начинать работ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но в срок— система синхронизации передачи продукта с одной производственной стадии на другую посредством карточек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анба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Комплектующие должны передаваться на следующую стадию только тогда, когда это нужно, и ни минутой раньш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ока — ёкэ» («защита от ошибок», «защита от дурака») — метод предотвращения ошибок — специальное устройство или метод, благодаря которому дефекты просто не могут появи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90C9C-E71A-4445-A87A-CB0CE84478E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EEA9-16BA-4930-AD50-325724B9B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22CE-C3B0-40B9-998D-D7AA66823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2A3B-2D6C-441B-88CA-B6366B978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9F0F-33F5-47DB-B74F-8A0499199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85390-B1DE-4450-B696-725D4F4B7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938EC-411E-4F83-AD2C-C1995E16D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4FE8C-46AD-4D26-AC1F-3F6BF6CF4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2187D-6828-4435-B4BD-00C4574E7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221F2-66CA-45D6-AF33-E4ACCF38C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3719E-82C3-4E93-BD44-C664BE1B2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1C97B-2610-4032-8220-98731BBE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F884-70A4-4AA3-BD50-D940BE10F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E6A18-1E74-44EA-8EC3-B4D35FA4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C6C84-8D67-432A-A6D8-AEDC60C8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2C557-8825-4F9E-9456-3F22AE376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B38BC-171A-430B-A45A-D8895E35D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12EE8-809E-4C46-B22A-A5A503750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B9CF-7543-46AF-A86E-855651958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7980-8BAA-4593-931D-AE7204D11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737F-DAE6-4F20-A838-FC7FA66FF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75A3-0DED-4741-93FB-FDA724264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4D30-D380-4A35-A1C7-4E83CBDF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50D2-4CEA-480F-8F1A-4002D519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38E8-6E91-4B1B-9A61-A7197A43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6D9FC-DAF3-448D-834D-91CBFA3F061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EF911-C988-423C-A612-47D9CEA7AB3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Toyota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61760" y="1295280"/>
            <a:ext cx="7543800" cy="426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Arial"/>
              </a:rPr>
              <a:t>Бережливое производство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Алгоритм внедрения </a:t>
            </a: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LEAN - </a:t>
            </a: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идеолог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ти проводника перемен (нужен ЛИДЕР, способный взять на себя ответственность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ить необходимые знания по систем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знания должны быть получены из надежного источник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ти или создать кризис (хорошим мотивом внедрени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лужит кризис в организаци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авить карту всего потока создания ценности для каждого семейства продук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можно быстрей начинать работу по основным направлениям (информация о результатах должна быть доступна персоналу организаци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емиться немедленно получить результа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уществлять непрерывные улучшения по системе Кайдзен (переходить от процессов создания ценностей в цехах к административным процесса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Типичные ошибки при внедрении бережливого производства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лено семь видов основных ошибо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понимание роли руководства при внедрении систем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ение «Системы», не обладающей необходимой гибкос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ало внедрения не с «осн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яются рабочие места, но не меняются привы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измерять (собирать данные), но ни на что не реагиро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Паралитический анализ» (бесконечный анализ ситуации, вместо непрерывных улучшен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ходиться без поддерж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L</a:t>
            </a: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EAN </a:t>
            </a: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 культура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режливое производство невозможно без бережливой культуры. Главное 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n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ультуре — человеческий фактор, коллективная рабо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щественную поддержку этому оказывает эмоциональный интеллект (EQ) сотрудни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n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ультуре соответствует и определенная корпоративная культу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Кайдзен – это настоящая философия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лософия постоянного, неторопливого совершенствования всех процес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ть  стоит только с реальными факт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бор и анализ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очных данны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ершенствование процессов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онцепция Кайдз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279000" y="32457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990720" y="4572000"/>
            <a:ext cx="70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5"/>
          <p:cNvSpPr/>
          <p:nvPr/>
        </p:nvSpPr>
        <p:spPr>
          <a:xfrm>
            <a:off x="914400" y="1841040"/>
            <a:ext cx="77724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концепции кайдзен относят большую часть извест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понских техник менеджмен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поставки-точно-в-срок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нба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общий контроль качества, контроль качества в масштабе всей компа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у нуль дефек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у подачи предложений и многое друг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330033"/>
                </a:solidFill>
                <a:latin typeface="Times New Roman"/>
              </a:rPr>
              <a:t>Кайдзен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истема Кайдзен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системе Кайдзен каждый сотрудник является равноправным партнером компа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457200" y="598896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«Поставки-точно-в-срок»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требитель, в качестве любого последующего проц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ть -  продукция должна быть поставлена потребителю в идеальном варианте. Без дефектов, на каждом предыдущем этап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Система КАНБАН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CANBAN, тянущая система, pull system) - наиболее распространенная разновид-ность системы "точно в срок") - система, обеспечивающая организацию непрерывного материального потока при отсутствии запасов: производственные запасы подаются не-большими партиями непосредственно в нужные точки производственного процесса, минуя склад, а готовая продукция сразу отгружается покупателя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Система КАНБАН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меры производства на данном участке определяются потребностями следующего производственного участ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Система КАНБАН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0" name="Picture 4" descr="canban-1"/>
          <p:cNvPicPr/>
          <p:nvPr/>
        </p:nvPicPr>
        <p:blipFill>
          <a:blip r:embed="rId1"/>
          <a:stretch/>
        </p:blipFill>
        <p:spPr>
          <a:xfrm>
            <a:off x="838080" y="1676520"/>
            <a:ext cx="8001000" cy="472428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ы никогда не решишь проблему, если будешь думать так же, как те, кто ее созд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ьберт Эйнштейн (1879–1955), немецкий физ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Система КАНБАН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емление к снижению запасов – метод выявления и решения производственных пробл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копление запасов и завышенные объемы производства  скрывают: частые поломки и остановки оборудования, производственный бра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требования системы CANB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ноль запасов"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ноль дефектов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истема CANBAN   невозможна без внедрения комплексной системы управления качеств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Система КАНБАН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жными элементами системы CANBAN являютс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ая система, включающая не только карточки, но и производственные, транспортные и снабженческие графики, технологические карт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регулирования потребности и профессиональной ротации кадро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всеобщего (TQM) и выборочного ("Дзидока") контроля качества продукци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выравнивания производ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Система КАНБАН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ые преимущества системы CANBA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откий производственный цикл, высокая оборачиваемость активов, в том числе запасов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сутствуют или чрезвычайно низки издержки хранения производственных и товарных запасов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сокое качество продукции на всех стадиях производственного процесс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сновные недостатки системы "точно в срок"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жность обеспечения высокой согласованности между стадиями производства продукци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чительный риск срыва производства и реализации продук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ы «канбан» и «точно вовремя» - два метода управления производством и запасами - помогают найти лучшие способы повышения производительности процесса и качества продук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Система    качеств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Четырнадцать принципов Уильям Эдвардса Демин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стоянство цел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— улучшение продукции и обслужи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овая философ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ля нового экономического периода путем познания менеджерами своих обязанностей и принятия на себя лидерства на пути к переменам. Далее, обращаясь к менеджерам, д-р Деминг призывает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кончите с зависимостью от массового контрол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достижении качества; исключите необходимость в массовом контроле, сделав качество неотъемлемым свойством продукции, «встроив» качество в продукц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кончите с практикой закупок по самой дешевой цене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место этого следует минимизировать общие затраты и стремиться к выбору определенного поставщика для каждого продукта, необходимого в производств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лучшайте каждый процесс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ля улучшения качества, повышения производительности и уменьшения затра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ведите в практику подготовку и переподготовку кадров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чредите «лидерство»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оцесс руководства сотрудниками должен помогать им лучше делать свою работу; необходимо тщательно рассмотреть систему управления персонал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згоняйте страхи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тобы все могли эффективно работать для предприят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рушайте барьер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между подразделениями; исследования, проектирование, производство и реализация должны быть объединены, чтобы предвидеть проблемы производства и эксплуат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кажитесь от пустых лозунгов, призыв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ля производственного персонала, таких, как «ноль дефектов» или новые задания по производительности. Такие призывы бессмысленны, так как подавляющее большинство проблем возникает в системе и находится вне возможностей работник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страните произвольно установленные задания и количественные нормы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айте работникам возможность гордиться своим трудом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устраните барьеры, которые обкрадывают рабочих и руководителей, лишая их возможности гордиться своим труд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ощряйте стремление к образованию и совершенствованию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обходима приверженность делу повышения качества и действенность высшего руководства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Условия мешающие реализации внедрения системы качеств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сутствие постоянства целе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гоня за сиюминутной выгодо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ы аттестации и ранжирования персонал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оянная ротация кадров управляющих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ние только количественных критериев для оценки деятельности компан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истема качеств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лан действ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руководство, опираясь на все 14 принципов, борется со «смертельными болезнями» и препятствиями, согласовывает понятия и направления планов;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руководство собирается с духом и внутренне настраивается на движение в новом направлении;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руководство объясняет сотрудникам компании, почему перемены необходимы;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) вся деятельность компании разбивается на этапы (стадии), при этом каждый последующий этап является как бы заказчиком предыдущего. Постоянное улучшение методов работы должно осуществляться на каждом этапе, и каждый этап должен работать в направлении качества;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) как можно быстрее строится организационная структура, которая будет работать на постоянное улучшение качества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) каждый сотрудник может принять участие в совершенствовании работы на любом этапе;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) Для строительства системы качества - требуется участие знающих специалист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99"/>
                </a:solidFill>
                <a:latin typeface="Times New Roman"/>
              </a:rPr>
              <a:t>9 видов потерь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15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читесь видеть эти потери и избавляться от ни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5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ТРАВМ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чинение вреда здоровью лю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5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ТРАНСПОРТИРОВ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мещения веще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5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СКЛАД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щи, ожидающие своего ча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5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ПЕРЕМЕЩ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лишние перемещения лю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5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ВРЕМЯ ОЖИД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жидание чего-либ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5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ПЕРЕПРОИЗВОДСТВ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ишком много продукции/ресурс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5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ИЗЛИШНЯЯ ОБРАБОТ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лание того, что не добавляет ц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5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БРА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неправильные» вещи, требующие дорабо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Недостаточно полное использование интеллекта и таланта люде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914400" y="167616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lean production, lean manufacturing — англ. lean — постный, стройный, без жира; в России с 2004 года принят перевод «бережливое», хотя ранее встречались варианты «стройное», «щадящее», «рачительное», сейчас также встречается вариант с транслитом «лин») —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онцепция менеджмента, созданная на </a:t>
            </a:r>
            <a:r>
              <a:rPr b="0" lang="ru-RU" sz="32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Toyota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и основанная на неуклонном стремлении к устранению всех видов потерь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1066680" y="22860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ережливое производ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СТРУМЕНТ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ДЕОЛОГИИ НЕПРЕРЫВНЫХ УЛУЧШ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AutoShape 9"/>
          <p:cNvSpPr/>
          <p:nvPr/>
        </p:nvSpPr>
        <p:spPr>
          <a:xfrm flipV="1">
            <a:off x="2438280" y="4267080"/>
            <a:ext cx="4361040" cy="1447920"/>
          </a:xfrm>
          <a:custGeom>
            <a:avLst/>
            <a:gdLst>
              <a:gd name="textAreaLeft" fmla="*/ 937080 w 4361040"/>
              <a:gd name="textAreaRight" fmla="*/ 3423960 w 4361040"/>
              <a:gd name="textAreaTop" fmla="*/ 311040 h 1447920"/>
              <a:gd name="textAreaBottom" fmla="*/ 11368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684" y="21600"/>
                </a:lnTo>
                <a:lnTo>
                  <a:pt x="15916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5715000"/>
            <a:ext cx="8229600" cy="944640"/>
          </a:xfrm>
          <a:prstGeom prst="rect">
            <a:avLst/>
          </a:pr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ЗУАЛЬНОЕ  УПРА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rc 5"/>
          <p:cNvSpPr/>
          <p:nvPr/>
        </p:nvSpPr>
        <p:spPr>
          <a:xfrm>
            <a:off x="2514600" y="762120"/>
            <a:ext cx="2484360" cy="2458800"/>
          </a:xfrm>
          <a:prstGeom prst="pie">
            <a:avLst/>
          </a:prstGeom>
          <a:solidFill>
            <a:srgbClr val="ffcc66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rc 6"/>
          <p:cNvSpPr/>
          <p:nvPr/>
        </p:nvSpPr>
        <p:spPr>
          <a:xfrm>
            <a:off x="2544840" y="3083040"/>
            <a:ext cx="2492280" cy="2438280"/>
          </a:xfrm>
          <a:custGeom>
            <a:avLst/>
            <a:gdLst>
              <a:gd name="textAreaLeft" fmla="*/ 0 w 2492280"/>
              <a:gd name="textAreaRight" fmla="*/ 2492640 w 2492280"/>
              <a:gd name="textAreaTop" fmla="*/ 0 h 2438280"/>
              <a:gd name="textAreaBottom" fmla="*/ 2438640 h 2438280"/>
            </a:gdLst>
            <a:ahLst/>
            <a:rect l="textAreaLeft" t="textAreaTop" r="textAreaRight" b="textAreaBottom"/>
            <a:pathLst>
              <a:path fill="none" w="21757" h="21600">
                <a:moveTo>
                  <a:pt x="21757" y="21599"/>
                </a:moveTo>
                <a:cubicBezTo>
                  <a:pt x="21704" y="21599"/>
                  <a:pt x="21652" y="21599"/>
                  <a:pt x="21600" y="21600"/>
                </a:cubicBezTo>
                <a:cubicBezTo>
                  <a:pt x="9688" y="21600"/>
                  <a:pt x="25" y="11957"/>
                  <a:pt x="0" y="45"/>
                </a:cubicBezTo>
              </a:path>
              <a:path stroke="0" w="21757" h="21600">
                <a:moveTo>
                  <a:pt x="21757" y="21599"/>
                </a:moveTo>
                <a:cubicBezTo>
                  <a:pt x="21704" y="21599"/>
                  <a:pt x="21652" y="21599"/>
                  <a:pt x="21600" y="21600"/>
                </a:cubicBezTo>
                <a:cubicBezTo>
                  <a:pt x="9688" y="21600"/>
                  <a:pt x="25" y="11957"/>
                  <a:pt x="0" y="45"/>
                </a:cubicBezTo>
                <a:lnTo>
                  <a:pt x="21600" y="0"/>
                </a:lnTo>
                <a:lnTo>
                  <a:pt x="21757" y="21599"/>
                </a:lnTo>
                <a:close/>
              </a:path>
            </a:pathLst>
          </a:custGeom>
          <a:solidFill>
            <a:srgbClr val="ff9999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rc 7"/>
          <p:cNvSpPr/>
          <p:nvPr/>
        </p:nvSpPr>
        <p:spPr>
          <a:xfrm>
            <a:off x="4952880" y="3048120"/>
            <a:ext cx="2398680" cy="24778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2477880"/>
              <a:gd name="textAreaBottom" fmla="*/ 2478240 h 2477880"/>
            </a:gdLst>
            <a:ahLst/>
            <a:rect l="textAreaLeft" t="textAreaTop" r="textAreaRight" b="textAreaBottom"/>
            <a:pathLst>
              <a:path fill="none" w="21600" h="21882">
                <a:moveTo>
                  <a:pt x="21598" y="-1"/>
                </a:moveTo>
                <a:cubicBezTo>
                  <a:pt x="21599" y="93"/>
                  <a:pt x="21600" y="187"/>
                  <a:pt x="21600" y="282"/>
                </a:cubicBezTo>
                <a:cubicBezTo>
                  <a:pt x="21600" y="12155"/>
                  <a:pt x="12016" y="21802"/>
                  <a:pt x="142" y="21881"/>
                </a:cubicBezTo>
              </a:path>
              <a:path stroke="0" w="21600" h="21882">
                <a:moveTo>
                  <a:pt x="21598" y="-1"/>
                </a:moveTo>
                <a:cubicBezTo>
                  <a:pt x="21599" y="93"/>
                  <a:pt x="21600" y="187"/>
                  <a:pt x="21600" y="282"/>
                </a:cubicBezTo>
                <a:cubicBezTo>
                  <a:pt x="21600" y="12155"/>
                  <a:pt x="12016" y="21802"/>
                  <a:pt x="142" y="21881"/>
                </a:cubicBezTo>
                <a:lnTo>
                  <a:pt x="0" y="282"/>
                </a:lnTo>
                <a:lnTo>
                  <a:pt x="21598" y="-1"/>
                </a:lnTo>
                <a:close/>
              </a:path>
            </a:pathLst>
          </a:custGeom>
          <a:solidFill>
            <a:srgbClr val="66ff66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rc 8"/>
          <p:cNvSpPr/>
          <p:nvPr/>
        </p:nvSpPr>
        <p:spPr>
          <a:xfrm>
            <a:off x="4952880" y="762120"/>
            <a:ext cx="2398680" cy="2361960"/>
          </a:xfrm>
          <a:prstGeom prst="pie">
            <a:avLst/>
          </a:prstGeom>
          <a:solidFill>
            <a:srgbClr val="66cc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2"/>
          <p:cNvSpPr/>
          <p:nvPr/>
        </p:nvSpPr>
        <p:spPr>
          <a:xfrm>
            <a:off x="3886200" y="1981080"/>
            <a:ext cx="2109960" cy="2286000"/>
          </a:xfrm>
          <a:prstGeom prst="ellipse">
            <a:avLst/>
          </a:prstGeom>
          <a:solidFill>
            <a:srgbClr val="cce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13"/>
          <p:cNvSpPr/>
          <p:nvPr/>
        </p:nvSpPr>
        <p:spPr>
          <a:xfrm>
            <a:off x="3886200" y="3124080"/>
            <a:ext cx="2127240" cy="1800"/>
          </a:xfrm>
          <a:custGeom>
            <a:avLst/>
            <a:gdLst>
              <a:gd name="textAreaLeft" fmla="*/ 0 w 2127240"/>
              <a:gd name="textAreaRight" fmla="*/ 2127600 w 2127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1451" h="1">
                <a:moveTo>
                  <a:pt x="0" y="0"/>
                </a:moveTo>
                <a:lnTo>
                  <a:pt x="1451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5"/>
          <p:cNvSpPr/>
          <p:nvPr/>
        </p:nvSpPr>
        <p:spPr>
          <a:xfrm>
            <a:off x="4952880" y="198108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6"/>
          <p:cNvSpPr/>
          <p:nvPr/>
        </p:nvSpPr>
        <p:spPr>
          <a:xfrm>
            <a:off x="4952880" y="2362320"/>
            <a:ext cx="9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н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7"/>
          <p:cNvSpPr/>
          <p:nvPr/>
        </p:nvSpPr>
        <p:spPr>
          <a:xfrm>
            <a:off x="4955760" y="350532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8"/>
          <p:cNvSpPr/>
          <p:nvPr/>
        </p:nvSpPr>
        <p:spPr>
          <a:xfrm>
            <a:off x="4952880" y="3200400"/>
            <a:ext cx="10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тя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9"/>
          <p:cNvSpPr/>
          <p:nvPr/>
        </p:nvSpPr>
        <p:spPr>
          <a:xfrm>
            <a:off x="4039920" y="327672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0"/>
          <p:cNvSpPr/>
          <p:nvPr/>
        </p:nvSpPr>
        <p:spPr>
          <a:xfrm>
            <a:off x="3963240" y="2514600"/>
            <a:ext cx="89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1"/>
          <p:cNvSpPr/>
          <p:nvPr/>
        </p:nvSpPr>
        <p:spPr>
          <a:xfrm rot="19000200">
            <a:off x="4647960" y="3580920"/>
            <a:ext cx="2672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ребова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2"/>
          <p:cNvSpPr/>
          <p:nvPr/>
        </p:nvSpPr>
        <p:spPr>
          <a:xfrm rot="2625600">
            <a:off x="4876200" y="1523520"/>
            <a:ext cx="262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ниженные затр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3"/>
          <p:cNvSpPr/>
          <p:nvPr/>
        </p:nvSpPr>
        <p:spPr>
          <a:xfrm rot="18909600">
            <a:off x="2821320" y="1447200"/>
            <a:ext cx="172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дин 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дн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4"/>
          <p:cNvSpPr/>
          <p:nvPr/>
        </p:nvSpPr>
        <p:spPr>
          <a:xfrm rot="2613000">
            <a:off x="2818080" y="3962160"/>
            <a:ext cx="212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ез бра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6 </a:t>
            </a: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“S”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762120" y="1600200"/>
          <a:ext cx="8076960" cy="4925880"/>
        </p:xfrm>
        <a:graphic>
          <a:graphicData uri="http://schemas.openxmlformats.org/drawingml/2006/table">
            <a:tbl>
              <a:tblPr/>
              <a:tblGrid>
                <a:gridCol w="3477960"/>
                <a:gridCol w="1492560"/>
                <a:gridCol w="310644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ортиров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бавление от ненужн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85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Упрощ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lify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igh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ведение в порядок, организация по соответств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мет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rub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ee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 в чистоте, обеспечение возможности видеть и решать пробле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езопас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транение небезопасных услов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90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тандартиза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о, что и когда делает для обеспечения работоспособности процес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05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табилиза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tain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f-discip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дисциплина и поддержание в поряд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21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Вытягиван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914400" y="1599840"/>
            <a:ext cx="3813120" cy="12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единяет потоковые ячейки вместе Содержит 3 элемен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8" descr="Min"/>
          <p:cNvPicPr/>
          <p:nvPr/>
        </p:nvPicPr>
        <p:blipFill>
          <a:blip r:embed="rId1">
            <a:lum contrast="6000"/>
          </a:blip>
          <a:srcRect l="25324" t="0" r="20838" b="8540"/>
          <a:stretch/>
        </p:blipFill>
        <p:spPr>
          <a:xfrm>
            <a:off x="5024520" y="1600200"/>
            <a:ext cx="3284280" cy="5029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6" name=""/>
          <p:cNvGraphicFramePr/>
          <p:nvPr/>
        </p:nvGraphicFramePr>
        <p:xfrm>
          <a:off x="838080" y="2876400"/>
          <a:ext cx="3962520" cy="3753000"/>
        </p:xfrm>
        <a:graphic>
          <a:graphicData uri="http://schemas.openxmlformats.org/drawingml/2006/table">
            <a:tbl>
              <a:tblPr/>
              <a:tblGrid>
                <a:gridCol w="2040120"/>
                <a:gridCol w="1922400"/>
              </a:tblGrid>
              <a:tr h="138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1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1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Гото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товность изделия для следующего шага по цепочке – изделие вытягивается только в случае необходим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23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1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1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 Работ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ребляется сей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13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1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пусковой Кур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гнал о том что нужно, где, когда и скольк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21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Стандартная Работ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914400" y="1600200"/>
          <a:ext cx="7772400" cy="4530600"/>
        </p:xfrm>
        <a:graphic>
          <a:graphicData uri="http://schemas.openxmlformats.org/drawingml/2006/table">
            <a:tbl>
              <a:tblPr/>
              <a:tblGrid>
                <a:gridCol w="3767040"/>
                <a:gridCol w="4005360"/>
              </a:tblGrid>
              <a:tr h="167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авно-сбалансирова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абота в команд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85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тандартизирована и постоянно улучшает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се инструменты и материалы доступны в точке использ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22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Стандартная Работ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тандартизация позволяет избежать серьезных отклонений при выполнении работы, как в сроках, так и в получаемом качеств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Визуальное Управлен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838080" y="1676520"/>
          <a:ext cx="4267440" cy="4419360"/>
        </p:xfrm>
        <a:graphic>
          <a:graphicData uri="http://schemas.openxmlformats.org/drawingml/2006/table">
            <a:tbl>
              <a:tblPr/>
              <a:tblGrid>
                <a:gridCol w="3229200"/>
                <a:gridCol w="1038240"/>
              </a:tblGrid>
              <a:tr h="655560"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а в процесс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797040"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икато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45920"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ту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728640"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авнение с план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728640"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гналы трево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63560"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зи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008000"/>
                    </a:solidFill>
                  </a:tcPr>
                </a:tc>
              </a:tr>
            </a:tbl>
          </a:graphicData>
        </a:graphic>
      </p:graphicFrame>
      <p:sp>
        <p:nvSpPr>
          <p:cNvPr id="226" name="Rectangle 29"/>
          <p:cNvSpPr/>
          <p:nvPr/>
        </p:nvSpPr>
        <p:spPr>
          <a:xfrm>
            <a:off x="0" y="6248520"/>
            <a:ext cx="9144000" cy="975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Владельцы процесса – люди, работающие на этом участ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30"/>
          <p:cNvSpPr/>
          <p:nvPr/>
        </p:nvSpPr>
        <p:spPr>
          <a:xfrm>
            <a:off x="5334120" y="1905120"/>
            <a:ext cx="3657600" cy="3581280"/>
          </a:xfrm>
          <a:prstGeom prst="ellipse">
            <a:avLst/>
          </a:prstGeom>
          <a:solidFill>
            <a:srgbClr val="ff0000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1"/>
          <p:cNvSpPr/>
          <p:nvPr/>
        </p:nvSpPr>
        <p:spPr>
          <a:xfrm>
            <a:off x="6404760" y="2819520"/>
            <a:ext cx="14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иде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2"/>
          <p:cNvSpPr/>
          <p:nvPr/>
        </p:nvSpPr>
        <p:spPr>
          <a:xfrm>
            <a:off x="6175440" y="3429000"/>
            <a:ext cx="20840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гновен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 5 секун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ЧИСЛО АЛЬТЕРНАТИВНЫХ СЦЕНАРИЕВ БЕСКОНЕЧН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ью Эверет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Times New Roman"/>
              </a:rPr>
              <a:t>Бережливое производство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режливое производство предполагает вовлечение в процесс оптимизации бизнеса каждого сотрудника и максимальную ориентацию на потребителя. Целями бережливого производства являю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кращение трудозатра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кращение сроков разработки новой продукци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кращение сроков создания продукци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кращение производственных и складских площаде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арантия поставки продукции заказчик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ксимальное качество при минимальной стоим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тправная точка бережливого производств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нность для потребите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точки зрения конечного потребителя, продукт(услуга) приобретает действительную ценность только в то время, когда происходит непосредственная обработка, изготовление технологических элемент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ё, что не добавляет ценности для потребителя, с точки зрения бережливого производства, классифицируется как потери, и должно быть устране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сновные принципы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ить ценность конкретного продукта.(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Ценност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товар или услуга за которую платит Заказчик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ить поток создания ценности для этого проду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еспечить непрерывное течение потока создания ценности проду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зволить потребителю вытягивать продук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емиться к совершенств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01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5 принципов </a:t>
            </a: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LEA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762120" y="1905120"/>
          <a:ext cx="8153280" cy="4525920"/>
        </p:xfrm>
        <a:graphic>
          <a:graphicData uri="http://schemas.openxmlformats.org/drawingml/2006/table">
            <a:tbl>
              <a:tblPr/>
              <a:tblGrid>
                <a:gridCol w="5487840"/>
                <a:gridCol w="2665440"/>
              </a:tblGrid>
              <a:tr h="757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Ценнос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Заказчик покупает на самом дел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10238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Цепочка Создания Ценност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 создается цен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Пото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лучшение цепочки создания цен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Вытягиван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равление потоком только на основании реальных потребнос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914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Совершенствован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оянный нескончаемый процесс улучш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12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Другие принцип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восходное качество (сдача с первого предъявления, система ноль дефектов, обнаружение и решение проблем у истоков их возникновен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бк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ление долговременных отношений с заказчиком (путем деления рисков, затрат и информации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организация, эволюция, адапт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0033"/>
                </a:solidFill>
                <a:latin typeface="Times New Roman"/>
              </a:rPr>
              <a:t>Инструменты бережливого производства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стема TPM (Total Productive Maintenance) — Всеобщий уход за оборудовани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стема 6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сортируйте, соблюдайте порядок, содержите в чистоте, стандартизируйте, совершенствуйте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ыстрая переналадк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Single-Minute Exchange of Dies (буквально «быстрая смена пресс-форм» — переналадка/переоснастка оборудования менее чем за 10 минут). Переналадка в одно касание (One-touch setup) — вариант SMED, но время переналадки уже изменяерся единицами минут, то есть не больше 9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йдзен(kaizen) — непрерывное совершенствова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мба кайдзен — непрерывное совершенствование на месте создания дополнительной стоим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нбан, вытягивающее производство — продукция «вытягивается» со стороны заказчика, а не «толкается» производителем. Информирования предыдущей производственной стадии о том, что нужно начинать работ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очно в срок— система синхронизации передачи продукта с одной производственной стадии на другую посредством карточек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Канба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Комплектующие должны передаваться на следующую стадию только тогда, когда это нужно, и ни минутой раньш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Пока — ёкэ» («защита от ошибок», «защита от дурака») — метод предотвращения ошибок — специальное устройство или метод, благодаря которому дефекты просто не могут появить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1-10T07:57:37Z</dcterms:modified>
  <cp:revision>8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