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4A702-2C12-4D3A-B088-A5E77BCC1C4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Toyota" TargetMode="External"/><Relationship Id="rId2" Type="http://schemas.openxmlformats.org/officeDocument/2006/relationships/slide" Target="../slides/slide3.xml"/><Relationship Id="rId3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режливое произво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4BD34-B4D3-4C75-A4A6-0DDA5E481F5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лгоритм внедрения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EAN -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деолог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ти проводника перемен (нужен ЛИДЕР, способный взять на себя ответственность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ить необходимые знания по систем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N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знания должны быть получены из надежного источник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ти или создать кризис (хорошим мотивом внедрения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N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лужит кризис в организаци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ить карту всего потока создания ценности для каждого семейства продук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можно быстрей начинать работу по основным направлениям (информация о результатах должна быть доступна персоналу организаци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емиться немедленно получить результа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ять непрерывные улучшения по системе Кайдзен (переходить от процессов создания ценностей в цехах к административным процесса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A8548-3A2C-4A69-80B1-5E443B121C8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ипичные ошибки при внедрении бережливого производств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о семь видов основных ошибо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нимание роли руководства при внедрении системы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роение «Системы», не обладающей необходимой гибк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о внедрения не с «осн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яются рабочие места, но не меняются привы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измерять (собирать данные), но ни на что не реагиров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аралитический анализ» (бесконечный анализ ситуации, вместо непрерывных улучшени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ходиться без поддерж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017E9-7D32-41B3-AFF6-ED68EFFEC5C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AN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культура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режливое производство невозможно без бережливой культуры. Главное 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n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льтуре — человеческий фактор, коллективная рабо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енную поддержку этому оказывает эмоциональный интеллект (EQ) сотрудни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n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ультуре соответствует и определенная корпоративная культу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1887C-2DDD-48CE-9666-FCDCF35CF8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айдзен – это настоящая философи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ософия постоянного, неторопливого совершенствования всех процес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ть  стоит только с реальными фак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 и анализ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очных данны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ршенствование процессов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онцепция Кайдз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3DDAC-B68B-4794-991A-4D9D97A717D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йдз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концепции кайдзен относят большую часть извест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понских техник менеджмен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оставки-точно-в-срок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нба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общий контроль качества, контроль качества в масштабе всей комп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у нуль дефе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у подачи предложений и многое друго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E565B-EABC-4C76-A88D-8238AE83BB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Кайдз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истеме Кайдзен каждый сотрудник является равноправным партнером комп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2BB3F-9CFD-45BE-83AC-11DF2B1BCE5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оставки-точно-в-сро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итель, в качестве любого последующе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ть -  продукция должна быть поставлена потребителю в идеальном варианте. Без дефектов, на каждом предыдущем этап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0693D-A49E-484B-B99C-5FB6058D059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 КАНБ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(CANBAN, тянущая система, pull system) - наиболее распространенная разновид-ность системы "точно в срок") - система, обеспечивающая организацию непрерывного материального потока при отсутствии запасов: производственные запасы подаются не-большими партиями непосредственно в нужные точки производственного процесса, минуя склад, а готовая продукция сразу отгружается покупателя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0AB43-4E92-4B87-AA0B-CBD5F4DCDD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 КАНБ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ы производства на данном участке определяются потребностями следующего производственного участ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F94DC-0285-4FBF-9D4C-B828FA76038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 КАНБ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43B80-4DF0-4A34-8787-E8FCE6D64B1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ы никогда не решишь проблему, если будешь думать так же, как те, кто ее созда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Альберт Эйнштейн (1879–1955), немецкий физи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EDF60-2A02-495D-8A46-44DAC4C2935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 КАНБ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емление к снижению запасов – метод выявления и решения производственных пробл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опление запасов и завышенные объемы производства  скрывают: частые поломки и остановки оборудования, производственный бра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требования системы CANB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ноль запасов"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ноль дефектов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истема CANBAN   невозможна без внедрения комплексной системы управления качеств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7B8A0-9D2A-41F8-96C0-2396C5A4F83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 КАНБ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ажными элементами системы CANBAN являются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система, включающая не только карточки, но и производственные, транспортные и снабженческие графики, технологические карт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регулирования потребности и профессиональной ротации кадр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всеобщего (TQM) и выборочного ("Дзидока") контроля качества продук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выравнивания производ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71EDB-3FEC-4632-A0C0-9A2E63D4EDA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 КАНБ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реимущества системы CANBAN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откий производственный цикл, высокая оборачиваемость активов, в том числе запас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уют или чрезвычайно низки издержки хранения производственных и товарных запас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ое качество продукции на всех стадиях производственного процес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7FCC5-35D5-4DDD-AE38-19185A3FFE0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новные недостатки системы "точно в срок"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ность обеспечения высокой согласованности между стадиями производства продук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ительный риск срыва производства и реализации продук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35FE4-D6C1-4114-8206-0544CD2448C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ы «канбан» и «точно вовремя» - два метода управления производством и запасами - помогают найти лучшие способы повышения производительности процесса и качества продук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D0C01-E9F9-4588-B4F7-70990BCB564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Calibri"/>
              </a:rPr>
              <a:t>Система    качества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Четырнадцать принципов Уильям Эдвардса Демин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тоянство цел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улучшение продукции и обслужи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овая философ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ля нового экономического периода путем познания менеджерами своих обязанностей и принятия на себя лидерства на пути к переменам. Далее, обращаясь к менеджерам, д-р Деминг призывае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кончите с зависимостью от массового контрол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достижении качества; исключите необходимость в массовом контроле, сделав качество неотъемлемым свойством продукции, «встроив» качество в продукц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кончите с практикой закупок по самой дешевой цене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место этого следует минимизировать общие затраты и стремиться к выбору определенного поставщика для каждого продукта, необходимого в производств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лучшайте каждый процес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ля улучшения качества, повышения производительности и уменьшения затра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ведите в практику подготовку и переподготовку кадров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редите «лидерство»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оцесс руководства сотрудниками должен помогать им лучше делать свою работу; необходимо тщательно рассмотреть систему управления персонал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гоняйте страхи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чтобы все могли эффективно работать для предприят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рушайте барьер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ежду подразделениями; исследования, проектирование, производство и реализация должны быть объединены, чтобы предвидеть проблемы производства и эксплуат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кажитесь от пустых лозунгов, призыв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ля производственного персонала, таких, как «ноль дефектов» или новые задания по производительности. Такие призывы бессмысленны, так как подавляющее большинство проблем возникает в системе и находится вне возможностей работни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страните произвольно установленные задания и количественные нормы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айте работникам возможность гордиться своим трудом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страните барьеры, которые обкрадывают рабочих и руководителей, лишая их возможности гордиться своим труд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ощряйте стремление к образованию и совершенствованию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обходима приверженность делу повышения качества и действенность высшего руководств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DCD3-9702-46CA-AD3B-6F58EECDB58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ловия мешающие реализации внедрения системы качест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постоянства цел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гоня за сиюминутной выгодо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ы аттестации и ранжирования персонал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оянная ротация кадров управляющи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только количественных критериев для оценки деятельности компа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11064-DD0D-4B86-92AE-BD03D582DC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ка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лан действ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руководство, опираясь на все 14 принципов, борется со «смертельными болезнями» и препятствиями, согласовывает понятия и направления планов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руководство собирается с духом и внутренне настраивается на движение в новом направлении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руководство объясняет сотрудникам компании, почему перемены необходимы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вся деятельность компании разбивается на этапы (стадии), при этом каждый последующий этап является как бы заказчиком предыдущего. Постоянное улучшение методов работы должно осуществляться на каждом этапе, и каждый этап должен работать в направлении качества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как можно быстрее строится организационная структура, которая будет работать на постоянное улучшение качеств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) каждый сотрудник может принять участие в совершенствовании работы на любом этапе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) Для строительства системы качества - требуется участие знающих специалис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45544-20D1-4665-96BE-062E7B6B870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9 видов потер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читесь видеть эти потери и избавляться от них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ТРАВМ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чинение вреда здоровью люд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ТРАНСПОРТИРОВК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мещения вещей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СКЛАД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ещи, ожидающие своего ча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ПЕРЕМЕЩЕНИ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лишние перемещения люд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ВРЕМЯ ОЖИДАНИ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жидание чего-либ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ПЕРЕПРОИЗВОДСТВ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ишком много продукции/ресурсов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ИЗЛИШНЯЯ ОБРАБОТК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лание того, что не добавляет цен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БРАК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неправильные» вещи, требующие доработ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7C3B6-1ACD-4430-82F2-0EFBCACBD1F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едостаточно полное использование интеллекта и таланта люд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91F0D-8E8F-48DA-B3EB-F40E5F85FAE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lean production, lean manufacturing — англ. lean — постный, стройный, без жира; в России с 2004 года принят перевод «бережливое», хотя ранее встречались варианты «стройное», «щадящее», «рачительное», сейчас также встречается вариант с транслитом «лин») —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концепция менеджмента, созданная на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Toyota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 и основанная на неуклонном стремлении к устранению всех видов потерь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13E4D-0063-4A78-B2A0-FAFAC94FB93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МЕНТ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ДЕОЛОГИИ НЕПРЕРЫВНЫХ УЛУЧ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CC3A5-DB3F-4CF7-86F1-612E6763DF0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ИЗУАЛЬНОЕ  УПР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3F3FD-E334-4157-8BD9-7757F622AB5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6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“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3B9F9-C674-481C-A62F-7B3498FAF8D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тяги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диняет потоковые ячейки вместе Содержит 3 элемен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D65D7-D9DD-460D-88B1-4D5B3A9CFE9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андартна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02C45-B3F5-4959-8548-0B921C36DBD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андартна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позволяет избежать серьезных отклонений при выполнении работы, как в сроках, так и в получаемом каче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D6140-7055-41D0-8070-62939C07DEC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изуальное Упр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C09ED-410A-4D4D-8B52-A0E76C5E800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ЧИСЛО АЛЬТЕРНАТИВНЫХ СЦЕНАРИЕВ БЕСКОНЕЧН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ью Эверет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465F8-1A9B-4011-B46D-2D7C5FBD240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4E7FA-C938-41FE-850D-9D57C775F8F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ережливое произво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режливое производство предполагает вовлечение в процесс оптимизации бизнеса каждого сотрудника и максимальную ориентацию на потребителя. Целями бережливого производства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трудозатра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сроков разработки новой продукц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сроков создания продукц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производственных и складских площаде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рантия поставки продукции заказчик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симальное качество при минимальной стои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E3AA7-458E-4F91-B2BA-628A02FBBD1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правная точка бережливого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ность для потребител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точки зрения конечного потребителя, продукт(услуга) приобретает действительную ценность только в то время, когда происходит непосредственная обработка, изготовление технологических элемен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ё, что не добавляет ценности для потребителя, с точки зрения бережливого производства, классифицируется как потери, и должно быть устране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97B78-8171-4250-90FC-D95AEC31774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ринцип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ь ценность конкретного продукта.(</a:t>
            </a: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Ценност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товар или услуга за которую платит Заказчик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ь поток создания ценности для этого проду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ть непрерывное течение потока создания ценности проду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волить потребителю вытягивать продук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емиться к совершенст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BCC1B-D843-4C67-94F2-493B2D3A257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 принципов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LE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Ц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Заказчик покупает на самом де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Цепочка Создания Ц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оздается ц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т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лучшение цепочки создания ц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ытяги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потоком только на основании реальных потребно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овершенств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оянный нескончаемый процесс улуч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015F3-462B-4F91-8C46-28E72204E59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ругие принци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восходное качество (сдача с первого предъявления, система ноль дефектов, обнаружение и решение проблем у истоков их возникновен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бк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долговременных отношений с заказчиком (путем деления рисков, затрат и информаци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организация, эволюция, адапт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ECF1A-4635-4132-BC82-D3AB38F2456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струменты бережливого производств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TPM (Total Productive Maintenance) — Всеобщий уход за оборудова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6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ортируйте, соблюдайте порядок, содержите в чистоте, стандартизируйте, совершенствуйт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страя переналадк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Single-Minute Exchange of Dies (буквально «быстрая смена пресс-форм» — переналадка/переоснастка оборудования менее чем за 10 минут). Переналадка в одно касание (One-touch setup) — вариант SMED, но время переналадки уже изменяерся единицами минут, то есть не больше 9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йдзен(kaizen) — непрерывное совершенств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мба кайдзен — непрерывное совершенствование на месте создания дополнительной стои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нбан, вытягивающее производство — продукция «вытягивается» со стороны заказчика, а не «толкается» производителем. Информирования предыдущей производственной стадии о том, что нужно начинать работ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но в срок— система синхронизации передачи продукта с одной производственной стадии на другую посредством карточек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анба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Комплектующие должны передаваться на следующую стадию только тогда, когда это нужно, и ни минутой раньш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ока — ёкэ» («защита от ошибок», «защита от дурака») — метод предотвращения ошибок — специальное устройство или метод, благодаря которому дефекты просто не могут появи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305CB-F0DB-45C3-9689-CA85DEEF646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96F0-4336-4EA3-8269-48669C7D7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9FA0-2CEE-4B2A-A118-45A5913CB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5D3C-A273-4A3E-9B2D-2DBD8C00A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86A6-3C8B-4444-8912-143E058C8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14EEC-CBFD-4B4B-B1BA-938EFBCEC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F1924-168D-4C78-9548-E6E6996D7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DE0A8-AA8E-4993-90ED-442DF94B8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FF092-BF08-4815-B7BC-C2098C9CF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FDCA2-F102-47B2-8041-2161DCD12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E4566-5BDD-4AF6-AE0D-3369D1874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7D410-409E-4AC9-942B-EE099F01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1434-5D08-4CF8-AEEB-AA4FAEA07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AAFD9-6E03-4E76-B639-4A4CDF72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9C55F-11C9-4324-B4A5-296EC406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6D08F-50FA-433E-93D7-E01C2FF2A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C6A1F-88CF-4D48-B186-F3B41807C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13017-95BB-48A3-937D-8E6AD808C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70BE-B5F3-4E5E-A2AA-9BF5075F9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8B76-88D9-4D32-AC01-E84056EEC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8E24-B5BD-4F38-A0CD-DFF47DD7D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9C83-7CDB-4011-8243-48D11463B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11A2-78FB-45AA-8A53-55A0C070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2924-2681-4FA9-A63A-0E67A971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49BF-AEDA-4BF7-89E2-11733C61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75B03-2FD7-478E-AAFC-263A3AD8E4B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A2802-0DC6-4E7A-8DEA-197740CEC89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Toyota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761760" y="1295280"/>
            <a:ext cx="7543800" cy="426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Arial"/>
              </a:rPr>
              <a:t>Бережливое производство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Алгоритм внедрения </a:t>
            </a: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LEAN - </a:t>
            </a: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идеолог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ти проводника перемен (нужен ЛИДЕР, способный взять на себя ответственность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ить необходимые знания по систем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знания должны быть получены из надежного источник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ти или создать кризис (хорошим мотивом внедрени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лужит кризис в организаци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авить карту всего потока создания ценности для каждого семейства продук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можно быстрей начинать работу по основным направлениям (информация о результатах должна быть доступна персоналу организаци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емиться немедленно получить результа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уществлять непрерывные улучшения по системе Кайдзен (переходить от процессов создания ценностей в цехах к административным процесса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Типичные ошибки при внедрении бережливого производства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лено семь видов основных ошибо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понимание роли руководства при внедрении систем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ение «Системы», не обладающей необходимой гибкос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ало внедрения не с «осно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няются рабочие места, но не меняются привы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измерять (собирать данные), но ни на что не реагиро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Паралитический анализ» (бесконечный анализ ситуации, вместо непрерывных улучшен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ходиться без поддерж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L</a:t>
            </a: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EAN </a:t>
            </a: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 культура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режливое производство невозможно без бережливой культуры. Главное 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n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ультуре — человеческий фактор, коллективная рабо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щественную поддержку этому оказывает эмоциональный интеллект (EQ) сотрудни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n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ультуре соответствует и определенная корпоративная культу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Кайдзен – это настоящая философия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лософия постоянного, неторопливого совершенствования всех процес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ать  стоит только с реальными факт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бор и анализ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очных данны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ершенствование процессов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онцепция Кайдз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279000" y="32457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990720" y="4572000"/>
            <a:ext cx="70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5"/>
          <p:cNvSpPr/>
          <p:nvPr/>
        </p:nvSpPr>
        <p:spPr>
          <a:xfrm>
            <a:off x="914400" y="1841040"/>
            <a:ext cx="77724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концепции кайдзен относят большую часть извест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понских техник менеджмен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поставки-точно-в-срок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нба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общий контроль качества, контроль качества в масштабе всей компа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у нуль дефек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у подачи предложений и многое друг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330033"/>
                </a:solidFill>
                <a:latin typeface="Times New Roman"/>
              </a:rPr>
              <a:t>Кайдзен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истема Кайдзен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системе Кайдзен каждый сотрудник является равноправным партнером компан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457200" y="598896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</a:rPr>
              <a:t>«Поставки-точно-в-срок»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требитель, в качестве любого последующего проце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ть -  продукция должна быть поставлена потребителю в идеальном варианте. Без дефектов, на каждом предыдущем этап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Система КАНБАН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CANBAN, тянущая система, pull system) - наиболее распространенная разновид-ность системы "точно в срок") - система, обеспечивающая организацию непрерывного материального потока при отсутствии запасов: производственные запасы подаются не-большими партиями непосредственно в нужные точки производственного процесса, минуя склад, а готовая продукция сразу отгружается покупателя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Система КАНБАН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меры производства на данном участке определяются потребностями следующего производственного участ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Система КАНБАН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0" name="Picture 4" descr="canban-1"/>
          <p:cNvPicPr/>
          <p:nvPr/>
        </p:nvPicPr>
        <p:blipFill>
          <a:blip r:embed="rId1"/>
          <a:stretch/>
        </p:blipFill>
        <p:spPr>
          <a:xfrm>
            <a:off x="838080" y="1676520"/>
            <a:ext cx="8001000" cy="472428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ы никогда не решишь проблему, если будешь думать так же, как те, кто ее созд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ьберт Эйнштейн (1879–1955), немецкий физ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Система КАНБАН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емление к снижению запасов – метод выявления и решения производственных пробл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копление запасов и завышенные объемы производства  скрывают: частые поломки и остановки оборудования, производственный бра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требования системы CANB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ноль запасов"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ноль дефектов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истема CANBAN   невозможна без внедрения комплексной системы управления качеств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Система КАНБАН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жными элементами системы CANBAN являются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онная система, включающая не только карточки, но и производственные, транспортные и снабженческие графики, технологические карт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регулирования потребности и профессиональной ротации кадро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всеобщего (TQM) и выборочного ("Дзидока") контроля качества продукци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выравнивания производ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Система КАНБАН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ые преимущества системы CANBA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роткий производственный цикл, высокая оборачиваемость активов, в том числе запасов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сутствуют или чрезвычайно низки издержки хранения производственных и товарных запасов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сокое качество продукции на всех стадиях производственного процесс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сновные недостатки системы "точно в срок"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жность обеспечения высокой согласованности между стадиями производства продукци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чительный риск срыва производства и реализации продук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ы «канбан» и «точно вовремя» - два метода управления производством и запасами - помогают найти лучшие способы повышения производительности процесса и качества продук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Система    качеств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Четырнадцать принципов Уильям Эдвардса Демин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стоянство цел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— улучшение продукции и обслужив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овая философ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ля нового экономического периода путем познания менеджерами своих обязанностей и принятия на себя лидерства на пути к переменам. Далее, обращаясь к менеджерам, д-р Деминг призывает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кончите с зависимостью от массового контрол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 достижении качества; исключите необходимость в массовом контроле, сделав качество неотъемлемым свойством продукции, «встроив» качество в продукц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кончите с практикой закупок по самой дешевой цене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место этого следует минимизировать общие затраты и стремиться к выбору определенного поставщика для каждого продукта, необходимого в производств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лучшайте каждый процесс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ля улучшения качества, повышения производительности и уменьшения затра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ведите в практику подготовку и переподготовку кадров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чредите «лидерство»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роцесс руководства сотрудниками должен помогать им лучше делать свою работу; необходимо тщательно рассмотреть систему управления персонал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згоняйте страхи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тобы все могли эффективно работать для предприят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рушайте барьер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между подразделениями; исследования, проектирование, производство и реализация должны быть объединены, чтобы предвидеть проблемы производства и эксплуат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кажитесь от пустых лозунгов, призыв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ля производственного персонала, таких, как «ноль дефектов» или новые задания по производительности. Такие призывы бессмысленны, так как подавляющее большинство проблем возникает в системе и находится вне возможностей работник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страните произвольно установленные задания и количественные нормы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айте работникам возможность гордиться своим трудом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устраните барьеры, которые обкрадывают рабочих и руководителей, лишая их возможности гордиться своим труд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ощряйте стремление к образованию и совершенствованию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обходима приверженность делу повышения качества и действенность высшего руководства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Условия мешающие реализации внедрения системы качеств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сутствие постоянства целе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гоня за сиюминутной выгодо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ы аттестации и ранжирования персонал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тоянная ротация кадров управляющих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ние только количественных критериев для оценки деятельности компан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истема качеств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лан действ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руководство, опираясь на все 14 принципов, борется со «смертельными болезнями» и препятствиями, согласовывает понятия и направления планов;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руководство собирается с духом и внутренне настраивается на движение в новом направлении;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руководство объясняет сотрудникам компании, почему перемены необходимы;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) вся деятельность компании разбивается на этапы (стадии), при этом каждый последующий этап является как бы заказчиком предыдущего. Постоянное улучшение методов работы должно осуществляться на каждом этапе, и каждый этап должен работать в направлении качества;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) как можно быстрее строится организационная структура, которая будет работать на постоянное улучшение качества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) каждый сотрудник может принять участие в совершенствовании работы на любом этапе;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) Для строительства системы качества - требуется участие знающих специалист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99"/>
                </a:solidFill>
                <a:latin typeface="Times New Roman"/>
              </a:rPr>
              <a:t>9 видов потерь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15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читесь видеть эти потери и избавляться от ни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5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ТРАВМ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чинение вреда здоровью лю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5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ТРАНСПОРТИРОВ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мещения веще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5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СКЛАД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щи, ожидающие своего ча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5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ПЕРЕМЕЩ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лишние перемещения лю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5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ВРЕМЯ ОЖИДА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жидание чего-либ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5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ПЕРЕПРОИЗВОДСТВ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ишком много продукции/ресурс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5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ИЗЛИШНЯЯ ОБРАБОТ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лание того, что не добавляет ц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5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БРА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неправильные» вещи, требующие дорабо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Недостаточно полное использование интеллекта и таланта люде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914400" y="167616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lean production, lean manufacturing — англ. lean — постный, стройный, без жира; в России с 2004 года принят перевод «бережливое», хотя ранее встречались варианты «стройное», «щадящее», «рачительное», сейчас также встречается вариант с транслитом «лин») —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онцепция менеджмента, созданная на </a:t>
            </a:r>
            <a:r>
              <a:rPr b="0" lang="ru-RU" sz="32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Toyota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и основанная на неуклонном стремлении к устранению всех видов потерь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1066680" y="22860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ережливое производ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СТРУМЕНТ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ДЕОЛОГИИ НЕПРЕРЫВНЫХ УЛУЧШ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AutoShape 9"/>
          <p:cNvSpPr/>
          <p:nvPr/>
        </p:nvSpPr>
        <p:spPr>
          <a:xfrm flipV="1">
            <a:off x="2438280" y="4267080"/>
            <a:ext cx="4361040" cy="1447920"/>
          </a:xfrm>
          <a:custGeom>
            <a:avLst/>
            <a:gdLst>
              <a:gd name="textAreaLeft" fmla="*/ 937080 w 4361040"/>
              <a:gd name="textAreaRight" fmla="*/ 3423960 w 4361040"/>
              <a:gd name="textAreaTop" fmla="*/ 311040 h 1447920"/>
              <a:gd name="textAreaBottom" fmla="*/ 11368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684" y="21600"/>
                </a:lnTo>
                <a:lnTo>
                  <a:pt x="15916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5715000"/>
            <a:ext cx="8229600" cy="944640"/>
          </a:xfrm>
          <a:prstGeom prst="rect">
            <a:avLst/>
          </a:pr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ЗУАЛЬНОЕ  УПРА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rc 5"/>
          <p:cNvSpPr/>
          <p:nvPr/>
        </p:nvSpPr>
        <p:spPr>
          <a:xfrm>
            <a:off x="2514600" y="762120"/>
            <a:ext cx="2484360" cy="2458800"/>
          </a:xfrm>
          <a:prstGeom prst="pie">
            <a:avLst/>
          </a:prstGeom>
          <a:solidFill>
            <a:srgbClr val="ffcc66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rc 6"/>
          <p:cNvSpPr/>
          <p:nvPr/>
        </p:nvSpPr>
        <p:spPr>
          <a:xfrm>
            <a:off x="2544840" y="3083040"/>
            <a:ext cx="2492280" cy="2438280"/>
          </a:xfrm>
          <a:custGeom>
            <a:avLst/>
            <a:gdLst>
              <a:gd name="textAreaLeft" fmla="*/ 0 w 2492280"/>
              <a:gd name="textAreaRight" fmla="*/ 2492640 w 2492280"/>
              <a:gd name="textAreaTop" fmla="*/ 0 h 2438280"/>
              <a:gd name="textAreaBottom" fmla="*/ 2438640 h 2438280"/>
            </a:gdLst>
            <a:ahLst/>
            <a:rect l="textAreaLeft" t="textAreaTop" r="textAreaRight" b="textAreaBottom"/>
            <a:pathLst>
              <a:path fill="none" w="21757" h="21600">
                <a:moveTo>
                  <a:pt x="21757" y="21599"/>
                </a:moveTo>
                <a:cubicBezTo>
                  <a:pt x="21704" y="21599"/>
                  <a:pt x="21652" y="21599"/>
                  <a:pt x="21600" y="21600"/>
                </a:cubicBezTo>
                <a:cubicBezTo>
                  <a:pt x="9688" y="21600"/>
                  <a:pt x="25" y="11957"/>
                  <a:pt x="0" y="45"/>
                </a:cubicBezTo>
              </a:path>
              <a:path stroke="0" w="21757" h="21600">
                <a:moveTo>
                  <a:pt x="21757" y="21599"/>
                </a:moveTo>
                <a:cubicBezTo>
                  <a:pt x="21704" y="21599"/>
                  <a:pt x="21652" y="21599"/>
                  <a:pt x="21600" y="21600"/>
                </a:cubicBezTo>
                <a:cubicBezTo>
                  <a:pt x="9688" y="21600"/>
                  <a:pt x="25" y="11957"/>
                  <a:pt x="0" y="45"/>
                </a:cubicBezTo>
                <a:lnTo>
                  <a:pt x="21600" y="0"/>
                </a:lnTo>
                <a:lnTo>
                  <a:pt x="21757" y="21599"/>
                </a:lnTo>
                <a:close/>
              </a:path>
            </a:pathLst>
          </a:custGeom>
          <a:solidFill>
            <a:srgbClr val="ff9999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rc 7"/>
          <p:cNvSpPr/>
          <p:nvPr/>
        </p:nvSpPr>
        <p:spPr>
          <a:xfrm>
            <a:off x="4952880" y="3048120"/>
            <a:ext cx="2398680" cy="247788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2477880"/>
              <a:gd name="textAreaBottom" fmla="*/ 2478240 h 2477880"/>
            </a:gdLst>
            <a:ahLst/>
            <a:rect l="textAreaLeft" t="textAreaTop" r="textAreaRight" b="textAreaBottom"/>
            <a:pathLst>
              <a:path fill="none" w="21600" h="21882">
                <a:moveTo>
                  <a:pt x="21598" y="-1"/>
                </a:moveTo>
                <a:cubicBezTo>
                  <a:pt x="21599" y="93"/>
                  <a:pt x="21600" y="187"/>
                  <a:pt x="21600" y="282"/>
                </a:cubicBezTo>
                <a:cubicBezTo>
                  <a:pt x="21600" y="12155"/>
                  <a:pt x="12016" y="21802"/>
                  <a:pt x="142" y="21881"/>
                </a:cubicBezTo>
              </a:path>
              <a:path stroke="0" w="21600" h="21882">
                <a:moveTo>
                  <a:pt x="21598" y="-1"/>
                </a:moveTo>
                <a:cubicBezTo>
                  <a:pt x="21599" y="93"/>
                  <a:pt x="21600" y="187"/>
                  <a:pt x="21600" y="282"/>
                </a:cubicBezTo>
                <a:cubicBezTo>
                  <a:pt x="21600" y="12155"/>
                  <a:pt x="12016" y="21802"/>
                  <a:pt x="142" y="21881"/>
                </a:cubicBezTo>
                <a:lnTo>
                  <a:pt x="0" y="282"/>
                </a:lnTo>
                <a:lnTo>
                  <a:pt x="21598" y="-1"/>
                </a:lnTo>
                <a:close/>
              </a:path>
            </a:pathLst>
          </a:custGeom>
          <a:solidFill>
            <a:srgbClr val="66ff66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rc 8"/>
          <p:cNvSpPr/>
          <p:nvPr/>
        </p:nvSpPr>
        <p:spPr>
          <a:xfrm>
            <a:off x="4952880" y="762120"/>
            <a:ext cx="2398680" cy="2361960"/>
          </a:xfrm>
          <a:prstGeom prst="pie">
            <a:avLst/>
          </a:prstGeom>
          <a:solidFill>
            <a:srgbClr val="66cc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2"/>
          <p:cNvSpPr/>
          <p:nvPr/>
        </p:nvSpPr>
        <p:spPr>
          <a:xfrm>
            <a:off x="3886200" y="1981080"/>
            <a:ext cx="2109960" cy="2286000"/>
          </a:xfrm>
          <a:prstGeom prst="ellipse">
            <a:avLst/>
          </a:prstGeom>
          <a:solidFill>
            <a:srgbClr val="cce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13"/>
          <p:cNvSpPr/>
          <p:nvPr/>
        </p:nvSpPr>
        <p:spPr>
          <a:xfrm>
            <a:off x="3886200" y="3124080"/>
            <a:ext cx="2127240" cy="1800"/>
          </a:xfrm>
          <a:custGeom>
            <a:avLst/>
            <a:gdLst>
              <a:gd name="textAreaLeft" fmla="*/ 0 w 2127240"/>
              <a:gd name="textAreaRight" fmla="*/ 2127600 w 2127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1451" h="1">
                <a:moveTo>
                  <a:pt x="0" y="0"/>
                </a:moveTo>
                <a:lnTo>
                  <a:pt x="1451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5"/>
          <p:cNvSpPr/>
          <p:nvPr/>
        </p:nvSpPr>
        <p:spPr>
          <a:xfrm>
            <a:off x="4952880" y="198108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6"/>
          <p:cNvSpPr/>
          <p:nvPr/>
        </p:nvSpPr>
        <p:spPr>
          <a:xfrm>
            <a:off x="4952880" y="2362320"/>
            <a:ext cx="9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н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7"/>
          <p:cNvSpPr/>
          <p:nvPr/>
        </p:nvSpPr>
        <p:spPr>
          <a:xfrm>
            <a:off x="4955760" y="350532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8"/>
          <p:cNvSpPr/>
          <p:nvPr/>
        </p:nvSpPr>
        <p:spPr>
          <a:xfrm>
            <a:off x="4952880" y="3200400"/>
            <a:ext cx="10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тя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9"/>
          <p:cNvSpPr/>
          <p:nvPr/>
        </p:nvSpPr>
        <p:spPr>
          <a:xfrm>
            <a:off x="4039920" y="327672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0"/>
          <p:cNvSpPr/>
          <p:nvPr/>
        </p:nvSpPr>
        <p:spPr>
          <a:xfrm>
            <a:off x="3963240" y="2514600"/>
            <a:ext cx="89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1"/>
          <p:cNvSpPr/>
          <p:nvPr/>
        </p:nvSpPr>
        <p:spPr>
          <a:xfrm rot="19000200">
            <a:off x="4647960" y="3580920"/>
            <a:ext cx="2672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ребова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2"/>
          <p:cNvSpPr/>
          <p:nvPr/>
        </p:nvSpPr>
        <p:spPr>
          <a:xfrm rot="2625600">
            <a:off x="4876200" y="1523520"/>
            <a:ext cx="262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ниженные затр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3"/>
          <p:cNvSpPr/>
          <p:nvPr/>
        </p:nvSpPr>
        <p:spPr>
          <a:xfrm rot="18909600">
            <a:off x="2821320" y="1447200"/>
            <a:ext cx="172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дин 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дн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4"/>
          <p:cNvSpPr/>
          <p:nvPr/>
        </p:nvSpPr>
        <p:spPr>
          <a:xfrm rot="2613000">
            <a:off x="2818080" y="3962160"/>
            <a:ext cx="212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ез бра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6 </a:t>
            </a: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“S”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762120" y="1600200"/>
          <a:ext cx="8076960" cy="4925880"/>
        </p:xfrm>
        <a:graphic>
          <a:graphicData uri="http://schemas.openxmlformats.org/drawingml/2006/table">
            <a:tbl>
              <a:tblPr/>
              <a:tblGrid>
                <a:gridCol w="3477960"/>
                <a:gridCol w="1492560"/>
                <a:gridCol w="310644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ортиров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бавление от ненужн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85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Упрощ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plify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igh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ведение в порядок, организация по соответств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мет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rub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ee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 в чистоте, обеспечение возможности видеть и решать пробле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3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езопас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транение небезопасных услов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903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тандартиза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о, что и когда делает для обеспечения работоспособности процес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05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табилиза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tain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f-discip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дисциплина и поддержание в поряд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21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Вытягиван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914400" y="1599840"/>
            <a:ext cx="3813120" cy="12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единяет потоковые ячейки вместе Содержит 3 элемен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8" descr="Min"/>
          <p:cNvPicPr/>
          <p:nvPr/>
        </p:nvPicPr>
        <p:blipFill>
          <a:blip r:embed="rId1">
            <a:lum contrast="6000"/>
          </a:blip>
          <a:srcRect l="25324" t="0" r="20838" b="8540"/>
          <a:stretch/>
        </p:blipFill>
        <p:spPr>
          <a:xfrm>
            <a:off x="5024520" y="1600200"/>
            <a:ext cx="3284280" cy="5029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6" name=""/>
          <p:cNvGraphicFramePr/>
          <p:nvPr/>
        </p:nvGraphicFramePr>
        <p:xfrm>
          <a:off x="838080" y="2876400"/>
          <a:ext cx="3962520" cy="3753000"/>
        </p:xfrm>
        <a:graphic>
          <a:graphicData uri="http://schemas.openxmlformats.org/drawingml/2006/table">
            <a:tbl>
              <a:tblPr/>
              <a:tblGrid>
                <a:gridCol w="2040120"/>
                <a:gridCol w="1922400"/>
              </a:tblGrid>
              <a:tr h="138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1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1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Гото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товность изделия для следующего шага по цепочке – изделие вытягивается только в случае необходим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23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1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1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 Работ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ребляется сей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13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1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пусковой Кур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гнал о том что нужно, где, когда и скольк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21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Стандартная Работ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914400" y="1600200"/>
          <a:ext cx="7772400" cy="4530600"/>
        </p:xfrm>
        <a:graphic>
          <a:graphicData uri="http://schemas.openxmlformats.org/drawingml/2006/table">
            <a:tbl>
              <a:tblPr/>
              <a:tblGrid>
                <a:gridCol w="3767040"/>
                <a:gridCol w="4005360"/>
              </a:tblGrid>
              <a:tr h="167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авно-сбалансирова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абота в команд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85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тандартизирована и постоянно улучшает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се инструменты и материалы доступны в точке использ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22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Стандартная Работ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тандартизация позволяет избежать серьезных отклонений при выполнении работы, как в сроках, так и в получаемом качеств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Визуальное Управлен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838080" y="1676520"/>
          <a:ext cx="4267440" cy="4419360"/>
        </p:xfrm>
        <a:graphic>
          <a:graphicData uri="http://schemas.openxmlformats.org/drawingml/2006/table">
            <a:tbl>
              <a:tblPr/>
              <a:tblGrid>
                <a:gridCol w="3229200"/>
                <a:gridCol w="1038240"/>
              </a:tblGrid>
              <a:tr h="655560"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а в процесс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e1"/>
                      </a:solidFill>
                    </a:lnL>
                    <a:lnR w="1872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e1"/>
                      </a:solidFill>
                    </a:lnL>
                    <a:lnR w="1872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797040"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икато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e1"/>
                      </a:solidFill>
                    </a:lnL>
                    <a:lnR w="1872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e1"/>
                      </a:solidFill>
                    </a:lnL>
                    <a:lnR w="1872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45920"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ту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e1"/>
                      </a:solidFill>
                    </a:lnL>
                    <a:lnR w="1872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e1"/>
                      </a:solidFill>
                    </a:lnL>
                    <a:lnR w="1872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728640"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авнение с план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e1"/>
                      </a:solidFill>
                    </a:lnL>
                    <a:lnR w="1872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e1"/>
                      </a:solidFill>
                    </a:lnL>
                    <a:lnR w="1872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728640"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гналы трево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e1"/>
                      </a:solidFill>
                    </a:lnL>
                    <a:lnR w="1872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e1"/>
                      </a:solidFill>
                    </a:lnL>
                    <a:lnR w="1872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63560"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зи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e1"/>
                      </a:solidFill>
                    </a:lnL>
                    <a:lnR w="1872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e1"/>
                      </a:solidFill>
                    </a:lnL>
                    <a:lnR w="1872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008000"/>
                    </a:solidFill>
                  </a:tcPr>
                </a:tc>
              </a:tr>
            </a:tbl>
          </a:graphicData>
        </a:graphic>
      </p:graphicFrame>
      <p:sp>
        <p:nvSpPr>
          <p:cNvPr id="226" name="Rectangle 29"/>
          <p:cNvSpPr/>
          <p:nvPr/>
        </p:nvSpPr>
        <p:spPr>
          <a:xfrm>
            <a:off x="0" y="6248520"/>
            <a:ext cx="9144000" cy="975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Владельцы процесса – люди, работающие на этом участ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30"/>
          <p:cNvSpPr/>
          <p:nvPr/>
        </p:nvSpPr>
        <p:spPr>
          <a:xfrm>
            <a:off x="5334120" y="1905120"/>
            <a:ext cx="3657600" cy="3581280"/>
          </a:xfrm>
          <a:prstGeom prst="ellipse">
            <a:avLst/>
          </a:prstGeom>
          <a:solidFill>
            <a:srgbClr val="ff0000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1"/>
          <p:cNvSpPr/>
          <p:nvPr/>
        </p:nvSpPr>
        <p:spPr>
          <a:xfrm>
            <a:off x="6404760" y="2819520"/>
            <a:ext cx="14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иде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32"/>
          <p:cNvSpPr/>
          <p:nvPr/>
        </p:nvSpPr>
        <p:spPr>
          <a:xfrm>
            <a:off x="6175440" y="3429000"/>
            <a:ext cx="20840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гновен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 5 секун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ЧИСЛО АЛЬТЕРНАТИВНЫХ СЦЕНАРИЕВ БЕСКОНЕЧН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ью Эверет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Times New Roman"/>
              </a:rPr>
              <a:t>Бережливое производство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режливое производство предполагает вовлечение в процесс оптимизации бизнеса каждого сотрудника и максимальную ориентацию на потребителя. Целями бережливого производства являю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кращение трудозатра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кращение сроков разработки новой продукци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кращение сроков создания продукци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кращение производственных и складских площаде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арантия поставки продукции заказчик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ксимальное качество при минимальной стоим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тправная точка бережливого производств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нность для потребите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точки зрения конечного потребителя, продукт(услуга) приобретает действительную ценность только в то время, когда происходит непосредственная обработка, изготовление технологических элемент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ё, что не добавляет ценности для потребителя, с точки зрения бережливого производства, классифицируется как потери, и должно быть устране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сновные принципы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ить ценность конкретного продукта.(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Ценност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товар или услуга за которую платит Заказчик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ить поток создания ценности для этого проду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еспечить непрерывное течение потока создания ценности проду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зволить потребителю вытягивать продук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емиться к совершенств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01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5 принципов </a:t>
            </a: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LEA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762120" y="1905120"/>
          <a:ext cx="8153280" cy="4525920"/>
        </p:xfrm>
        <a:graphic>
          <a:graphicData uri="http://schemas.openxmlformats.org/drawingml/2006/table">
            <a:tbl>
              <a:tblPr/>
              <a:tblGrid>
                <a:gridCol w="5487840"/>
                <a:gridCol w="2665440"/>
              </a:tblGrid>
              <a:tr h="757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Ценнос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Заказчик покупает на самом дел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10238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Цепочка Создания Ценност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 создается цен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Пото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лучшение цепочки создания цен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Вытягивани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равление потоком только на основании реальных потребнос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914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Совершенствовани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оянный нескончаемый процесс улучш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12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Другие принцип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восходное качество (сдача с первого предъявления, система ноль дефектов, обнаружение и решение проблем у истоков их возникновени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бк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ление долговременных отношений с заказчиком (путем деления рисков, затрат и информации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организация, эволюция, адапт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0033"/>
                </a:solidFill>
                <a:latin typeface="Times New Roman"/>
              </a:rPr>
              <a:t>Инструменты бережливого производства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истема TPM (Total Productive Maintenance) — Всеобщий уход за оборудовани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истема 6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сортируйте, соблюдайте порядок, содержите в чистоте, стандартизируйте, совершенствуйте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ыстрая переналадк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Single-Minute Exchange of Dies (буквально «быстрая смена пресс-форм» — переналадка/переоснастка оборудования менее чем за 10 минут). Переналадка в одно касание (One-touch setup) — вариант SMED, но время переналадки уже изменяерся единицами минут, то есть не больше 9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йдзен(kaizen) — непрерывное совершенствова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мба кайдзен — непрерывное совершенствование на месте создания дополнительной стоим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нбан, вытягивающее производство — продукция «вытягивается» со стороны заказчика, а не «толкается» производителем. Информирования предыдущей производственной стадии о том, что нужно начинать работ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очно в срок— система синхронизации передачи продукта с одной производственной стадии на другую посредством карточек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Канба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Комплектующие должны передаваться на следующую стадию только тогда, когда это нужно, и ни минутой раньш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Пока — ёкэ» («защита от ошибок», «защита от дурака») — метод предотвращения ошибок — специальное устройство или метод, благодаря которому дефекты просто не могут появить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1-10T07:57:37Z</dcterms:modified>
  <cp:revision>8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