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B965-3C9C-4757-8B01-EBF3F952EA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5B62-9DD9-4ABE-833A-C5EBC33D2E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недрени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N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проводника перемен (нужен ЛИДЕР, способный взять на себя ответствен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необходимые знания по систе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нания должны быть получены из надежного источни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или создать кризис (хорошим мотиво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ужит кризис в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карту всего потока создания ценности для каждого семейства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немедленно получить результ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E27B-B5B4-499B-B2B2-D8B639CF78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ошибки при внедрении бережливого произ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 семь видов основных ошиб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имание роли руководства при внедрении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«Системы», не обладающей необходимой гиб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внедрения не с «ос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ются рабочие места, но не меняются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мерять (собирать данные), но ни на что не реаг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ралитический анализ» (бесконечный анализ ситуации, вместо непрерывных улучш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ходиться без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6A6-F49C-4341-A2EE-F9B20718CB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A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ульту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невозможно без бережливой культуры. Главно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е — человеческий фактор, коллективная раб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ддержку этому оказывает эмоциональный интеллект (EQ) сотруд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е соответствует и определенная корпоративная куль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8309-BB56-4694-8608-5C80505D9F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йдзен – это настоящая фило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остоянного, неторопливого совершенствования все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 стоит только с реальными фа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чны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цепция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532C-D373-4708-AC25-435F4F389B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епции кайдзен относят большую часть извес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х техник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ий контроль качества, контроль качества в масштабе всей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нуль деф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подачи предложений и многое друг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4211-CB7F-4482-9CFF-029C809D1C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Кайдзен каждый сотрудник является равноправным партнером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3863-B56C-4E16-8E9C-D513249CBA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, в качестве любого последующе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6100-B186-4E87-9211-C96ED263EC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123-1B2C-4386-ABD5-DED613DC07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311A-63CD-4A70-81FB-C8DCDF9923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4A0F-A13B-4E17-A263-3C3C4F44E6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 никогда не решишь проблему, если будешь думать так же, как те, кто ее созд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льберт Эйнштейн (1879–1955), немецкий физ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C1D6-6623-4225-8F71-F73D028EF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снижению запасов – метод выявления и решения производствен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системы CAN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запасов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дефектов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стема CANBAN   невозможна без внедрения комплексной системы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CA19-1E1C-48F0-B476-31E77DE206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жными элементами системы CANBAN являютс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регулирования потребности и профессиональной ротации кад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сеобщего (TQM) и выборочного ("Дзидока") контроля каче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ыравнивания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CAF5-8B5D-41C0-9996-85B3751502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еимущества системы CANB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качество продукции на всех стадиях производственн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25E5-3684-43A5-8709-9C75C7F315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недостатки системы "точно в срок"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ый риск срыва производства и реализации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EBEE-35A3-4677-ACBA-C7ECB0A7B3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5E92-7741-4F6A-87AC-5F0CC440EB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истема    качеств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5777-C3FA-4283-93AB-9BD126EAAD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мешающие реализации внедрения системы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стоянства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ня за сиюминутной выгод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аттестации и ранжирования персон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ротация кадров управля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только количественных критериев для оценки деятельности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DED7-B3BE-44C3-9319-B011058D2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уководство объясняет сотрудникам компании, почему перемены необходимы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сотрудник может принять участие в совершенствовании работы на любом этапе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ля строительства системы качества - требуется участие знающих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D5FC-6209-4188-8860-66555F3299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9 видов пот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1B92-F62A-481C-A614-9E1F36275F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 полное использование интеллекта и таланта люд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7847-F232-4D72-B0E4-D20BF98A65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онцепция менеджмента, созданна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oyot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и основанная на неуклонном стремлении к устранению всех видов потер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4314-EDB0-4C19-AFA3-182E68E61F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И НЕПРЕРЫВНЫХ УЛУЧ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81FB-6438-4D16-A5A6-2544B766F6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0B06-BFE9-4D79-B056-59B828E02C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A8D4-8F29-4E89-ADA2-34D7CDB97F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потоковые ячейки вместе Содержит 3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75F7-B163-4F08-934A-BCC97FB89D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A696-59DC-43F3-89AC-C02D0E15CA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3F0-996B-4959-8289-D1A300BC84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8E4A-CFD2-443B-9A69-866A2CA5B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ЛО АЛЬТЕРНАТИВНЫХ СЦЕНАРИЕВ БЕСКОНЕЧ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ью Эв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38B5-8F07-4391-8812-C9A15FB82C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4105-1F38-4308-8E15-7010A84810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трудозатра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зработки новой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здания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роизводственных и складских площа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я поставки продукции заказчи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ое качество при минима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7933-E737-4D31-A3B7-0CEE1F44F9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ная точка бережлив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 для потреб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4779-0F01-4103-A700-A2B8CD7E2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ценность конкретного продукта.(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Ц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 или услуга за которую платит Заказч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поток создания ценности для эт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непрерывное течение потока создания ценности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ить потребителю вытягивать проду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совершен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2D40-70EE-4641-8368-1694AE5B13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принцип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казчик покупает на самом д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очка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е цепочки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отоком только на основании реальных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й нескончаемый процесс улуч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9814-3416-4193-B4DA-EFEF0DCADA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, эволюция,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D2F8-C409-4B81-83C8-461C9DA575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 бережливого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TPM (Total Productive Maintenance) — Всеобщий уход за оборудо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переналад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(kaizen) — непрерывное совершен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нб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4B5E-0428-42D1-9A5E-B698B3756F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CC0-2D6D-4888-B97B-9CBE2650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578-0640-4074-BD66-967B5CEC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736-C2D7-49F9-9F32-6E428460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998-1C7B-40B8-96F2-010EB612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9226-71C0-41C5-AB21-57C0AEED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86AA-B50D-451C-B3AB-4305D9D4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13B4-5F0D-4752-A7B2-4BE2BB99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5271-1BF4-4F80-B376-1384FFBC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5EAE-F810-4A72-BCA6-19AB28D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66A1-0ED8-4DE6-9301-F6F57C4A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620-E531-4AEF-8D50-2D64FCD9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397-C778-4AAF-B2A3-A8F0E07D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95A5-B0F6-4E3B-ACF3-D4C88C1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D06F-176C-4367-B7C2-089FF5B4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7ED1-E927-4D9A-BC47-D614F73F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EB7B-F8EC-4A42-8EED-6AF9A5D3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B344-BDAA-4741-97A9-2337D2FC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4FE-82FB-4C34-A202-6133642E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953-B919-4549-85AB-6814F11F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EB6-0F39-4388-AE03-FF8956D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8E1-5525-4262-B389-9B418EE6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1C4-3EB7-49C1-922A-9504B3DA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ADB-5A06-4040-942D-E92DAAAF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8BA-2DE4-4FE1-83CB-72A270C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D90-EC12-4368-9B61-CD35A31B16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8E08-8709-43E2-8FA9-08D2A70B89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лгоритм внедрения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LEAN -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деолог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оводника перемен (нужен ЛИДЕР, способный взять на себя ответ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необходимые знания по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нания должны быть получены из надежного источ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создать кризис (хорошим мотивом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кризис в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карту всего потока создания ценности для каждого семейства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немедленно получить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ипичные ошибки при внедрении бережливого производст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 семь видов основных ошиб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ли руководства при внедрении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«Системы», не обладающей необходимой гиб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внедрения не с «ос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ются рабочие места, но не меняются 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рять (собирать данные), но ни на что не реа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алитический анализ» (бесконечный анализ ситуации, вместо непрерывных улуч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иться без под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EAN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ультур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ливое производство невозможно без бережливой культуры. Главно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е — человеческий фактор, коллектив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ую поддержку этому оказывает эмоциональный интеллект (EQ) сотру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льтуре соответствует и определенная корпоративная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йдзен – это настоящая философ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постоянного, неторопливого совершенствования все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 стоит только с реальными ф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цепция Кайд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9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572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914400" y="184104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епции кайдзен относят большую часть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понских техник менедж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вки-точно-в-с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б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ий контроль качества, контроль качества в масштабе вс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нуль деф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подачи предложений и многое друг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Кайдзен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йдзе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истеме Кайдзен каждый сотрудник является равноправным партнером комп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5988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оставки-точно-в-сро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, в качестве любого последующе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canban-1"/>
          <p:cNvPicPr/>
          <p:nvPr/>
        </p:nvPicPr>
        <p:blipFill>
          <a:blip r:embed="rId1"/>
          <a:stretch/>
        </p:blipFill>
        <p:spPr>
          <a:xfrm>
            <a:off x="838080" y="167652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 никогда не решишь проблему, если будешь думать так же, как те, кто ее соз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берт Эйнштейн (1879–1955), немецкий 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снижению запасов – метод выявления и решения производственны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системы CAN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запас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дефектов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CANBAN   невозможна без внедрения комплексной системы управления каче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ми элементами системы CANBAN являю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егулирования потребности и профессиональной ротации кад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сеобщего (TQM) и выборочного ("Дзидока") контроля качества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равнивания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еимущества системы CANB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качество продукции на всех стадиях производствен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достатки системы "точно в срок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риск срыва производства и реализации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стема   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ловия мешающие реализации внедрения системы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стоянства ц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ня за сиюминутной выг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аттестации и ранжирования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ротация кадров управляющ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количественных критериев для оценки деятельности комп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че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уководство объясняет сотрудникам компании, почему перемены необходимы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аждый сотрудник может принять участие в совершенствовании работы на любом этап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Для строительства системы качества - требуется участие знающих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Times New Roman"/>
              </a:rPr>
              <a:t>9 видов пот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аточно полное использование интеллекта и таланта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цепция менеджмента, созданная на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oyot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основанная на неуклонном стремлении к устранению всех видов поте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6668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ОЛОГИИ НЕПРЕРЫВНЫХ УЛУЧ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9"/>
          <p:cNvSpPr/>
          <p:nvPr/>
        </p:nvSpPr>
        <p:spPr>
          <a:xfrm flipV="1">
            <a:off x="2438280" y="4267080"/>
            <a:ext cx="4361040" cy="1447920"/>
          </a:xfrm>
          <a:custGeom>
            <a:avLst/>
            <a:gdLst>
              <a:gd name="textAreaLeft" fmla="*/ 937080 w 4361040"/>
              <a:gd name="textAreaRight" fmla="*/ 3423960 w 4361040"/>
              <a:gd name="textAreaTop" fmla="*/ 311040 h 1447920"/>
              <a:gd name="textAreaBottom" fmla="*/ 113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84" y="21600"/>
                </a:lnTo>
                <a:lnTo>
                  <a:pt x="159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ОЕ 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5"/>
          <p:cNvSpPr/>
          <p:nvPr/>
        </p:nvSpPr>
        <p:spPr>
          <a:xfrm>
            <a:off x="2514600" y="762120"/>
            <a:ext cx="2484360" cy="2458800"/>
          </a:xfrm>
          <a:prstGeom prst="pie">
            <a:avLst/>
          </a:prstGeom>
          <a:solidFill>
            <a:srgbClr val="ffcc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6"/>
          <p:cNvSpPr/>
          <p:nvPr/>
        </p:nvSpPr>
        <p:spPr>
          <a:xfrm>
            <a:off x="2544840" y="3083040"/>
            <a:ext cx="2492280" cy="24382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fill="none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</a:path>
              <a:path stroke="0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  <a:lnTo>
                  <a:pt x="21600" y="0"/>
                </a:lnTo>
                <a:lnTo>
                  <a:pt x="21757" y="21599"/>
                </a:lnTo>
                <a:close/>
              </a:path>
            </a:pathLst>
          </a:custGeom>
          <a:solidFill>
            <a:srgbClr val="ff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7"/>
          <p:cNvSpPr/>
          <p:nvPr/>
        </p:nvSpPr>
        <p:spPr>
          <a:xfrm>
            <a:off x="4952880" y="3048120"/>
            <a:ext cx="2398680" cy="2477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77880"/>
              <a:gd name="textAreaBottom" fmla="*/ 2478240 h 2477880"/>
            </a:gdLst>
            <a:ahLst/>
            <a:rect l="textAreaLeft" t="textAreaTop" r="textAreaRight" b="textAreaBottom"/>
            <a:pathLst>
              <a:path fill="none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</a:path>
              <a:path stroke="0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  <a:lnTo>
                  <a:pt x="0" y="282"/>
                </a:lnTo>
                <a:lnTo>
                  <a:pt x="21598" y="-1"/>
                </a:lnTo>
                <a:close/>
              </a:path>
            </a:pathLst>
          </a:custGeom>
          <a:solidFill>
            <a:srgbClr val="66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8"/>
          <p:cNvSpPr/>
          <p:nvPr/>
        </p:nvSpPr>
        <p:spPr>
          <a:xfrm>
            <a:off x="4952880" y="762120"/>
            <a:ext cx="2398680" cy="236196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3886200" y="1981080"/>
            <a:ext cx="2109960" cy="22860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3886200" y="3124080"/>
            <a:ext cx="2127240" cy="180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451" h="1">
                <a:moveTo>
                  <a:pt x="0" y="0"/>
                </a:moveTo>
                <a:lnTo>
                  <a:pt x="14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952880" y="2362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5576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952880" y="32004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039920" y="3276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63240" y="25146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 rot="19000200">
            <a:off x="4647960" y="358092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 rot="2625600">
            <a:off x="4876200" y="152352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ные за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 rot="18909600">
            <a:off x="2821320" y="1447200"/>
            <a:ext cx="17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 rot="2613000">
            <a:off x="2818080" y="396216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6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“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600200"/>
          <a:ext cx="8076960" cy="4925880"/>
        </p:xfrm>
        <a:graphic>
          <a:graphicData uri="http://schemas.openxmlformats.org/drawingml/2006/table">
            <a:tbl>
              <a:tblPr/>
              <a:tblGrid>
                <a:gridCol w="3477960"/>
                <a:gridCol w="1492560"/>
                <a:gridCol w="31064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р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авление от ненуж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ро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порядок, организация по соответств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ме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u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в чистоте, обеспечение возможности видеть и решать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небезопасных усло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, что и когда делает для обеспечения работоспособности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бил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дисциплина и поддержание в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ытяг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599840"/>
            <a:ext cx="38131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яет потоковые ячейки вместе Содержит 3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Min"/>
          <p:cNvPicPr/>
          <p:nvPr/>
        </p:nvPicPr>
        <p:blipFill>
          <a:blip r:embed="rId1">
            <a:lum contrast="6000"/>
          </a:blip>
          <a:srcRect l="25324" t="0" r="20838" b="8540"/>
          <a:stretch/>
        </p:blipFill>
        <p:spPr>
          <a:xfrm>
            <a:off x="5024520" y="1600200"/>
            <a:ext cx="32842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838080" y="2876400"/>
          <a:ext cx="3962520" cy="3753000"/>
        </p:xfrm>
        <a:graphic>
          <a:graphicData uri="http://schemas.openxmlformats.org/drawingml/2006/table">
            <a:tbl>
              <a:tblPr/>
              <a:tblGrid>
                <a:gridCol w="2040120"/>
                <a:gridCol w="1922400"/>
              </a:tblGrid>
              <a:tr h="13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ность изделия для следующего шага по цепочке – изделие вытягивается только в случа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Раб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тся сей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усковой К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 о том что нужно, где, когда и ск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767040"/>
                <a:gridCol w="4005360"/>
              </a:tblGrid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вно-сбалансиров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бота в коман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ирована и постоянно улуч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инструменты и материалы доступны в точке ис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изуальное Управ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1676520"/>
          <a:ext cx="4267440" cy="4419360"/>
        </p:xfrm>
        <a:graphic>
          <a:graphicData uri="http://schemas.openxmlformats.org/drawingml/2006/table">
            <a:tbl>
              <a:tblPr/>
              <a:tblGrid>
                <a:gridCol w="3229200"/>
                <a:gridCol w="1038240"/>
              </a:tblGrid>
              <a:tr h="655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процес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970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592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с пл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ы трев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9"/>
          <p:cNvSpPr/>
          <p:nvPr/>
        </p:nvSpPr>
        <p:spPr>
          <a:xfrm>
            <a:off x="0" y="6248520"/>
            <a:ext cx="9144000" cy="9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дельцы процесса – люди, работающие на этом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5334120" y="1905120"/>
            <a:ext cx="3657600" cy="358128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04760" y="2819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175440" y="3429000"/>
            <a:ext cx="208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ИСЛО АЛЬТЕРНАТИВНЫХ СЦЕНАРИЕВ БЕСКОНЕЧ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ью Эвере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Бережливое производ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разработки новой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создания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производственных и складских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я поставки продукции заказч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ачество при минимальной сто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правная точка бережливого производ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ь для потреб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ринцип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ценность конкретного продукта.(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Ц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вар или услуга за которую платит Заказч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ток создания ценности для эт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непрерывное течение потока создания ценности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ь потребителю вытягивать прод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5 принципов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LE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905120"/>
          <a:ext cx="8153280" cy="4525920"/>
        </p:xfrm>
        <a:graphic>
          <a:graphicData uri="http://schemas.openxmlformats.org/drawingml/2006/table">
            <a:tbl>
              <a:tblPr/>
              <a:tblGrid>
                <a:gridCol w="5487840"/>
                <a:gridCol w="2665440"/>
              </a:tblGrid>
              <a:tr h="75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казчик покупает на самом д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2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почка Создания Цен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оздаетс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цепочки создания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ытяги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потоком только на основании реальных потре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вершенств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нескончаемый процесс улуч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ругие принц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рганизация, эволюция, адап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струменты бережливого производст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TPM (Total Productive Maintenance) — Всеобщий уход за оборуд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ая перенала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йдзен(kaizen) — непрерывное совершен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нб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7:57:3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