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1708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0" y="892620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8"/>
          </p:nvPr>
        </p:nvSpPr>
        <p:spPr>
          <a:xfrm>
            <a:off x="3927240" y="892620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84A4-67FE-4C5E-B339-B39EEC3F9ACA}" type="slidenum"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0" i="1" lang="ru-RU" sz="1200" spc="-1" strike="noStrike">
                <a:solidFill>
                  <a:srgbClr val="660033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5F4A-594E-46FA-BA34-20EC1D32FD04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VI — VII вв. славяне вели с аварами постоянные войны. В союзе с франкским короле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арлом Велик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в конце VIII п. разгромили авар. Но в это время в Восточной Европе появилась новая тюркская орда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хазар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ни прошли через Нижнее Поволжье в Северное Причерноморье, заняли территории в предгорьях Кавказа, На долгие столетия эти кочевники стали опасными соседями восточных славя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96E1-15BC-4CB2-B9D7-0B9F8BD1482D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была не только средой обитания славян, но и источником их существования. Славяне обожествляли силы природы влияющие на их жизнь. Славянская религия со множеством божеств, называется многобожием или политеизмом (от греческих слов «поли» — много и «теос» — бог).  В христианские времена эта вера получила названи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зы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зыце – иноземные, нехристианске нар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64D6-4C6A-438B-94B0-28F0EBCE83AD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о главе славянских божеств стоял велики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вар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бог вселенной, напоминающий древнегреческого Зевса.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(запишите имена богов и их знач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сыновь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варожи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олнце и огонь — были носителям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а и тепла. Бог солнц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аждь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сьма почитался славя­нами. Недаром автор «Слова о полку Игореве называл славян «даждьбожьи внуки». Молились славян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ожениц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богу и богиням плодородия. Этот культ был связан с земледельческими занятиями населения и поэтому был особенно популярен. Бог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ес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читался у славян в качестве покровителя скотоводства, это был своеобразный «скотный бог»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трибог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х понятиям. повелевал ветрами, как древнегреческий Эол. По мере слияния славян с некоторыми иранскими и угрофинскими племенами их боги перекочевывали и в славянский панте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VIII — IX вв. у славян почитался бог солнц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Хо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явно пришел из мира иранских племен. Бог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имарг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й изображался в виде пса и считался богом почвы, корней растении. В иранском мире это был хозяин подземного царства, божество плодоро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м крупным женским божеством у славян был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Макош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олицетворяла рождение всего живого, была покровительницей женской части хозяйства. Со временем, уже по мере выдвижения в общественной жизни славян князей, дружины, начала великих военных походов, на первый план все больше выдвигается бог молнии и гром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у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затем становится главным небесным божеством, сливает­ся со Сварогом, Родом как более древними бог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390A-D6AD-4C07-9CE4-D89E290127CF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5.Видеофраг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5FCA-FF32-4F91-BAC4-4513A519B083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6. Закрепление изу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ечислите славянских  богов, чему каждый покровитель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277D-46E7-491D-B8DF-86B7BBD0AED1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7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eece1"/>
                </a:solidFill>
                <a:latin typeface="Times New Roman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Древняя славянская религия – многобожие - обожествляля все силы природы, которые влияли на их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59D9-0055-4352-A622-5E697B7A8C2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Calibri"/>
              </a:rPr>
              <a:t>6. Закрепление изуче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ронология появления враждебных славянам народов на территории Северного Причерноморья и Поднеп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. Кимерийцы (1 тыс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2. Скиф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 – 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3. Сармат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 до н.э -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II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.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4. Готы, алан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5. Гунн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6. Авар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7. Хазар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II – X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E7FE-9046-42D1-8C4B-5E39D4A2637C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7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eece1"/>
                </a:solidFill>
                <a:latin typeface="Times New Roman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В середине 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тысячелетия до н.э. славяне окончательно выделились из семьи индоевропейских народов. С 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V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века н.э. идет бурный демографический рост славянского мира. Складываются два мощных союза славянских племен: анты (Днепр и Днестр) и склавины (север Балкан). Будут разбиты в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VI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веке ава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C3C0-9951-460E-96CB-5DDB8547EBA3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0" i="1" lang="ru-RU" sz="1800" spc="-1" strike="noStrike">
                <a:solidFill>
                  <a:srgbClr val="660033"/>
                </a:solidFill>
                <a:latin typeface="Calibri"/>
              </a:rPr>
              <a:t>.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индоевропейцев ко 2-му тысячелетию до н. э. образовали в Центральной и Восточной Европе особый массив, состоявший из предков будущих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ерманцев, славян, балтов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вших тогда на одном языке. В середине 2-го тысячелетня до н. обособились предки германских племен, а предки балтов и славян продолжали составлять еще некоторое время общую балтославянскую групп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88AF-08B8-407E-95EF-3EB3EC34E0E4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ом расселения предков славянских народ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праславян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 бассейн реки Вислы. На рубеже 2-го и 1-го тысячелетни до н. э. предки славян компактно расселяются в двух районах Европы. Первый — в северной части Центральной Европы: в будущем здесь появятс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западные славяне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второй — в Среднем Поднепровье: века спустя здесь сформируются племе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точ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BE76-316B-4312-A3B1-C162228D2D0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начале 1 тыс. до н.э. праславяне вступили в противоборство с кочевыми племенами. Это бы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иммерийцы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нявшие степные пространства Северного Причерноморья. С VI по IV в. до н. з. земли предков восточных славян подверглись новому нашествию. То бы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киф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фы оттеснили киммерийцев и стали опасными соседями славян и балтов. К тому времени, когда скифы заняли Северное Причерноморье, там уже существова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реческие колон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0A7C-58C9-4BC7-A121-E5F43527613B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з в скифское время формируется население, говорившее уже по-славянски, а не на балтославянском языке. Начиная со II в. до н. э. Поднепровье испытало новый натиск врагов. Из-за Дона сюда продвинулись кочевые орд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арм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маты нанесли серию ударов захватили земли скифов и проникли в глубь северной лесостепной зоны, где жили славя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7502-414A-48B5-B6AD-7A12981B4BA9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3.Работа с учебни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Выпишите названия и время пребывания других народов на территории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3 пункты «Другие народы России в глубокой древности» и «Великое переселение народов и Восточная Европ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CBC1-68BD-43E8-BFCF-4DBCC19CE9A7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адения державы гуннов вновь наполняются славянским населением дунайские и днепровские берега. В V—VI вв происходит его быстрое и громадное увеличение. Начиная г V в. в бассейнах Днепра и Днестра складывается мощный союз восточнославянских племен, которых называ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а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 на древнеиранском языке означало «жители окраин». Одновременно на севере Балканского полуострова образовался племенной союэ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клави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C89A-7F72-433E-A139-7BA6E389271D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антийские сочинения той поры полны паническими известиями о набегах славян на византийские владения. Именно с тех времен до нас доходит история о славянском вожд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об основании им города Киева, будущей столицы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й — один из вождей славянских племен, живших по среднему Днепру, вместе с братьям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Ще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Х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ив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естро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Лыбед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али город, названный в честь старшего брата Кие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CB66-6225-4072-B469-0299E0C547C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 то же время, а севере шл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еще одного мощного славянского центра в Приильменье; позднее здесь возник союз племен, получивших названне новгородских (приильменских) сло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середине VI в, новая тюркская орда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ава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вторглась в Восточную Европу и позже осела по берегам Ду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 во время гуннского нашествия удару подверглись славянские по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07D0-5FF1-461C-A66C-29714C5CD86D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1803-00D1-48C3-BC82-E53BA703A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4EC5-2550-48BF-AA96-99101FF76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617E-004B-440C-9670-E0798BA9E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C4A9-58C8-4C23-B977-197AD76B8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34F8C-8F7C-477B-A0D6-BC795FEE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9FCD3-F6A3-4146-8396-81D7C15F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D2405-10B5-4164-AEB4-BB23A07E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53057-7C75-4467-80E8-47AF8FA8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FB6EF-2B75-4AB2-B689-42FEE878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4E3C0-7855-472F-9438-4108B749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FA61E-D3A4-4476-97E2-B0C674AF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7D9B0-75DD-4C94-9863-3D577032A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0D8E7-FFC6-4EFE-8BA6-8836AE13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01F0E-3845-4335-8AD2-37FE2161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4EF0D-E3BE-4820-9A78-58C2CDE1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A2EBE-51BA-45AE-A9E1-9D60AC5A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406EB-6BFC-497A-AE40-DE2BF27F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47EC2-EC6C-498A-A785-10AACBC89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2DCEF-6AB5-4F94-9674-6F39805F1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C8194-6BBA-47AD-9E8B-D6712CE79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8806-29EA-4E6A-9AB7-3E6E52EBE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D4782-56A4-43D6-8019-08A34B7D2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9D316-E629-4598-9C2E-E8F1A8A57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099C-F46E-4DBD-B4FC-251E439C7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E2DC-2D39-4334-86C8-AC8CC6C22D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lnTo>
                  <a:pt x="1129" y="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2730" y="4317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AF8A-7A33-406B-95FD-51B12E315182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92120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130320" rIns="130320" tIns="84240" bIns="84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90a1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285840" y="6143760"/>
            <a:ext cx="2928960" cy="46188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0" y="642960"/>
            <a:ext cx="9155160" cy="6215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 течение VI — VII вв. славяне вели с аварами постоянные войны. В союзе с франкским королем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Карлом Велики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славяне в конце VIII п. разгромили авар. Но в это время в Восточной Европе появилась новая тюркская орда —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хазары.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Они прошли через Нижнее Поволжье в Северное Причерноморье, заняли территории в предгорьях Кавказа, На долгие столетия эти кочевники стали опасными соседями восточных славян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14200" y="817560"/>
            <a:ext cx="3429000" cy="4738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7"/>
          <p:cNvSpPr/>
          <p:nvPr/>
        </p:nvSpPr>
        <p:spPr>
          <a:xfrm>
            <a:off x="500040" y="6143760"/>
            <a:ext cx="292896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рл Великий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36080" cy="228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рирода была не только средой обитания славян, но и источником их существования. Славяне обожествляли силы природы влияющие на их жизнь. Славянская религия со множеством божеств, называется многобожием или политеизмом (от греческих слов «поли» — много и «теос» — бог).  В христианские времена эта вера получила название 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язычество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(языце – иноземные, нехристианске народы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1643040" y="657360"/>
            <a:ext cx="5643720" cy="3828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3608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. Во главе славянских божеств стоял великий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варог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бог вселенной, напоминающий древнегреческого Зевса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(запишите имена богов и их значение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го сыновья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варожичи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солнце и огонь — были носителями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света и тепла. Бог солнц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Даждьбог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весьма почитался славя­нами. Недаром автор «Слова о полку Игореве называл славян «даждьбожьи внуки». Молились славяне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Роду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и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роженицам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богу и богиням плодородия. Этот культ был связан с земледельческими занятиями населения и поэтому был особенно популярен. Бог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Веслес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почитался у славян в качестве покровителя скотоводства, это был своеобразный «скотный бог».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трибог,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по их понятиям. повелевал ветрами, как древнегреческий Эол. По мере слияния славян с некоторыми иранскими и угрофинскими племенами их боги перекочевывали и в славянский пантеон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Так, в VIII — IX вв. у славян почитался бог солнц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Хорс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ый явно пришел из мира иранских племен. Бог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имаргл,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который изображался в виде пса и считался богом почвы, корней растении. В иранском мире это был хозяин подземного царства, божество плодородия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динственным крупным женским божеством у славян был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Макошь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 Со временем, уже по мере выдвижения в общественной жизни славян князей, дружины, начала великих военных походов, на первый план все больше выдвигается бог молнии и грома 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Перун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ый затем становится главным небесным божеством, сливает­ся со Сварогом, Родом как более древними богами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9" dur="1" fill="hold"/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130320" rIns="130320" tIns="84240" bIns="84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90a1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</a:rPr>
              <a:t>5.Видеофрагмент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6. Закрепление изученного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еречислите славянских  богов, чему каждый покровительствует</a:t>
            </a: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0a11"/>
                </a:solidFill>
                <a:latin typeface="Times New Roman"/>
              </a:rPr>
              <a:t>Запишите в тетрад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Древняя славянская религия – многобожие - обожествляля все силы природы, которые влияли на их жизнь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</a:rPr>
              <a:t>7.Выводы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6. Закрепление изученного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пишите в тетрадь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ронология появления враждебных славянам народов на территории Северного Причерноморья и Поднепровья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Кимерийцы (1 тыс. до н.э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Скиф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 – I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. до н.э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Сармат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до н.э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н.э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Готы, алан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Гунн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Авар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. Хазар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II – X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0a11"/>
                </a:solidFill>
                <a:latin typeface="Times New Roman"/>
              </a:rPr>
              <a:t>Запишите в тетрад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В середине 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тысячелетия до н.э. славяне окончательно выделились из семьи индоевропейских народов. С 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века н.э. идет бурный демографический рост славянского мира. Складываются два мощных союза славянских племен: анты (Днепр и Днестр) и склавины (север Балкан). Будут разбиты в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VI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веке аварам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</a:rPr>
              <a:t>7.Выводы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92120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Часть индоевропейцев ко 2-му тысячелетию до н. э. образовали в Центральной и Восточной Европе особый массив, состоявший из предков будущих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германцев, славян, балтов,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говоривших тогда на одном языке. В середине 2-го тысячелетня до н. обособились предки германских племен, а предки балтов и славян продолжали составлять еще некоторое время общую балтославянскую групп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0" y="1392120"/>
            <a:ext cx="4219560" cy="3537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36080" cy="228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Центром расселения предков славянских народов</a:t>
            </a:r>
            <a:r>
              <a:rPr b="0" i="1" lang="ru-RU" sz="2000" spc="-1" strike="noStrike">
                <a:solidFill>
                  <a:srgbClr val="336699"/>
                </a:solidFill>
                <a:latin typeface="Arial"/>
              </a:rPr>
              <a:t> (праславян)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стал бассейн реки Вислы. На рубеже 2-го и 1-го тысячелетни до н. э. предки славян компактно расселяются в двух районах Европы. Первый — в северной части Центральной Европы: в будущем здесь появятся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 западные славяне,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а второй — в Среднем Поднепровье: века спустя здесь сформируются племена 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восточных славян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285920" y="760320"/>
            <a:ext cx="6286320" cy="370836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428640" y="714240"/>
            <a:ext cx="570708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Уже в начале 1 тыс. до н.э. праславяне вступили в противоборство с кочевыми племенами. Это бы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киммерийцы,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занявшие степные пространства Северного Причерноморья. С VI по IV в. до н. з. земли предков восточных славян подверглись новому нашествию. То бы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скифы.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кифы оттеснили киммерийцев и стали опасными соседями славян и балтов. К тому времени, когда скифы заняли Северное Причерноморье, там уже существова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греческие колонии.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3324240" cy="4600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142880" y="714240"/>
            <a:ext cx="49928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раз в скифское время формируется население, говорившее уже по-славянски, а не на балтославянском языке. Начиная со II в. до н. э. Поднепровье испытало новый натиск врагов. Из-за Дона сюда продвинулись кочевые орды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сармат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арматы нанесли серию ударов захватили земли скифов и проникли в глубь северной лесостепной зоны, где жили славян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500040" y="6000840"/>
            <a:ext cx="292896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оевой меч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  век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2571840" cy="45925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1356840"/>
            <a:ext cx="8481960" cy="507204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Выпишите названия и время пребывания других народов на территории России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§ 3 пункты «Другие народы России в глубокой древности» и «Великое переселение народов и Восточная Европа.»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553240" cy="9907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</a:rPr>
              <a:t>3.Работа с учебником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71920" y="714240"/>
            <a:ext cx="556416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сле падения державы гуннов вновь наполняются славянским населением дунайские и днепровские берега. В V—VI вв происходит его быстрое и громадное увеличение. Начиная г V в. в бассейнах Днепра и Днестра складывается мощный союз восточнославянских племен, которых называ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антами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, что на древнеиранском языке означало «жители окраин». Одновременно на севере Балканского полуострова образовался племенной союэ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склавин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285840" y="5929200"/>
            <a:ext cx="2928960" cy="82548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татуэтка антского воин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0" y="644400"/>
            <a:ext cx="3500280" cy="52070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изантийские сочинения той поры полны паническими известиями о набегах славян на византийские владения. Именно с тех времен до нас доходит история о славянском вожде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Кие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об основании им города Киева, будущей столицы Рус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ий — один из вождей славянских племен, живших по среднему Днепру, вместе с братьями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Щеко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Ха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риво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сестрой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Лыбедью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основали город, названный в честь старшего брата Киевом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то же время, а севере шло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ние еще одного мощного славянского центра в Приильменье; позднее здесь возник союз племен, получивших названне новгородских (приильменских) словен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Но в середине VI в, новая тюркская орда —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авары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— вторглась в Восточную Европу и позже осела по берегам Дуна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и во время гуннского нашествия удару подверглись славянские поселения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571680" y="6072120"/>
            <a:ext cx="292860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Авары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0" y="666720"/>
            <a:ext cx="3857760" cy="51451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elior</dc:creator>
  <dc:description/>
  <dc:language>en-US</dc:language>
  <cp:lastModifiedBy>LEGION</cp:lastModifiedBy>
  <cp:lastPrinted>1997-01-19T19:09:28Z</cp:lastPrinted>
  <dcterms:modified xsi:type="dcterms:W3CDTF">2015-01-15T12:37:04Z</dcterms:modified>
  <cp:revision>131</cp:revision>
  <dc:subject/>
  <dc:title>Заголовок слайда отсутствует</dc:title>
</cp:coreProperties>
</file>