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FE56-CFE5-4420-838D-C8EA33B3D31B}" type="slidenum"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2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ECCD-A821-4F8D-8560-14F6975B8D51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VI — VII вв. славяне вели с аварами постоянные войны. В союзе с франкским короле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арлом Вели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азар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EA4F-C051-4DAF-B5F6-CC8F81FA448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зы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зыце – иноземные, нехристианске нар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28C4-56EF-41CE-9913-EB88BD9BC667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о главе славянских божеств стоял велик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 вселенной, напоминающий древнегреческого Зевса.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(запишите имена богов и их знач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сыновь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олнце и огонь — были носителя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а и тепла.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ес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трибог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VIII — IX вв. у славян почитался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о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явно пришел из мира иранских плем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имарг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3AAA-AAE8-468F-8EE2-F0EE3FC386B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5.Видеофраг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7902-8C4B-4F82-B2C3-AC9B7B0AF78F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ечислите славянских  богов, чему каждый покровитель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C509-63BC-4FE3-92BA-B4C07188542F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AE1A-69A0-468B-837E-B04DE2623E5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. Кимерийцы (1 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. Скиф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–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3. Сармат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 до н.э -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.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. Готы, ала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. Гун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6. Ав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7. Хаз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II – X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80D9-9EAC-4F70-B18B-B65ACA35F34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В середине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е ава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A554-35AC-4D58-898E-1BEE0E5DDD1C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ерманцев, славян, балтов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9966-177A-4F10-8541-4FA5199902E2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ом расселения предков славянских народ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праславян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западные славяне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второй — в Среднем Поднепровье: века спустя здесь сформируются племе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5077-8113-4CE7-9C97-30EA7935D46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ммерийц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иф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реческие коло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0D7-89B7-4479-B726-E94A0BE0ACE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ар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5684-599D-47E3-8B31-8A371229F34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3.Работа с учебни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EF13-00AB-4CAB-AB95-DAB86299B59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лав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B475-08F2-4868-B438-C9810DC9826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 основании им города Киева, будущей столицы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й — один из вождей славянских племен, живших по среднему Днепру, вместе с братья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Ще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Х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и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естро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ыбед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али город, названный в честь старшего брата Кие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4129-9AC6-4B9E-80BD-749ACA18E5E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 то же время, а севере шл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редине VI в,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ва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торглась в Восточную Европу и позже осела по берегам Ду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во время гуннского нашествия удару подверглись славянские по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793B-BD67-4E47-BAAB-746226314061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8E09-58A9-47E2-B1ED-10E668F6E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1342-4F26-4C0C-9385-C3C7B2272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F40D7-1259-4B73-8184-635295DAD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2F8A-7E4D-4888-89EF-F98071084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013C3-9D75-4C7C-87A4-0AE5170F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CD735-D43A-4592-A7D0-F6BCED8A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ECD4B-5E1D-42E0-B0BE-958A6A38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D7079-7732-4320-B5EC-13CCD583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E608B-BA74-4F80-A488-D308E713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B8EED-9D20-48CD-852D-D9FB6651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B4EB5-A216-4051-813F-C01B2E64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A258-6609-4422-8014-72EBC8BD5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9B832-E473-4DB0-A222-5329F79C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4B132-66C9-4A84-A4D5-C8904165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8CA94-4472-4923-929A-CF81469A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27566-45BA-4B0B-80B3-03D747C7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D902D-A0C2-414F-A067-72052BAB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C77F6-0C75-4D5E-B847-40625F476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AA8C-4BB5-4178-8D93-5EEECAF6B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68BE2-43CD-474A-B845-451C910E4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9D9C-153A-419C-B0B3-0879A11D8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A8C41-D038-4C9E-8CB8-3B96C1E26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50D6E-E1D0-45AB-9667-54A90FE6A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F1F5-5FA6-40CD-A08F-8DDF698BB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0EFA-B28E-4752-8F99-12858818B3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E413-9F50-44D9-89E0-75E8BB8846CE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90a1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285840" y="6143760"/>
            <a:ext cx="2928960" cy="4618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642960"/>
            <a:ext cx="9155160" cy="6215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 течение VI — VII вв. славяне вели с аварами постоянные войны. В союзе с франкским королем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арлом Велики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хазары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14200" y="817560"/>
            <a:ext cx="3429000" cy="473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7"/>
          <p:cNvSpPr/>
          <p:nvPr/>
        </p:nvSpPr>
        <p:spPr>
          <a:xfrm>
            <a:off x="500040" y="614376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рл Велики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язычество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(языце – иноземные, нехристианске народы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1643040" y="657360"/>
            <a:ext cx="5643720" cy="3828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3608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. Во главе славянских божеств стоял великий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 вселенной, напоминающий древнегреческого Зевса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(запишите имена богов и их значение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го сыновья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жичи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солнце и огонь — были носителями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вета и тепла.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Даждьб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ду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и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женицам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Весле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трибог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Так, в VIII — IX вв. у славян почитался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Хор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явно пришел из мира иранских плем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имаргл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динственным крупным женским божеством у славян был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Макошь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Перун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" dur="1" fill="hold"/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90a1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5.Видеофрагмент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еречислите славянских  богов, чему каждый покровительствует</a:t>
            </a: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пишите в тетрадь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Кимерийцы (1 тыс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Скиф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– I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Сармат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до н.э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.э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Готы, ала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Гун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Ав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. Хаз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II – X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В середине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е аварам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ерманцев, славян, балтов,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0" y="1392120"/>
            <a:ext cx="4219560" cy="3537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Центром расселения предков славянских народов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</a:rPr>
              <a:t> (праславян)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 западные славяне,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а второй — в Среднем Поднепровье: века спустя здесь сформируются племена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восточных славян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285920" y="760320"/>
            <a:ext cx="6286320" cy="37083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428640" y="714240"/>
            <a:ext cx="570708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киммерийцы,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ифы.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реческие колонии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3324240" cy="460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142880" y="714240"/>
            <a:ext cx="49928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сармат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500040" y="600084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оевой меч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 век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2571840" cy="4592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1356840"/>
            <a:ext cx="8481960" cy="50720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553240" cy="9907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3.Работа с учебником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920" y="714240"/>
            <a:ext cx="556416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антами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лавин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285840" y="5929200"/>
            <a:ext cx="2928960" cy="8254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татуэтка антского воин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0" y="644400"/>
            <a:ext cx="3500280" cy="52070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ие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об основании им города Киева, будущей столицы Рус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ий — один из вождей славянских племен, живших по среднему Днепру, вместе с братьями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Щек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Ха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рив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сестрой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Лыбедью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сновали город, названный в честь старшего брата Киевом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то же время, а севере шло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о в середине VI в, новая тюркская орда —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авары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— вторглась в Восточную Европу и позже осела по берегам Дуна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и во время гуннского нашествия удару подверглись славянские поселени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571680" y="6072120"/>
            <a:ext cx="292860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Авары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0" y="666720"/>
            <a:ext cx="3857760" cy="5145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7:04Z</dcterms:modified>
  <cp:revision>131</cp:revision>
  <dc:subject/>
  <dc:title>Заголовок слайда отсутствует</dc:title>
</cp:coreProperties>
</file>