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.png" ContentType="image/png"/>
  <Override PartName="/ppt/media/image29.jpeg" ContentType="image/jpeg"/>
  <Override PartName="/ppt/media/image6.jpeg" ContentType="image/jpe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36.jpeg" ContentType="image/jpeg"/>
  <Override PartName="/ppt/media/image20.png" ContentType="image/pn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38.jpeg" ContentType="image/jpeg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0F7F-1D5C-4FEF-9975-A1B8200D279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Язычество восточных слав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7F3C-E03C-44A9-875D-209CBFB95D9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Ярил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бог солнца. Олицетворял собой весну, пробуждающуюся от зимней спячки природу. Ярило славянам представлялся в виде молодого юноши, ездившего по полям на белом коне: где ярило проедет, там вырастет богатый урожа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8F07-3C18-46ED-A149-4D291CD59BE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м крупным женским божеством у славян была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кош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ая олицетворяла рождение всего живого, была покровительницей женской части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8798-2974-4F2D-AECD-60C77E53236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временем, уже по мере выдвижения в общественной жизни славян князей, воевод, дружин, начала великих военных походов, в которых играла молодая удаль зарождающегося государства, на первый план у славян все больше выдвигается бог молнии и грома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еру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затем становится главным небесным божеством, сливается со Сварогом, Родом как более древними богами. Происходит это не случайно: Перун был богом, чей культ родился в княжеской, дружинной среде. Если солнце всходило и заходило, ветер дул, а потом стихал, плодородие почвы, бурно проявлявшееся весной и летом, утрачивалось осенью и исчезало зимой, то молния никогда в глазах славян не теряла своего могущества. Она не была подвластна другим стихиям, не была рождена каким-то другим началом. Перун - молния, высшее божество был непобедим. К IX в. он стал главным богом восточных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035A-AA39-4F1B-88C7-1B905D17230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лонения своим богам славяне не строили храмов. Они совершали свои обряды в священных рощах, у священных дубов, где стояли деревянные, а иногда и каменные статуи языческих богов –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дол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то бы задобрить разгневанного бога или заручиться его милостью, ему в жертву приносили животных, а в особо важных случаях – даже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лавян не было и особого сословия жрецов. Но они думали, что есть люди, которые могут общаться с богами, творить заклинания и предсказывать будущее. Таких людей называли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олхвами, кудесни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1708-7FC0-490E-9494-07774646063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лые и добрые дух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языческие представления не исчерпывались лишь главными богами. Мир был населен и другими сверхъестественными существами. Многие из них были связаны с представлением о существовании загробного царства. Именно оттуда к людям приходили злые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ухи - упыр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добрыми духами, оберегающими человека, являлись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берегин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авяне стремились защищаться от злых духов заговорами, амулетами, так называемыми "оберегами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AF5B-4C6E-472F-ACB5-4993FF5404E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лесу обитал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еший и баба-я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глубине каждого озера или реки, по представлениям славян, жил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одя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у воды жили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усал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авяне верили, что это души умерших выходящие весной насладиться приро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"русалка" происходит от слова "русый", что означает на древнеславянском языке "светлый", "чистый". Обитание русалок связывали с близостью водоемов - рек, озер, которые считались путем в подземное царство. По этому водному пути русалки выходили на сушу и обитали уже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ACFB-F712-4A3B-9E7C-4A039C662A3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еш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ух леса, который живет в дупле старого дерева и наводит на людей ужас своими протяжными завываниям, жутким хохотом, стонами и плачем. Он любит петь, но в его песне нет слов. Она больше напоминает шум деревьев на сильном ветру во время бури. Леший – хозяин леса и повелитель зверей. Выглядит он наполовину как человек, наполовину как зверь. На нем звериная шкура, на голове рога, а ноги кончаются не пальцами, а копытами. Глаза у лешего зеленые и светятся в темноте. По своему желанию он может быть то не больше гриба-мухомора, и тогда его не сыскать среди травы и палой листвы, а может стать вровень с самыми высокими и могучими лесными великанами – дубами, елями и соснами. Люди побаивались лешего. Уж больно он недобрый и бедовый. Если кто-то заблудился в лесу, потерял тропинку, которая вела назад, к дому, значит, в том виноват лесовик. Это он сбивает человека с пути, заставляет его кружить и плутать в глухой чаще на одном и том же ме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E174-0B91-4AFC-BB51-246CC7DF1A5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одя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ух рек и озер. Славяне считали, что он для запугивания людей громко хохотал, хлопал в ладоши. Мог подражать речи человека или животных (ухал, крякал, стонал, выл, блеял и пр.). Любил заманивать путников в свой подводный дворец. Выглядел он так: на пухлом лице горящие красные глаза-уголья, хвост рыбий, тело покрыто черной чешуей и тиной, вместо рук – лапы с перепонками. Думали, что водяной обладает способностью к превращениям и оборачивается то бревном, то рыбой, то свиньей, коровой или собакой. Любил ездить верхом на соме, которого за это прозвал «чертов конь». Место жительства выбирал глубокое, любил селиться под мельницами, и друживший с ним мельник ежегодно приносил водяному в жертву сви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DC45-B9FA-4253-A631-3CA82ECFC99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е считали, что каждый дом находится под покровительством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омов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ого отождествляли с духом своего родоначальника, пращура, или щура, чура. Когда человек считал, что ему грозят злые духи, он призывал своего покровителя - домового, чура, защитить его и говорил: "Чур меня, чур меня!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7D4B-DA6A-4582-97CF-78B69947375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улеты, обере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щитить себя от гнева божеств и злых духов, недобрых сил и дурного глаза, славяне придумали различные обереги – предметы, которые будто бы спасали от напасти и отводили колдовские чары. У каждого человека, будь он ребенок или взрослый, постоянно были при себе амулеты в виде медвежьего когтя, волчьего зуба или кабаньего клыка. Дома на видном месте ставили вырезанную из дерева фигурку домового, чтобы берег покой, сторожил жилище от воров и хранил от пожара. Заступницей женщин была Макошь, и потому многие славянки носили на шее или на груди изображение этого божества. Оберегами могли быть всякие знаки и узоры на предметах повседневного быта и обихода: на ложке, на гребешке, на ручке ножа или кувшине. На одежде, покрывалах, полотенцах и платках тоже были обереги: особая цветная вышивка или красивый рисунок на ткани. Большие надежды славяне возлагали на защитную силу слова. Произнося заветные заклинания, которые держались в большом секрете, а иногда прибегая и к грубым ругательствам, древние люди хотели прогнать беду, испугать врага, победить болезнь, не поддаться страх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0A73-3B1D-465F-8F3E-6F78F20E901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ли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уществовавшая у разных народов до принятия ими христианства или ислама,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азывается язычеств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й, разнообразной с детально разработанными обычаями была религия восточных славян. Ее истоки уходят в индоевропейские древние верования и еще дальше к временам палеолита. Именно там, в глубинах древности зарождались представления человека о сверхъестественных силах, которые управляют его судьбой, о его отношении к природе и о ее отношении к человеку, о своем месте в окружающем мире. Восточные славяне были язычниками, то есть поклонялись бог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F3A4-47D9-4A05-903F-7C1E1E6A96F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жизнь славянина была связана с миром сверхъестественных существ, за которыми стояли силы природы. Это был мир фантастический и поэтичный. Он входил в каждодневную жизнь каждой славянской семь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6B61-0CCB-4BD1-8563-2CA2884A4D3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здни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й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накануне нового года (а год у древних славян начинался, как и теперь, 1 января, по некоторым данным 1 декабря, 1 марта), а потом поворота солнца на весну начинался праздник Коляды. Сначала в домах гасли огни, а потом люди добывали трением новый огонь, зажигали свечи, очаги, славили начало новой жизни солнца, гадали о своей судьбе, совершали жертвопри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A00E-4DAC-44FF-816B-D9A3F40C0F9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ле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ой крупный праздник, совпадающий с природными явлениями, отмечался в марте. То был день весеннего равноденствия. Славяне славили солнце, праздновали возрождение природы, наступление весны. Они сжигали чучело зимы, холода, смерти; начиналась масленица с ее блинами, напоминающими солнечный круг, проходили гулянья, катания на санях, разные поте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13B8-5261-4C25-9546-21A810DB224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ин д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2 мая славяне убирали лентами молодую березу, украшали ветками с только что распустившимися листьями свои дома, снова славили бога солнца, отмечали появление первых весенних в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77C6-53EF-408C-B659-668343339ED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Куп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 июня – в день летнего солнцеворота – праздновали Ивана Купалу, который был божеством изобилия, земных плодов.  Поспевал урожай, и люди молились о том, чтобы боги послали им дождя. В этот день собирали травы, которым приписывали чудодейственную силу; купались в реке и верили, что это исцеляет от недугов; приносили в жертву белого петуха – птицу, приветствующую рассвет, угодную Солнцу. Накануне этого дня, по представлениям славян, русалки выходили на берег из воды - начиналась "русальная неделя". Девушки в эти дни водили хороводы, бросали в реки венки. Самых красивых девушек обвивали зелеными ветками и поливали водой, как бы призывая на землю долгожданный дождь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чью вспыхивали купальские костры, через которые прыгали юноши и девушки, что означало ритуал очищения, которому как бы помогал священный ого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упальские ночи совершались так называемые "умыкания девиц", когда молодые люди сговаривались и жених уводил невесту от домашнего оч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BCF7-46A0-4199-A5BC-FC6F48CB425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я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ыми религиозными обрядами обставлялись рождения, свадьбы, похороны. Так, известен похоронный обычай восточных славян хоронить вместе с прахом человека (славяне сжигали на кострах своих покойников, помещая их сначала в деревянные ладьи; это означало, что человек уплывает в подземное царство) одну из его жен, над которой совершалось ритуальное убийство; в могилу воина клали останки боевого коня, оружие, украшения. Жизнь продолжалась, по представлениям славян, и за гробом. Затем над могилой насыпали высокий курган и совершалась языческая тризна: родственники и соратники поминали умершего. Во время печального пиршества также проводили в его честь воинские состязания. Эти обряды, разумеется, касались лишь племенных вож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8194-82A3-4FEC-AA04-BCC07A19798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ческие верования и обычаи сохранялись у восточных славян еще долгое время и после принятия христианства, переплетаясь с христианскими праздниками и обрядами на протяжении многих столе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8B4D-656A-4754-90FF-FA76DAF2973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слав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е верили в свое происхождение от некоего прародителя. Например, некоторые племена считали своим прародителем Волка. Он считался могущественным защитником племени, пожирателем злых духов. Во время зимнего солнцестояния все мужчины этих племен во главе с языческими жрецами надевали волчьи шкуры (длаки), что символизировало превращение в волков. У звериного предка просили силы и мудрости. Позднее, с приходом христианства, словом "волкодлак", то есть облаченный в звериную шкуру, стали называть злого оборот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E54C-15DA-4AC2-A325-485904BF4E7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и и боги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 другие древние народы, как, в частности, древние греки, славяне населили мир разнообразными богами и богинями. Были среди них главные и второстепенные, могучие, всесильные и слабые, шаловливые, злые и добр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B1F6-DB00-47F7-985C-723BAE1EB11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главе славянских божеств, стоял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ликий Свар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бог вселенной, неба и огня небесного, напоминающий древнегреческого Зевса. По поверьям древних славян, он разбивал лучами-стрелами небесный покров. Когда-то Сварог бросил на землю с неба кузнечные клещи, и стех пор люди научились ковать железо. Он покровитель кузнецов. Его и самого представляли как молодого сильного кузнеца. Его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ыновья - Сварожи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солнце и огонь, были носителями света и теп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024F-5A09-4C61-A168-639C7BC4A9E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 солнца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аждьб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сьма почитался славянами. Недаром автор "Слова о полку Игореве" называл славян "даждьбожьи внуки". Он сын Сварога, олицетворял собой солнце. Каждое утро он выезажет на колеснице, запряженной белыми огнедышащими конями. Его сестры – Утренняя Заря и Вечерняя Заря – поочередно выводят и заводят в конюшню коней Даждьбога. У него были две прислужницы, разгонявшие тучи и с помощью дождей очищавшие его лиц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2E9D-C770-4388-99B6-9BDAE04417F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ились славяне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оду и рожениц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богу и богиням плодородия. Этот культ был связан с земледельческими занятиями населения и был, поэтому особенно популярен. Род – творец всего сущего, он «вдувал» в людей жизнь. Когда в семье хотели иметь детей, для Рода готовили особое жертвоприношение – кашу, сыр, хлеб и сладкий, сваренный на меду напиток. Вкусив это угощение, Род будто бы посылал в помощь людям верно служивших ему дев – Рожаниц, которые и должны били позаботиться  о припл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A304-45FC-4F21-822D-53085565FA2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л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читался у славян в качестве покровителя скотоводства, это был своеобразный "скотный бог". Считалось, что он способствует обогащению. В Х веке именем Велеса клялись князья и их договоров с византийскими монархами. Праздник Велеса отмечался в начале января. К Велесу дня выпекалось особое печенье в в виде домашних животных. Люди рядились в звериные маски, надевали на себя вывороченные тулу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E9E5-099F-4AC5-BE67-4BC984D7C74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триб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 их понятиям, повелевал ветрами, как древнегреческий Э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01EB-BFA4-46D0-82DF-72D5A381CB5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F1A5-F821-4F38-A1B2-F0046118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25E7-809B-4514-ACA7-A929223F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44E7-B6A9-45ED-B96A-030E4D63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2D8F-C843-4F1B-B7DD-45483253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E327-E66A-45C2-9B82-DF129F88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27A3-6E27-4401-B6AD-F6DB0BA3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76D8-754A-48C4-9B63-1084F4E6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4C46-0ABB-4851-8D0A-C53DFC6B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DF81-2DEC-4D2D-93F2-B866B36C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E3B8-B1B8-4EE7-85B9-2BD83E2E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70D8-ADCF-4216-A690-341799F3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C54F-3FBD-4763-B8CF-24D1EEF2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834A-EAEE-4203-BAD9-808CCF9F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0C98-6AC4-4F44-92C9-9B844CA8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C247-6A49-43D1-B135-7760A48C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E8B8-7884-46CB-8EDA-9977D4F3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D5C3-D7D5-4B86-AD49-2AD7E2D1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1016-1A00-45B2-9221-2F92388E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4B90-1953-4AAB-ACDA-D54C5CC7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181C-0A4F-4E85-B866-1268573A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691D-C50F-431A-A7F0-D09B47F4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5835-FCC0-4568-AD08-CE9CEADA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01CB-4380-4141-8BE9-B30AB4C4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E905-1D8D-4461-8B9B-36298F15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8A89-CFBD-4780-8DEC-697F0610602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B39F-A20A-4E72-985E-C69AD5DF4140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rt.rodolad.ru/portfolio/bogy/bogra_t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114/eugenio19.1a/0_1d3eb_6c53be2b_XL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s41.radikal.ru/i094/0910/90/c3a1b08939c8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aplakal.com/uploads/previews/post-3-12462802641160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project68.narod.ru/Integ/2/682/perun.gif" TargetMode="External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lumos.narod.ru/alhimia/l4_2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57.radikal.ru/i155/0811/e7/748cc826af96.jp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godsbay.ru/slavs/images/slav172.jpg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08/lenuschkam.71/0_2616e_1adea0bf_X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ive4fun.ru/small_pictures/img_37744038_7148_1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myfhology.narod.ru/monsters/vodyanik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081.radikal.ru/0911/5a/7b58017ebcd3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dreamsilver-taro.narod.ru/libr/metod/amulet/slav/06.JPG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ightreiki.org/_nw/4/s34706.jpg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runes.ucoz.ru/3215.jpg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oksiti.net.ru/books/image/25000109268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50.radikal.ru/i128/0904/e2/95cf4e5d84fe.jpg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odolsk.ru/images/138822_image_large.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g-fotki.yandex.ru/get/2709/lenuschkam.187/0_2a759_ed61a0f0_XL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139.photobucket.com/albums/q295/psycolorena/r9_2.jpg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edia.meta.ua/files/pic/0/21/119/zNivxBDWqM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rely-peruna.ucoz.ru/_ph/1/2/375376906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dreamworlds.ru/uploads/posts/2008-07/thumbs/1215804087_slav033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azzle.ru/spec/bogi/svarog.gif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endless.at.ua/_ph/3/2/129952059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lavyans.narod.ru/panteon/dagbog.gif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ycu4u.clan.su/_ph/1/2/941610026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rono.ru/statii/2008/veles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reamworlds.ru/uploads/posts/2008-11/thumbs/1225574106_stribog.a.-mazin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000080" y="1428480"/>
            <a:ext cx="56404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9af7d"/>
                </a:solidFill>
                <a:latin typeface="Arial"/>
              </a:rPr>
              <a:t>Язычество восточных славян</a:t>
            </a: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Ярило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– бог солнца. Олицетворял собой весну, пробуждающуюся от зимней спячки природу. Ярило славянам представлялся в виде молодого юноши, ездившего по полям на белом коне: где ярило проедет, там вырастет богатый урожай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Picture 5" descr="Картинка 2 из 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2349360"/>
            <a:ext cx="2619360" cy="381024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Единственным крупным женским божеством у славян была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Макошь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которая олицетворяла рождение всего живого, была покровительницей женской части хозяйств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Picture 5" descr="Картинка 1 из 1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349360"/>
            <a:ext cx="2952720" cy="3810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Картинка 2 из 1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270828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Со временем, уже по мере выдвижения в общественной жизни славян князей, воевод, дружин, начала великих военных походов, в которых играла молодая удаль зарождающегося государства, на первый план у славян все больше выдвигается бог молнии и грома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Перун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, который затем становится главным небесным божеством, сливается со Сварогом, Родом как более древними богами. Происходит это не случайно: Перун был богом, чей культ родился в княжеской, дружинной среде. Если солнце всходило и заходило, ветер дул, а потом стихал, плодородие почвы, бурно проявлявшееся весной и летом, утрачивалось осенью и исчезало зимой, то молния никогда в глазах славян не теряла своего могущества. Она не была подвластна другим стихиям, не была рождена каким-то другим началом. Перун - молния, высшее божество был непобедим. К IX в. он стал главным богом восточных славян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Picture 5" descr="Картинка 43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3429000"/>
            <a:ext cx="2212920" cy="3127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Картинка 6 из 2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3357720"/>
            <a:ext cx="2686320" cy="336204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Для поклонения своим богам славяне не строили храмов. Они совершали свои обряды в священных рощах, у священных дубов, где стояли деревянные, а иногда и каменные статуи языческих богов –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идолы.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Что бы задобрить разгневанного бога или заручиться его милостью, ему в жертву приносили животных, а в особо важных случаях – даже людей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У славян не было и особого сословия жрецов. Но они думали, что есть люди, которые могут общаться с богами, творить заклинания и предсказывать будущее. Таких людей называли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олхвами, кудесниками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4" name="Picture 5" descr="Картинка 118 из 73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997360"/>
            <a:ext cx="4019400" cy="373356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лые и добрые дух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Но языческие представления не исчерпывались лишь главными богами. Мир был населен и другими сверхъестественными существами. Многие из них были связаны с представлением о существовании загробного царства. Именно оттуда к людям приходили злые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ухи - упыри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 добрыми духами, оберегающими человека, являлись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берегини.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Славяне стремились защищаться от злых духов заговорами, амулетами, так называемыми "оберегами"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Picture 4" descr="Картинка 2 из 349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048120"/>
            <a:ext cx="2303280" cy="3090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Картинка 1 из 376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00360" y="2997360"/>
            <a:ext cx="5076720" cy="369540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 лесу обитал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леший и баба-яга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, в глубине каждого озера или реки, по представлениям славян, жил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одяной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, у воды жили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русалки.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Славяне верили, что это души умерших выходящие весной насладиться природой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Название "русалка" происходит от слова "русый", что означает на древнеславянском языке "светлый", "чистый". Обитание русалок связывали с близостью водоемов - рек, озер, которые считались путем в подземное царство. По этому водному пути русалки выходили на сушу и обитали уже на земл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Picture 7" descr="Картинка 7 из 719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3068640"/>
            <a:ext cx="3868560" cy="337824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Леший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– дух леса, который живет в дупле старого дерева и наводит на людей ужас своими протяжными завываниям, жутким хохотом, стонами и плачем. Он любит петь, но в его песне нет слов. Она больше напоминает шум деревьев на сильном ветру во время бури. Леший – хозяин леса и повелитель зверей. Выглядит он наполовину как человек, наполовину как зверь. На нем звериная шкура, на голове рога, а ноги кончаются не пальцами, а копытами. Глаза у лешего зеленые и светятся в темноте. По своему желанию он может быть то не больше гриба-мухомора, и тогда его не сыскать среди травы и палой листвы, а может стать вровень с самыми высокими и могучими лесными великанами – дубами, елями и соснами. Люди побаивались лешего. Уж больно он недобрый и бедовый. Если кто-то заблудился в лесу, потерял тропинку, которая вела назад, к дому, значит, в том виноват лесовик. Это он сбивает человека с пути, заставляет его кружить и плутать в глухой чаще на одном и том же мест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5" name="Picture 4" descr="Картинка 3 из 104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357720"/>
            <a:ext cx="2288880" cy="323352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одяной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– дух рек и озер. Славяне считали, что он для запугивания людей громко хохотал, хлопал в ладоши. Мог подражать речи человека или животных (ухал, крякал, стонал, выл, блеял и пр.). Любил заманивать путников в свой подводный дворец. Выглядел он так: на пухлом лице горящие красные глаза-уголья, хвост рыбий, тело покрыто черной чешуей и тиной, вместо рук – лапы с перепонками. Думали, что водяной обладает способностью к превращениям и оборачивается то бревном, то рыбой, то свиньей, коровой или собакой. Любил ездить верхом на соме, которого за это прозвал «чертов конь». Место жительства выбирал глубокое, любил селиться под мельницами, и друживший с ним мельник ежегодно приносил водяному в жертву свинью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8" name="Picture 5" descr="Картинка 2 из 825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2997360"/>
            <a:ext cx="3149640" cy="363060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авяне считали, что каждый дом находится под покровительством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омового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которого отождествляли с духом своего родоначальника, пращура, или щура, чура. Когда человек считал, что ему грозят злые духи, он призывал своего покровителя - домового, чура, защитить его и говорил: "Чур меня, чур меня!"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1" name="Picture 4" descr="Картинка 1 из 194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852640"/>
            <a:ext cx="2838600" cy="3810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Картинка 15 из 4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076640"/>
            <a:ext cx="2789280" cy="262584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мулеты, оберег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73990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Чтобы защитить себя от гнева божеств и злых духов, недобрых сил и дурного глаза, славяне придумали различные обереги – предметы, которые будто бы спасали от напасти и отводили колдовские чары. У каждого человека, будь он ребенок или взрослый, постоянно были при себе амулеты в виде медвежьего когтя, волчьего зуба или кабаньего клыка. Дома на видном месте ставили вырезанную из дерева фигурку домового, чтобы берег покой, сторожил жилище от воров и хранил от пожара. Заступницей женщин была Макошь, и потому многие славянки носили на шее или на груди изображение этого божества. Оберегами могли быть всякие знаки и узоры на предметах повседневного быта и обихода: на ложке, на гребешке, на ручке ножа или кувшине. На одежде, покрывалах, полотенцах и платках тоже были обереги: особая цветная вышивка или красивый рисунок на ткани. Большие надежды славяне возлагали на защитную силу слова. Произнося заветные заклинания, которые держались в большом секрете, а иногда прибегая и к грубым ругательствам, древние люди хотели прогнать беду, испугать врага, победить болезнь, не поддаться страху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6" name="Picture 5" descr="Картинка 1 из 1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284640"/>
            <a:ext cx="3166920" cy="1790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Картинка 9 из 13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35280" y="3860640"/>
            <a:ext cx="4056120" cy="28530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Религия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существовавшая у разных народов до принятия ими христианства или ислама,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называется язычеством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ожной, разнообразной с детально разработанными обычаями была религия восточных славян. Ее истоки уходят в индоевропейские древние верования и еще дальше к временам палеолита. Именно там, в глубинах древности зарождались представления человека о сверхъестественных силах, которые управляют его судьбой, о его отношении к природе и о ее отношении к человеку, о своем месте в окружающем мире. Восточные славяне были язычниками, то есть поклонялись богам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5" descr="Картинка 8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924280"/>
            <a:ext cx="2286000" cy="380988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ся жизнь славянина была связана с миром сверхъестественных существ, за которыми стояли силы природы. Это был мир фантастический и поэтичный. Он входил в каждодневную жизнь каждой славянской семьи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0" name="Picture 5" descr="Картинка 2 из 1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781360"/>
            <a:ext cx="5076720" cy="335268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раздники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новый год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Уже накануне нового года (а год у древних славян начинался, как и теперь, 1 января, по некоторым данным 1 декабря, 1 марта), а потом поворота солнца на весну начинался праздник Коляды. Сначала в домах гасли огни, а потом люди добывали трением новый огонь, зажигали свечи, очаги, славили начало новой жизни солнца, гадали о своей судьбе, совершали жертвоприношения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4" name="Picture 5" descr="Картинка 62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37000"/>
            <a:ext cx="4422600" cy="29206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Картинка 49 из 1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4437000"/>
            <a:ext cx="3289320" cy="231480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маслениц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Другой крупный праздник, совпадающий с природными явлениями, отмечался в марте. То был день весеннего равноденствия. Славяне славили солнце, праздновали возрождение природы, наступление весны. Они сжигали чучело зимы, холода, смерти; начиналась масленица с ее блинами, напоминающими солнечный круг, проходили гулянья, катания на санях, разные потех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9" name="Picture 5" descr="Картинка 112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997360"/>
            <a:ext cx="5076720" cy="368604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живин ден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1-2 мая славяне убирали лентами молодую березу, украшали ветками с только что распустившимися листьями свои дома, снова славили бога солнца, отмечали появление первых весенних всходов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3" name="Picture 5" descr="Картинка 28 из 53"/>
          <p:cNvPicPr/>
          <p:nvPr/>
        </p:nvPicPr>
        <p:blipFill>
          <a:blip r:embed="rId1"/>
          <a:stretch/>
        </p:blipFill>
        <p:spPr>
          <a:xfrm>
            <a:off x="611280" y="2637000"/>
            <a:ext cx="2874960" cy="28749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Картинка 47 из 629"/>
          <p:cNvPicPr/>
          <p:nvPr/>
        </p:nvPicPr>
        <p:blipFill>
          <a:blip r:embed="rId2"/>
          <a:stretch/>
        </p:blipFill>
        <p:spPr>
          <a:xfrm>
            <a:off x="4356000" y="4221000"/>
            <a:ext cx="3156120" cy="24051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ван Купал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24 июня – в день летнего солнцеворота – праздновали Ивана Купалу, который был божеством изобилия, земных плодов.  Поспевал урожай, и люди молились о том, чтобы боги послали им дождя. В этот день собирали травы, которым приписывали чудодейственную силу; купались в реке и верили, что это исцеляет от недугов; приносили в жертву белого петуха – птицу, приветствующую рассвет, угодную Солнцу. Накануне этого дня, по представлениям славян, русалки выходили на берег из воды - начиналась "русальная неделя". Девушки в эти дни водили хороводы, бросали в реки венки. Самых красивых девушек обвивали зелеными ветками и поливали водой, как бы призывая на землю долгожданный дождь.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Ночью вспыхивали купальские костры, через которые прыгали юноши и девушки, что означало ритуал очищения, которому как бы помогал священный огонь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 купальские ночи совершались так называемые "умыкания девиц", когда молодые люди сговаривались и жених уводил невесту от домашнего очага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8" name="Picture 9" descr="Картинка 12 из 2243"/>
          <p:cNvPicPr/>
          <p:nvPr/>
        </p:nvPicPr>
        <p:blipFill>
          <a:blip r:embed="rId1"/>
          <a:stretch/>
        </p:blipFill>
        <p:spPr>
          <a:xfrm>
            <a:off x="1476360" y="3500280"/>
            <a:ext cx="5076720" cy="324828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" descr="Картинка 3 из 2243"/>
          <p:cNvPicPr/>
          <p:nvPr/>
        </p:nvPicPr>
        <p:blipFill>
          <a:blip r:embed="rId1"/>
          <a:stretch/>
        </p:blipFill>
        <p:spPr>
          <a:xfrm>
            <a:off x="324000" y="476280"/>
            <a:ext cx="3289320" cy="23814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Картинка 27 из 2243"/>
          <p:cNvPicPr/>
          <p:nvPr/>
        </p:nvPicPr>
        <p:blipFill>
          <a:blip r:embed="rId2"/>
          <a:stretch/>
        </p:blipFill>
        <p:spPr>
          <a:xfrm>
            <a:off x="2340000" y="3357720"/>
            <a:ext cx="5076720" cy="273348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бряд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ожными религиозными обрядами обставлялись рождения, свадьбы, похороны. Так, известен похоронный обычай восточных славян хоронить вместе с прахом человека (славяне сжигали на кострах своих покойников, помещая их сначала в деревянные ладьи; это означало, что человек уплывает в подземное царство) одну из его жен, над которой совершалось ритуальное убийство; в могилу воина клали останки боевого коня, оружие, украшения. Жизнь продолжалась, по представлениям славян, и за гробом. Затем над могилой насыпали высокий курган и совершалась языческая тризна: родственники и соратники поминали умершего. Во время печального пиршества также проводили в его честь воинские состязания. Эти обряды, разумеется, касались лишь племенных вождей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5" name="Picture 5" descr="Картинка 4 из 30"/>
          <p:cNvPicPr/>
          <p:nvPr/>
        </p:nvPicPr>
        <p:blipFill>
          <a:blip r:embed="rId1"/>
          <a:stretch/>
        </p:blipFill>
        <p:spPr>
          <a:xfrm>
            <a:off x="324000" y="3573360"/>
            <a:ext cx="3911400" cy="282420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Языческие верования и обычаи сохранялись у восточных славян еще долгое время и после принятия христианства, переплетаясь с христианскими праздниками и обрядами на протяжении многих столетий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8" name="Picture 4" descr="Картинка 8 из 637"/>
          <p:cNvPicPr/>
          <p:nvPr/>
        </p:nvPicPr>
        <p:blipFill>
          <a:blip r:embed="rId1"/>
          <a:stretch/>
        </p:blipFill>
        <p:spPr>
          <a:xfrm>
            <a:off x="1692360" y="2708280"/>
            <a:ext cx="5076720" cy="310500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оисхождение славя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73990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авяне верили в свое происхождение от некоего прародителя. Например, некоторые племена считали своим прародителем Волка. Он считался могущественным защитником племени, пожирателем злых духов. Во время зимнего солнцестояния все мужчины этих племен во главе с языческими жрецами надевали волчьи шкуры (длаки), что символизировало превращение в волков. У звериного предка просили силы и мудрости. Позднее, с приходом христианства, словом "волкодлак", то есть облаченный в звериную шкуру, стали называть злого оборотня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5" descr="Картинка 11 из 2410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3048120"/>
            <a:ext cx="2791080" cy="38098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Боги и богин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73260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Как и другие древние народы, как, в частности, древние греки, славяне населили мир разнообразными богами и богинями. Были среди них главные и второстепенные, могучие, всесильные и слабые, шаловливые, злые и добры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5" descr="Картинка 13 из 2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89000"/>
            <a:ext cx="3029040" cy="3810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Картинка 8 из 2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3573360"/>
            <a:ext cx="3459240" cy="27669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о главе славянских божеств, стоял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еликий Сварог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бог вселенной, неба и огня небесного, напоминающий древнегреческого Зевса. По поверьям древних славян, он разбивал лучами-стрелами небесный покров. Когда-то Сварог бросил на землю с неба кузнечные клещи, и стех пор люди научились ковать железо. Он покровитель кузнецов. Его и самого представляли как молодого сильного кузнеца. Его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сыновья - Сварожичи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солнце и огонь, были носителями света и тепла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5" descr="Картинка 10 из 7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924280"/>
            <a:ext cx="2857320" cy="3181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Картинка 2 из 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2637000"/>
            <a:ext cx="2705040" cy="38098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ог солнца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аждьбог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весьма почитался славянами. Недаром автор "Слова о полку Игореве" называл славян "даждьбожьи внуки". Он сын Сварога, олицетворял собой солнце. Каждое утро он выезажет на колеснице, запряженной белыми огнедышащими конями. Его сестры – Утренняя Заря и Вечерняя Заря – поочередно выводят и заводят в конюшню коней Даждьбога. У него были две прислужницы, разгонявшие тучи и с помощью дождей очищавшие его лицо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5" descr="Картинка 15 из 3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284640"/>
            <a:ext cx="3228840" cy="253368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Молились славяне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Роду и роженицам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богу и богиням плодородия. Этот культ был связан с земледельческими занятиями населения и был, поэтому особенно популярен. Род – творец всего сущего, он «вдувал» в людей жизнь. Когда в семье хотели иметь детей, для Рода готовили особое жертвоприношение – кашу, сыр, хлеб и сладкий, сваренный на меду напиток. Вкусив это угощение, Род будто бы посылал в помощь людям верно служивших ему дев – Рожаниц, которые и должны били позаботиться  о приплод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Picture 5" descr="Картинка 1 из 8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852640"/>
            <a:ext cx="2543040" cy="38102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ог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Велес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почитался у славян в качестве покровителя скотоводства, это был своеобразный "скотный бог". Считалось, что он способствует обогащению. В Х веке именем Велеса клялись князья и их договоров с византийскими монархами. Праздник Велеса отмечался в начале января. К Велесу дня выпекалось особое печенье в в виде домашних животных. Люди рядились в звериные маски, надевали на себя вывороченные тулупы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5" descr="Картинка 2 из 8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278136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Стрибог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по их понятиям, повелевал ветрами, как древнегреческий Эол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Picture 5" descr="Картинка 2 из 1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2565360"/>
            <a:ext cx="4581720" cy="38098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6:07:58Z</dcterms:created>
  <dc:creator>домашний</dc:creator>
  <dc:description/>
  <dc:language>en-US</dc:language>
  <cp:lastModifiedBy>LEGION</cp:lastModifiedBy>
  <dcterms:modified xsi:type="dcterms:W3CDTF">2015-01-15T12:32:08Z</dcterms:modified>
  <cp:revision>21</cp:revision>
  <dc:subject/>
  <dc:title>Слайд 1</dc:title>
</cp:coreProperties>
</file>