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22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5.png" ContentType="image/png"/>
  <Override PartName="/ppt/media/image29.jpeg" ContentType="image/jpeg"/>
  <Override PartName="/ppt/media/image6.jpeg" ContentType="image/jpeg"/>
  <Override PartName="/ppt/media/image33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11.jpeg" ContentType="image/jpeg"/>
  <Override PartName="/ppt/media/image9.jpeg" ContentType="image/jpeg"/>
  <Override PartName="/ppt/media/image28.jpeg" ContentType="image/jpeg"/>
  <Override PartName="/ppt/media/image36.jpeg" ContentType="image/jpeg"/>
  <Override PartName="/ppt/media/image20.png" ContentType="image/png"/>
  <Override PartName="/ppt/media/image34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7.jpeg" ContentType="image/jpeg"/>
  <Override PartName="/ppt/media/image8.jpeg" ContentType="image/jpeg"/>
  <Override PartName="/ppt/media/image39.jpeg" ContentType="image/jpeg"/>
  <Override PartName="/ppt/media/image40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7.jpeg" ContentType="image/jpeg"/>
  <Override PartName="/ppt/media/image38.jpeg" ContentType="image/jpeg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C6D09-EEC7-4355-9E89-B30A57177F6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Язычество восточных славя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1086F-07DE-4103-BE86-42853FE31C0D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Ярил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бог солнца. Олицетворял собой весну, пробуждающуюся от зимней спячки природу. Ярило славянам представлялся в виде молодого юноши, ездившего по полям на белом коне: где ярило проедет, там вырастет богатый урожа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BDEE1-12F8-4BA4-AD2B-F4930B2FC7DB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ственным крупным женским божеством у славян была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Макош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ая олицетворяла рождение всего живого, была покровительницей женской части хозя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A9045-7392-4660-800A-051B2FDCF85F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 временем, уже по мере выдвижения в общественной жизни славян князей, воевод, дружин, начала великих военных походов, в которых играла молодая удаль зарождающегося государства, на первый план у славян все больше выдвигается бог молнии и грома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Перу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ый затем становится главным небесным божеством, сливается со Сварогом, Родом как более древними богами. Происходит это не случайно: Перун был богом, чей культ родился в княжеской, дружинной среде. Если солнце всходило и заходило, ветер дул, а потом стихал, плодородие почвы, бурно проявлявшееся весной и летом, утрачивалось осенью и исчезало зимой, то молния никогда в глазах славян не теряла своего могущества. Она не была подвластна другим стихиям, не была рождена каким-то другим началом. Перун - молния, высшее божество был непобедим. К IX в. он стал главным богом восточных славя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979C7-737B-46CF-87B9-86FA85DE711A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оклонения своим богам славяне не строили храмов. Они совершали свои обряды в священных рощах, у священных дубов, где стояли деревянные, а иногда и каменные статуи языческих богов –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идолы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Что бы задобрить разгневанного бога или заручиться его милостью, ему в жертву приносили животных, а в особо важных случаях – даже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славян не было и особого сословия жрецов. Но они думали, что есть люди, которые могут общаться с богами, творить заклинания и предсказывать будущее. Таких людей называли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волхвами, кудесни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9627D-E7E6-4D0B-9F76-E607C2EEEE6A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лые и добрые дух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языческие представления не исчерпывались лишь главными богами. Мир был населен и другими сверхъестественными существами. Многие из них были связаны с представлением о существовании загробного царства. Именно оттуда к людям приходили злые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духи - упыр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добрыми духами, оберегающими человека, являлись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берегин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лавяне стремились защищаться от злых духов заговорами, амулетами, так называемыми "оберегами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313FD-A890-4888-B57C-518DEA5BE33D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лесу обитал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леший и баба-яг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в глубине каждого озера или реки, по представлениям славян, жил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водя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у воды жили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русалк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лавяне верили, что это души умерших выходящие весной насладиться природ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вание "русалка" происходит от слова "русый", что означает на древнеславянском языке "светлый", "чистый". Обитание русалок связывали с близостью водоемов - рек, озер, которые считались путем в подземное царство. По этому водному пути русалки выходили на сушу и обитали уже на зем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4B348-02F6-4BC3-BA04-A6EC18F4FC15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Леш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дух леса, который живет в дупле старого дерева и наводит на людей ужас своими протяжными завываниям, жутким хохотом, стонами и плачем. Он любит петь, но в его песне нет слов. Она больше напоминает шум деревьев на сильном ветру во время бури. Леший – хозяин леса и повелитель зверей. Выглядит он наполовину как человек, наполовину как зверь. На нем звериная шкура, на голове рога, а ноги кончаются не пальцами, а копытами. Глаза у лешего зеленые и светятся в темноте. По своему желанию он может быть то не больше гриба-мухомора, и тогда его не сыскать среди травы и палой листвы, а может стать вровень с самыми высокими и могучими лесными великанами – дубами, елями и соснами. Люди побаивались лешего. Уж больно он недобрый и бедовый. Если кто-то заблудился в лесу, потерял тропинку, которая вела назад, к дому, значит, в том виноват лесовик. Это он сбивает человека с пути, заставляет его кружить и плутать в глухой чаще на одном и том же мес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DB234-DD09-485C-AF8A-E77E66195763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Водя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дух рек и озер. Славяне считали, что он для запугивания людей громко хохотал, хлопал в ладоши. Мог подражать речи человека или животных (ухал, крякал, стонал, выл, блеял и пр.). Любил заманивать путников в свой подводный дворец. Выглядел он так: на пухлом лице горящие красные глаза-уголья, хвост рыбий, тело покрыто черной чешуей и тиной, вместо рук – лапы с перепонками. Думали, что водяной обладает способностью к превращениям и оборачивается то бревном, то рыбой, то свиньей, коровой или собакой. Любил ездить верхом на соме, которого за это прозвал «чертов конь». Место жительства выбирал глубокое, любил селиться под мельницами, и друживший с ним мельник ежегодно приносил водяному в жертву свин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30BC3-64E1-4883-8A8D-88466EC73895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вяне считали, что каждый дом находится под покровительством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домовог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ого отождествляли с духом своего родоначальника, пращура, или щура, чура. Когда человек считал, что ему грозят злые духи, он призывал своего покровителя - домового, чура, защитить его и говорил: "Чур меня, чур меня!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A20AC-1120-48C8-912D-055CF4876FDF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улеты, обере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защитить себя от гнева божеств и злых духов, недобрых сил и дурного глаза, славяне придумали различные обереги – предметы, которые будто бы спасали от напасти и отводили колдовские чары. У каждого человека, будь он ребенок или взрослый, постоянно были при себе амулеты в виде медвежьего когтя, волчьего зуба или кабаньего клыка. Дома на видном месте ставили вырезанную из дерева фигурку домового, чтобы берег покой, сторожил жилище от воров и хранил от пожара. Заступницей женщин была Макошь, и потому многие славянки носили на шее или на груди изображение этого божества. Оберегами могли быть всякие знаки и узоры на предметах повседневного быта и обихода: на ложке, на гребешке, на ручке ножа или кувшине. На одежде, покрывалах, полотенцах и платках тоже были обереги: особая цветная вышивка или красивый рисунок на ткани. Большие надежды славяне возлагали на защитную силу слова. Произнося заветные заклинания, которые держались в большом секрете, а иногда прибегая и к грубым ругательствам, древние люди хотели прогнать беду, испугать врага, победить болезнь, не поддаться страх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E4D40-CE1B-486C-B300-3F1EDEA8F693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Религ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существовавшая у разных народов до принятия ими христианства или ислама,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называется язычеств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жной, разнообразной с детально разработанными обычаями была религия восточных славян. Ее истоки уходят в индоевропейские древние верования и еще дальше к временам палеолита. Именно там, в глубинах древности зарождались представления человека о сверхъестественных силах, которые управляют его судьбой, о его отношении к природе и о ее отношении к человеку, о своем месте в окружающем мире. Восточные славяне были язычниками, то есть поклонялись бог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64825-81EF-4107-A472-515D3D143F17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я жизнь славянина была связана с миром сверхъестественных существ, за которыми стояли силы природы. Это был мир фантастический и поэтичный. Он входил в каждодневную жизнь каждой славянской семь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B657E-F302-4353-AD89-A9BD43C453D2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аздник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вый г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же накануне нового года (а год у древних славян начинался, как и теперь, 1 января, по некоторым данным 1 декабря, 1 марта), а потом поворота солнца на весну начинался праздник Коляды. Сначала в домах гасли огни, а потом люди добывали трением новый огонь, зажигали свечи, очаги, славили начало новой жизни солнца, гадали о своей судьбе, совершали жертвоприно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300A0-04DA-48A5-893C-3E2BF4EF3E6B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слен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угой крупный праздник, совпадающий с природными явлениями, отмечался в марте. То был день весеннего равноденствия. Славяне славили солнце, праздновали возрождение природы, наступление весны. Они сжигали чучело зимы, холода, смерти; начиналась масленица с ее блинами, напоминающими солнечный круг, проходили гулянья, катания на санях, разные потех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09574-454C-4CF3-8B62-C4FA0188663C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вин де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-2 мая славяне убирали лентами молодую березу, украшали ветками с только что распустившимися листьями свои дома, снова славили бога солнца, отмечали появление первых весенних вс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6464C-79E0-4DF2-9226-D7EE4285E013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ван Куп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 июня – в день летнего солнцеворота – праздновали Ивана Купалу, который был божеством изобилия, земных плодов.  Поспевал урожай, и люди молились о том, чтобы боги послали им дождя. В этот день собирали травы, которым приписывали чудодейственную силу; купались в реке и верили, что это исцеляет от недугов; приносили в жертву белого петуха – птицу, приветствующую рассвет, угодную Солнцу. Накануне этого дня, по представлениям славян, русалки выходили на берег из воды - начиналась "русальная неделя". Девушки в эти дни водили хороводы, бросали в реки венки. Самых красивых девушек обвивали зелеными ветками и поливали водой, как бы призывая на землю долгожданный дождь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чью вспыхивали купальские костры, через которые прыгали юноши и девушки, что означало ритуал очищения, которому как бы помогал священный ого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упальские ночи совершались так называемые "умыкания девиц", когда молодые люди сговаривались и жених уводил невесту от домашнего оча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7AB22-4B70-4911-9D64-A693A4DEB018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я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жными религиозными обрядами обставлялись рождения, свадьбы, похороны. Так, известен похоронный обычай восточных славян хоронить вместе с прахом человека (славяне сжигали на кострах своих покойников, помещая их сначала в деревянные ладьи; это означало, что человек уплывает в подземное царство) одну из его жен, над которой совершалось ритуальное убийство; в могилу воина клали останки боевого коня, оружие, украшения. Жизнь продолжалась, по представлениям славян, и за гробом. Затем над могилой насыпали высокий курган и совершалась языческая тризна: родственники и соратники поминали умершего. Во время печального пиршества также проводили в его честь воинские состязания. Эти обряды, разумеется, касались лишь племенных вожд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EACA9-FDB8-43D1-B32B-10462D9F1D27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зыческие верования и обычаи сохранялись у восточных славян еще долгое время и после принятия христианства, переплетаясь с христианскими праздниками и обрядами на протяжении многих столет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52101-88FC-46EC-BC65-8127CAEDF6AE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схождение славя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вяне верили в свое происхождение от некоего прародителя. Например, некоторые племена считали своим прародителем Волка. Он считался могущественным защитником племени, пожирателем злых духов. Во время зимнего солнцестояния все мужчины этих племен во главе с языческими жрецами надевали волчьи шкуры (длаки), что символизировало превращение в волков. У звериного предка просили силы и мудрости. Позднее, с приходом христианства, словом "волкодлак", то есть облаченный в звериную шкуру, стали называть злого оборотн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CD10E-F1D3-43C1-9AB9-49D92CD4D30C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ги и боги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и другие древние народы, как, в частности, древние греки, славяне населили мир разнообразными богами и богинями. Были среди них главные и второстепенные, могучие, всесильные и слабые, шаловливые, злые и добр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72CEC-C96F-469E-A5DD-165B6E3F54D2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главе славянских божеств, стоял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великий Сваро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бог вселенной, неба и огня небесного, напоминающий древнегреческого Зевса. По поверьям древних славян, он разбивал лучами-стрелами небесный покров. Когда-то Сварог бросил на землю с неба кузнечные клещи, и стех пор люди научились ковать железо. Он покровитель кузнецов. Его и самого представляли как молодого сильного кузнеца. Его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сыновья - Сварожич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солнце и огонь, были носителями света и теп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44D2F-A812-422C-8970-AFEEAB02A79F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г солнца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Даждьбо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есьма почитался славянами. Недаром автор "Слова о полку Игореве" называл славян "даждьбожьи внуки". Он сын Сварога, олицетворял собой солнце. Каждое утро он выезажет на колеснице, запряженной белыми огнедышащими конями. Его сестры – Утренняя Заря и Вечерняя Заря – поочередно выводят и заводят в конюшню коней Даждьбога. У него были две прислужницы, разгонявшие тучи и с помощью дождей очищавшие его лиц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AB830-A5B9-415A-8D4C-C68E564252D4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ились славяне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Роду и роженица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богу и богиням плодородия. Этот культ был связан с земледельческими занятиями населения и был, поэтому особенно популярен. Род – творец всего сущего, он «вдувал» в людей жизнь. Когда в семье хотели иметь детей, для Рода готовили особое жертвоприношение – кашу, сыр, хлеб и сладкий, сваренный на меду напиток. Вкусив это угощение, Род будто бы посылал в помощь людям верно служивших ему дев – Рожаниц, которые и должны били позаботиться  о припло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AA769-1BF4-4EE3-AE53-713DD64457D3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г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Веле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читался у славян в качестве покровителя скотоводства, это был своеобразный "скотный бог". Считалось, что он способствует обогащению. В Х веке именем Велеса клялись князья и их договоров с византийскими монархами. Праздник Велеса отмечался в начале января. К Велесу дня выпекалось особое печенье в в виде домашних животных. Люди рядились в звериные маски, надевали на себя вывороченные тулу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D69FA-684B-4B0E-9BBB-53565BE5446B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Стрибо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о их понятиям, повелевал ветрами, как древнегреческий Эо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61651-E8C2-4FCE-8F76-4CB4A8828070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7B66-30C6-411C-9521-FC67FE10E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D489-95E2-4F53-8A77-F7E4B13B8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8301-1E51-4135-8256-B40E5F151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3E11-F7FC-44D9-86D5-780B72A4D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8FE1C-F783-4238-94C0-F25DA4AA3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9416F-1666-4754-9980-8F0BADC51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86279-54A9-49D0-9007-C18893C42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80F98-28A4-43B6-8399-51165BD60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C2D5B-82B0-465E-856C-80B4F4CB6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3C4CA-22CB-4EA0-BE12-87DB6153E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1B76A-EC19-491E-A37E-A710965B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A68F-6F62-4323-B3B6-AD60E9280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7267D-58A5-4646-A8A1-BFB7FE614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77545-F873-40F3-A962-36EAF9594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03A8A-B944-4E23-8B64-F1E84E6D0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95279-7F7A-489E-9C10-931F8C0BD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C2A36-6A23-4AC1-946C-22B41A4DC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4BFB-4347-46B3-996B-A93F1066D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9667-F84B-4DF7-B948-F2F56E4B4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2F1B-EAF9-4BBA-8048-CA4EBFF5E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AFEF-336D-4DFD-9461-992D88F82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0546-2A70-4387-8294-BC0094809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CD92-A80B-45F1-B975-8B76E12A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34D3-654B-4081-BD84-CA63558EC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F0522-5150-4D68-B56B-F8A28A01DFA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276A7-89CE-426B-AFFE-56F87689270C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art.rodolad.ru/portfolio/bogy/bogra_t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3114/eugenio19.1a/0_1d3eb_6c53be2b_XL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s41.radikal.ru/i094/0910/90/c3a1b08939c8.jpg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yaplakal.com/uploads/previews/post-3-12462802641160.jpg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project68.narod.ru/Integ/2/682/perun.gif" TargetMode="External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llumos.narod.ru/alhimia/l4_2.JPG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s57.radikal.ru/i155/0811/e7/748cc826af96.jpg" TargetMode="External"/><Relationship Id="rId2" Type="http://schemas.openxmlformats.org/officeDocument/2006/relationships/image" Target="../media/image22.jpeg"/><Relationship Id="rId3" Type="http://schemas.openxmlformats.org/officeDocument/2006/relationships/hyperlink" Target="http://godsbay.ru/slavs/images/slav172.jpg" TargetMode="External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2708/lenuschkam.71/0_2616e_1adea0bf_XL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live4fun.ru/small_pictures/img_37744038_7148_1.jpg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myfhology.narod.ru/monsters/vodyanik.jpg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081.radikal.ru/0911/5a/7b58017ebcd3.jpg" TargetMode="External"/><Relationship Id="rId2" Type="http://schemas.openxmlformats.org/officeDocument/2006/relationships/image" Target="../media/image27.jpeg"/><Relationship Id="rId3" Type="http://schemas.openxmlformats.org/officeDocument/2006/relationships/hyperlink" Target="http://dreamsilver-taro.narod.ru/libr/metod/amulet/slav/06.JPG" TargetMode="External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lightreiki.org/_nw/4/s34706.jpg" TargetMode="External"/><Relationship Id="rId2" Type="http://schemas.openxmlformats.org/officeDocument/2006/relationships/image" Target="../media/image29.jpeg"/><Relationship Id="rId3" Type="http://schemas.openxmlformats.org/officeDocument/2006/relationships/hyperlink" Target="http://runes.ucoz.ru/3215.jpg" TargetMode="External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booksiti.net.ru/books/image/25000109268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s50.radikal.ru/i128/0904/e2/95cf4e5d84fe.jpg" TargetMode="External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podolsk.ru/images/138822_image_large.jpg" TargetMode="External"/><Relationship Id="rId2" Type="http://schemas.openxmlformats.org/officeDocument/2006/relationships/image" Target="../media/image32.jpeg"/><Relationship Id="rId3" Type="http://schemas.openxmlformats.org/officeDocument/2006/relationships/hyperlink" Target="http://img-fotki.yandex.ru/get/2709/lenuschkam.187/0_2a759_ed61a0f0_XL" TargetMode="External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139.photobucket.com/albums/q295/psycolorena/r9_2.jpg" TargetMode="External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media.meta.ua/files/pic/0/21/119/zNivxBDWqM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trely-peruna.ucoz.ru/_ph/1/2/375376906.jpg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dreamworlds.ru/uploads/posts/2008-07/thumbs/1215804087_slav033.jpg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dazzle.ru/spec/bogi/svarog.gif" TargetMode="External"/><Relationship Id="rId2" Type="http://schemas.openxmlformats.org/officeDocument/2006/relationships/image" Target="../media/image10.png"/><Relationship Id="rId3" Type="http://schemas.openxmlformats.org/officeDocument/2006/relationships/hyperlink" Target="http://endless.at.ua/_ph/3/2/129952059.jpg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lavyans.narod.ru/panteon/dagbog.gif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pycu4u.clan.su/_ph/1/2/941610026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hrono.ru/statii/2008/veles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dreamworlds.ru/uploads/posts/2008-11/thumbs/1225574106_stribog.a.-mazin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1000080" y="1428480"/>
            <a:ext cx="564048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79af7d"/>
                </a:solidFill>
                <a:latin typeface="Arial"/>
              </a:rPr>
              <a:t>Язычество восточных славян</a:t>
            </a:r>
            <a:endParaRPr b="0" lang="en-US" sz="8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6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Ярило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– бог солнца. Олицетворял собой весну, пробуждающуюся от зимней спячки природу. Ярило славянам представлялся в виде молодого юноши, ездившего по полям на белом коне: где ярило проедет, там вырастет богатый урожай.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1" name="Picture 5" descr="Картинка 2 из 21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27280" y="2349360"/>
            <a:ext cx="2619360" cy="3810240"/>
          </a:xfrm>
          <a:prstGeom prst="rect">
            <a:avLst/>
          </a:prstGeom>
          <a:ln w="0">
            <a:noFill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Единственным крупным женским божеством у славян была </a:t>
            </a:r>
            <a:r>
              <a:rPr b="0" lang="ru-RU" sz="1400" spc="-1" strike="noStrike">
                <a:solidFill>
                  <a:srgbClr val="79af7d"/>
                </a:solidFill>
                <a:latin typeface="Arial"/>
              </a:rPr>
              <a:t>Макошь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, которая олицетворяла рождение всего живого, была покровительницей женской части хозяйства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5" name="Picture 5" descr="Картинка 1 из 15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2349360"/>
            <a:ext cx="2952720" cy="38102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Картинка 2 из 15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356000" y="2708280"/>
            <a:ext cx="2857680" cy="3809880"/>
          </a:xfrm>
          <a:prstGeom prst="rect">
            <a:avLst/>
          </a:prstGeom>
          <a:ln w="0">
            <a:noFill/>
          </a:ln>
        </p:spPr>
      </p:pic>
      <p:sp>
        <p:nvSpPr>
          <p:cNvPr id="23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Со временем, уже по мере выдвижения в общественной жизни славян князей, воевод, дружин, начала великих военных походов, в которых играла молодая удаль зарождающегося государства, на первый план у славян все больше выдвигается бог молнии и грома </a:t>
            </a: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Перун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, который затем становится главным небесным божеством, сливается со Сварогом, Родом как более древними богами. Происходит это не случайно: Перун был богом, чей культ родился в княжеской, дружинной среде. Если солнце всходило и заходило, ветер дул, а потом стихал, плодородие почвы, бурно проявлявшееся весной и летом, утрачивалось осенью и исчезало зимой, то молния никогда в глазах славян не теряла своего могущества. Она не была подвластна другим стихиям, не была рождена каким-то другим началом. Перун - молния, высшее божество был непобедим. К IX в. он стал главным богом восточных славян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0" name="Picture 5" descr="Картинка 43 из 19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3429000"/>
            <a:ext cx="2212920" cy="31273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9" descr="Картинка 6 из 23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9640" y="3357720"/>
            <a:ext cx="2686320" cy="3362040"/>
          </a:xfrm>
          <a:prstGeom prst="rect">
            <a:avLst/>
          </a:prstGeom>
          <a:ln w="0">
            <a:noFill/>
          </a:ln>
        </p:spPr>
      </p:pic>
      <p:sp>
        <p:nvSpPr>
          <p:cNvPr id="24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Для поклонения своим богам славяне не строили храмов. Они совершали свои обряды в священных рощах, у священных дубов, где стояли деревянные, а иногда и каменные статуи языческих богов – </a:t>
            </a: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идолы.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Что бы задобрить разгневанного бога или заручиться его милостью, ему в жертву приносили животных, а в особо важных случаях – даже людей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У славян не было и особого сословия жрецов. Но они думали, что есть люди, которые могут общаться с богами, творить заклинания и предсказывать будущее. Таких людей называли </a:t>
            </a: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волхвами, кудесниками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4" name="Picture 5" descr="Картинка 118 из 731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35280" y="2997360"/>
            <a:ext cx="4019400" cy="3733560"/>
          </a:xfrm>
          <a:prstGeom prst="rect">
            <a:avLst/>
          </a:prstGeom>
          <a:ln w="0">
            <a:noFill/>
          </a:ln>
        </p:spPr>
      </p:pic>
      <p:sp>
        <p:nvSpPr>
          <p:cNvPr id="24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Злые и добрые дух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Но языческие представления не исчерпывались лишь главными богами. Мир был населен и другими сверхъестественными существами. Многие из них были связаны с представлением о существовании загробного царства. Именно оттуда к людям приходили злые </a:t>
            </a:r>
            <a:r>
              <a:rPr b="0" lang="ru-RU" sz="1400" spc="-1" strike="noStrike">
                <a:solidFill>
                  <a:srgbClr val="79af7d"/>
                </a:solidFill>
                <a:latin typeface="Arial"/>
              </a:rPr>
              <a:t>духи - упыри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А добрыми духами, оберегающими человека, являлись </a:t>
            </a:r>
            <a:r>
              <a:rPr b="0" lang="ru-RU" sz="1400" spc="-1" strike="noStrike">
                <a:solidFill>
                  <a:srgbClr val="79af7d"/>
                </a:solidFill>
                <a:latin typeface="Arial"/>
              </a:rPr>
              <a:t>берегини.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Славяне стремились защищаться от злых духов заговорами, амулетами, так называемыми "оберегами"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8" name="Picture 4" descr="Картинка 2 из 3494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3048120"/>
            <a:ext cx="2303280" cy="30906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Картинка 1 из 376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700360" y="2997360"/>
            <a:ext cx="5076720" cy="3695400"/>
          </a:xfrm>
          <a:prstGeom prst="rect">
            <a:avLst/>
          </a:prstGeom>
          <a:ln w="0">
            <a:noFill/>
          </a:ln>
        </p:spPr>
      </p:pic>
      <p:sp>
        <p:nvSpPr>
          <p:cNvPr id="25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В лесу обитал </a:t>
            </a: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леший и баба-яга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, в глубине каждого озера или реки, по представлениям славян, жил </a:t>
            </a: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водяной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, у воды жили </a:t>
            </a: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русалки.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Славяне верили, что это души умерших выходящие весной насладиться природой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Название "русалка" происходит от слова "русый", что означает на древнеславянском языке "светлый", "чистый". Обитание русалок связывали с близостью водоемов - рек, озер, которые считались путем в подземное царство. По этому водному пути русалки выходили на сушу и обитали уже на земле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2" name="Picture 7" descr="Картинка 7 из 7197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79640" y="3068640"/>
            <a:ext cx="3868560" cy="337824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Леший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– дух леса, который живет в дупле старого дерева и наводит на людей ужас своими протяжными завываниям, жутким хохотом, стонами и плачем. Он любит петь, но в его песне нет слов. Она больше напоминает шум деревьев на сильном ветру во время бури. Леший – хозяин леса и повелитель зверей. Выглядит он наполовину как человек, наполовину как зверь. На нем звериная шкура, на голове рога, а ноги кончаются не пальцами, а копытами. Глаза у лешего зеленые и светятся в темноте. По своему желанию он может быть то не больше гриба-мухомора, и тогда его не сыскать среди травы и палой листвы, а может стать вровень с самыми высокими и могучими лесными великанами – дубами, елями и соснами. Люди побаивались лешего. Уж больно он недобрый и бедовый. Если кто-то заблудился в лесу, потерял тропинку, которая вела назад, к дому, значит, в том виноват лесовик. Это он сбивает человека с пути, заставляет его кружить и плутать в глухой чаще на одном и том же месте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5" name="Picture 4" descr="Картинка 3 из 1045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3357720"/>
            <a:ext cx="2288880" cy="3233520"/>
          </a:xfrm>
          <a:prstGeom prst="rect">
            <a:avLst/>
          </a:prstGeom>
          <a:ln w="0">
            <a:noFill/>
          </a:ln>
        </p:spPr>
      </p:pic>
      <p:sp>
        <p:nvSpPr>
          <p:cNvPr id="25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Водяной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– дух рек и озер. Славяне считали, что он для запугивания людей громко хохотал, хлопал в ладоши. Мог подражать речи человека или животных (ухал, крякал, стонал, выл, блеял и пр.). Любил заманивать путников в свой подводный дворец. Выглядел он так: на пухлом лице горящие красные глаза-уголья, хвост рыбий, тело покрыто черной чешуей и тиной, вместо рук – лапы с перепонками. Думали, что водяной обладает способностью к превращениям и оборачивается то бревном, то рыбой, то свиньей, коровой или собакой. Любил ездить верхом на соме, которого за это прозвал «чертов конь». Место жительства выбирал глубокое, любил селиться под мельницами, и друживший с ним мельник ежегодно приносил водяному в жертву свинью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8" name="Picture 5" descr="Картинка 2 из 8259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24000" y="2997360"/>
            <a:ext cx="3149640" cy="3630600"/>
          </a:xfrm>
          <a:prstGeom prst="rect">
            <a:avLst/>
          </a:prstGeom>
          <a:ln w="0">
            <a:noFill/>
          </a:ln>
        </p:spPr>
      </p:pic>
      <p:sp>
        <p:nvSpPr>
          <p:cNvPr id="25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Славяне считали, что каждый дом находится под покровительством </a:t>
            </a:r>
            <a:r>
              <a:rPr b="0" lang="ru-RU" sz="1400" spc="-1" strike="noStrike">
                <a:solidFill>
                  <a:srgbClr val="79af7d"/>
                </a:solidFill>
                <a:latin typeface="Arial"/>
              </a:rPr>
              <a:t>домового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, которого отождествляли с духом своего родоначальника, пращура, или щура, чура. Когда человек считал, что ему грозят злые духи, он призывал своего покровителя - домового, чура, защитить его и говорил: "Чур меня, чур меня!"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61" name="Picture 4" descr="Картинка 1 из 1948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2852640"/>
            <a:ext cx="2838600" cy="38102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5" descr="Картинка 15 из 41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32360" y="4076640"/>
            <a:ext cx="2789280" cy="2625840"/>
          </a:xfrm>
          <a:prstGeom prst="rect">
            <a:avLst/>
          </a:prstGeom>
          <a:ln w="0">
            <a:noFill/>
          </a:ln>
        </p:spPr>
      </p:pic>
      <p:sp>
        <p:nvSpPr>
          <p:cNvPr id="26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Амулеты, оберег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739908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Чтобы защитить себя от гнева божеств и злых духов, недобрых сил и дурного глаза, славяне придумали различные обереги – предметы, которые будто бы спасали от напасти и отводили колдовские чары. У каждого человека, будь он ребенок или взрослый, постоянно были при себе амулеты в виде медвежьего когтя, волчьего зуба или кабаньего клыка. Дома на видном месте ставили вырезанную из дерева фигурку домового, чтобы берег покой, сторожил жилище от воров и хранил от пожара. Заступницей женщин была Макошь, и потому многие славянки носили на шее или на груди изображение этого божества. Оберегами могли быть всякие знаки и узоры на предметах повседневного быта и обихода: на ложке, на гребешке, на ручке ножа или кувшине. На одежде, покрывалах, полотенцах и платках тоже были обереги: особая цветная вышивка или красивый рисунок на ткани. Большие надежды славяне возлагали на защитную силу слова. Произнося заветные заклинания, которые держались в большом секрете, а иногда прибегая и к грубым ругательствам, древние люди хотели прогнать беду, испугать врага, победить болезнь, не поддаться страху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66" name="Picture 5" descr="Картинка 1 из 14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3284640"/>
            <a:ext cx="3166920" cy="17906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7" descr="Картинка 9 из 13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635280" y="3860640"/>
            <a:ext cx="4056120" cy="2853000"/>
          </a:xfrm>
          <a:prstGeom prst="rect">
            <a:avLst/>
          </a:prstGeom>
          <a:ln w="0">
            <a:noFill/>
          </a:ln>
        </p:spPr>
      </p:pic>
      <p:sp>
        <p:nvSpPr>
          <p:cNvPr id="268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250920" y="105264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9af7d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79af7d"/>
                </a:solidFill>
                <a:latin typeface="Arial"/>
              </a:rPr>
              <a:t>Религия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, существовавшая у разных народов до принятия ими христианства или ислама, </a:t>
            </a:r>
            <a:r>
              <a:rPr b="0" lang="ru-RU" sz="1400" spc="-1" strike="noStrike">
                <a:solidFill>
                  <a:srgbClr val="79af7d"/>
                </a:solidFill>
                <a:latin typeface="Arial"/>
              </a:rPr>
              <a:t>называется язычеством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Сложной, разнообразной с детально разработанными обычаями была религия восточных славян. Ее истоки уходят в индоевропейские древние верования и еще дальше к временам палеолита. Именно там, в глубинах древности зарождались представления человека о сверхъестественных силах, которые управляют его судьбой, о его отношении к природе и о ее отношении к человеку, о своем месте в окружающем мире. Восточные славяне были язычниками, то есть поклонялись богам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2" name="Picture 5" descr="Картинка 8 из 19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32360" y="2924280"/>
            <a:ext cx="2286000" cy="3809880"/>
          </a:xfrm>
          <a:prstGeom prst="rect">
            <a:avLst/>
          </a:prstGeom>
          <a:ln w="0">
            <a:noFill/>
          </a:ln>
        </p:spPr>
      </p:pic>
      <p:sp>
        <p:nvSpPr>
          <p:cNvPr id="20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ся жизнь славянина была связана с миром сверхъестественных существ, за которыми стояли силы природы. Это был мир фантастический и поэтичный. Он входил в каждодневную жизнь каждой славянской семьи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70" name="Picture 5" descr="Картинка 2 из 16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76360" y="2781360"/>
            <a:ext cx="5076720" cy="3352680"/>
          </a:xfrm>
          <a:prstGeom prst="rect">
            <a:avLst/>
          </a:prstGeom>
          <a:ln w="0">
            <a:noFill/>
          </a:ln>
        </p:spPr>
      </p:pic>
      <p:sp>
        <p:nvSpPr>
          <p:cNvPr id="27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Праздники</a:t>
            </a: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новый год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Уже накануне нового года (а год у древних славян начинался, как и теперь, 1 января, по некоторым данным 1 декабря, 1 марта), а потом поворота солнца на весну начинался праздник Коляды. Сначала в домах гасли огни, а потом люди добывали трением новый огонь, зажигали свечи, очаги, славили начало новой жизни солнца, гадали о своей судьбе, совершали жертвоприношения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74" name="Picture 5" descr="Картинка 62 из 19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637000"/>
            <a:ext cx="4422600" cy="29206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7" descr="Картинка 49 из 19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00720" y="4437000"/>
            <a:ext cx="3289320" cy="2314800"/>
          </a:xfrm>
          <a:prstGeom prst="rect">
            <a:avLst/>
          </a:prstGeom>
          <a:ln w="0">
            <a:noFill/>
          </a:ln>
        </p:spPr>
      </p:pic>
      <p:sp>
        <p:nvSpPr>
          <p:cNvPr id="27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маслениц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Другой крупный праздник, совпадающий с природными явлениями, отмечался в марте. То был день весеннего равноденствия. Славяне славили солнце, праздновали возрождение природы, наступление весны. Они сжигали чучело зимы, холода, смерти; начиналась масленица с ее блинами, напоминающими солнечный круг, проходили гулянья, катания на санях, разные потехи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79" name="Picture 5" descr="Картинка 112 из 19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76360" y="2997360"/>
            <a:ext cx="5076720" cy="3686040"/>
          </a:xfrm>
          <a:prstGeom prst="rect">
            <a:avLst/>
          </a:prstGeom>
          <a:ln w="0">
            <a:noFill/>
          </a:ln>
        </p:spPr>
      </p:pic>
      <p:sp>
        <p:nvSpPr>
          <p:cNvPr id="28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живин день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1-2 мая славяне убирали лентами молодую березу, украшали ветками с только что распустившимися листьями свои дома, снова славили бога солнца, отмечали появление первых весенних всходов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83" name="Picture 5" descr="Картинка 28 из 53"/>
          <p:cNvPicPr/>
          <p:nvPr/>
        </p:nvPicPr>
        <p:blipFill>
          <a:blip r:embed="rId1"/>
          <a:stretch/>
        </p:blipFill>
        <p:spPr>
          <a:xfrm>
            <a:off x="611280" y="2637000"/>
            <a:ext cx="2874960" cy="28749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7" descr="Картинка 47 из 629"/>
          <p:cNvPicPr/>
          <p:nvPr/>
        </p:nvPicPr>
        <p:blipFill>
          <a:blip r:embed="rId2"/>
          <a:stretch/>
        </p:blipFill>
        <p:spPr>
          <a:xfrm>
            <a:off x="4356000" y="4221000"/>
            <a:ext cx="3156120" cy="2405160"/>
          </a:xfrm>
          <a:prstGeom prst="rect">
            <a:avLst/>
          </a:prstGeom>
          <a:ln w="0">
            <a:noFill/>
          </a:ln>
        </p:spPr>
      </p:pic>
      <p:sp>
        <p:nvSpPr>
          <p:cNvPr id="28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Иван Купал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24 июня – в день летнего солнцеворота – праздновали Ивана Купалу, который был божеством изобилия, земных плодов.  Поспевал урожай, и люди молились о том, чтобы боги послали им дождя. В этот день собирали травы, которым приписывали чудодейственную силу; купались в реке и верили, что это исцеляет от недугов; приносили в жертву белого петуха – птицу, приветствующую рассвет, угодную Солнцу. Накануне этого дня, по представлениям славян, русалки выходили на берег из воды - начиналась "русальная неделя". Девушки в эти дни водили хороводы, бросали в реки венки. Самых красивых девушек обвивали зелеными ветками и поливали водой, как бы призывая на землю долгожданный дождь. 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Ночью вспыхивали купальские костры, через которые прыгали юноши и девушки, что означало ритуал очищения, которому как бы помогал священный огонь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В купальские ночи совершались так называемые "умыкания девиц", когда молодые люди сговаривались и жених уводил невесту от домашнего очага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88" name="Picture 9" descr="Картинка 12 из 2243"/>
          <p:cNvPicPr/>
          <p:nvPr/>
        </p:nvPicPr>
        <p:blipFill>
          <a:blip r:embed="rId1"/>
          <a:stretch/>
        </p:blipFill>
        <p:spPr>
          <a:xfrm>
            <a:off x="1476360" y="3500280"/>
            <a:ext cx="5076720" cy="3248280"/>
          </a:xfrm>
          <a:prstGeom prst="rect">
            <a:avLst/>
          </a:prstGeom>
          <a:ln w="0">
            <a:noFill/>
          </a:ln>
        </p:spPr>
      </p:pic>
      <p:sp>
        <p:nvSpPr>
          <p:cNvPr id="28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5" descr="Картинка 3 из 2243"/>
          <p:cNvPicPr/>
          <p:nvPr/>
        </p:nvPicPr>
        <p:blipFill>
          <a:blip r:embed="rId1"/>
          <a:stretch/>
        </p:blipFill>
        <p:spPr>
          <a:xfrm>
            <a:off x="324000" y="476280"/>
            <a:ext cx="3289320" cy="23814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7" descr="Картинка 27 из 2243"/>
          <p:cNvPicPr/>
          <p:nvPr/>
        </p:nvPicPr>
        <p:blipFill>
          <a:blip r:embed="rId2"/>
          <a:stretch/>
        </p:blipFill>
        <p:spPr>
          <a:xfrm>
            <a:off x="2340000" y="3357720"/>
            <a:ext cx="5076720" cy="2733480"/>
          </a:xfrm>
          <a:prstGeom prst="rect">
            <a:avLst/>
          </a:prstGeom>
          <a:ln w="0">
            <a:noFill/>
          </a:ln>
        </p:spPr>
      </p:pic>
      <p:sp>
        <p:nvSpPr>
          <p:cNvPr id="29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Обряд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Сложными религиозными обрядами обставлялись рождения, свадьбы, похороны. Так, известен похоронный обычай восточных славян хоронить вместе с прахом человека (славяне сжигали на кострах своих покойников, помещая их сначала в деревянные ладьи; это означало, что человек уплывает в подземное царство) одну из его жен, над которой совершалось ритуальное убийство; в могилу воина клали останки боевого коня, оружие, украшения. Жизнь продолжалась, по представлениям славян, и за гробом. Затем над могилой насыпали высокий курган и совершалась языческая тризна: родственники и соратники поминали умершего. Во время печального пиршества также проводили в его честь воинские состязания. Эти обряды, разумеется, касались лишь племенных вождей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95" name="Picture 5" descr="Картинка 4 из 30"/>
          <p:cNvPicPr/>
          <p:nvPr/>
        </p:nvPicPr>
        <p:blipFill>
          <a:blip r:embed="rId1"/>
          <a:stretch/>
        </p:blipFill>
        <p:spPr>
          <a:xfrm>
            <a:off x="324000" y="3573360"/>
            <a:ext cx="3911400" cy="2824200"/>
          </a:xfrm>
          <a:prstGeom prst="rect">
            <a:avLst/>
          </a:prstGeom>
          <a:ln w="0">
            <a:noFill/>
          </a:ln>
        </p:spPr>
      </p:pic>
      <p:sp>
        <p:nvSpPr>
          <p:cNvPr id="29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Языческие верования и обычаи сохранялись у восточных славян еще долгое время и после принятия христианства, переплетаясь с христианскими праздниками и обрядами на протяжении многих столетий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98" name="Picture 4" descr="Картинка 8 из 637"/>
          <p:cNvPicPr/>
          <p:nvPr/>
        </p:nvPicPr>
        <p:blipFill>
          <a:blip r:embed="rId1"/>
          <a:stretch/>
        </p:blipFill>
        <p:spPr>
          <a:xfrm>
            <a:off x="1692360" y="2708280"/>
            <a:ext cx="5076720" cy="3105000"/>
          </a:xfrm>
          <a:prstGeom prst="rect">
            <a:avLst/>
          </a:prstGeom>
          <a:ln w="0">
            <a:noFill/>
          </a:ln>
        </p:spPr>
      </p:pic>
      <p:sp>
        <p:nvSpPr>
          <p:cNvPr id="29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роисхождение славян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739908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Славяне верили в свое происхождение от некоего прародителя. Например, некоторые племена считали своим прародителем Волка. Он считался могущественным защитником племени, пожирателем злых духов. Во время зимнего солнцестояния все мужчины этих племен во главе с языческими жрецами надевали волчьи шкуры (длаки), что символизировало превращение в волков. У звериного предка просили силы и мудрости. Позднее, с приходом христианства, словом "волкодлак", то есть облаченный в звериную шкуру, стали называть злого оборотня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6" name="Picture 5" descr="Картинка 11 из 24107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92360" y="3048120"/>
            <a:ext cx="2791080" cy="380988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Боги и богин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73260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Как и другие древние народы, как, в частности, древние греки, славяне населили мир разнообразными богами и богинями. Были среди них главные и второстепенные, могучие, всесильные и слабые, шаловливые, злые и добрые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0" name="Picture 5" descr="Картинка 13 из 23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989000"/>
            <a:ext cx="3029040" cy="38102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7" descr="Картинка 8 из 23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24360" y="3573360"/>
            <a:ext cx="3459240" cy="276696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Во главе славянских божеств, стоял </a:t>
            </a: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великий Сварог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- бог вселенной, неба и огня небесного, напоминающий древнегреческого Зевса. По поверьям древних славян, он разбивал лучами-стрелами небесный покров. Когда-то Сварог бросил на землю с неба кузнечные клещи, и стех пор люди научились ковать железо. Он покровитель кузнецов. Его и самого представляли как молодого сильного кузнеца. Его </a:t>
            </a: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сыновья - Сварожичи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- солнце и огонь, были носителями света и тепла.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4" name="Picture 5" descr="Картинка 10 из 71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2924280"/>
            <a:ext cx="2857320" cy="31813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Картинка 2 из 1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00720" y="2637000"/>
            <a:ext cx="2705040" cy="3809880"/>
          </a:xfrm>
          <a:prstGeom prst="rect">
            <a:avLst/>
          </a:prstGeom>
          <a:ln w="0">
            <a:noFill/>
          </a:ln>
        </p:spPr>
      </p:pic>
      <p:sp>
        <p:nvSpPr>
          <p:cNvPr id="21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Бог солнца </a:t>
            </a:r>
            <a:r>
              <a:rPr b="0" lang="ru-RU" sz="1400" spc="-1" strike="noStrike">
                <a:solidFill>
                  <a:srgbClr val="79af7d"/>
                </a:solidFill>
                <a:latin typeface="Arial"/>
              </a:rPr>
              <a:t>Даждьбог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весьма почитался славянами. Недаром автор "Слова о полку Игореве" называл славян "даждьбожьи внуки". Он сын Сварога, олицетворял собой солнце. Каждое утро он выезажет на колеснице, запряженной белыми огнедышащими конями. Его сестры – Утренняя Заря и Вечерняя Заря – поочередно выводят и заводят в конюшню коней Даждьбога. У него были две прислужницы, разгонявшие тучи и с помощью дождей очищавшие его лицо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8" name="Picture 5" descr="Картинка 15 из 39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3284640"/>
            <a:ext cx="3228840" cy="2533680"/>
          </a:xfrm>
          <a:prstGeom prst="rect">
            <a:avLst/>
          </a:prstGeom>
          <a:ln w="0">
            <a:noFill/>
          </a:ln>
        </p:spPr>
      </p:pic>
      <p:sp>
        <p:nvSpPr>
          <p:cNvPr id="21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Молились славяне </a:t>
            </a: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Роду и роженицам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- богу и богиням плодородия. Этот культ был связан с земледельческими занятиями населения и был, поэтому особенно популярен. Род – творец всего сущего, он «вдувал» в людей жизнь. Когда в семье хотели иметь детей, для Рода готовили особое жертвоприношение – кашу, сыр, хлеб и сладкий, сваренный на меду напиток. Вкусив это угощение, Род будто бы посылал в помощь людям верно служивших ему дев – Рожаниц, которые и должны били позаботиться  о приплоде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1" name="Picture 5" descr="Картинка 1 из 85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2852640"/>
            <a:ext cx="2543040" cy="3810240"/>
          </a:xfrm>
          <a:prstGeom prst="rect">
            <a:avLst/>
          </a:prstGeom>
          <a:ln w="0">
            <a:noFill/>
          </a:ln>
        </p:spPr>
      </p:pic>
      <p:sp>
        <p:nvSpPr>
          <p:cNvPr id="22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Бог </a:t>
            </a:r>
            <a:r>
              <a:rPr b="0" lang="ru-RU" sz="1400" spc="-1" strike="noStrike">
                <a:solidFill>
                  <a:srgbClr val="79af7d"/>
                </a:solidFill>
                <a:latin typeface="Arial"/>
              </a:rPr>
              <a:t>Велес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почитался у славян в качестве покровителя скотоводства, это был своеобразный "скотный бог". Считалось, что он способствует обогащению. В Х веке именем Велеса клялись князья и их договоров с византийскими монархами. Праздник Велеса отмечался в начале января. К Велесу дня выпекалось особое печенье в в виде домашних животных. Люди рядились в звериные маски, надевали на себя вывороченные тулупы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4" name="Picture 5" descr="Картинка 2 из 87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4720" y="2781360"/>
            <a:ext cx="2743200" cy="3809880"/>
          </a:xfrm>
          <a:prstGeom prst="rect">
            <a:avLst/>
          </a:prstGeom>
          <a:ln w="0">
            <a:noFill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9af7d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79af7d"/>
                </a:solidFill>
                <a:latin typeface="Arial"/>
              </a:rPr>
              <a:t>Стрибог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, по их понятиям, повелевал ветрами, как древнегреческий Эол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7" name="Picture 5" descr="Картинка 2 из 13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63640" y="2565360"/>
            <a:ext cx="4581720" cy="3809880"/>
          </a:xfrm>
          <a:prstGeom prst="rect">
            <a:avLst/>
          </a:prstGeom>
          <a:ln w="0">
            <a:noFill/>
          </a:ln>
        </p:spPr>
      </p:pic>
      <p:sp>
        <p:nvSpPr>
          <p:cNvPr id="228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3T16:07:58Z</dcterms:created>
  <dc:creator>домашний</dc:creator>
  <dc:description/>
  <dc:language>en-US</dc:language>
  <cp:lastModifiedBy>LEGION</cp:lastModifiedBy>
  <dcterms:modified xsi:type="dcterms:W3CDTF">2015-01-15T12:32:08Z</dcterms:modified>
  <cp:revision>21</cp:revision>
  <dc:subject/>
  <dc:title>Слайд 1</dc:title>
</cp:coreProperties>
</file>