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5194-3DA7-48A3-B20B-7DE6626043A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Николая Васильевич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Овчинникова В. 9-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ла: Праушкина Л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C9A4-65EA-4139-9D09-D632ADE59D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E55D-02CA-4007-BB82-001F08F4B1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CDA1-3626-43C8-904E-42AEF1B4F6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F980-2F20-4F18-8236-74B3B7867A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04C0-F675-483C-B124-153CC1BDDA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FCA9-E218-4FB7-AE18-B3DDB247C9E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над «Мертвыми душам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C4BD-97E0-40CB-8798-A88FDCAAD0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7161-37D5-46DA-BF47-716389DF7E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5A3D-30F4-4778-8F8A-1DFBC18FC7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771-15ED-417B-B398-808ADE62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442-0DDB-4DB1-90E5-98FC13FC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F22-F463-4DFD-9723-D144C06E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085-7C6C-4320-A2F1-17E43C2D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ED6-573C-4B30-A5B5-D0FB0709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BDB-C698-4657-95B1-5C4AB0A3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CA6-F31E-4A4A-B525-12651B7A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3F6-D580-4A27-B69D-5361FCE6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D26-9062-4794-B858-196357C5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09F-0FBB-49C0-A5D9-771D55EC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403-93D6-4311-8AAA-7504B965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C26-DDB8-4492-B916-4BECEC84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E8C1-1E0C-4CB4-AE9D-29AA8D0495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ворчество Николая Васильевича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Овчинникова В. 9-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ла: Праушкина Л. 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7" descr="Гоголь"/>
          <p:cNvPicPr/>
          <p:nvPr/>
        </p:nvPicPr>
        <p:blipFill>
          <a:blip r:embed="rId1"/>
          <a:stretch/>
        </p:blipFill>
        <p:spPr>
          <a:xfrm>
            <a:off x="3286080" y="1785960"/>
            <a:ext cx="2460600" cy="315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ограф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гоголь 1"/>
          <p:cNvPicPr/>
          <p:nvPr/>
        </p:nvPicPr>
        <p:blipFill>
          <a:blip r:embed="rId1"/>
          <a:stretch/>
        </p:blipFill>
        <p:spPr>
          <a:xfrm>
            <a:off x="5003640" y="2060640"/>
            <a:ext cx="2833920" cy="38163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м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29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7" descr="Гоголь"/>
          <p:cNvPicPr/>
          <p:nvPr/>
        </p:nvPicPr>
        <p:blipFill>
          <a:blip r:embed="rId1"/>
          <a:stretch/>
        </p:blipFill>
        <p:spPr>
          <a:xfrm>
            <a:off x="5076720" y="2133720"/>
            <a:ext cx="3313080" cy="424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14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7" descr="гоголь 3"/>
          <p:cNvPicPr/>
          <p:nvPr/>
        </p:nvPicPr>
        <p:blipFill>
          <a:blip r:embed="rId1"/>
          <a:stretch/>
        </p:blipFill>
        <p:spPr>
          <a:xfrm>
            <a:off x="5003640" y="692280"/>
            <a:ext cx="3916440" cy="535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бота над «Мертвыми душам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7880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гоголь 5"/>
          <p:cNvPicPr/>
          <p:nvPr/>
        </p:nvPicPr>
        <p:blipFill>
          <a:blip r:embed="rId1"/>
          <a:stretch/>
        </p:blipFill>
        <p:spPr>
          <a:xfrm>
            <a:off x="5003640" y="476280"/>
            <a:ext cx="308772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260280"/>
            <a:ext cx="464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ерть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гоголь 7"/>
          <p:cNvPicPr/>
          <p:nvPr/>
        </p:nvPicPr>
        <p:blipFill>
          <a:blip r:embed="rId1"/>
          <a:stretch/>
        </p:blipFill>
        <p:spPr>
          <a:xfrm>
            <a:off x="4859280" y="1413000"/>
            <a:ext cx="3183120" cy="468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23:50Z</dcterms:created>
  <dc:creator>с</dc:creator>
  <dc:description/>
  <dc:language>en-US</dc:language>
  <cp:lastModifiedBy>LEGION</cp:lastModifiedBy>
  <dcterms:modified xsi:type="dcterms:W3CDTF">2015-01-20T07:56:43Z</dcterms:modified>
  <cp:revision>7</cp:revision>
  <dc:subject/>
  <dc:title>Творчество Николая Васильевича Гоголя</dc:title>
</cp:coreProperties>
</file>