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143D-A355-4B36-A901-5000A58629E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Николая Васильевича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Овчинникова В. 9-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ила: Праушкина Л.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EC6A-734D-4428-AD8E-8561833CF91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голь Николай Васильевич родился 20 марта (1 апреля) 1809, происходил из помещичьей семьи среднего достатка: у Гоголей было около 400 душ крепостных и свыше 1000 десятин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D3F6-66EA-4E04-B2B3-6B11AFB8F90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, Василий Афанасьевич, служил при Малороссийском почтамте. Мать, Марья Ивановна, происходившая из помещичьей семьи Косяровских, была первой красавицей на Полтавщине В семье, помимо Николая, было еще пятеро детей. Детские годы будущий писатель провел в родном имении Васильевке (другое название Яновщин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58A3-956E-405C-8946-CB6657C374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Гоголь учился в Полтавском уездном училище, потом брал частные уроки у полтавского учителя Гавриила Сорочинского, проживая у него на квартире, а в мае 1821 поступил в только что основанную Нежинскую гимназию высших наук. Учился Гоголь довольно средне, зато отличался в гимназическом театре как актер и декорат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BF02-CA19-429B-BD3E-DA2A4EC03B1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1831 года выходит 1-я часть сборника повестей из украинской жизни "Вечера на хуторе близ Диканьки" восторженно встреченная  Пушкиным. Вместе с тем "веселость" гоголевской книги обнаруживала различные оттенки от беззаботного подтрунивания до мрачного комизма, близкого к черному юмору. При всей полноте и искренности чувств гоголевских персонажей мир, в котором они живут, трагически конфликтен: происходит расторжение природных и родственных связей, в естественный порядок вещей вторгаются таинственные ирреальные си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BD17-F617-4578-B15D-C30C03C5EF1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35 год необычаен по творческой интенсивности и широте гоголевских замыслов. В этот год выходят следующие два сборника прозаических произведений "Арабески" и "Миргород" (оба в двух частях); начата работа над поэмой "Мертвые души", закончена в основном комедия "Ревизор", написана первая редакция комедии "Жених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16ED-5CC3-4A6E-8963-0A5F3D64116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 над «Мертвыми душам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атель жил в Германии, Швейцарии, Франции, Австрии, Чехии, но дольше всего в Италии, продолжая работу над "Мертвыми душами", сюжет которых был подсказан ему Пушкиным. Свойственная Гоголю обобщенность масштаба получала теперь пространственное выражение: по мере развития чичиковской аферы (покупка "ревизских душ" умерших людей) русская жизнь должна была раскрыться многообразно не только со стороны "низменных рядов ее", но и в более высоких, значительных проявлен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7B0C-A167-4262-9E24-CFAA80C7407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выхода первого тома (1842) работа над вторым томом (начатым еще в 1840) протекала особенно напряженно и мучительно. Летом 1845 в тяжелом душевном состоянии Гоголь сжигает рукопись этого тома, объясняя позднее свое решение тем, что "пути и дороги" к идеалу, возрождению человеческого духа не получили достаточно убедительного выра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D85F-061B-42D2-8BB9-C61E6F6A65A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дни жизни Гоголь проводит в чрезвычайно строгом посте и молитве. 21 февраля утром 1852 умирает в своей последней московской квартире в доме Талыз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 Гоголя вызвала в русском обществе глубокое потрясение. От университетского домового храма Св. мученицы Татианы, где отпевали писателя, до места погребения гроб несли профессора и студенты университе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A71F-BEB6-4A6A-82D4-8A187009F78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2D8A-807D-4AD1-AE77-E204974D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4A9-A3C6-4B2E-B01C-757679B9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C2B-D576-4618-AA29-DACD4580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E88-07AE-4196-86B9-BF4C29A4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91F-82F7-4051-9CB5-C97486F0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D0F-77B3-4E49-856C-1311B511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340B-C75B-4FDA-93DA-4B09156B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7080-6865-4FAE-A4D9-8B1C9C45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7FC-D29C-4406-B202-3BB69AE2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7F6-D5D2-42DA-A21B-5BE2AD3F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29D-D403-4D78-A6E2-2FF90CBE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152-EC8C-4AB2-8B8C-8C1EADB2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8B7B-49CE-4792-96E7-7F3C0367E8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ворчество Николая Васильевича Гого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: Овчинникова В. 9-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ила: Праушкина Л. 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7" descr="Гоголь"/>
          <p:cNvPicPr/>
          <p:nvPr/>
        </p:nvPicPr>
        <p:blipFill>
          <a:blip r:embed="rId1"/>
          <a:stretch/>
        </p:blipFill>
        <p:spPr>
          <a:xfrm>
            <a:off x="3286080" y="1785960"/>
            <a:ext cx="2460600" cy="3154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ограф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голь Николай Васильевич родился 20 марта (1 апреля) 1809, происходил из помещичьей семьи среднего достатка: у Гоголей было около 400 душ крепостных и свыше 1000 десятин земл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гоголь 1"/>
          <p:cNvPicPr/>
          <p:nvPr/>
        </p:nvPicPr>
        <p:blipFill>
          <a:blip r:embed="rId1"/>
          <a:stretch/>
        </p:blipFill>
        <p:spPr>
          <a:xfrm>
            <a:off x="5003640" y="2060640"/>
            <a:ext cx="2833920" cy="381636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емь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ц, Василий Афанасьевич, служил при Малороссийском почтамте. Мать, Марья Ивановна, происходившая из помещичьей семьи Косяровских, была первой красавицей на Полтавщине В семье, помимо Николая, было еще пятеро детей. Детские годы будущий писатель провел в родном имении Васильевке (другое название Яновщина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бразо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29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ачале Гоголь учился в Полтавском уездном училище, потом брал частные уроки у полтавского учителя Гавриила Сорочинского, проживая у него на квартире, а в мае 1821 поступил в только что основанную Нежинскую гимназию высших наук. Учился Гоголь довольно средне, зато отличался в гимназическом театре как актер и декоратор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7" descr="Гоголь"/>
          <p:cNvPicPr/>
          <p:nvPr/>
        </p:nvPicPr>
        <p:blipFill>
          <a:blip r:embed="rId1"/>
          <a:stretch/>
        </p:blipFill>
        <p:spPr>
          <a:xfrm>
            <a:off x="5076720" y="2133720"/>
            <a:ext cx="3313080" cy="424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енью 1831 года выходит 1-я часть сборника повестей из украинской жизни "Вечера на хуторе близ Диканьки" восторженно встреченная  Пушкиным. Вместе с тем "веселость" гоголевской книги обнаруживала различные оттенки от беззаботного подтрунивания до мрачного комизма, близкого к черному юмору. При всей полноте и искренности чувств гоголевских персонажей мир, в котором они живут, трагически конфликтен: происходит расторжение природных и родственных связей, в естественный порядок вещей вторгаются таинственные ирреальные сил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5148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35 год необычаен по творческой интенсивности и широте гоголевских замыслов. В этот год выходят следующие два сборника прозаических произведений "Арабески" и "Миргород" (оба в двух частях); начата работа над поэмой "Мертвые души", закончена в основном комедия "Ревизор", написана первая редакция комедии "Женихи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7" descr="гоголь 3"/>
          <p:cNvPicPr/>
          <p:nvPr/>
        </p:nvPicPr>
        <p:blipFill>
          <a:blip r:embed="rId1"/>
          <a:stretch/>
        </p:blipFill>
        <p:spPr>
          <a:xfrm>
            <a:off x="5003640" y="692280"/>
            <a:ext cx="3916440" cy="5351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абота над «Мертвыми душами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атель жил в Германии, Швейцарии, Франции, Австрии, Чехии, но дольше всего в Италии, продолжая работу над "Мертвыми душами", сюжет которых был подсказан ему Пушкиным. Свойственная Гоголю обобщенность масштаба получала теперь пространственное выражение: по мере развития чичиковской аферы (покупка "ревизских душ" умерших людей) русская жизнь должна была раскрыться многообразно не только со стороны "низменных рядов ее", но и в более высоких, значительных проявления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47880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выхода первого тома (1842) работа над вторым томом (начатым еще в 1840) протекала особенно напряженно и мучительно. Летом 1845 в тяжелом душевном состоянии Гоголь сжигает рукопись этого тома, объясняя позднее свое решение тем, что "пути и дороги" к идеалу, возрождению человеческого духа не получили достаточно убедительного выраж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7" descr="гоголь 5"/>
          <p:cNvPicPr/>
          <p:nvPr/>
        </p:nvPicPr>
        <p:blipFill>
          <a:blip r:embed="rId1"/>
          <a:stretch/>
        </p:blipFill>
        <p:spPr>
          <a:xfrm>
            <a:off x="5003640" y="476280"/>
            <a:ext cx="3087720" cy="48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00720" y="260280"/>
            <a:ext cx="4643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мерть Гого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0"/>
            <a:ext cx="44956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ние дни жизни Гоголь проводит в чрезвычайно строгом посте и молитве. 21 февраля утром 1852 умирает в своей последней московской квартире в доме Талызи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мерть Гоголя вызвала в русском обществе глубокое потрясение. От университетского домового храма Св. мученицы Татианы, где отпевали писателя, до места погребения гроб несли профессора и студенты университе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7" descr="гоголь 7"/>
          <p:cNvPicPr/>
          <p:nvPr/>
        </p:nvPicPr>
        <p:blipFill>
          <a:blip r:embed="rId1"/>
          <a:stretch/>
        </p:blipFill>
        <p:spPr>
          <a:xfrm>
            <a:off x="4859280" y="1413000"/>
            <a:ext cx="3183120" cy="468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3:23:50Z</dcterms:created>
  <dc:creator>с</dc:creator>
  <dc:description/>
  <dc:language>en-US</dc:language>
  <cp:lastModifiedBy>LEGION</cp:lastModifiedBy>
  <dcterms:modified xsi:type="dcterms:W3CDTF">2015-01-20T07:56:43Z</dcterms:modified>
  <cp:revision>7</cp:revision>
  <dc:subject/>
  <dc:title>Творчество Николая Васильевича Гоголя</dc:title>
</cp:coreProperties>
</file>