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8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5FF8-CA50-42E9-A055-717DFFE518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D45B-9C2A-4703-99F0-1E3FFED771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6A94-F091-4C29-972D-ACCF88850C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A931-3594-4C9A-A0DE-4E627AF9BA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8C13-AA32-463D-A4BC-098345C956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D7A2-4B44-470E-85D7-1EED8C878B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77A4-BFDE-4F1A-AA81-3CE37B54E9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6C0A-DE3F-4535-A1EB-D72B358308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3885-5E45-4887-A7FF-E543CFA756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CAF-24C3-4871-BD1A-CED72A6B5A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6730-27A3-4631-A4B2-79B3DFA451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0121-25C4-4A1F-B187-C74CE16F21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C9A-BAF6-4318-97E1-6721E9AFEF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7682-63E6-4152-BD61-1E74657FBD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Ю.И. Айхенваль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525-828C-4C61-9CCC-D3F55692E1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A935-05D4-4ED2-BDC2-1C7D8F3198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4C9F-078C-47CA-8DF2-2D0637FFB7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061-4312-4E9D-9BFC-90EB7085BA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BA68-8E83-4BB6-AE75-F1168D9BAB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9C2-BA67-42DA-841C-31C7567508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BA7C-AC81-4BFB-8C42-0279D80BA0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FA58-BFAD-4108-B0A0-49DF1A9724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679F-2590-4A62-9599-338D60BCFC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0E17-6095-48EE-969E-79836D55C1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60A0-291F-4307-9119-8509AAE749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7F35-FFC7-4A30-A034-C5860D02B6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2F94-8ADD-4D9C-BE2A-864375A3A8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5458-00D9-43A9-9A5E-C5B0EBF1D5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A851-065B-424A-9362-1EE7756E2F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8B25-9169-4357-B938-9689F909A6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A19F-A5C8-48DA-94AA-510B3C91E8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0D2-ACFF-48C8-A97D-51C19240E7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C32E-C4AE-45C6-867C-581011E1C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1BB5-B54F-44E9-BC35-B30C9677FB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58EE-75A6-4C26-A554-3C24C3348F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5B0A-58D0-4556-A2AB-5FE041EF3B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1692-DFFD-4377-AA7B-CF3252B38C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E9C4-F026-4785-AEE7-624C5ED094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9730-70CD-4361-9F53-92CF09AE24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E96-19AC-4648-847F-36329B16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5DD-58E5-4165-87A4-600CF88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18B-BD3F-412B-91C9-C0D65A30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C53-B990-43A1-A716-BCCC1F2A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863-1767-45AA-B525-DB84A036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662-8B9E-4EE0-BF4E-52FC3481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178-D280-4212-A5AC-75FE62CD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23D-A652-4989-B81A-55B08848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97D-5ACA-46B6-9866-DB530F4F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E47-451B-4BE7-9778-35F766B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86C-E29E-469D-9993-97B5D9C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33D-FDC8-40A7-AC2F-8CEC312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6063-FB18-46FA-92C6-EA41AB58C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28560" y="642960"/>
            <a:ext cx="851544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51" name="Прямоугольник 3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54" name="Прямоугольник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5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57" name="Прямоугольник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6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60" name="Прямоугольник 6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Содержимое 11" descr="bunin_09.jpg"/>
          <p:cNvPicPr/>
          <p:nvPr/>
        </p:nvPicPr>
        <p:blipFill>
          <a:blip r:embed="rId6"/>
          <a:stretch/>
        </p:blipFill>
        <p:spPr>
          <a:xfrm>
            <a:off x="3889440" y="2286000"/>
            <a:ext cx="20620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24694933_tolstoy.jpg"/>
          <p:cNvPicPr/>
          <p:nvPr/>
        </p:nvPicPr>
        <p:blipFill>
          <a:blip r:embed="rId1"/>
          <a:stretch/>
        </p:blipFill>
        <p:spPr>
          <a:xfrm>
            <a:off x="4645080" y="1517760"/>
            <a:ext cx="3986280" cy="924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0000000168.jpg"/>
          <p:cNvPicPr/>
          <p:nvPr/>
        </p:nvPicPr>
        <p:blipFill>
          <a:blip r:embed="rId1"/>
          <a:stretch/>
        </p:blipFill>
        <p:spPr>
          <a:xfrm>
            <a:off x="6715080" y="3357720"/>
            <a:ext cx="2170080" cy="32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Бунин\bunin.jpg"/>
          <p:cNvPicPr/>
          <p:nvPr/>
        </p:nvPicPr>
        <p:blipFill>
          <a:blip r:embed="rId2"/>
          <a:stretch/>
        </p:blipFill>
        <p:spPr>
          <a:xfrm>
            <a:off x="214200" y="1000080"/>
            <a:ext cx="207180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:\Бунин\chehov.jpg"/>
          <p:cNvPicPr/>
          <p:nvPr/>
        </p:nvPicPr>
        <p:blipFill>
          <a:blip r:embed="rId3"/>
          <a:stretch/>
        </p:blipFill>
        <p:spPr>
          <a:xfrm>
            <a:off x="2714760" y="785880"/>
            <a:ext cx="364320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%C0.%CD.%D6%E0%EA%ED%E8.%20%CE%E4%E5%F1%F1%E0,%201898.JPG"/>
          <p:cNvPicPr/>
          <p:nvPr/>
        </p:nvPicPr>
        <p:blipFill>
          <a:blip r:embed="rId1"/>
          <a:stretch/>
        </p:blipFill>
        <p:spPr>
          <a:xfrm>
            <a:off x="4853160" y="1279440"/>
            <a:ext cx="3657600" cy="4822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286240" y="6072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nastasiaScript"/>
              </a:rPr>
              <a:t>Дочь революционера-нар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5" descr="bunin_04.jpg"/>
          <p:cNvPicPr/>
          <p:nvPr/>
        </p:nvPicPr>
        <p:blipFill>
          <a:blip r:embed="rId1"/>
          <a:stretch/>
        </p:blipFill>
        <p:spPr>
          <a:xfrm>
            <a:off x="4138560" y="1901880"/>
            <a:ext cx="5005440" cy="3517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435780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Calibri"/>
              </a:rPr>
              <a:t>И.А. Бунин, М.П. Чехова (в центре), С.Ф. Лаврова. Ялта, 1900-190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356840"/>
            <a:ext cx="442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4" descr="аипа.jpg"/>
          <p:cNvPicPr/>
          <p:nvPr/>
        </p:nvPicPr>
        <p:blipFill>
          <a:blip r:embed="rId1"/>
          <a:stretch/>
        </p:blipFill>
        <p:spPr>
          <a:xfrm>
            <a:off x="5000760" y="1571760"/>
            <a:ext cx="3336840" cy="4908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4643280" y="428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И.А. Бунин. 23 декабря 19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Фотография с текстом письма к М.П. Чех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2920" y="1714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6" descr="bunin_6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86360" cy="42926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285840" y="6072120"/>
            <a:ext cx="88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2f2f2"/>
                </a:solidFill>
                <a:latin typeface="Calibri"/>
              </a:rPr>
              <a:t>М. Горький, И. Бунин, Ф. Шаляпин. Скиталец (С. Петров), Н. Телешов, Л. Андреев, Е. Чир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bunin_06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86080" cy="48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3" descr="bunin_34.jpg"/>
          <p:cNvPicPr/>
          <p:nvPr/>
        </p:nvPicPr>
        <p:blipFill>
          <a:blip r:embed="rId1"/>
          <a:stretch/>
        </p:blipFill>
        <p:spPr>
          <a:xfrm>
            <a:off x="2432160" y="1584360"/>
            <a:ext cx="4279680" cy="977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6" descr="muromtseva-3.jpg"/>
          <p:cNvPicPr/>
          <p:nvPr/>
        </p:nvPicPr>
        <p:blipFill>
          <a:blip r:embed="rId1"/>
          <a:stretch/>
        </p:blipFill>
        <p:spPr>
          <a:xfrm>
            <a:off x="5214960" y="1214280"/>
            <a:ext cx="3214800" cy="42307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442908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2f2f2"/>
                </a:solidFill>
                <a:latin typeface="Calibri"/>
              </a:rPr>
              <a:t>Дочь члена Московской гоpодской упpавы и племянница пpедседателя Пеpвой Госудаpственной Думы С.А. Муpомц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1" descr="bunin_09.jpg"/>
          <p:cNvPicPr/>
          <p:nvPr/>
        </p:nvPicPr>
        <p:blipFill>
          <a:blip r:embed="rId1"/>
          <a:stretch/>
        </p:blipFill>
        <p:spPr>
          <a:xfrm>
            <a:off x="4906800" y="1474920"/>
            <a:ext cx="3902400" cy="4865400"/>
          </a:xfrm>
          <a:prstGeom prst="rect">
            <a:avLst/>
          </a:prstGeom>
          <a:ln w="0">
            <a:noFill/>
          </a:ln>
        </p:spPr>
      </p:pic>
      <p:grpSp>
        <p:nvGrpSpPr>
          <p:cNvPr id="66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67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70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73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76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6" descr="bunin_07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148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Горизонтальный свиток 4"/>
          <p:cNvSpPr/>
          <p:nvPr/>
        </p:nvSpPr>
        <p:spPr>
          <a:xfrm>
            <a:off x="428760" y="142920"/>
            <a:ext cx="8358120" cy="635796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Ю.И. Айхенва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D:\Бунин\422px-1990_CPA_6256.jpg"/>
          <p:cNvPicPr/>
          <p:nvPr/>
        </p:nvPicPr>
        <p:blipFill>
          <a:blip r:embed="rId1"/>
          <a:stretch/>
        </p:blipFill>
        <p:spPr>
          <a:xfrm>
            <a:off x="5072040" y="1428840"/>
            <a:ext cx="3500640" cy="49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1143000"/>
            <a:ext cx="4186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4714920" y="214200"/>
            <a:ext cx="4429080" cy="2786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Стихотворения Бунина насыщены красками, льются, переливно и легко запоминаются, и передают суть сказанного так, что создается впечатление, что видишь все описываемое своими гл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bunin_10.jpg"/>
          <p:cNvPicPr/>
          <p:nvPr/>
        </p:nvPicPr>
        <p:blipFill>
          <a:blip r:embed="rId1"/>
          <a:stretch/>
        </p:blipFill>
        <p:spPr>
          <a:xfrm>
            <a:off x="785880" y="1571760"/>
            <a:ext cx="792936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3" descr="bunin_11.jpg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7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одержимое 3" descr="bunin_65.jpg"/>
          <p:cNvPicPr/>
          <p:nvPr/>
        </p:nvPicPr>
        <p:blipFill>
          <a:blip r:embed="rId1"/>
          <a:stretch/>
        </p:blipFill>
        <p:spPr>
          <a:xfrm>
            <a:off x="3000240" y="1500120"/>
            <a:ext cx="3000600" cy="48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bunin_45.jpg"/>
          <p:cNvPicPr/>
          <p:nvPr/>
        </p:nvPicPr>
        <p:blipFill>
          <a:blip r:embed="rId1"/>
          <a:stretch/>
        </p:blipFill>
        <p:spPr>
          <a:xfrm>
            <a:off x="571680" y="1285920"/>
            <a:ext cx="4000320" cy="49878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5286240" y="1857240"/>
            <a:ext cx="31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невник 1911 года "Воды многие", опубликованный почти без изменений в 1925-1926 годы, -высокий обpазец новой и для Бунина, и для pусской литеpатуpы лиpической пp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bunin_13.jpg"/>
          <p:cNvPicPr/>
          <p:nvPr/>
        </p:nvPicPr>
        <p:blipFill>
          <a:blip r:embed="rId1"/>
          <a:stretch/>
        </p:blipFill>
        <p:spPr>
          <a:xfrm>
            <a:off x="642960" y="1643040"/>
            <a:ext cx="3429000" cy="4562640"/>
          </a:xfrm>
          <a:prstGeom prst="rect">
            <a:avLst/>
          </a:prstGeom>
          <a:ln w="0">
            <a:noFill/>
          </a:ln>
        </p:spPr>
      </p:pic>
      <p:grpSp>
        <p:nvGrpSpPr>
          <p:cNvPr id="183" name="Прямоугольник 4"/>
          <p:cNvGrpSpPr/>
          <p:nvPr/>
        </p:nvGrpSpPr>
        <p:grpSpPr>
          <a:xfrm>
            <a:off x="4237200" y="1938240"/>
            <a:ext cx="4846320" cy="4729680"/>
            <a:chOff x="4237200" y="1938240"/>
            <a:chExt cx="4846320" cy="4729680"/>
          </a:xfrm>
        </p:grpSpPr>
        <p:pic>
          <p:nvPicPr>
            <p:cNvPr id="1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7200" y="1938240"/>
              <a:ext cx="484632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357800" y="2000160"/>
              <a:ext cx="4572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Monotype Corsiva"/>
                </a:rPr>
                <a:t>« Как все сложно психологически ! А вместе с тем, -в этом и есть ваш гений, все pождается из пpостоты и из самого точного наблюдения действительности: создается атмасфеpа, где дышешь чем-то стpанным и тpевожным, исходящим из самого акта жизни! У вас все есть излучение жизни, полной сил, и тpевожит именно своими силами, силами пеpвобытными, где под видимым единством таится сложность, нечто неизбывное, наpушающее пpевычную на ясную ноpму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Прямоугольник 5"/>
          <p:cNvSpPr/>
          <p:nvPr/>
        </p:nvSpPr>
        <p:spPr>
          <a:xfrm>
            <a:off x="428616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Фpанцузский писатель, поэт и литеpатуpный кpитик Рене Гиль писал Бунину в 1921 году об озданной по-фpанцузски "Чаше жизни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14" descr="bunin_a_n.jpg"/>
          <p:cNvPicPr/>
          <p:nvPr/>
        </p:nvPicPr>
        <p:blipFill>
          <a:blip r:embed="rId1"/>
          <a:stretch/>
        </p:blipFill>
        <p:spPr>
          <a:xfrm>
            <a:off x="738360" y="1523880"/>
            <a:ext cx="3625560" cy="4992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1785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82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85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88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91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D:\Бунин\gerb.jpg"/>
          <p:cNvPicPr/>
          <p:nvPr/>
        </p:nvPicPr>
        <p:blipFill>
          <a:blip r:embed="rId6"/>
          <a:stretch/>
        </p:blipFill>
        <p:spPr>
          <a:xfrm>
            <a:off x="7407360" y="208080"/>
            <a:ext cx="147456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120" y="1357200"/>
            <a:ext cx="3214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D:\Бунин\bunin_40.jpg"/>
          <p:cNvPicPr/>
          <p:nvPr/>
        </p:nvPicPr>
        <p:blipFill>
          <a:blip r:embed="rId1"/>
          <a:stretch/>
        </p:blipFill>
        <p:spPr>
          <a:xfrm>
            <a:off x="3786120" y="1857240"/>
            <a:ext cx="497844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9680" y="171468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D:\Бунин\bunin_29.jpg"/>
          <p:cNvPicPr/>
          <p:nvPr/>
        </p:nvPicPr>
        <p:blipFill>
          <a:blip r:embed="rId1"/>
          <a:stretch/>
        </p:blipFill>
        <p:spPr>
          <a:xfrm>
            <a:off x="5357880" y="1643040"/>
            <a:ext cx="3357360" cy="479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642600"/>
            <a:ext cx="4829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Бунин\204271.jpg"/>
          <p:cNvPicPr/>
          <p:nvPr/>
        </p:nvPicPr>
        <p:blipFill>
          <a:blip r:embed="rId1"/>
          <a:stretch/>
        </p:blipFill>
        <p:spPr>
          <a:xfrm>
            <a:off x="5261040" y="1139760"/>
            <a:ext cx="3181320" cy="855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13840"/>
            <a:ext cx="82152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14200" y="528804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Похоpонен Бунин на кладбище Сент-Женевьев-де-Буа под Паpижем, в склепе, в цинковом гpо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480" y="785880"/>
            <a:ext cx="60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D:\Бунин\mogila-paris_h250.jpg"/>
          <p:cNvPicPr/>
          <p:nvPr/>
        </p:nvPicPr>
        <p:blipFill>
          <a:blip r:embed="rId1"/>
          <a:stretch/>
        </p:blipFill>
        <p:spPr>
          <a:xfrm>
            <a:off x="6211800" y="1706400"/>
            <a:ext cx="258444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Памятник_Бунину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6037560" y="635796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Бунину в Ворон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450px-IvanBunin.JPG"/>
          <p:cNvPicPr/>
          <p:nvPr/>
        </p:nvPicPr>
        <p:blipFill>
          <a:blip r:embed="rId1"/>
          <a:stretch/>
        </p:blipFill>
        <p:spPr>
          <a:xfrm>
            <a:off x="1928880" y="214200"/>
            <a:ext cx="4722840" cy="62866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6858000" y="28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8640803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6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D:\Бунин\70353879.jpg"/>
          <p:cNvPicPr/>
          <p:nvPr/>
        </p:nvPicPr>
        <p:blipFill>
          <a:blip r:embed="rId2"/>
          <a:stretch/>
        </p:blipFill>
        <p:spPr>
          <a:xfrm>
            <a:off x="464328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00080" y="1714680"/>
            <a:ext cx="40384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16" descr="bunina_l_a.jpg"/>
          <p:cNvPicPr/>
          <p:nvPr/>
        </p:nvPicPr>
        <p:blipFill>
          <a:blip r:embed="rId1"/>
          <a:stretch/>
        </p:blipFill>
        <p:spPr>
          <a:xfrm>
            <a:off x="5310360" y="378000"/>
            <a:ext cx="3741480" cy="50418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98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7"/>
          <p:cNvGrpSpPr/>
          <p:nvPr/>
        </p:nvGrpSpPr>
        <p:grpSpPr>
          <a:xfrm>
            <a:off x="3340080" y="6413400"/>
            <a:ext cx="671400" cy="169920"/>
            <a:chOff x="3340080" y="6413400"/>
            <a:chExt cx="671400" cy="169920"/>
          </a:xfrm>
        </p:grpSpPr>
        <p:pic>
          <p:nvPicPr>
            <p:cNvPr id="101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340080" y="6413400"/>
              <a:ext cx="671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3357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8"/>
          <p:cNvGrpSpPr/>
          <p:nvPr/>
        </p:nvGrpSpPr>
        <p:grpSpPr>
          <a:xfrm>
            <a:off x="2627280" y="6413400"/>
            <a:ext cx="669960" cy="169920"/>
            <a:chOff x="2627280" y="6413400"/>
            <a:chExt cx="669960" cy="169920"/>
          </a:xfrm>
        </p:grpSpPr>
        <p:pic>
          <p:nvPicPr>
            <p:cNvPr id="104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62728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2"/>
            <p:cNvSpPr/>
            <p:nvPr/>
          </p:nvSpPr>
          <p:spPr>
            <a:xfrm>
              <a:off x="26431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9"/>
          <p:cNvGrpSpPr/>
          <p:nvPr/>
        </p:nvGrpSpPr>
        <p:grpSpPr>
          <a:xfrm>
            <a:off x="4479840" y="6413400"/>
            <a:ext cx="677880" cy="169920"/>
            <a:chOff x="4479840" y="6413400"/>
            <a:chExt cx="677880" cy="169920"/>
          </a:xfrm>
        </p:grpSpPr>
        <p:pic>
          <p:nvPicPr>
            <p:cNvPr id="107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4479840" y="6413400"/>
              <a:ext cx="6778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4500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17"/>
          <p:cNvGrpSpPr/>
          <p:nvPr/>
        </p:nvGrpSpPr>
        <p:grpSpPr>
          <a:xfrm>
            <a:off x="5297400" y="5224320"/>
            <a:ext cx="3402000" cy="1335240"/>
            <a:chOff x="5297400" y="5224320"/>
            <a:chExt cx="3402000" cy="1335240"/>
          </a:xfrm>
        </p:grpSpPr>
        <p:pic>
          <p:nvPicPr>
            <p:cNvPr id="110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5297400" y="5224320"/>
              <a:ext cx="3402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8"/>
            <p:cNvSpPr/>
            <p:nvPr/>
          </p:nvSpPr>
          <p:spPr>
            <a:xfrm>
              <a:off x="5357880" y="5286240"/>
              <a:ext cx="328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Мать, Людмила Александровна Бунина 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урожденная Чубарова (1835-191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6"/>
          <p:cNvSpPr/>
          <p:nvPr/>
        </p:nvSpPr>
        <p:spPr>
          <a:xfrm>
            <a:off x="5736960" y="648828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Е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14880" y="5572080"/>
            <a:ext cx="5214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720" y="571680"/>
            <a:ext cx="454356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7" descr="bunin_yuliy-1.jpg"/>
          <p:cNvPicPr/>
          <p:nvPr/>
        </p:nvPicPr>
        <p:blipFill>
          <a:blip r:embed="rId1"/>
          <a:stretch/>
        </p:blipFill>
        <p:spPr>
          <a:xfrm>
            <a:off x="665280" y="523800"/>
            <a:ext cx="3809880" cy="467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7149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285840" y="5143680"/>
            <a:ext cx="4572000" cy="1191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тарший брат Бунина - Юлий Алексеевич оказал большое влияние на формирование писателя. Он был для брата как бы домашним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1357200"/>
            <a:ext cx="3357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4" descr="gimnaziya.jpg"/>
          <p:cNvPicPr/>
          <p:nvPr/>
        </p:nvPicPr>
        <p:blipFill>
          <a:blip r:embed="rId1"/>
          <a:stretch/>
        </p:blipFill>
        <p:spPr>
          <a:xfrm>
            <a:off x="3718080" y="2517840"/>
            <a:ext cx="5213160" cy="6492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286160" y="1500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1881 – поступление в Елецкую гимн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Бунин\dscn0831z.jpg"/>
          <p:cNvPicPr/>
          <p:nvPr/>
        </p:nvPicPr>
        <p:blipFill>
          <a:blip r:embed="rId2"/>
          <a:stretch/>
        </p:blipFill>
        <p:spPr>
          <a:xfrm>
            <a:off x="420840" y="4065480"/>
            <a:ext cx="3035160" cy="22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57140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6" descr="bunin_49.jpg"/>
          <p:cNvPicPr/>
          <p:nvPr/>
        </p:nvPicPr>
        <p:blipFill>
          <a:blip r:embed="rId1"/>
          <a:stretch/>
        </p:blipFill>
        <p:spPr>
          <a:xfrm>
            <a:off x="4834080" y="1420920"/>
            <a:ext cx="3462120" cy="909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6" descr="bunin_03.jpg"/>
          <p:cNvPicPr/>
          <p:nvPr/>
        </p:nvPicPr>
        <p:blipFill>
          <a:blip r:embed="rId1"/>
          <a:stretch/>
        </p:blipFill>
        <p:spPr>
          <a:xfrm>
            <a:off x="4705200" y="1279440"/>
            <a:ext cx="407844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9" descr="bunin_6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143240" cy="52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8"/>
          <p:cNvSpPr/>
          <p:nvPr/>
        </p:nvSpPr>
        <p:spPr>
          <a:xfrm>
            <a:off x="50004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AnastasiaScript"/>
              </a:rPr>
              <a:t>«Никто так убого не начинал, как я…» 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53:38Z</dcterms:created>
  <dc:creator>Назарова Малика</dc:creator>
  <dc:description>http://ppt.3dn.ru</dc:description>
  <dc:language>en-US</dc:language>
  <cp:lastModifiedBy>LEGION</cp:lastModifiedBy>
  <dcterms:modified xsi:type="dcterms:W3CDTF">2015-01-20T07:59:10Z</dcterms:modified>
  <cp:revision>27</cp:revision>
  <dc:subject/>
  <dc:title>Иван Алексеевич Бун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241297</vt:lpwstr>
  </property>
  <property fmtid="{D5CDD505-2E9C-101B-9397-08002B2CF9AE}" pid="3" name="NXPowerLiteVersion">
    <vt:lpwstr>D3.6.2</vt:lpwstr>
  </property>
  <property fmtid="{D5CDD505-2E9C-101B-9397-08002B2CF9AE}" pid="4" name="NXTAG2">
    <vt:lpwstr>000800e24c000000000001023620</vt:lpwstr>
  </property>
  <property fmtid="{D5CDD505-2E9C-101B-9397-08002B2CF9AE}" pid="5" name="_TemplateID">
    <vt:lpwstr>TC300095321049</vt:lpwstr>
  </property>
</Properties>
</file>